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581A-BC20-4060-BCAF-2335C8A67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B7A-C7D6-4E11-A4E0-3CBFF3215E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E10-7636-4A84-B501-B9CAE75C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3D7-759D-4343-ADBB-FAE36DD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990-58C7-4A07-B557-01AFA2DA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C31-7891-4CAA-A01E-FAFBDA9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E47-3D86-421F-9CA5-316FF9D5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EB6F-5ADD-47EF-B556-2A4ADA28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A6BA-FF82-4A5E-A9E0-874627D6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7F83-B09E-4CFD-8567-3C3B400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D88A-BCF6-4F10-B97C-EF6CD90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6870-981F-4BD0-A10C-80874BB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A614-21AB-4191-8466-29B0367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89F-3190-4F8B-9668-2C162751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187-DA56-4B4A-8936-019A10F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E801-2E51-4E37-9D9F-5F9D373E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B60D-CD62-4826-A77F-6E74A820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AF14-5EFD-45ED-BDD6-1682D31C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0BF7-BD1C-4227-A2FA-DCBFB227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2B58-1593-4E7B-ACA5-DE0F6CEA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4EEC-297B-40EE-83FE-B259459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982D-73B9-4550-AA81-EEEB2E60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8A71-4DD9-45FF-8DCA-A998FC1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C035-4339-4942-A931-65ED95BC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F54-4212-4F55-889C-BDDAC5C3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C573-1D7C-41CA-947C-EA14540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27DE-A7DC-4E3E-94F9-6579C57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20F3-8D8E-4EFA-B610-8B22940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1286-BB03-4C6F-8993-042E83D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D994-5FBA-44C8-9A72-25869D2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02B5-3651-4DFE-B091-F90E01F7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0F5D-9032-4EF4-BD95-D8E4CDA5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5461-1789-4ABB-9D36-DD92564A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2914-0F44-4043-B38D-290CC4B0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A593-947C-483C-A559-4766D918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AFB-0D13-4BD9-A959-3FDE64D3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33C1-0B39-40AC-AEF7-14C7D652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C5EC-4245-4140-8E7E-B5AA60E0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54CD-5FF0-4252-BAFF-E5C01F09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FA8F-2585-4174-A082-2AD54AFA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803C-FD28-4682-83F3-0A8DCE1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D5B8-F04F-4384-95B6-4476D0EA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0F8F-12F7-44A6-93CD-74FBB52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760B-6598-4EE6-8036-0B9416C1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7ED4-DABE-434F-8E29-92B99040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A86F-7AF0-4F41-8CBF-47C3C35C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8F2-7035-478D-ABB5-F127E2B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3E35-8D14-4144-B6C5-6739FEC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162D-000C-460E-AA14-6D4D6C11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2E2CB-DEC9-4A5C-83D6-7CE53AE0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0B44-BF95-4063-989E-B2FB5F0E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FF42-A98F-4D2C-B7B5-B1BBF4B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7A18-207B-4DD9-ADA1-03AEC15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1D42-97F2-48CB-A293-489A0A1E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CBD4-AC37-4407-A6CF-D084440A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FB98-20A8-4C20-8BF3-9B68C66B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B965-E454-4A17-82BE-0CD111B9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90A-905F-4982-91C3-63E13C5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A8CA-ABB9-4C16-B617-B9DD8198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AFDB-6705-465D-9DA6-10381E13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83AA-2A16-464D-B066-1578C266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D923-29B4-4357-ADE2-6B99B1E4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B4E9A-6568-4BD1-81BC-7788C17A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ED17-F301-40DC-BA23-99F60914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ECB6-B210-4919-BB8F-D167280D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7670E-FF20-4B2D-B4AB-84EB65A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A3CDF-A839-4A55-92D5-5ED4E2B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AC679-17E9-4CCF-B549-06655A6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9C9-1C0D-4B2B-A845-2F12A35A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11926-A491-4902-ADE0-8CB45229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D1A8-2082-4A1E-9CE9-DEF4DAF4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EBD0-464B-4CD2-B66A-DF5532D4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7458-8AC4-400C-A8EB-4C2BEB90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2BDD-AF97-414F-B828-35E8FEE2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3F94-602F-4E54-A317-558A89B0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E888-D5FD-4808-AFB8-46AB8A78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3FE9-849F-4981-BA8C-9334592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22A3-B0C9-4FA3-ABDA-2E9A16A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73FD-9ABA-4D72-B98E-B0759D3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2EF-719D-4445-A279-BC5F6A74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1E45-A691-454E-8988-6FA423E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3B3A2-87A2-4A10-A17A-D17F88C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5E6B-767B-4F0D-9282-6A1A265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F892-7F10-410B-B2F2-E634EA06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F6B5-9A56-4AED-A991-AF485B68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A21-B172-4BFA-814F-CAADA9C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2B26-15F7-46D8-BC89-A02BFD46FFF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9CA-93C9-49A2-BCF4-CC6399457F8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C0B4-71FB-4D34-9F8B-075F9ED2223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304-D80A-4618-B18D-60457E4FAEF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9DC6-6EC9-41B5-A058-93C7CDCAA45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092-1FB8-4C2E-B70F-28BC263F914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8DE0-E579-43DE-9A6E-1124A9E36E1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03640" y="213336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862aa"/>
                </a:solidFill>
                <a:latin typeface="Candara"/>
              </a:rPr>
              <a:t>Проект «Широкая Маслениц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634920" y="3933360"/>
            <a:ext cx="3816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Школа №2101 «Филёвский образовательный центр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Москва 2016 го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Проект подготовила музыкальный руководител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Candara"/>
              </a:rPr>
              <a:t>Щербакова Н.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024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374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Arial Narrow"/>
              </a:rPr>
              <a:t>Пятница -Тещины вечёрки.</a:t>
            </a: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В этот день все ходили в гости друг к другу, особенно родственники: зятья  шли к тёщам и угощались блинам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     </a:t>
            </a: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Главное угощение Масленицы – блины. Блин - это символ Солнышка. А вместе с  Солнышком природа встречает весну, начинаются новые работы на земле, появляются новые заботы о будущем урожае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      </a:t>
            </a: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Хозяйки всю неделю стараются, пекут блины, у каждой свои хитрости в приготовлении. Ешьте, веселитесь и не забывайте благодарить за праздничное угощение!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Как на масленой неделе к нам на стол блины летели!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rial Narrow"/>
              </a:rPr>
              <a:t>С пылу, с жару, из печи, все румяны, горячи!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2916000" y="404640"/>
            <a:ext cx="4608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ятниц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2" descr="C:\Users\U184\Desktop\Наталья Юрьевна\Сканированные документы\Щербакова\IMG_4344.JPG"/>
          <p:cNvPicPr/>
          <p:nvPr/>
        </p:nvPicPr>
        <p:blipFill>
          <a:blip r:embed="rId1"/>
          <a:stretch/>
        </p:blipFill>
        <p:spPr>
          <a:xfrm>
            <a:off x="4356000" y="2205000"/>
            <a:ext cx="4408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38563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Arial Narrow"/>
              </a:rPr>
              <a:t>Суббота — Золовкины посиделки</a:t>
            </a: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К молодым невесткам приходили родные. Эта суббота называлась Родительской. Гости вспоминали своих родителей, а первый  испеченный блин выкладывали на окошко, в память о них или отдавали бедным людям. Продолжали играть, водили хороводы, весело прощались с зимой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 </a:t>
            </a: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Близится СУББОТА - "ЗОЛОВКИ УГОЩЕНИЕ".</a:t>
            </a:r>
            <a:br>
              <a:rPr sz="1900"/>
            </a:b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Вся родня встречается, водит хоровод.</a:t>
            </a:r>
            <a:br>
              <a:rPr sz="1900"/>
            </a:b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Праздник продолжается, общее веселье.</a:t>
            </a:r>
            <a:br>
              <a:rPr sz="1900"/>
            </a:b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Славно провожает Зимушку народ!</a:t>
            </a:r>
            <a:br>
              <a:rPr sz="1900"/>
            </a:b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914040" y="404640"/>
            <a:ext cx="335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уббот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2" descr="G:\масленица 2016 фото\IMG_4385.JPG"/>
          <p:cNvPicPr/>
          <p:nvPr/>
        </p:nvPicPr>
        <p:blipFill>
          <a:blip r:embed="rId1"/>
          <a:stretch/>
        </p:blipFill>
        <p:spPr>
          <a:xfrm>
            <a:off x="4356000" y="1989000"/>
            <a:ext cx="4608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3855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Arial Narrow"/>
              </a:rPr>
              <a:t>Воскресенье — проводы Масленицы, Прощеный день, Прощеное воскресенье</a:t>
            </a: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. Этим днем Масленица заканчивается. Если в течение года люди чем-либо обидели друг друга, то в Прощеное воскресенье они просили прощения и на этом все обиды заканчивались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Arial Narrow"/>
              </a:rPr>
              <a:t>В воскресенье масленичной недели чучело — «сударыню - Масленицу» ставили на сани, везли Масленицу по улицам. За околицей зажигали большой костер, давали Масленице блин, а затем торжественно сжигали на костре, как бы сжигая все беды и несчастья и в знак прощания с зимой. При этом приговаривали: «Прощай, Масленица!»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2123640" y="333000"/>
            <a:ext cx="3600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оскресень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2" descr="C:\Users\U184\Desktop\Наталья Юрьевна\Сканированные документы\Щербакова\IMG_4449.JPG"/>
          <p:cNvPicPr/>
          <p:nvPr/>
        </p:nvPicPr>
        <p:blipFill>
          <a:blip r:embed="rId1"/>
          <a:stretch/>
        </p:blipFill>
        <p:spPr>
          <a:xfrm>
            <a:off x="4932360" y="1700280"/>
            <a:ext cx="3743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3600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чень полюбились дошколятам узоры на подносах и кружках знаменитого Городца. Дети старательно расписывают дощечки  в стиле городецкой роспис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Мастер- класс «Знакомство с народным                    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   промыслом - городецкая  роспись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140000" y="1828440"/>
            <a:ext cx="441612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6" name="Picture 2" descr="E:\2018\Проект Масленица\IMG_4322.JPG"/>
          <p:cNvPicPr/>
          <p:nvPr/>
        </p:nvPicPr>
        <p:blipFill>
          <a:blip r:embed="rId1"/>
          <a:stretch/>
        </p:blipFill>
        <p:spPr>
          <a:xfrm>
            <a:off x="4078440" y="1809720"/>
            <a:ext cx="4825800" cy="446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E:\2018\Проект Масленица\IMG_4316.JPG"/>
          <p:cNvPicPr/>
          <p:nvPr/>
        </p:nvPicPr>
        <p:blipFill>
          <a:blip r:embed="rId2"/>
          <a:stretch/>
        </p:blipFill>
        <p:spPr>
          <a:xfrm>
            <a:off x="250920" y="3068640"/>
            <a:ext cx="360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Мастер – класс по изготовлению кукол из лоскутков ткани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7520" y="1598760"/>
            <a:ext cx="3822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ети мастерят из ткани тряпичных куко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77880" y="2349000"/>
            <a:ext cx="381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38224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х, и трудно вдеть нитку в иголку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3" name="Picture 3" descr="E:\2018\Проект Масленица\IMG_4329.JPG"/>
          <p:cNvPicPr/>
          <p:nvPr/>
        </p:nvPicPr>
        <p:blipFill>
          <a:blip r:embed="rId1"/>
          <a:stretch/>
        </p:blipFill>
        <p:spPr>
          <a:xfrm>
            <a:off x="250920" y="2340000"/>
            <a:ext cx="4249800" cy="41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E:\2018\Проект Масленица\IMG_4325.JPG"/>
          <p:cNvPicPr/>
          <p:nvPr/>
        </p:nvPicPr>
        <p:blipFill>
          <a:blip r:embed="rId2"/>
          <a:stretch/>
        </p:blipFill>
        <p:spPr>
          <a:xfrm>
            <a:off x="4643280" y="234000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3570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У дороги ели спят в инее седом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Спят деревья, спит река, скованная льдом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Мягко падает снежок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ьётся голубой дымок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Словно в дымке всё кругом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Голубые дал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И село родное люди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73e87"/>
                </a:solidFill>
                <a:latin typeface="Arial Narrow"/>
              </a:rPr>
              <a:t>«</a:t>
            </a:r>
            <a:r>
              <a:rPr b="1" i="1" lang="ru-RU" sz="1500" spc="-1" strike="noStrike">
                <a:solidFill>
                  <a:srgbClr val="073e87"/>
                </a:solidFill>
                <a:latin typeface="Arial Narrow"/>
              </a:rPr>
              <a:t>Дымково</a:t>
            </a:r>
            <a:r>
              <a:rPr b="0" i="1" lang="ru-RU" sz="1500" spc="-1" strike="noStrike">
                <a:solidFill>
                  <a:srgbClr val="073e87"/>
                </a:solidFill>
                <a:latin typeface="Arial Narrow"/>
              </a:rPr>
              <a:t>»</a:t>
            </a: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 назвал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Там любили песни, пляск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 том селе рождались сказк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ечера зимою длинны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И лепили там из глины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Всё игрушки не простые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А волшебно- расписные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Белоснежны как берёзки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Кружочки, клеточки, полоск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Простой казалось бы, узор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Arial Narrow"/>
              </a:rPr>
              <a:t>А отвести не в силах взор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Мастер- класс «Знакомство с народными промыслами – дымковская игрушка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51200" y="1828440"/>
            <a:ext cx="3905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8" name="Picture 2" descr="E:\2018\Проект Масленица\IMG_4333.JPG"/>
          <p:cNvPicPr/>
          <p:nvPr/>
        </p:nvPicPr>
        <p:blipFill>
          <a:blip r:embed="rId1"/>
          <a:stretch/>
        </p:blipFill>
        <p:spPr>
          <a:xfrm>
            <a:off x="4176720" y="1809720"/>
            <a:ext cx="4753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Финальный этап проекта концерт«Широкая Масленица!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G:\масленица 2016 фото\IMG_4354.JPG"/>
          <p:cNvPicPr/>
          <p:nvPr/>
        </p:nvPicPr>
        <p:blipFill>
          <a:blip r:embed="rId1"/>
          <a:stretch/>
        </p:blipFill>
        <p:spPr>
          <a:xfrm>
            <a:off x="1527120" y="2060640"/>
            <a:ext cx="60976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Скоморох и Забава приглашают  всех на праздник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Picture 3" descr="G:\масленица 2016 фото\IMG_4360.JPG"/>
          <p:cNvPicPr/>
          <p:nvPr/>
        </p:nvPicPr>
        <p:blipFill>
          <a:blip r:embed="rId1"/>
          <a:stretch/>
        </p:blipFill>
        <p:spPr>
          <a:xfrm>
            <a:off x="676440" y="3129120"/>
            <a:ext cx="3822480" cy="2547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G:\масленица 2016 фото\IMG_4365.JPG"/>
          <p:cNvPicPr/>
          <p:nvPr/>
        </p:nvPicPr>
        <p:blipFill>
          <a:blip r:embed="rId2"/>
          <a:stretch/>
        </p:blipFill>
        <p:spPr>
          <a:xfrm>
            <a:off x="5407200" y="2679840"/>
            <a:ext cx="22986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Долгожданные гости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ривет из Хохломы и Гжел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Девочка-Веснянка радостно поёт свою песенк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7" name="Picture 3" descr="G:\масленица 2016 фото\IMG_4441.JPG"/>
          <p:cNvPicPr/>
          <p:nvPr/>
        </p:nvPicPr>
        <p:blipFill>
          <a:blip r:embed="rId1"/>
          <a:stretch/>
        </p:blipFill>
        <p:spPr>
          <a:xfrm>
            <a:off x="677880" y="3505320"/>
            <a:ext cx="3819600" cy="2544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G:\масленица 2016 фото\IMG_4393.JPG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Народные игры </a:t>
            </a: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«Воронок» и «Ручеёк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Picture 3" descr="G:\масленица 2016 фото\IMG_4386.JPG"/>
          <p:cNvPicPr/>
          <p:nvPr/>
        </p:nvPicPr>
        <p:blipFill>
          <a:blip r:embed="rId1"/>
          <a:stretch/>
        </p:blipFill>
        <p:spPr>
          <a:xfrm>
            <a:off x="676440" y="3129120"/>
            <a:ext cx="3822480" cy="2547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G:\масленица 2016 фото\IMG_4394.JPG"/>
          <p:cNvPicPr/>
          <p:nvPr/>
        </p:nvPicPr>
        <p:blipFill>
          <a:blip r:embed="rId2"/>
          <a:stretch/>
        </p:blipFill>
        <p:spPr>
          <a:xfrm>
            <a:off x="4645080" y="3129120"/>
            <a:ext cx="38224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26560" y="263700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Знакомство детей с народными традициями России на примере празднования «Широкой Масленицы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Знакомство с народными промыслами : Городецкая роспись, Дымковская игрушк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Использование поделок на праздниках и досуга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Расширение представлений о русском народном фольклоре посредством исполнения народных песен, танцев и игр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Обогащение словарного запаса по данной тематик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Вовлечение семьи в активное взаимодействие с дошкольным учреждение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 </a:t>
            </a:r>
            <a:r>
              <a:rPr b="1" i="1" lang="ru-RU" sz="2000" spc="-1" strike="noStrike">
                <a:solidFill>
                  <a:srgbClr val="073e87"/>
                </a:solidFill>
                <a:latin typeface="Arial Narrow"/>
                <a:ea typeface="Aharoni"/>
              </a:rPr>
              <a:t>Создание единого пространства, обогащение игровой и развивающей сред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040" y="35812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Narrow"/>
              </a:rPr>
              <a:t>Бабушке Яге в лесу не сидится-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Narrow"/>
              </a:rPr>
              <a:t>Хочется с ребятам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 Narrow"/>
              </a:rPr>
              <a:t>Ей повеселиться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250920" y="1052280"/>
            <a:ext cx="40161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 Narrow"/>
              </a:rPr>
              <a:t>А вот и не званный гость пожаловал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Picture 2" descr="G:\масленица 2016 фото\IMG_4401.JPG"/>
          <p:cNvPicPr/>
          <p:nvPr/>
        </p:nvPicPr>
        <p:blipFill>
          <a:blip r:embed="rId1"/>
          <a:stretch/>
        </p:blipFill>
        <p:spPr>
          <a:xfrm>
            <a:off x="3851280" y="1773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Ну, что за праздник без ложкарей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6" name="Picture 2" descr="G:\масленица 2016 фото\IMG_4377.JPG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Задорный танец «Самовар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6440" y="1628280"/>
            <a:ext cx="3822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вар пустился в пляс! Веселить он будет нас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3822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у, и мы не отстаём-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ним плясать сейчас пойдём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0" name="Picture 4" descr="G:\масленица 2016 фото\IMG_4447.JPG"/>
          <p:cNvPicPr/>
          <p:nvPr/>
        </p:nvPicPr>
        <p:blipFill>
          <a:blip r:embed="rId1"/>
          <a:stretch/>
        </p:blipFill>
        <p:spPr>
          <a:xfrm>
            <a:off x="611280" y="2565360"/>
            <a:ext cx="2876400" cy="4032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G:\масленица 2016 фото\IMG_4443.JPG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Масленицу провожаем, света, солнца ожидаем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щай Масленица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асленицу провожай- всех блинами угощай!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5" name="Picture 2" descr="G:\масленица 2016 фото\IMG_4412.JPG"/>
          <p:cNvPicPr/>
          <p:nvPr/>
        </p:nvPicPr>
        <p:blipFill>
          <a:blip r:embed="rId1"/>
          <a:stretch/>
        </p:blipFill>
        <p:spPr>
          <a:xfrm>
            <a:off x="677880" y="3503520"/>
            <a:ext cx="3819600" cy="2546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G:\масленица 2016 фото\IMG_4449.JPG"/>
          <p:cNvPicPr/>
          <p:nvPr/>
        </p:nvPicPr>
        <p:blipFill>
          <a:blip r:embed="rId2"/>
          <a:stretch/>
        </p:blipFill>
        <p:spPr>
          <a:xfrm>
            <a:off x="4645080" y="3503520"/>
            <a:ext cx="3822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зрождать интерес к обрядовым русским праздника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Обогащать духовный мир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Обобщить и закрепить знания детей о празднике «Масленица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ызвать эмоциональное сопереживание и участие в игре-действии, приобщить всех участников к традиции проведения народного праздника Маслениц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спитывать чувство патриотизма, основанного на русских традици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Формировать мотивацию для самообразования воспитателей в вопросе познавательного развития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Подбор соответствующих материалов по тем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Обогащение игровых уголков в групп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Развивать творческие способности и потребность в самостоятельной художественн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спитывать эстетический вкус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Задачи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Тип проекта и его участни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 rot="10800000">
            <a:off x="676440" y="1699200"/>
            <a:ext cx="38224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астн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7880" y="4149720"/>
            <a:ext cx="381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Дети всех возрастных групп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Музыкальный руководител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Инструктор по физкультуре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Родител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Воспитатели всех возрастных групп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ип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5080" y="4076280"/>
            <a:ext cx="3822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коллективны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развлекательно- досуговы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творческий, включающий в себя   совместную деятельность взрослых и дете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Narrow"/>
              </a:rPr>
              <a:t>Продолжительност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Долгосрочны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Декабрь -Феврал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Picture 2" descr="G:\масленица 2016 фото\IMG_3889.JPG"/>
          <p:cNvPicPr/>
          <p:nvPr/>
        </p:nvPicPr>
        <p:blipFill>
          <a:blip r:embed="rId1"/>
          <a:stretch/>
        </p:blipFill>
        <p:spPr>
          <a:xfrm>
            <a:off x="4572000" y="1628640"/>
            <a:ext cx="4321080" cy="2521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G:\масленица 2016 фото\IMG_4328.JPG"/>
          <p:cNvPicPr/>
          <p:nvPr/>
        </p:nvPicPr>
        <p:blipFill>
          <a:blip r:embed="rId2"/>
          <a:stretch/>
        </p:blipFill>
        <p:spPr>
          <a:xfrm>
            <a:off x="250920" y="1413000"/>
            <a:ext cx="42498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Наш букле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Содержимое 11" descr="C:\Users\user\Desktop\МАСЛЕНИЦА ФОТО\12142570.png"/>
          <p:cNvPicPr/>
          <p:nvPr/>
        </p:nvPicPr>
        <p:blipFill>
          <a:blip r:embed="rId1"/>
          <a:stretch/>
        </p:blipFill>
        <p:spPr>
          <a:xfrm>
            <a:off x="5321160" y="5732640"/>
            <a:ext cx="3498840" cy="720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4000" y="2679480"/>
            <a:ext cx="46447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73e87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Едет Масленица дорогая! Наша гостьюшка годова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На саночках расписных, на кониках вороных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Живет Масленица 7 деньков! Оставайся с нами 7 годков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Широкая масленица, мы тобою хвалим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На горках катаемся, блинами объедаем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Торопись, честной народ, Масленица всех зовёт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           </a:t>
            </a:r>
            <a:r>
              <a:rPr b="1" lang="ru-RU" sz="2000" spc="-1" strike="noStrike">
                <a:solidFill>
                  <a:srgbClr val="073e87"/>
                </a:solidFill>
                <a:latin typeface="Arial Narrow"/>
                <a:ea typeface="Calibri"/>
              </a:rPr>
              <a:t>Мы сегодня зиму провожаем, весну красную встречаем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Рисунок 6" descr="http://desnyanka.ru/ardzon/files/24-02-2012___11-19-1.jpg"/>
          <p:cNvPicPr/>
          <p:nvPr/>
        </p:nvPicPr>
        <p:blipFill>
          <a:blip r:embed="rId2"/>
          <a:stretch/>
        </p:blipFill>
        <p:spPr>
          <a:xfrm>
            <a:off x="5508720" y="1413000"/>
            <a:ext cx="3219480" cy="42480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0" descr="imgpreview (1).jpg"/>
          <p:cNvPicPr/>
          <p:nvPr/>
        </p:nvPicPr>
        <p:blipFill>
          <a:blip r:embed="rId3"/>
          <a:stretch/>
        </p:blipFill>
        <p:spPr>
          <a:xfrm>
            <a:off x="611280" y="692280"/>
            <a:ext cx="2305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38718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Понедельник назывался «Встречей».</a:t>
            </a: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 В этот день из соломы делали чучело Масленицы, одевали его в старую женскую одежду, затем сажали его на шест и катали по деревне в санях. После этого Масленицу ставили на снежной гор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Утро... ПОНЕДЕЛЬНИК... Наступает "ВСТРЕЧА"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Яркие салазки с горочек скользят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Целый день веселье. Наступает вечер..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Накатавшись вволю, все блины едят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115640" y="765000"/>
            <a:ext cx="32958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 Narrow"/>
              </a:rPr>
              <a:t>Понедельник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Объект 4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  <a:ea typeface="Times New Roman"/>
              </a:rPr>
              <a:t>Вторник назывался «Заигрышем»</a:t>
            </a: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Times New Roman"/>
              </a:rPr>
              <a:t>. В этот день начинались различные увеселения: катания на санях, народные гулянья, представления. По улицам ходили толпы ряженых, они катались по городу на тройках лошадей и на простых санях, которые назывались розвальнями. На улицах ставили балаганы, где давались представления во главе с Петрушкой, устраивались и домашние концерты. Некоторые катались с горо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"ЗАИГРЫШ" беспечный - ВТОРНИКА отрад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Все гулять, резвиться вышли, как один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Игры и потехи, а за них - награда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  <a:ea typeface="Calibri"/>
              </a:rPr>
              <a:t>Сдобный и румяный масленичный блин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35827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 Narrow"/>
              </a:rPr>
              <a:t>         </a:t>
            </a:r>
            <a:r>
              <a:rPr b="0" lang="ru-RU" sz="3200" spc="-1" strike="noStrike">
                <a:solidFill>
                  <a:srgbClr val="073e87"/>
                </a:solidFill>
                <a:latin typeface="Arial Narrow"/>
              </a:rPr>
              <a:t>Вторник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2" descr="C:\Users\U184\Desktop\Наталья Юрьевна\Сканированные документы\Щербакова\IMG_4310.JPG"/>
          <p:cNvPicPr/>
          <p:nvPr/>
        </p:nvPicPr>
        <p:blipFill>
          <a:blip r:embed="rId1"/>
          <a:stretch/>
        </p:blipFill>
        <p:spPr>
          <a:xfrm>
            <a:off x="5334120" y="1268280"/>
            <a:ext cx="33415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3672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Среду называли «Лакомкой»</a:t>
            </a: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Первые три  дня масленицы можно было работать, шить кукол, мастерить из соломки, бусы плести, заниматься росписью по дереву. А уж со среды начинались пиршества во всех домах. Гостей угощали блинами, накрывали столы, в деревнях, повсюду появлялись шатры, торговые палатки, торгующие горячими напитками из меда и пряностей, калеными орехами, пряниками. Здесь же продавали чай из кипящего самовар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Тут СРЕДА подходит - "ЛАКОМКОЙ" зовётся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Каждая хозяюшка колдует у печи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Кулебяки, сырники - всё им удаётся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Пироги и блинчики - всё на стол мечи!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826920" y="620280"/>
            <a:ext cx="344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ред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51200" y="1828440"/>
            <a:ext cx="3905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0" name="Picture 3" descr="C:\Users\U184\Desktop\Наталья Юрьевна\Сканированные документы\Щербакова\IMG_4320.JPG"/>
          <p:cNvPicPr/>
          <p:nvPr/>
        </p:nvPicPr>
        <p:blipFill>
          <a:blip r:embed="rId1"/>
          <a:stretch/>
        </p:blipFill>
        <p:spPr>
          <a:xfrm>
            <a:off x="4284720" y="1844640"/>
            <a:ext cx="46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46911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Четвер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2" descr="C:\Users\U184\Desktop\Наталья Юрьевна\Сканированные документы\Щербакова\IMG_4343.JPG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3529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645080" y="981000"/>
            <a:ext cx="3822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 Narrow"/>
              </a:rPr>
              <a:t>ЧЕТВЕРГ - раздольный "РАЗГУЛЯЙ"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Ледяные крепости, кулачные бои..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Тройки с бубенцами на поля выходят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Парни ищут девушек – подруженек  своих.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Масленица! Масленица! Широкая Масленица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Гостья, нагостилась, с зимушкой Простилась!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Воробьи чирикают, они весну кликают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rial Narrow"/>
              </a:rPr>
              <a:t>В Четверг люди прекращали     работать, начинались  массовые гулянья. На площадях устраивались кулачные бои, где люди показывали свою силу. Выступали артисты балаганов, а так же цирковые артисты. Устраивались  Медвежьи потех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7T10:08:32Z</dcterms:created>
  <dc:creator>U184</dc:creator>
  <dc:description/>
  <dc:language>en-US</dc:language>
  <cp:lastModifiedBy>Lenovo</cp:lastModifiedBy>
  <dcterms:modified xsi:type="dcterms:W3CDTF">2019-01-04T16:03:34Z</dcterms:modified>
  <cp:revision>114</cp:revision>
  <dc:subject/>
  <dc:title>Проект «Широкая Масленица»</dc:title>
</cp:coreProperties>
</file>