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090-B37B-4D4C-9DC2-BCA0D14391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97EB-F7B2-4317-AA9E-DEDDAE6810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358-1BDA-427A-99F2-17529EC0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972-3CCB-4118-AB40-8071CDB2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C5B-4508-4C22-8D8C-31964B70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A92-2327-48B7-A7EE-8D5063A1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C479-02AB-4319-A2A0-70EA73E9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1E38-DF74-4BAC-AAD6-DDAAFB06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293A-FF1F-4A03-9322-BC5BCC56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AD0A-5575-4BE7-9362-AE02F69E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2215-B909-462C-ADA5-241B4421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73E3-0627-4800-80BE-0CE6D0DF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8611-45A7-4606-8E09-613C05A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2E8-28AE-4B30-A9EB-F254F0A7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92FE-33E2-4A8D-883E-CF9C1EEA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66D6-93BB-4100-91E1-C640B617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1997-A271-401F-ADC4-53406930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5E53-E4B8-486A-B9AC-74240182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2389-B7B3-4017-BEA3-39E61EA9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3F22-8134-40BF-A885-E354BEEA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C255-9C46-418A-AB38-51A42517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0762-AF8D-454D-BEE8-22450456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5B1A-88DD-463E-8C07-20A8FAC0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6F74-BE5A-4172-B5A6-1D132E0C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D23-08D7-4C1D-AD5E-581A206F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9453-9472-4C6D-9100-2CD83B75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DD44-CF6C-440D-B665-DDB299A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C7B7-E580-4485-971D-819E3406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1A77A-FAD8-42D7-8AA7-1A40D54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A9F0-2B5F-4A00-8E30-EA6AEBF2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1C2E-524A-4E85-8AFD-B020A8B6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7540-6E6F-47A5-ABA6-EF319D14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3885-D38D-45F3-B91F-4360B69A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4B2E-FBAE-4491-9FC3-17A88B4A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1497-171D-486E-9516-AB77DF1C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581-A69D-45F1-AF56-1E717002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72AF-AC0E-4A7D-8B26-1AB128A9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CBCA-DD87-44B6-8FF9-73B098AD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E533-5D69-4D68-B83D-A3076C84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A689-D1B2-4081-8210-F263EFC7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1628-C88A-4FD5-AA64-B6770303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876C-5DE0-4048-BDD8-F11D436A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DB4A2-E35F-4894-8148-0A2D709A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7EC5-03DC-4789-9A1A-CFA9C009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4E84-9F23-4611-B12D-268FE4DF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4FBBB-9D92-4ECB-9B72-6C43B9AD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981-E6F7-48D4-A5B9-2BA9412D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9F871-4470-454C-827D-FE84ECF1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A259-8EC9-4673-8CA3-90841998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47340-3354-4656-B1D8-B82E1A6E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61727-0E00-406B-84B5-E3D77991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51280-070D-478C-8219-CCFA40EA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BAA85-5F69-4308-B930-CD9933E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FE69E-8130-4743-98C1-55F5A37A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08AF9-90C7-4F5A-B2FD-D02780F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A6188-187B-4FF9-A199-589DB47F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E282-AFFE-4766-B933-A3134EA7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97B-196D-4C26-A31A-12D236E4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482C3-8BC2-40BF-A57C-97CBCE95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9740-B5B5-4E75-A533-995363F4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D3909-4A4E-4240-BF5D-53F25426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54622-CEBB-4B97-8AE3-954D9A4A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3257-9377-47C2-93B2-2834C80B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9742D-8024-4E63-B288-023CACD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F3DFB-3DDD-4C98-B51E-378AC4F5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4755-B59C-4313-93A5-AB56E2C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AF6A8-18A1-434D-9E4C-FABF2E1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AFEA2-DE43-4E16-B94B-BB71DEEB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FC2-0150-4310-8D2E-0A1D19A5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72CD5-7ED0-4087-B709-807817B3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FCD8-C8C4-4054-9A9C-6E849028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A689E-FB44-4163-B570-22DCF422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E055F-7FC8-4BC4-937A-2D701110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3795-9862-49F6-B2D2-CD98DDC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2CC1-131F-4DC6-B98B-CCBB620F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CB7D9-83A5-4BE2-A6E0-2C7ECC26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3C029-973E-4782-A23A-6BD1CC2C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8BFE5-F5C2-46DD-8B37-5BD4CEDA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62B2A-19F9-4A35-80D7-5CA15971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274-0FE4-4D87-8345-25F3389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53FE1-07F9-4F96-9BEA-146AD2C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7D6FC-4ACA-421C-93C7-94678C21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CD82D-7E5C-4014-9BDF-983A7C16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6A75A-68A3-486F-B592-53E25ABF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CFA32-9D3E-4962-99A0-43748A2B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E92-3C54-40BC-9F0C-E84D10A5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8223-D895-4D6D-8242-0EFB370DAF0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B36A-11E5-4655-A9DA-BCE61A1F023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13A3-E760-496E-9E95-B7E16F95294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6E78-DFA8-4078-912C-89A7C4D1DEF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AEB3-A4CA-4ACB-9CB1-F83E8582B6E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11E9-E9D3-4499-9C35-2DE25E80C5D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4489-8D83-496E-BE48-D3DBB67C5B9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03640" y="213336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862aa"/>
                </a:solidFill>
                <a:latin typeface="Candara"/>
              </a:rPr>
              <a:t>Проект «Широкая Маслениц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634920" y="3933360"/>
            <a:ext cx="38163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Candara"/>
              </a:rPr>
              <a:t>Школа №2101 «Филёвский образовательный центр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Candara"/>
              </a:rPr>
              <a:t>Москва 2016 год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Candara"/>
              </a:rPr>
              <a:t>Проект подготовила музыкальный руководител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Candara"/>
              </a:rPr>
              <a:t>Щербакова Н.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Рисунок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024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374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Arial Narrow"/>
              </a:rPr>
              <a:t>Пятница -Тещины вечёрки.</a:t>
            </a: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В этот день все ходили в гости друг к другу, особенно родственники: зятья  шли к тёщам и угощались блинами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     </a:t>
            </a: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Главное угощение Масленицы – блины. Блин - это символ Солнышка. А вместе с  Солнышком природа встречает весну, начинаются новые работы на земле, появляются новые заботы о будущем урожае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      </a:t>
            </a: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Хозяйки всю неделю стараются, пекут блины, у каждой свои хитрости в приготовлении. Ешьте, веселитесь и не забывайте благодарить за праздничное угощение!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Как на масленой неделе к нам на стол блины летели!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С пылу, с жару, из печи, все румяны, горячи!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2916000" y="404640"/>
            <a:ext cx="4608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ятниц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6" name="Picture 2" descr="C:\Users\U184\Desktop\Наталья Юрьевна\Сканированные документы\Щербакова\IMG_4344.JPG"/>
          <p:cNvPicPr/>
          <p:nvPr/>
        </p:nvPicPr>
        <p:blipFill>
          <a:blip r:embed="rId1"/>
          <a:stretch/>
        </p:blipFill>
        <p:spPr>
          <a:xfrm>
            <a:off x="4356000" y="2205000"/>
            <a:ext cx="44085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38563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Arial Narrow"/>
              </a:rPr>
              <a:t>Суббота — Золовкины посиделки</a:t>
            </a: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К молодым невесткам приходили родные. Эта суббота называлась Родительской. Гости вспоминали своих родителей, а первый  испеченный блин выкладывали на окошко, в память о них или отдавали бедным людям. Продолжали играть, водили хороводы, весело прощались с зимой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 </a:t>
            </a: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Близится СУББОТА - "ЗОЛОВКИ УГОЩЕНИЕ".</a:t>
            </a:r>
            <a:br>
              <a:rPr sz="1900"/>
            </a:b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Вся родня встречается, водит хоровод.</a:t>
            </a:r>
            <a:br>
              <a:rPr sz="1900"/>
            </a:b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Праздник продолжается, общее веселье.</a:t>
            </a:r>
            <a:br>
              <a:rPr sz="1900"/>
            </a:b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Славно провожает Зимушку народ!</a:t>
            </a:r>
            <a:br>
              <a:rPr sz="1900"/>
            </a:b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914040" y="404640"/>
            <a:ext cx="3352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уббот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Picture 2" descr="G:\масленица 2016 фото\IMG_4385.JPG"/>
          <p:cNvPicPr/>
          <p:nvPr/>
        </p:nvPicPr>
        <p:blipFill>
          <a:blip r:embed="rId1"/>
          <a:stretch/>
        </p:blipFill>
        <p:spPr>
          <a:xfrm>
            <a:off x="4356000" y="1989000"/>
            <a:ext cx="4608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3855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Arial Narrow"/>
              </a:rPr>
              <a:t>Воскресенье — проводы Масленицы, Прощеный день, Прощеное воскресенье</a:t>
            </a: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. Этим днем Масленица заканчивается. Если в течение года люди чем-либо обидели друг друга, то в Прощеное воскресенье они просили прощения и на этом все обиды заканчивались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В воскресенье масленичной недели чучело — «сударыню - Масленицу» ставили на сани, везли Масленицу по улицам. За околицей зажигали большой костер, давали Масленице блин, а затем торжественно сжигали на костре, как бы сжигая все беды и несчастья и в знак прощания с зимой. При этом приговаривали: «Прощай, Масленица!»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2123640" y="333000"/>
            <a:ext cx="3600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Воскресень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2" name="Picture 2" descr="C:\Users\U184\Desktop\Наталья Юрьевна\Сканированные документы\Щербакова\IMG_4449.JPG"/>
          <p:cNvPicPr/>
          <p:nvPr/>
        </p:nvPicPr>
        <p:blipFill>
          <a:blip r:embed="rId1"/>
          <a:stretch/>
        </p:blipFill>
        <p:spPr>
          <a:xfrm>
            <a:off x="4932360" y="1700280"/>
            <a:ext cx="3743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3600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чень полюбились дошколятам узоры на подносах и кружках знаменитого Городца. Дети старательно расписывают дощечки  в стиле городецкой роспис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Мастер- класс «Знакомство с народным                    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    промыслом - городецкая  роспись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140000" y="1828440"/>
            <a:ext cx="441612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55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6" name="Picture 2" descr="E:\2018\Проект Масленица\IMG_4322.JPG"/>
          <p:cNvPicPr/>
          <p:nvPr/>
        </p:nvPicPr>
        <p:blipFill>
          <a:blip r:embed="rId1"/>
          <a:stretch/>
        </p:blipFill>
        <p:spPr>
          <a:xfrm>
            <a:off x="4078440" y="1809720"/>
            <a:ext cx="4825800" cy="4464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E:\2018\Проект Масленица\IMG_4316.JPG"/>
          <p:cNvPicPr/>
          <p:nvPr/>
        </p:nvPicPr>
        <p:blipFill>
          <a:blip r:embed="rId2"/>
          <a:stretch/>
        </p:blipFill>
        <p:spPr>
          <a:xfrm>
            <a:off x="250920" y="3068640"/>
            <a:ext cx="3600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Мастер – класс по изготовлению кукол из лоскутков ткани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77520" y="1598760"/>
            <a:ext cx="3822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ети мастерят из ткани тряпичных куко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77880" y="2349000"/>
            <a:ext cx="381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38224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х, и трудно вдеть нитку в иголку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3" name="Picture 3" descr="E:\2018\Проект Масленица\IMG_4329.JPG"/>
          <p:cNvPicPr/>
          <p:nvPr/>
        </p:nvPicPr>
        <p:blipFill>
          <a:blip r:embed="rId1"/>
          <a:stretch/>
        </p:blipFill>
        <p:spPr>
          <a:xfrm>
            <a:off x="250920" y="2340000"/>
            <a:ext cx="4249800" cy="4105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E:\2018\Проект Масленица\IMG_4325.JPG"/>
          <p:cNvPicPr/>
          <p:nvPr/>
        </p:nvPicPr>
        <p:blipFill>
          <a:blip r:embed="rId2"/>
          <a:stretch/>
        </p:blipFill>
        <p:spPr>
          <a:xfrm>
            <a:off x="4643280" y="2340000"/>
            <a:ext cx="432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3570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У дороги ели спят в инее седом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Спят деревья, спит река, скованная льдом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Мягко падает снежок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Вьётся голубой дымок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Словно в дымке всё кругом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Голубые дал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И село родное люди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73e87"/>
                </a:solidFill>
                <a:latin typeface="Arial Narrow"/>
              </a:rPr>
              <a:t>«</a:t>
            </a:r>
            <a:r>
              <a:rPr b="1" i="1" lang="ru-RU" sz="1500" spc="-1" strike="noStrike">
                <a:solidFill>
                  <a:srgbClr val="073e87"/>
                </a:solidFill>
                <a:latin typeface="Arial Narrow"/>
              </a:rPr>
              <a:t>Дымково</a:t>
            </a:r>
            <a:r>
              <a:rPr b="0" i="1" lang="ru-RU" sz="1500" spc="-1" strike="noStrike">
                <a:solidFill>
                  <a:srgbClr val="073e87"/>
                </a:solidFill>
                <a:latin typeface="Arial Narrow"/>
              </a:rPr>
              <a:t>»</a:t>
            </a: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 назвал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Там любили песни, пляск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В том селе рождались сказк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Вечера зимою длинны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И лепили там из глины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Всё игрушки не простые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А волшебно- расписные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Белоснежны как берёзки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Кружочки, клеточки, полоск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Простой казалось бы, узор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А отвести не в силах взор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Мастер- класс «Знакомство с народными промыслами – дымковская игрушка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51200" y="1828440"/>
            <a:ext cx="3905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55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8" name="Picture 2" descr="E:\2018\Проект Масленица\IMG_4333.JPG"/>
          <p:cNvPicPr/>
          <p:nvPr/>
        </p:nvPicPr>
        <p:blipFill>
          <a:blip r:embed="rId1"/>
          <a:stretch/>
        </p:blipFill>
        <p:spPr>
          <a:xfrm>
            <a:off x="4176720" y="1809720"/>
            <a:ext cx="4753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Финальный этап проекта концерт«Широкая Масленица!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Picture 2" descr="G:\масленица 2016 фото\IMG_4354.JPG"/>
          <p:cNvPicPr/>
          <p:nvPr/>
        </p:nvPicPr>
        <p:blipFill>
          <a:blip r:embed="rId1"/>
          <a:stretch/>
        </p:blipFill>
        <p:spPr>
          <a:xfrm>
            <a:off x="1527120" y="2060640"/>
            <a:ext cx="60976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Скоморох и Забава приглашают  всех на праздник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Picture 3" descr="G:\масленица 2016 фото\IMG_4360.JPG"/>
          <p:cNvPicPr/>
          <p:nvPr/>
        </p:nvPicPr>
        <p:blipFill>
          <a:blip r:embed="rId1"/>
          <a:stretch/>
        </p:blipFill>
        <p:spPr>
          <a:xfrm>
            <a:off x="676440" y="3129120"/>
            <a:ext cx="3822480" cy="2547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G:\масленица 2016 фото\IMG_4365.JPG"/>
          <p:cNvPicPr/>
          <p:nvPr/>
        </p:nvPicPr>
        <p:blipFill>
          <a:blip r:embed="rId2"/>
          <a:stretch/>
        </p:blipFill>
        <p:spPr>
          <a:xfrm>
            <a:off x="5407200" y="2679840"/>
            <a:ext cx="22986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Долгожданные гости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ривет из Хохломы и Гжел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Девочка-Веснянка радостно поёт свою песенку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7" name="Picture 3" descr="G:\масленица 2016 фото\IMG_4441.JPG"/>
          <p:cNvPicPr/>
          <p:nvPr/>
        </p:nvPicPr>
        <p:blipFill>
          <a:blip r:embed="rId1"/>
          <a:stretch/>
        </p:blipFill>
        <p:spPr>
          <a:xfrm>
            <a:off x="677880" y="3505320"/>
            <a:ext cx="3819600" cy="2544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G:\масленица 2016 фото\IMG_4393.JPG"/>
          <p:cNvPicPr/>
          <p:nvPr/>
        </p:nvPicPr>
        <p:blipFill>
          <a:blip r:embed="rId2"/>
          <a:stretch/>
        </p:blipFill>
        <p:spPr>
          <a:xfrm>
            <a:off x="4645080" y="3503520"/>
            <a:ext cx="3822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Народные игры 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«Воронок» и «Ручеёк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Picture 3" descr="G:\масленица 2016 фото\IMG_4386.JPG"/>
          <p:cNvPicPr/>
          <p:nvPr/>
        </p:nvPicPr>
        <p:blipFill>
          <a:blip r:embed="rId1"/>
          <a:stretch/>
        </p:blipFill>
        <p:spPr>
          <a:xfrm>
            <a:off x="676440" y="3129120"/>
            <a:ext cx="3822480" cy="2547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G:\масленица 2016 фото\IMG_4394.JPG"/>
          <p:cNvPicPr/>
          <p:nvPr/>
        </p:nvPicPr>
        <p:blipFill>
          <a:blip r:embed="rId2"/>
          <a:stretch/>
        </p:blipFill>
        <p:spPr>
          <a:xfrm>
            <a:off x="4645080" y="3129120"/>
            <a:ext cx="38224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26560" y="263700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Знакомство детей с народными традициями России на примере празднования «Широкой Масленицы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Знакомство с народными промыслами : Городецкая роспись, Дымковская игрушк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Использование поделок на праздниках и досуга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Расширение представлений о русском народном фольклоре посредством исполнения народных песен, танцев и игр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Обогащение словарного запаса по данной тематик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Вовлечение семьи в активное взаимодействие с дошкольным учреждение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 </a:t>
            </a: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Создание единого пространства, обогащение игровой и развивающей сред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914040" y="358128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Narrow"/>
              </a:rPr>
              <a:t>Бабушке Яге в лесу не сидится-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Narrow"/>
              </a:rPr>
              <a:t>Хочется с ребятам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Narrow"/>
              </a:rPr>
              <a:t>Ей повеселиться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250920" y="1052280"/>
            <a:ext cx="40161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Arial Narrow"/>
              </a:rPr>
              <a:t>А вот и не званный гость пожаловал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Picture 2" descr="G:\масленица 2016 фото\IMG_4401.JPG"/>
          <p:cNvPicPr/>
          <p:nvPr/>
        </p:nvPicPr>
        <p:blipFill>
          <a:blip r:embed="rId1"/>
          <a:stretch/>
        </p:blipFill>
        <p:spPr>
          <a:xfrm>
            <a:off x="3851280" y="1773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Ну, что за праздник без ложкарей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6" name="Picture 2" descr="G:\масленица 2016 фото\IMG_4377.JPG"/>
          <p:cNvPicPr/>
          <p:nvPr/>
        </p:nvPicPr>
        <p:blipFill>
          <a:blip r:embed="rId1"/>
          <a:stretch/>
        </p:blipFill>
        <p:spPr>
          <a:xfrm>
            <a:off x="179280" y="1557360"/>
            <a:ext cx="87138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Задорный танец «Самовар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76440" y="1628280"/>
            <a:ext cx="3822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амовар пустился в пляс! Веселить он будет нас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48320" y="1628280"/>
            <a:ext cx="3822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у, и мы не отстаём-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ним плясать сейчас пойдём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0" name="Picture 4" descr="G:\масленица 2016 фото\IMG_4447.JPG"/>
          <p:cNvPicPr/>
          <p:nvPr/>
        </p:nvPicPr>
        <p:blipFill>
          <a:blip r:embed="rId1"/>
          <a:stretch/>
        </p:blipFill>
        <p:spPr>
          <a:xfrm>
            <a:off x="611280" y="2565360"/>
            <a:ext cx="2876400" cy="4032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G:\масленица 2016 фото\IMG_4443.JPG"/>
          <p:cNvPicPr/>
          <p:nvPr/>
        </p:nvPicPr>
        <p:blipFill>
          <a:blip r:embed="rId2"/>
          <a:stretch/>
        </p:blipFill>
        <p:spPr>
          <a:xfrm>
            <a:off x="4645080" y="3503520"/>
            <a:ext cx="3822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Масленицу провожаем, света, солнца ожидаем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щай Масленица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асленицу провожай- всех блинами угощай!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5" name="Picture 2" descr="G:\масленица 2016 фото\IMG_4412.JPG"/>
          <p:cNvPicPr/>
          <p:nvPr/>
        </p:nvPicPr>
        <p:blipFill>
          <a:blip r:embed="rId1"/>
          <a:stretch/>
        </p:blipFill>
        <p:spPr>
          <a:xfrm>
            <a:off x="677880" y="3503520"/>
            <a:ext cx="3819600" cy="2546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G:\масленица 2016 фото\IMG_4449.JPG"/>
          <p:cNvPicPr/>
          <p:nvPr/>
        </p:nvPicPr>
        <p:blipFill>
          <a:blip r:embed="rId2"/>
          <a:stretch/>
        </p:blipFill>
        <p:spPr>
          <a:xfrm>
            <a:off x="4645080" y="3503520"/>
            <a:ext cx="3822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148428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озрождать интерес к обрядовым русским праздника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Обогащать духовный мир дет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Обобщить и закрепить знания детей о празднике «Масленица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ызвать эмоциональное сопереживание и участие в игре-действии, приобщить всех участников к традиции проведения народного праздника Маслениц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оспитывать чувство патриотизма, основанного на русских традиция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Формировать мотивацию для самообразования воспитателей в вопросе познавательного развития дет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Подбор соответствующих материалов по тем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Обогащение игровых уголков в групп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Развивать творческие способности и потребность в самостоятельной художественной деятельн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оспитывать эстетический вкус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Задачи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Тип проекта и его участн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 rot="10800000">
            <a:off x="676440" y="1699200"/>
            <a:ext cx="38224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астни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77880" y="4149720"/>
            <a:ext cx="381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Дети всех возрастных групп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Музыкальный руководител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Инструктор по физкультуре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Родител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оспитатели всех возрастных групп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ип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5080" y="4076280"/>
            <a:ext cx="3822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коллективны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развлекательно- досуговы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творческий, включающий в себя   совместную деятельность взрослых и дете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Narrow"/>
              </a:rPr>
              <a:t>Продолжительность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Долгосрочны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Декабрь -Февраль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4" name="Picture 2" descr="G:\масленица 2016 фото\IMG_3889.JPG"/>
          <p:cNvPicPr/>
          <p:nvPr/>
        </p:nvPicPr>
        <p:blipFill>
          <a:blip r:embed="rId1"/>
          <a:stretch/>
        </p:blipFill>
        <p:spPr>
          <a:xfrm>
            <a:off x="4572000" y="1628640"/>
            <a:ext cx="4321080" cy="2521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G:\масленица 2016 фото\IMG_4328.JPG"/>
          <p:cNvPicPr/>
          <p:nvPr/>
        </p:nvPicPr>
        <p:blipFill>
          <a:blip r:embed="rId2"/>
          <a:stretch/>
        </p:blipFill>
        <p:spPr>
          <a:xfrm>
            <a:off x="250920" y="1413000"/>
            <a:ext cx="42498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Наш букле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Содержимое 11" descr="C:\Users\user\Desktop\МАСЛЕНИЦА ФОТО\12142570.png"/>
          <p:cNvPicPr/>
          <p:nvPr/>
        </p:nvPicPr>
        <p:blipFill>
          <a:blip r:embed="rId1"/>
          <a:stretch/>
        </p:blipFill>
        <p:spPr>
          <a:xfrm>
            <a:off x="5321160" y="5732640"/>
            <a:ext cx="3498840" cy="720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24000" y="2679480"/>
            <a:ext cx="46447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73e87"/>
                </a:solidFill>
                <a:latin typeface="Arial Narrow"/>
              </a:rPr>
              <a:t> 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 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Едет Масленица дорогая! Наша гостьюшка годова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          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На саночках расписных, на кониках вороных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Живет Масленица 7 деньков! Оставайся с нами 7 годков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Широкая масленица, мы тобою хвалимс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На горках катаемся, блинами объедаемс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Торопись, честной народ, Масленица всех зовёт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          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Мы сегодня зиму провожаем, весну красную встречаем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9" name="Рисунок 6" descr="http://desnyanka.ru/ardzon/files/24-02-2012___11-19-1.jpg"/>
          <p:cNvPicPr/>
          <p:nvPr/>
        </p:nvPicPr>
        <p:blipFill>
          <a:blip r:embed="rId2"/>
          <a:stretch/>
        </p:blipFill>
        <p:spPr>
          <a:xfrm>
            <a:off x="5508720" y="1413000"/>
            <a:ext cx="3219480" cy="42480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0" descr="imgpreview (1).jpg"/>
          <p:cNvPicPr/>
          <p:nvPr/>
        </p:nvPicPr>
        <p:blipFill>
          <a:blip r:embed="rId3"/>
          <a:stretch/>
        </p:blipFill>
        <p:spPr>
          <a:xfrm>
            <a:off x="611280" y="692280"/>
            <a:ext cx="2305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38718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Понедельник назывался «Встречей».</a:t>
            </a: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 В этот день из соломы делали чучело Масленицы, одевали его в старую женскую одежду, затем сажали его на шест и катали по деревне в санях. После этого Масленицу ставили на снежной горе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Утро... ПОНЕДЕЛЬНИК... Наступает "ВСТРЕЧА"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Яркие салазки с горочек скользят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Целый день веселье. Наступает вечер..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Накатавшись вволю, все блины едят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115640" y="765000"/>
            <a:ext cx="32958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 Narrow"/>
              </a:rPr>
              <a:t>Понедельник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Объект 4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4321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  <a:ea typeface="Times New Roman"/>
              </a:rPr>
              <a:t>Вторник назывался «Заигрышем»</a:t>
            </a: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Times New Roman"/>
              </a:rPr>
              <a:t>. В этот день начинались различные увеселения: катания на санях, народные гулянья, представления. По улицам ходили толпы ряженых, они катались по городу на тройках лошадей и на простых санях, которые назывались розвальнями. На улицах ставили балаганы, где давались представления во главе с Петрушкой, устраивались и домашние концерты. Некоторые катались с горо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"ЗАИГРЫШ" беспечный - ВТОРНИКА отрад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Все гулять, резвиться вышли, как один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Игры и потехи, а за них - награда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Сдобный и румяный масленичный блин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35827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 Narrow"/>
              </a:rPr>
              <a:t>         </a:t>
            </a:r>
            <a:r>
              <a:rPr b="0" lang="ru-RU" sz="3200" spc="-1" strike="noStrike">
                <a:solidFill>
                  <a:srgbClr val="073e87"/>
                </a:solidFill>
                <a:latin typeface="Arial Narrow"/>
              </a:rPr>
              <a:t>Вторник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2" descr="C:\Users\U184\Desktop\Наталья Юрьевна\Сканированные документы\Щербакова\IMG_4310.JPG"/>
          <p:cNvPicPr/>
          <p:nvPr/>
        </p:nvPicPr>
        <p:blipFill>
          <a:blip r:embed="rId1"/>
          <a:stretch/>
        </p:blipFill>
        <p:spPr>
          <a:xfrm>
            <a:off x="5334120" y="1268280"/>
            <a:ext cx="33415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3672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Среду называли «Лакомкой»</a:t>
            </a: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Первые три  дня масленицы можно было работать, шить кукол, мастерить из соломки, бусы плести, заниматься росписью по дереву. А уж со среды начинались пиршества во всех домах. Гостей угощали блинами, накрывали столы, в деревнях, повсюду появлялись шатры, торговые палатки, торгующие горячими напитками из меда и пряностей, калеными орехами, пряниками. Здесь же продавали чай из кипящего самовар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Тут СРЕДА подходит - "ЛАКОМКОЙ" зовётся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Каждая хозяюшка колдует у печи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Кулебяки, сырники - всё им удаётся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Пироги и блинчики - всё на стол мечи!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826920" y="620280"/>
            <a:ext cx="344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ред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51200" y="1828440"/>
            <a:ext cx="3905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55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0" name="Picture 3" descr="C:\Users\U184\Desktop\Наталья Юрьевна\Сканированные документы\Щербакова\IMG_4320.JPG"/>
          <p:cNvPicPr/>
          <p:nvPr/>
        </p:nvPicPr>
        <p:blipFill>
          <a:blip r:embed="rId1"/>
          <a:stretch/>
        </p:blipFill>
        <p:spPr>
          <a:xfrm>
            <a:off x="4284720" y="1844640"/>
            <a:ext cx="460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469116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Четвер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Picture 2" descr="C:\Users\U184\Desktop\Наталья Юрьевна\Сканированные документы\Щербакова\IMG_4343.JPG"/>
          <p:cNvPicPr/>
          <p:nvPr/>
        </p:nvPicPr>
        <p:blipFill>
          <a:blip r:embed="rId1"/>
          <a:stretch/>
        </p:blipFill>
        <p:spPr>
          <a:xfrm>
            <a:off x="468360" y="2060640"/>
            <a:ext cx="4038480" cy="35290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645080" y="981000"/>
            <a:ext cx="3822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ЧЕТВЕРГ - раздольный "РАЗГУЛЯЙ"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Ледяные крепости, кулачные бои..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Тройки с бубенцами на поля выходят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Парни ищут девушек – подруженек  своих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Масленица! Масленица! Широкая Масленица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Гостья, нагостилась, с зимушкой Простилась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Воробьи чирикают, они весну кликают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В Четверг люди прекращали     работать, начинались  массовые гулянья. На площадях устраивались кулачные бои, где люди показывали свою силу. Выступали артисты балаганов, а так же цирковые артисты. Устраивались  Медвежьи потех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7T10:08:32Z</dcterms:created>
  <dc:creator>U184</dc:creator>
  <dc:description/>
  <dc:language>en-US</dc:language>
  <cp:lastModifiedBy>Lenovo</cp:lastModifiedBy>
  <dcterms:modified xsi:type="dcterms:W3CDTF">2019-01-04T16:03:34Z</dcterms:modified>
  <cp:revision>114</cp:revision>
  <dc:subject/>
  <dc:title>Проект «Широкая Масленица»</dc:title>
</cp:coreProperties>
</file>