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10E9-208D-4607-A00F-1F0BE723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2A3F-D244-4238-AA1A-9B280728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9C72-8C98-435A-A46B-4D4CE94F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FEA3-8C3E-4B82-9969-783CB3DF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8084-11D8-40AC-A2C5-664A83A1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14B0-5EF3-4FF0-AF23-292FC16B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B238-6216-4609-980F-BE67DE55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804B-69F3-498D-BAE9-A73C607D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0877-73E5-4123-B08A-91314053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41C6-7DD9-4D86-BF27-7E881A7B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4BB9-C81A-46C3-8642-7DB6A91B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70C1-E365-4AC1-89CD-69D160DB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3C17-0CA0-4953-B510-FBD4B749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9441-669A-4B85-BBB2-5596DE2F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6B7C-8694-46DD-9D5E-B0715AE8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988D-C65D-4A0D-8D14-3511DDA0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B39C-A7F6-4B0C-867D-6C56326F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3071-6694-44CB-990D-20F6DA86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2705-C70B-4256-81A5-7B9874EC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FAC4-0F69-4246-86F4-8BDC9D6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D3C0-36E6-438F-9F2E-8DDF0EB8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23B4-DF06-47CE-8866-3CD81A1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27A1-77D7-41E8-890E-2A836CD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A05E-F9B9-411C-AD2F-DD69D2C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6BA8-F74B-4DDF-90B1-30F7A331DB1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8212-817E-4564-9DEB-2FE5886A7E9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ain.rossimvolika.ru/gos-simv/gos-gerb/catalog-images/pechati/e07969551e665860799d5daf91080a7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kiyany.obozrevatel.com/files/27/_Picture_file_path_27123.gif&amp;pageurl=http://kiyany.obozrevatel.com%2Fnews%2F2007%2F12%2F27%2F40262.htm&amp;id=60746935&amp;iid=7&amp;imgwidth=450&amp;imgheight=675&amp;imgsize=169080&amp;images_links=b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ПЁТР   ВЕЛИ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6" descr="i"/>
          <p:cNvPicPr/>
          <p:nvPr/>
        </p:nvPicPr>
        <p:blipFill>
          <a:blip r:embed="rId1"/>
          <a:stretch/>
        </p:blipFill>
        <p:spPr>
          <a:xfrm>
            <a:off x="2830680" y="1600200"/>
            <a:ext cx="348264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Личная печать Петра 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в учении нуждаюсь и в учителях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4f3d7d38d24b740c95da2b03dc3a23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62280"/>
            <a:ext cx="662472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Указ Петра 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здн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вого г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 января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1700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i?id=60746935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9640" y="1628640"/>
            <a:ext cx="2957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Указ Петра 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яре и дворяне  должны были сменить всю одежду на европейск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м боярам и дворянам приказано было сбрить бор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казано носить пари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8" descr="post221-214x300"/>
          <p:cNvPicPr/>
          <p:nvPr/>
        </p:nvPicPr>
        <p:blipFill>
          <a:blip r:embed="rId1"/>
          <a:stretch/>
        </p:blipFill>
        <p:spPr>
          <a:xfrm>
            <a:off x="961920" y="1628640"/>
            <a:ext cx="313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Одежда при Петре 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10" descr="katerin1"/>
          <p:cNvPicPr/>
          <p:nvPr/>
        </p:nvPicPr>
        <p:blipFill>
          <a:blip r:embed="rId1"/>
          <a:stretch/>
        </p:blipFill>
        <p:spPr>
          <a:xfrm>
            <a:off x="755640" y="1628640"/>
            <a:ext cx="3354480" cy="4535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i?id=8317713&amp;tov=8"/>
          <p:cNvPicPr/>
          <p:nvPr/>
        </p:nvPicPr>
        <p:blipFill>
          <a:blip r:embed="rId2"/>
          <a:stretch/>
        </p:blipFill>
        <p:spPr>
          <a:xfrm>
            <a:off x="4863960" y="1628640"/>
            <a:ext cx="38116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троены при Петре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уфак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вигационные шко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8" descr="i?id=33418370&amp;tov=4"/>
          <p:cNvPicPr/>
          <p:nvPr/>
        </p:nvPicPr>
        <p:blipFill>
          <a:blip r:embed="rId1"/>
          <a:stretch/>
        </p:blipFill>
        <p:spPr>
          <a:xfrm>
            <a:off x="966960" y="1628640"/>
            <a:ext cx="2603160" cy="345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matros1711"/>
          <p:cNvPicPr/>
          <p:nvPr/>
        </p:nvPicPr>
        <p:blipFill>
          <a:blip r:embed="rId2"/>
          <a:stretch/>
        </p:blipFill>
        <p:spPr>
          <a:xfrm>
            <a:off x="5076720" y="1628640"/>
            <a:ext cx="2506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остижения Пет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адемия наук                       Первые газ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атр                                       Фл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an"/>
          <p:cNvPicPr/>
          <p:nvPr/>
        </p:nvPicPr>
        <p:blipFill>
          <a:blip r:embed="rId1"/>
          <a:stretch/>
        </p:blipFill>
        <p:spPr>
          <a:xfrm>
            <a:off x="755640" y="1197000"/>
            <a:ext cx="3672000" cy="2414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gazeta"/>
          <p:cNvPicPr/>
          <p:nvPr/>
        </p:nvPicPr>
        <p:blipFill>
          <a:blip r:embed="rId2"/>
          <a:stretch/>
        </p:blipFill>
        <p:spPr>
          <a:xfrm>
            <a:off x="5076720" y="1197000"/>
            <a:ext cx="3024360" cy="2314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01ed06e8e772"/>
          <p:cNvPicPr/>
          <p:nvPr/>
        </p:nvPicPr>
        <p:blipFill>
          <a:blip r:embed="rId3"/>
          <a:stretch/>
        </p:blipFill>
        <p:spPr>
          <a:xfrm>
            <a:off x="5148360" y="393372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i?id=76559145&amp;tov=6"/>
          <p:cNvPicPr/>
          <p:nvPr/>
        </p:nvPicPr>
        <p:blipFill>
          <a:blip r:embed="rId4"/>
          <a:stretch/>
        </p:blipFill>
        <p:spPr>
          <a:xfrm>
            <a:off x="900000" y="3949560"/>
            <a:ext cx="29512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Санкт - 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тропавловская крепость                  Александро-Невская лав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дмиралтейство                                        Кунсткам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9" descr="300px-Kunstkamera"/>
          <p:cNvPicPr/>
          <p:nvPr/>
        </p:nvPicPr>
        <p:blipFill>
          <a:blip r:embed="rId1"/>
          <a:stretch/>
        </p:blipFill>
        <p:spPr>
          <a:xfrm>
            <a:off x="5580000" y="3860640"/>
            <a:ext cx="2857680" cy="2095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IMAGE0195"/>
          <p:cNvPicPr/>
          <p:nvPr/>
        </p:nvPicPr>
        <p:blipFill>
          <a:blip r:embed="rId2"/>
          <a:stretch/>
        </p:blipFill>
        <p:spPr>
          <a:xfrm>
            <a:off x="5148360" y="1125360"/>
            <a:ext cx="3529080" cy="215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i?id=9057332&amp;tov=6"/>
          <p:cNvPicPr/>
          <p:nvPr/>
        </p:nvPicPr>
        <p:blipFill>
          <a:blip r:embed="rId3"/>
          <a:stretch/>
        </p:blipFill>
        <p:spPr>
          <a:xfrm>
            <a:off x="1360440" y="3645000"/>
            <a:ext cx="1955880" cy="244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Копия IMAGE0195"/>
          <p:cNvPicPr/>
          <p:nvPr/>
        </p:nvPicPr>
        <p:blipFill>
          <a:blip r:embed="rId4"/>
          <a:stretch/>
        </p:blipFill>
        <p:spPr>
          <a:xfrm>
            <a:off x="826920" y="1084320"/>
            <a:ext cx="34578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7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амятник Петру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в Санкт-Петербург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«Самодержавною рукой он смело сеял просвещен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е презирал страны родной, он знал её предназначень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С.Пушк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IMAGE0198"/>
          <p:cNvPicPr/>
          <p:nvPr/>
        </p:nvPicPr>
        <p:blipFill>
          <a:blip r:embed="rId1"/>
          <a:stretch/>
        </p:blipFill>
        <p:spPr>
          <a:xfrm>
            <a:off x="1763640" y="1197000"/>
            <a:ext cx="51120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Спасибо за вним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ётр                   Ива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737240" y="1700280"/>
            <a:ext cx="3402000" cy="38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пп"/>
          <p:cNvPicPr/>
          <p:nvPr/>
        </p:nvPicPr>
        <p:blipFill>
          <a:blip r:embed="rId2"/>
          <a:stretch/>
        </p:blipFill>
        <p:spPr>
          <a:xfrm>
            <a:off x="974880" y="1628640"/>
            <a:ext cx="2706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1"/>
          <a:stretch/>
        </p:blipFill>
        <p:spPr>
          <a:xfrm>
            <a:off x="419040" y="620640"/>
            <a:ext cx="4910040" cy="5510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Царевн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офь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оссия отстала в развитии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от стран Европы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ссии не было инженеров и учё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о было заводов и фабр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мия плохо вооружена и обуч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енного флота не бы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Бояре и дворяне      Восстание крестьян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8" descr="458"/>
          <p:cNvPicPr/>
          <p:nvPr/>
        </p:nvPicPr>
        <p:blipFill>
          <a:blip r:embed="rId1"/>
          <a:stretch/>
        </p:blipFill>
        <p:spPr>
          <a:xfrm>
            <a:off x="701640" y="1557360"/>
            <a:ext cx="3821040" cy="453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150"/>
          <p:cNvPicPr/>
          <p:nvPr/>
        </p:nvPicPr>
        <p:blipFill>
          <a:blip r:embed="rId2"/>
          <a:stretch/>
        </p:blipFill>
        <p:spPr>
          <a:xfrm>
            <a:off x="4643280" y="1916280"/>
            <a:ext cx="4096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Потешные по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9" descr="IMAGE0195"/>
          <p:cNvPicPr/>
          <p:nvPr/>
        </p:nvPicPr>
        <p:blipFill>
          <a:blip r:embed="rId1"/>
          <a:stretch/>
        </p:blipFill>
        <p:spPr>
          <a:xfrm>
            <a:off x="825480" y="1747800"/>
            <a:ext cx="74916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отик Петра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4" descr="petr-9b"/>
          <p:cNvPicPr/>
          <p:nvPr/>
        </p:nvPicPr>
        <p:blipFill>
          <a:blip r:embed="rId1"/>
          <a:stretch/>
        </p:blipFill>
        <p:spPr>
          <a:xfrm>
            <a:off x="1854360" y="1630440"/>
            <a:ext cx="54352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ётр в Голландии на верфя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4" descr="65"/>
          <p:cNvPicPr/>
          <p:nvPr/>
        </p:nvPicPr>
        <p:blipFill>
          <a:blip r:embed="rId1"/>
          <a:stretch/>
        </p:blipFill>
        <p:spPr>
          <a:xfrm>
            <a:off x="1763640" y="1628640"/>
            <a:ext cx="56228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рским судам быть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 октября 1696 года- день 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ого военно-морского фл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IMAGE0196"/>
          <p:cNvPicPr/>
          <p:nvPr/>
        </p:nvPicPr>
        <p:blipFill>
          <a:blip r:embed="rId1"/>
          <a:stretch/>
        </p:blipFill>
        <p:spPr>
          <a:xfrm>
            <a:off x="1835280" y="1197000"/>
            <a:ext cx="56163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53:20Z</dcterms:created>
  <dc:creator>Customer</dc:creator>
  <dc:description/>
  <dc:language>en-US</dc:language>
  <cp:lastModifiedBy>Windows User</cp:lastModifiedBy>
  <dcterms:modified xsi:type="dcterms:W3CDTF">2019-01-10T16:46:58Z</dcterms:modified>
  <cp:revision>15</cp:revision>
  <dc:subject/>
  <dc:title>ПЁТР   ВЕЛИКИЙ</dc:title>
</cp:coreProperties>
</file>