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94D-D876-4CA0-95D1-7663DCF3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96E-24C8-481F-B376-3D4AD246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F35-0817-4655-BE56-F4F625EF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061-34EB-42E9-AEB1-66EAB92C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A768-4D86-431A-8A63-53D63392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F11E-A7C2-4938-A33E-705E01AC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4D38-5FE8-47D3-9D3F-6A0E5179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F55E-9757-4569-8FA0-97378B02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5169-338A-469D-B89F-80758DA1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EB9A-4ED1-4263-8CA3-C4260883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CA1F-0B87-4E87-A013-CBEA57F9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67C-A79C-4CB6-9417-52DDBE22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999B-3A0D-4521-9FB6-42CA57D3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FA37-0751-4167-959D-3F49AEB0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4E74-D89B-4E4E-B22A-5A92B603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89C1-200C-49AF-B4D9-E555C796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B337-84B0-4ECF-9D05-C9A5D0CA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5D4-A537-44C1-9CC3-AD5E741E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90B-A4D0-4F92-99E5-EA8BDDCB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16A-16F4-44E5-AC2E-0B57B55C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277-FE01-4D17-AC32-A157C6BC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B85-8797-40F9-A64E-6987730E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A0D-5C9A-4D66-89EA-F7928CF0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93D-D1EE-43E6-9CEC-7FD4DE74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102E-DEAF-410C-96B0-EA1D2EEA74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A895-82E5-401B-B25E-533526F867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Развитие инициативы и самостоятельности  детей, через игровую деятельность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готовил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дагог – психо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сшей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лесская Галина Валерье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Развитие инициативы и самостоятельности  детей, через игровую деятельность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3200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имся играя или использование нетрадиционных техник в процессе работы с детьми с ОВ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11280" y="4076640"/>
            <a:ext cx="4176720" cy="23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и способа окраски сыпучих материал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краска цветными мелк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краска гуашь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краска пищевыми красител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632560" y="1916280"/>
            <a:ext cx="3116160" cy="42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расим соль мелк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 Рассыпаем соль на стол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 Растираем мел с соль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ÐÐ°Ðº ÐºÑÐ°ÑÐ¸ÑÑ ÑÐ¾Ð»Ñ 3"/>
          <p:cNvPicPr/>
          <p:nvPr/>
        </p:nvPicPr>
        <p:blipFill>
          <a:blip r:embed="rId1"/>
          <a:stretch/>
        </p:blipFill>
        <p:spPr>
          <a:xfrm>
            <a:off x="4659480" y="3352680"/>
            <a:ext cx="381636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 процессе покраски соли ребенок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лучает микро-массаж ручек, что позволяет развивать мелкую мотори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зучает и повторяет цве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лучает гигиенические навыки  (приучается к тому, что красителей лучше не касаться руками, гуашь и  крошка от мелков отмывается хорошо, а акрил плохо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4788000" y="1552680"/>
            <a:ext cx="388764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расим соль гуашь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сыпаем соль в пакет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уашь выливаем в пакет с солью. Завязываем. Перетира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перь перекладываем смесь в емкость, которую можно использовать в микроволновке и ставим на 1-3 минуты в зависимости от того количества соли, которое получилос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ÐÐ°ÑÑÐ¸Ð½ÐºÐ¸ Ð¿Ð¾ Ð·Ð°Ð¿ÑÐ¾ÑÑ ÐºÑÐ°ÑÐ¸Ð¼ ÑÐ¾Ð»Ñ Ð³ÑÐ°ÑÑÑ ÑÐ¾ÑÐ¾"/>
          <p:cNvPicPr/>
          <p:nvPr/>
        </p:nvPicPr>
        <p:blipFill>
          <a:blip r:embed="rId1"/>
          <a:stretch/>
        </p:blipFill>
        <p:spPr>
          <a:xfrm>
            <a:off x="4788000" y="3645000"/>
            <a:ext cx="4356000" cy="29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краска соли пищевыми красителя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сыпаем соль в новый полиэтиленовый пакет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бавляем пищевой красител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ля получения насыщенного цвета нужно брать больше пищевого красителя и меньше соли. У меня на 200 грамм соли ушло 8 капель пищевого красител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еперь пакет завязыва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ебенок начинает его перетирать – грубо говоря, мусолить в рука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59560" y="1413000"/>
            <a:ext cx="28940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987280" y="692280"/>
            <a:ext cx="28767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889280" cy="3384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4076640"/>
            <a:ext cx="3835440" cy="214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1954440" cy="3500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24000" y="2924280"/>
            <a:ext cx="1807920" cy="345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0T10:45:50Z</dcterms:created>
  <dc:creator>Admin</dc:creator>
  <dc:description/>
  <dc:language>en-US</dc:language>
  <cp:lastModifiedBy>Admin</cp:lastModifiedBy>
  <dcterms:modified xsi:type="dcterms:W3CDTF">2019-01-10T11:20:19Z</dcterms:modified>
  <cp:revision>2</cp:revision>
  <dc:subject/>
  <dc:title>Развитие инициативы и самостоятельности  детей, через игровую деятельность.</dc:title>
</cp:coreProperties>
</file>