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AAC-5597-4A34-8FD0-708049F3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7E6-DC39-4BDD-BE0C-34B40DE2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83E-5A3A-4617-8B72-4E4FCD38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B18-A909-4210-93B1-FE04FC08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15E6-6F05-4034-9FF9-C7D7D861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F55A-7915-427F-9E71-DD79903A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4F9B-D513-4107-87CB-B9813267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7D9-5A38-433D-AA24-51A18AA0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EDAA-B670-406D-9DD9-72BE16A3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69E0-6017-4874-81DA-8824A5D4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8ED8-BE47-4800-BECB-A36178B7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A9C-FFCB-4484-AB60-04C66441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84B9-3DC6-43BA-A3A8-FEC9CAE9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9CC8-1604-4770-B679-8982BA5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282A-6909-4B7D-92C7-22E92A88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115A-90C6-47C7-B525-3C3EF83C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9EBC-D01A-403E-9809-0E6EB61D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627-9F81-43C2-B1F9-F6832438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63E-CDE4-4761-A3C2-B9353318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92D-81AE-4D7F-A1BE-9DE015A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B5D-572D-412A-B741-8AA7C251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371-94A7-43AD-87C2-F692FBDD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169-49FA-47A5-BC9B-557A3D78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041-54B9-4E0C-98E4-DE53D90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59F0-E800-4267-B066-825547CEF5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B5EF-F175-4A40-A1D4-3EB7B43107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Развитие инициативы и самостоятельности  детей, через игровую деятельность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готови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дагог – психо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ше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лесская Галина Валер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Развитие инициативы и самостоятельности  детей, через игровую деятельность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имся играя или использование нетрадиционных техник в процессе работы с детьми с ОВ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4176720" cy="23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и способа окраски сыпучих материал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краска цветными мелк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краска гуаш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краска пищевыми красител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632560" y="1916280"/>
            <a:ext cx="3116160" cy="42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асим соль мелк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 Рассыпаем соль на стол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 Растираем мел с сол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ÐÐ°Ðº ÐºÑÐ°ÑÐ¸ÑÑ ÑÐ¾Ð»Ñ 3"/>
          <p:cNvPicPr/>
          <p:nvPr/>
        </p:nvPicPr>
        <p:blipFill>
          <a:blip r:embed="rId1"/>
          <a:stretch/>
        </p:blipFill>
        <p:spPr>
          <a:xfrm>
            <a:off x="4659480" y="3352680"/>
            <a:ext cx="38163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 процессе покраски соли ребенок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лучает микро-массаж ручек, что позволяет развивать мелкую мотори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учает и повторяет цве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лучает гигиенические навыки  (приучается к тому, что красителей лучше не касаться руками, гуашь и  крошка от мелков отмывается хорошо, а акрил плохо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788000" y="1552680"/>
            <a:ext cx="388764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асим соль гуашь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ыпаем соль в паке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уашь выливаем в пакет с солью. Завязываем. Перетира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перь перекладываем смесь в емкость, которую можно использовать в микроволновке и ставим на 1-3 минуты в зависимости от того количества соли, которое получилос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ÐÐ°ÑÑÐ¸Ð½ÐºÐ¸ Ð¿Ð¾ Ð·Ð°Ð¿ÑÐ¾ÑÑ ÐºÑÐ°ÑÐ¸Ð¼ ÑÐ¾Ð»Ñ Ð³ÑÐ°ÑÑÑ ÑÐ¾ÑÐ¾"/>
          <p:cNvPicPr/>
          <p:nvPr/>
        </p:nvPicPr>
        <p:blipFill>
          <a:blip r:embed="rId1"/>
          <a:stretch/>
        </p:blipFill>
        <p:spPr>
          <a:xfrm>
            <a:off x="4788000" y="3645000"/>
            <a:ext cx="4356000" cy="29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краска соли пищевыми красителя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сыпаем соль в новый полиэтиленовый пакет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бавляем пищевой красител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ля получения насыщенного цвета нужно брать больше пищевого красителя и меньше соли. У меня на 200 грамм соли ушло 8 капель пищевого красител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перь пакет завязыва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ебенок начинает его перетирать – грубо говоря, мусолить в рук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59560" y="1413000"/>
            <a:ext cx="28940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987280" y="692280"/>
            <a:ext cx="28767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889280" cy="3384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76640"/>
            <a:ext cx="3835440" cy="214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1954440" cy="3500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1807920" cy="34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0T10:45:50Z</dcterms:created>
  <dc:creator>Admin</dc:creator>
  <dc:description/>
  <dc:language>en-US</dc:language>
  <cp:lastModifiedBy>Admin</cp:lastModifiedBy>
  <dcterms:modified xsi:type="dcterms:W3CDTF">2019-01-10T11:20:19Z</dcterms:modified>
  <cp:revision>2</cp:revision>
  <dc:subject/>
  <dc:title>Развитие инициативы и самостоятельности  детей, через игровую деятельность.</dc:title>
</cp:coreProperties>
</file>