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C5C-B307-40CD-A502-7558226E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365-C20A-4E80-9A6F-E2177B38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3AC-78F0-41F6-8C8C-A59F81E6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AC8-0AAE-471D-A1F8-96D33CFE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F35-0AF9-4AA5-B087-1325087C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798-FE9B-4298-8111-9A57479B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FFB-3FFD-4C04-95FB-F10BA724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D1E-A51F-48B3-AAEE-8FF19C23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377-5332-4022-BC17-3C155497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5A9-B8D0-4D12-B173-CE80CB29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725-ADD0-4588-A485-9FCE3254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558-F03E-401C-8B79-E416EE04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27A8-82CD-4973-A75E-3319D6EE3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895320" y="122400"/>
            <a:ext cx="7426440" cy="950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530360" y="254808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 слай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Наталья\Desktop\дом дорога добро\litra2.jpg"/>
          <p:cNvPicPr/>
          <p:nvPr/>
        </p:nvPicPr>
        <p:blipFill>
          <a:blip r:embed="rId2"/>
          <a:stretch/>
        </p:blipFill>
        <p:spPr>
          <a:xfrm>
            <a:off x="0" y="-104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5292720" y="4581360"/>
            <a:ext cx="35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жэ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эко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179280" y="476280"/>
            <a:ext cx="511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атематика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дверь и ключ 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наукам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Наталья\Desktop\дом дорога добро\shop_items_catalog_image203143.jpeg"/>
          <p:cNvPicPr/>
          <p:nvPr/>
        </p:nvPicPr>
        <p:blipFill>
          <a:blip r:embed="rId3"/>
          <a:srcRect l="46806" t="5384" r="26597" b="25831"/>
          <a:stretch/>
        </p:blipFill>
        <p:spPr>
          <a:xfrm>
            <a:off x="0" y="3110040"/>
            <a:ext cx="1198440" cy="364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my-mnenie.ru/wp-content/uploads/2012/08/Roger_Bacon.jpg"/>
          <p:cNvPicPr/>
          <p:nvPr/>
        </p:nvPicPr>
        <p:blipFill>
          <a:blip r:embed="rId4"/>
          <a:stretch/>
        </p:blipFill>
        <p:spPr>
          <a:xfrm>
            <a:off x="5435640" y="0"/>
            <a:ext cx="3273480" cy="463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Физминутка для глаз 'Зимняя сказка'.mp4" descr=""/>
          <p:cNvPicPr/>
          <p:nvPr/>
        </p:nvPicPr>
        <p:blipFill>
          <a:blip r:embed="rId1"/>
          <a:stretch/>
        </p:blipFill>
        <p:spPr>
          <a:xfrm>
            <a:off x="250920" y="0"/>
            <a:ext cx="87008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1258920" y="189000"/>
            <a:ext cx="691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Работа по учебнику"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4000" y="1700280"/>
            <a:ext cx="61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С. 86 № 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160"/>
          <p:cNvPicPr/>
          <p:nvPr/>
        </p:nvPicPr>
        <p:blipFill>
          <a:blip r:embed="rId1"/>
          <a:stretch/>
        </p:blipFill>
        <p:spPr>
          <a:xfrm>
            <a:off x="5724360" y="2205000"/>
            <a:ext cx="3024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468360" y="189000"/>
            <a:ext cx="8207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2960" y="981000"/>
            <a:ext cx="7468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тянулись! Потянулись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теперь мы все качнулись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тянулись все опя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опрыгали раз пять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чками похлопали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жками потопали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кружились все на месте…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ли тихо, дружно, вмес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J0232736"/>
          <p:cNvPicPr/>
          <p:nvPr/>
        </p:nvPicPr>
        <p:blipFill>
          <a:blip r:embed="rId1"/>
          <a:stretch/>
        </p:blipFill>
        <p:spPr>
          <a:xfrm>
            <a:off x="7093080" y="3429000"/>
            <a:ext cx="203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258920" y="189000"/>
            <a:ext cx="691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Работа по учебнику"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700280"/>
            <a:ext cx="61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С. 86 № 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160"/>
          <p:cNvPicPr/>
          <p:nvPr/>
        </p:nvPicPr>
        <p:blipFill>
          <a:blip r:embed="rId1"/>
          <a:stretch/>
        </p:blipFill>
        <p:spPr>
          <a:xfrm>
            <a:off x="6912000" y="1197000"/>
            <a:ext cx="2232000" cy="3190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619280" y="307188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пишите решение самостоят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1153"/>
          <p:cNvPicPr/>
          <p:nvPr/>
        </p:nvPicPr>
        <p:blipFill>
          <a:blip r:embed="rId2"/>
          <a:stretch/>
        </p:blipFill>
        <p:spPr>
          <a:xfrm>
            <a:off x="179280" y="2852640"/>
            <a:ext cx="18734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0" y="260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1) 9 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4 = 36 (кг) – конфе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134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2) 8 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3 = 24 (кг) – печень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79280" y="2421000"/>
            <a:ext cx="853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3) 36 + 24 = 60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кг)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3645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Ответ: 60 кг конфет и печенья привезли в детский са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395280" y="765000"/>
            <a:ext cx="83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9 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4 + 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8 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3 = 60(к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2565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Ответ: 60 кг конфет и печенья привезли в детский са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1202040" y="404640"/>
            <a:ext cx="67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mdou25.ucoz.ru/ltnb.jpg"/>
          <p:cNvPicPr/>
          <p:nvPr/>
        </p:nvPicPr>
        <p:blipFill>
          <a:blip r:embed="rId2"/>
          <a:stretch/>
        </p:blipFill>
        <p:spPr>
          <a:xfrm>
            <a:off x="615960" y="1427040"/>
            <a:ext cx="7753320" cy="105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26920" y="333360"/>
            <a:ext cx="756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31840" y="1484280"/>
            <a:ext cx="891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Что нового вы узнали сегодня на урок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160"/>
          <p:cNvPicPr/>
          <p:nvPr/>
        </p:nvPicPr>
        <p:blipFill>
          <a:blip r:embed="rId1"/>
          <a:stretch/>
        </p:blipFill>
        <p:spPr>
          <a:xfrm>
            <a:off x="6443640" y="2997360"/>
            <a:ext cx="2700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79280" y="189000"/>
            <a:ext cx="8785440" cy="2087640"/>
          </a:xfrm>
          <a:prstGeom prst="rect">
            <a:avLst/>
          </a:prstGeom>
          <a:solidFill>
            <a:srgbClr val="ff0000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рок для меня прошёл с польз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Я научился решать составные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 могу помочь друг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79280" y="4653000"/>
            <a:ext cx="8713800" cy="2016000"/>
          </a:xfrm>
          <a:prstGeom prst="rect">
            <a:avLst/>
          </a:prstGeom>
          <a:solidFill>
            <a:srgbClr val="33cc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не было трудно на ур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79280" y="2421000"/>
            <a:ext cx="8713800" cy="1944720"/>
          </a:xfrm>
          <a:prstGeom prst="rect">
            <a:avLst/>
          </a:prstGeom>
          <a:solidFill>
            <a:srgbClr val="99ff3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учился решать составные зада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 мне ещё нужна помощ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1153"/>
          <p:cNvPicPr/>
          <p:nvPr/>
        </p:nvPicPr>
        <p:blipFill>
          <a:blip r:embed="rId1"/>
          <a:stretch/>
        </p:blipFill>
        <p:spPr>
          <a:xfrm>
            <a:off x="0" y="0"/>
            <a:ext cx="1873080" cy="2303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0" y="189000"/>
            <a:ext cx="9144000" cy="81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0:9=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0:24=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0  33=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(35+46)  0=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(82-82):3=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87:(85+2)-1=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5148360" y="3933720"/>
                <a:ext cx="4791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3564000" y="2781360"/>
                <a:ext cx="479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153"/>
          <p:cNvPicPr/>
          <p:nvPr/>
        </p:nvPicPr>
        <p:blipFill>
          <a:blip r:embed="rId1"/>
          <a:stretch/>
        </p:blipFill>
        <p:spPr>
          <a:xfrm>
            <a:off x="0" y="0"/>
            <a:ext cx="1873080" cy="230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5" name="TextBox 6"/>
          <p:cNvSpPr/>
          <p:nvPr/>
        </p:nvSpPr>
        <p:spPr>
          <a:xfrm>
            <a:off x="2124000" y="18900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1) (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124000" y="206064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2)    / :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908000" y="3933720"/>
            <a:ext cx="51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3) + / 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3564000" y="2565360"/>
                <a:ext cx="1054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0" name="Picture 7" descr="mult-37"/>
          <p:cNvPicPr/>
          <p:nvPr/>
        </p:nvPicPr>
        <p:blipFill>
          <a:blip r:embed="rId1"/>
          <a:stretch/>
        </p:blipFill>
        <p:spPr>
          <a:xfrm>
            <a:off x="1403280" y="2276640"/>
            <a:ext cx="6193080" cy="3724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684360" y="62064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РАБОТА В ПАРА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1153"/>
          <p:cNvPicPr/>
          <p:nvPr/>
        </p:nvPicPr>
        <p:blipFill>
          <a:blip r:embed="rId1"/>
          <a:stretch/>
        </p:blipFill>
        <p:spPr>
          <a:xfrm>
            <a:off x="0" y="0"/>
            <a:ext cx="1873080" cy="230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" name="TextBox 7"/>
          <p:cNvSpPr/>
          <p:nvPr/>
        </p:nvSpPr>
        <p:spPr>
          <a:xfrm>
            <a:off x="1692360" y="260280"/>
            <a:ext cx="7127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  1 =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  а =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0 : а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 : 0 =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 : 1 =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 : а = 1, если а=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2050920" y="1413000"/>
                <a:ext cx="863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124000" y="620640"/>
                <a:ext cx="86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Прямая соединительная линия 10"/>
          <p:cNvSpPr/>
          <p:nvPr/>
        </p:nvSpPr>
        <p:spPr>
          <a:xfrm flipH="1">
            <a:off x="7524720" y="5013360"/>
            <a:ext cx="287280" cy="719280"/>
          </a:xfrm>
          <a:prstGeom prst="line">
            <a:avLst/>
          </a:prstGeom>
          <a:ln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1153"/>
          <p:cNvPicPr/>
          <p:nvPr/>
        </p:nvPicPr>
        <p:blipFill>
          <a:blip r:embed="rId1"/>
          <a:stretch/>
        </p:blipFill>
        <p:spPr>
          <a:xfrm>
            <a:off x="0" y="0"/>
            <a:ext cx="1873080" cy="2303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0" y="40464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рок посвяти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шению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шая задачи, о многом можно узна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дачи учат нас </a:t>
            </a:r>
            <a:r>
              <a:rPr b="1" lang="ru-RU" sz="4800" spc="-1" strike="noStrike" u="sng">
                <a:solidFill>
                  <a:srgbClr val="00b050"/>
                </a:solidFill>
                <a:uFillTx/>
                <a:latin typeface="Arial"/>
              </a:rPr>
              <a:t>рассужда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b050"/>
                </a:solidFill>
                <a:uFillTx/>
                <a:latin typeface="Arial"/>
              </a:rPr>
              <a:t>анализировать, наблюдать, вычислять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 rot="21394200">
            <a:off x="2338560" y="1916280"/>
            <a:ext cx="4103640" cy="30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3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250920" y="9079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Познакомимся с новым видом составных задач на нахождение суммы двух произве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484360" y="11592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79280" y="2708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Продолжим совершенствовать вычислительные навы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79280" y="37893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Формировать умения анализировать, рассуждать, сравнивать, обобщ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08000" y="5229360"/>
            <a:ext cx="87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Совершенствовать навыки работы в парах и в групп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324000" y="692280"/>
            <a:ext cx="5327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Зарядка для глаз</a:t>
            </a:r>
            <a:endParaRPr b="1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WordArt 3"/>
          <p:cNvSpPr txBox="1"/>
          <p:nvPr/>
        </p:nvSpPr>
        <p:spPr>
          <a:xfrm>
            <a:off x="324000" y="2565360"/>
            <a:ext cx="7488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Лови снежинку</a:t>
            </a:r>
            <a:endParaRPr b="0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7:19:07Z</dcterms:created>
  <dc:creator>Синецкая Г.Г.</dc:creator>
  <dc:description/>
  <dc:language>en-US</dc:language>
  <cp:lastModifiedBy>Admin</cp:lastModifiedBy>
  <dcterms:modified xsi:type="dcterms:W3CDTF">2014-12-09T19:59:43Z</dcterms:modified>
  <cp:revision>46</cp:revision>
  <dc:subject>Решение задач в 3 действия</dc:subject>
  <dc:title>Математика. 3 класс</dc:title>
</cp:coreProperties>
</file>