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A1C-C343-4BA5-BADF-9AFD9A11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AF6-635C-4971-BAFB-49811D40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935-5292-4456-A073-BC5A75C4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919-68C1-4C63-AA86-22B2692A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2BE-1A94-408D-876A-66D59704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423-C419-44D1-B382-57F8EDCD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399-C1C0-4C9B-9429-B0A0089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C0C-9C94-4B7B-A254-742956E2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AF9-0C68-496E-BC44-99A3B5C6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4AF-0C97-4BA6-B282-632D767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0DE-8352-4486-9DD5-952A949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F84-EA7D-4EF1-9B4F-474EDE7B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FE6-6299-44C3-A0A0-7BC47E29CC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flipV="1">
            <a:off x="1187280" y="1773000"/>
            <a:ext cx="7488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55640" y="692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Родительское собра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00000" y="1989000"/>
            <a:ext cx="652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Безопасность детей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всети Интерн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646360" y="4797360"/>
            <a:ext cx="516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Подготовила: Аюпова Л.Б., классный руководитель 5Б класса МБОУ «СШ№8» г. Нижневартовс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rcRect l="0" t="3805" r="3753" b="5263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rcRect l="0" t="3340" r="2858" b="417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а общ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социальных сетях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размещать в своем профиле социальной сети чужие фотографии без разрешения этого человека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 в коем случае не пересылайте другим людям информацию и изображения из закрытых профилей своих друзей, к которым имеете доступ. Ваши друзья имеют право решать, кто будет видеть эти материа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регистрируйтесь под чужими именами. Если хотите сохранить инкогнито – прибегните к псевдониму. Лучше оставьте поле для фотографии пустым, не используйте чужие изображения, особенно это касается реальных людей. Если загрузка фото обязательна, используйте изображение знаменит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итесь тактично к людям, которые не хотят добавлять вас в друзья. Дважды отвергнутого предложения дружбы достаточно, чтобы убедиться в том, что пользователь не хочет открывать вам свою личн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55640" y="542880"/>
            <a:ext cx="777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804960" y="374760"/>
            <a:ext cx="679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писок программ – фильтр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68360" y="1725480"/>
            <a:ext cx="38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p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у удобно использовать, чтобы узнать, чем заняты дети в отсутствие 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dsContro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 времени, которое ребенок проводит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200480" y="16938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rotectYou Pr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-фильтр интернета, позволяет родителям ограничивать  по разным параметрам сайты, просматриваемые деть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YBERsitte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ет возможность ограничивать доступ детей к нежелательным ресурсам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зультаты о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143000"/>
            <a:ext cx="4041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ли у тебя компьютер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-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-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ключен ли он к сети интерн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-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ли у тебя мобильный телефон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–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ключен ли у тебя интернет в мобильном телефон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-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какой целью ты выходишь в интерн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ти информацию –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ать –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общения –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32120" y="1143000"/>
            <a:ext cx="4041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 любишь в интернете  всё подряд или предпочитаешь какие-то отдельные сайты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яд –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очно -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 выходишь в интернет один или с кем – нибудь из членов семь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–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месте с семьёй -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суждаете ли вы с родителями полученную информацию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–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гда  -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уют ли тебе родители определенные сайты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–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468360" y="1268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ольшими, красными глаз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жу я ночи напролё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с утра над небес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ило медленно встаё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у и ту же слышу «песню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тал похожим на сов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ь я уже не первый мес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ети безвылазно жи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6836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нтернет оказывает неоценимую помощь в обучении школьн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971640" y="2108160"/>
            <a:ext cx="734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Подготовка домашних, творческих задан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Помогает получать  доступ к информ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Дает возможность  исследовать, творить, принимать участие в происходящем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23960" y="4221000"/>
            <a:ext cx="244476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E:\безопасность\за компом.jpg"/>
          <p:cNvPicPr/>
          <p:nvPr/>
        </p:nvPicPr>
        <p:blipFill>
          <a:blip r:embed="rId2"/>
          <a:stretch/>
        </p:blipFill>
        <p:spPr>
          <a:xfrm>
            <a:off x="6300720" y="4653000"/>
            <a:ext cx="2586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24000" y="487440"/>
            <a:ext cx="849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</a:rPr>
              <a:t>Виды опасности, существующие в Интернете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689040" y="1844640"/>
            <a:ext cx="3382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вредоносные и нежелательные програм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йты плохой направленнос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йты, разжигающие национальную рознь и расовое неприят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219640" y="1989000"/>
            <a:ext cx="2952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спространение в открытом доступе персональных данных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тей;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мошенники, хакер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413160" y="1701720"/>
            <a:ext cx="18003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68360" y="53352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Необходимо поставить защиту компьютер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826920" y="1341360"/>
            <a:ext cx="6481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Включить интернет-брандмауэр Window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Использовать Центр обновления Microsoft для автоматической загрузки новейших обновлений Window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Установить и регулярно обновлять антивирусное программное обеспеч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Установить и регулярно обновлять Защитник Windows(Microsoft WindowsDefend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Использовать настройки семейной безопасности в программном обеспечени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roso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868320" y="692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бщение детей в Интерн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556000" y="1469880"/>
            <a:ext cx="545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Посещайте Интернет вместе с деть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Объясните детям, что если в Интернет что-либо беспокоит их, то им следует не скрывать этого, а поделиться с вами своим беспокойств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Составьте список правил работы детей в Интер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776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255760" y="62064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Чтобы работа в Интернете была безопасна, нужно научить ребен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900000" y="2924280"/>
            <a:ext cx="581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спользовать временный адрес электронной поч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едпочтительнее выступать на форумах с модерато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е нажимать на ссылки в письмах, чатах, форумах, которые пришли от незнакомы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е скачивать и не открывать подозрительные фай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52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755640" y="476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равила безопасности  в Интернет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619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бщаться с незнаком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убликовать в Интернете свою персональную информ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ставляйте без присмотра компьютер с важными сведениям на экр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охраняйте важные сведения на общедоступном компьют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12840" y="3962520"/>
            <a:ext cx="131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Элиза</cp:lastModifiedBy>
  <dcterms:modified xsi:type="dcterms:W3CDTF">2019-01-10T17:44:13Z</dcterms:modified>
  <cp:revision>47</cp:revision>
  <dc:subject/>
  <dc:title>Слайд 1</dc:title>
</cp:coreProperties>
</file>