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006-AFCC-4332-B105-CE0B5B2B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EC8-802E-4F77-9481-BCFC7725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267-91BE-49A1-A66C-DB678799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591-1D9E-4F75-BE80-2FF12F72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5ED-938E-49C1-A22C-2FAB0C2E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11E-637C-4110-B69D-42884A0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082-79D6-4FC6-ACBB-83919A71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80B-BE91-4B2A-B56F-2FEBC0B8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B83-555E-4CEE-9905-1A330AAD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82B-76B3-4C25-AD83-D22847D6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10D-4A26-4E9C-862A-28A5D1DC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13C-6CBA-46B3-8DA4-11A5CC4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46F6-C6E7-4C39-8E22-3BA5378EE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050920" y="907920"/>
            <a:ext cx="54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54240" y="29242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omic Sans MS"/>
              </a:rPr>
              <a:t>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615000" y="479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028960" y="1500120"/>
            <a:ext cx="521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"/>
              </a:rPr>
              <a:t>1 сестра и 2 б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169236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рач дал больной девочке 3 таблетки и велел принимать их через каждые полчаса. Она строго выполнила указание врача. На сколько времени хватило прописанных врачом табле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3017160" y="100008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Arial"/>
              </a:rPr>
              <a:t>на 1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99"/>
          <p:cNvSpPr/>
          <p:nvPr/>
        </p:nvSpPr>
        <p:spPr>
          <a:xfrm>
            <a:off x="108000" y="119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клетка фон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48240" y="2293200"/>
            <a:ext cx="656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усь весит 12 к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Сколько он будет вес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если встанет на одну ног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87320" y="178596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12 к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4"/>
          <p:cNvSpPr/>
          <p:nvPr/>
        </p:nvSpPr>
        <p:spPr>
          <a:xfrm>
            <a:off x="142920" y="13572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71680" y="228600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Лестница состоит из 7 ступенек. Какая ступенька находится на серед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43080" y="85716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2511000" y="928800"/>
            <a:ext cx="40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Arial"/>
              </a:rPr>
              <a:t>четвёр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324000" y="27813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571680" y="2143080"/>
            <a:ext cx="771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туристический лагерь прибыло 240 учеников из г. Москвы и Орла. Мальчиков среди прибывших было 125 человек, из которых 65 - москвичи. В числе учеников, прибывших из Орла, девочек было 53. Сколько всего учеников прибыло из Москв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14200" y="867600"/>
            <a:ext cx="871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1) 240-125=115 девочек из Москвы и Ор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2) 115-53=62 девочек из М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3) 65+62=127 детей из М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214200" y="1009800"/>
            <a:ext cx="882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41080" y="1700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285840" y="158256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ильс летел в стае на спине гуся Мартина. Он обратил внимание, что построение стаи напоминает треугольник: впереди вожак, затем 2 гуся, в третьем ряду 3 гуся и т.д. Стая остановилась на ночлег на льдине. Нильс увидел, что расположение гусей на этот раз, напоминает квадрат, состоящий из рядов, в каждом ряду одинаковое количество гусей, причём число гусей в каждом ряду равно числу рядов. Гусей в стае меньше 50. Сколько гусей в ста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536040" cy="6877080"/>
        </p:xfrm>
        <a:graphic>
          <a:graphicData uri="http://schemas.openxmlformats.org/drawingml/2006/table">
            <a:tbl>
              <a:tblPr/>
              <a:tblGrid>
                <a:gridCol w="1619280"/>
                <a:gridCol w="1368360"/>
                <a:gridCol w="2376360"/>
                <a:gridCol w="2232360"/>
                <a:gridCol w="193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диницы изме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еометрические фиг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Из истории матема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ndalus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3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5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9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1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5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7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1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3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35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725920" y="1000080"/>
            <a:ext cx="38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7375e"/>
                </a:solidFill>
                <a:latin typeface="Arial"/>
              </a:rPr>
              <a:t>36  гус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285840" y="1285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642960" y="18572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Три подружки - Вера, Оля и Таня пошли в лес по ягоды. Для сбора ягод у них были корзина, лукошко и ведерко. Известно, что Оля была не с корзиной и не с лукошком, Вера - не с лукошком. Что с собой взяла каждая девочка для сбора я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7">
            <a:hlinkClick r:id="rId1" action="ppaction://hlinksldjump"/>
          </p:cNvPr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428760" y="928800"/>
            <a:ext cx="84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Вера была с корзинкой, Оля - с ведерк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Таня -с лукош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1547640" y="1628640"/>
            <a:ext cx="54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8360" y="156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49120" y="2535480"/>
            <a:ext cx="86342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о сколько раз увеличится площадь квадр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если каждую сторону его увеличить в 2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3637080" y="1341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096280" y="1928880"/>
            <a:ext cx="459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Arial"/>
              </a:rPr>
              <a:t>в 4 раз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98764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197440" y="184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642960" y="235728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умма длин сторон квадрата 40 см. Чему равна длина каждой его сторо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535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642960" y="1428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все стороны имеют равные сторо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таких стороны 4. Следовательно, нужно 40 см. разделить на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читаем: 40 : 4 = 10 (см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214200" y="1143000"/>
            <a:ext cx="856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9708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143160" y="2000160"/>
            <a:ext cx="25718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7"/>
          <p:cNvSpPr/>
          <p:nvPr/>
        </p:nvSpPr>
        <p:spPr>
          <a:xfrm flipH="1">
            <a:off x="4284720" y="2000160"/>
            <a:ext cx="1440" cy="357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9"/>
          <p:cNvSpPr/>
          <p:nvPr/>
        </p:nvSpPr>
        <p:spPr>
          <a:xfrm flipH="1">
            <a:off x="3714840" y="2000160"/>
            <a:ext cx="144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1"/>
          <p:cNvSpPr/>
          <p:nvPr/>
        </p:nvSpPr>
        <p:spPr>
          <a:xfrm>
            <a:off x="3143160" y="5072040"/>
            <a:ext cx="2571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578160" y="5643720"/>
            <a:ext cx="854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к провести 1 отрез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чтобы прямоугольников стало вдвое бо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143160" y="785880"/>
            <a:ext cx="25718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4"/>
          <p:cNvSpPr/>
          <p:nvPr/>
        </p:nvSpPr>
        <p:spPr>
          <a:xfrm flipH="1">
            <a:off x="3642840" y="785880"/>
            <a:ext cx="1800" cy="357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6"/>
          <p:cNvSpPr/>
          <p:nvPr/>
        </p:nvSpPr>
        <p:spPr>
          <a:xfrm>
            <a:off x="3143160" y="3857760"/>
            <a:ext cx="2571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>
            <a:off x="3143160" y="2000160"/>
            <a:ext cx="25718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478160" y="1628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357120" y="1720800"/>
            <a:ext cx="8501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уроке рисования Алена выполнила рисунок весёлого светофора при помощи различных геометрических фигур, используя циркуль и линейку. Посмотрите внимательно на рисунок и определите, какие простые фигуры присутствуют на изображении?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C:\Documents and Settings\Admin\Рабочий стол\светофор.jpg"/>
          <p:cNvPicPr/>
          <p:nvPr/>
        </p:nvPicPr>
        <p:blipFill>
          <a:blip r:embed="rId3"/>
          <a:srcRect l="31772" t="0" r="36982" b="25696"/>
          <a:stretch/>
        </p:blipFill>
        <p:spPr>
          <a:xfrm>
            <a:off x="5429160" y="3643200"/>
            <a:ext cx="1857600" cy="271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85840" y="1285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87280" y="1667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10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857160" y="310500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к называется го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котором 366 дней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500040" y="428760"/>
            <a:ext cx="8358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Задание на знание геометрических фигур и внимание. Найдём геометрические фигуры, вспомнив их определения. </a:t>
            </a: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рямоугольник - это геометрическая фигура, четырёхугольник с прямыми углами. На рисунке он представлен в виде основы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1 прямоугольник кстати, квадраты - это тоже прямоугольники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вадрат - это прямоугольник, у которого все стороны равны. На рисунке глаза светофора выполнены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Треугольник - это геометрическая фигура, многоугольник с тремя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руг - это геометрическая фигура. На рисунке мы видим только дугу, а не весь круг. Значит, круги на изображении отсутств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0 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На рисунке Алёны отсутствует геометрическая фигура - 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219708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Геометрические фигуры 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67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117080" y="234936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кую геометрическую фиг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ят на голове мужчи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45800" y="515772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Цили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Vc79J"/>
          <p:cNvPicPr/>
          <p:nvPr/>
        </p:nvPicPr>
        <p:blipFill>
          <a:blip r:embed="rId2"/>
          <a:stretch/>
        </p:blipFill>
        <p:spPr>
          <a:xfrm>
            <a:off x="1187280" y="333360"/>
            <a:ext cx="3746520" cy="453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51895_html_m4c4b7368"/>
          <p:cNvPicPr/>
          <p:nvPr/>
        </p:nvPicPr>
        <p:blipFill>
          <a:blip r:embed="rId3"/>
          <a:stretch/>
        </p:blipFill>
        <p:spPr>
          <a:xfrm>
            <a:off x="5435640" y="836640"/>
            <a:ext cx="3219480" cy="34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571680" y="18572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Из истории математик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44680" y="2205000"/>
            <a:ext cx="834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ревнее государст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де лягушка обозначает цифр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04720" y="5734080"/>
            <a:ext cx="222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Егип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0033"/>
          <p:cNvPicPr/>
          <p:nvPr/>
        </p:nvPicPr>
        <p:blipFill>
          <a:blip r:embed="rId2"/>
          <a:stretch/>
        </p:blipFill>
        <p:spPr>
          <a:xfrm>
            <a:off x="971640" y="189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428760" y="21430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33308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Из истории математики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71880" y="2293560"/>
            <a:ext cx="823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На могиле этого великого математика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установлен памятник с изображением шар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описанного  около него цилиндра. Спустя почти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200 лет  по этому чертежу нашли его мог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2071800" y="5716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1600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08000" y="26028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702160" y="5084640"/>
            <a:ext cx="331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Архиме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3133800" cy="461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500040" y="20001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906120" y="90792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Из истории матема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17080" y="1944000"/>
            <a:ext cx="8584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Древнегреческий учёный философ,  живший в VІ в. до н.э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которому приписывается высказывание «Всё есть числ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огласно философскому мировоззрению этого учё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 его последователей, числа управляют не только ме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 весом, но  также всеми явлениями, происходящими в приро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 являются сущностью гармонии, царствующей в ми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душой космоса.  Первые четыре числа - 1,2,3,4 - означ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огонь, землю, воду и воздух. Сумма этих чисел - число 1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изображало весь мир. Учёный впервые разделил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на чётные и нечётные, простые  и состав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впервые открыл математическую теорию музыки. Кто 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340000" y="429264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343400" cy="326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7"/>
          <p:cNvSpPr/>
          <p:nvPr/>
        </p:nvSpPr>
        <p:spPr>
          <a:xfrm>
            <a:off x="611280" y="1844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41080" y="184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Из истории математик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7960" y="2492280"/>
            <a:ext cx="76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акой народ придумал но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3649c6da2a43"/>
          <p:cNvPicPr/>
          <p:nvPr/>
        </p:nvPicPr>
        <p:blipFill>
          <a:blip r:embed="rId3"/>
          <a:stretch/>
        </p:blipFill>
        <p:spPr>
          <a:xfrm>
            <a:off x="3635280" y="3357720"/>
            <a:ext cx="2133720" cy="305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797560" y="1357200"/>
            <a:ext cx="32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исоко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1500120" y="500040"/>
            <a:ext cx="59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918520" y="5373720"/>
            <a:ext cx="22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Ара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item_3687"/>
          <p:cNvPicPr/>
          <p:nvPr/>
        </p:nvPicPr>
        <p:blipFill>
          <a:blip r:embed="rId2"/>
          <a:stretch/>
        </p:blipFill>
        <p:spPr>
          <a:xfrm>
            <a:off x="2268360" y="260280"/>
            <a:ext cx="359100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428760" y="2000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Из истории математик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42520" y="2421000"/>
            <a:ext cx="743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Прабабушка цифр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136320" y="4508640"/>
            <a:ext cx="263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Зару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з"/>
          <p:cNvPicPr/>
          <p:nvPr/>
        </p:nvPicPr>
        <p:blipFill>
          <a:blip r:embed="rId2"/>
          <a:srcRect l="40182" t="0" r="0" b="0"/>
          <a:stretch/>
        </p:blipFill>
        <p:spPr>
          <a:xfrm>
            <a:off x="2700360" y="692280"/>
            <a:ext cx="3647880" cy="330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8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82520" y="1844640"/>
            <a:ext cx="89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250920" y="836640"/>
            <a:ext cx="84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C:\Documents and Settings\Admin\Рабочий стол\минус.png"/>
          <p:cNvPicPr/>
          <p:nvPr/>
        </p:nvPicPr>
        <p:blipFill>
          <a:blip r:embed="rId3"/>
          <a:stretch/>
        </p:blipFill>
        <p:spPr>
          <a:xfrm>
            <a:off x="1276200" y="2514600"/>
            <a:ext cx="62247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733840" y="150012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МИН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909440" y="148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468360" y="692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:\Documents and Settings\Admin\Рабочий стол\отрезок.png"/>
          <p:cNvPicPr/>
          <p:nvPr/>
        </p:nvPicPr>
        <p:blipFill>
          <a:blip r:embed="rId3"/>
          <a:stretch/>
        </p:blipFill>
        <p:spPr>
          <a:xfrm>
            <a:off x="1285920" y="2214720"/>
            <a:ext cx="6737400" cy="262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516760" y="178596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ОТРЕ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619280" y="141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C:\Documents and Settings\Admin\Рабочий стол\пифагор.png"/>
          <p:cNvPicPr/>
          <p:nvPr/>
        </p:nvPicPr>
        <p:blipFill>
          <a:blip r:embed="rId3"/>
          <a:stretch/>
        </p:blipFill>
        <p:spPr>
          <a:xfrm>
            <a:off x="1714680" y="2143080"/>
            <a:ext cx="5671800" cy="22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2071800" y="4429080"/>
            <a:ext cx="45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Пифаго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2071800" y="571680"/>
            <a:ext cx="4343400" cy="326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12580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C:\Documents and Settings\Admin\Рабочий стол\дробь.png"/>
          <p:cNvPicPr/>
          <p:nvPr/>
        </p:nvPicPr>
        <p:blipFill>
          <a:blip r:embed="rId3"/>
          <a:stretch/>
        </p:blipFill>
        <p:spPr>
          <a:xfrm>
            <a:off x="1714680" y="2214720"/>
            <a:ext cx="5876640" cy="233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1268280"/>
            <a:ext cx="82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552320" y="105264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42960" y="22860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клетке находятся три кролика. Три девочки попросили дать им по одному кролику. Каждой девочке дали кролика. И все же в клетке остался один кролик. Как э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643040" y="5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2231280" y="207180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ОТРЕ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41080" y="17002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C:\Documents and Settings\Admin\Рабочий стол\ДИАГОНАЛЬ.png"/>
          <p:cNvPicPr/>
          <p:nvPr/>
        </p:nvPicPr>
        <p:blipFill>
          <a:blip r:embed="rId3"/>
          <a:stretch/>
        </p:blipFill>
        <p:spPr>
          <a:xfrm>
            <a:off x="1643040" y="2214720"/>
            <a:ext cx="6004080" cy="234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603440" y="1928880"/>
            <a:ext cx="59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ДИАГОНА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71680" y="1143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ужно отдать одной девочке клетку вместе с крол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7120" y="1500120"/>
            <a:ext cx="835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0160" y="1197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04800" y="100008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887760" y="2152800"/>
            <a:ext cx="717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дни часы отстают на 25 мину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казывая 1 ч 5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акое время показывают другие ча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сли они забегают на 15 м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357120" y="157176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1 час 50 мин+25 мин = 2 часа15 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 часа 15 мин+15 мин=2 часа 30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187280" y="126828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642960" y="228600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У мальчика столько сестер, сколько и братьев, а у его сестры вдвое меньше сестер, чем братьев. Сколько братьев и сестер в этой сем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Ирина</cp:lastModifiedBy>
  <dcterms:modified xsi:type="dcterms:W3CDTF">2019-01-10T08:41:28Z</dcterms:modified>
  <cp:revision>137</cp:revision>
  <dc:subject/>
  <dc:title>Слайд 1</dc:title>
</cp:coreProperties>
</file>