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FA9-C23D-4860-88FA-2FF2A653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7AA-E6F4-4BA9-8C50-105519F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1F0-A5B8-4CAC-9AAD-FE7018EE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7A-CFFF-4355-B601-E84AA0C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576-A41D-434A-9211-BC044437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6EA0-ADFA-486D-BF7D-95C640C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9548-A952-42F6-9B7B-D7C3C0A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813-3F0E-4F1B-9947-A99D53B4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68C-FEFA-4B67-902F-5E9E08FC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600-8358-4DCF-A8ED-0A0BA285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688-BE4B-4EA0-A50D-D701CF2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9A8-2887-4052-B67D-57B72B0F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9399-0A6D-4382-9519-F02866A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FEB9-E288-46F6-80E9-3CE7245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4FE2-DD03-4356-AD47-EE23F72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629-F0FA-484C-A3EC-C9592A36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5C3C-67B5-48D1-8942-6220F3AC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E3B9-9565-46B5-B6D5-BFC04343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B45F-4872-4B56-87FA-7CE4ED2B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9105-1136-4529-9E7D-EB7B514F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82C3-D960-4620-BE2E-23D665A5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114E-75E8-4AD0-ACA5-9D018AC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5E8-7858-4FDA-AF86-1406101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F3DC-C5C8-40D2-9505-632CA1E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4505-FF3E-455C-9A6E-EECE15C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9406-47F3-4706-9B13-50C2340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6B28-93E2-47F3-AD40-F96CB24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1E53-FCD2-4934-963D-0ACC795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B08A-7328-4BFA-B79F-A43D7786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E311-F854-49F6-BEEA-76B895F4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A19B-1296-45D7-A432-F6B4C517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4359-8FD7-4C93-8C41-EEEFB03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8651-558D-4D3C-A32C-2CFE284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D1A-1C6C-4681-8A17-87295BD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634F-CA34-4C1E-83DE-3B16A95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30AE-A3C3-4D14-9FD4-5BA7E48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0D29-47FE-4DD7-8C62-BB615700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CC5B-55D0-4310-9290-8C67473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150B-10E0-486D-8B76-B88BE53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A84C-958C-4726-8A69-08F15566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24D2-F0C2-4B45-B9E9-7FA2023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59EF-E127-4710-94DB-A61739D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8A33-DF5B-4351-A7A6-5D7ACC68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9C00-9852-49E8-831B-703F052D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83E-4EC1-4194-BED9-4EB1DFD4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17D4-6236-451A-88F8-EF53171F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47F7-C4BC-4C6D-99C2-984D862E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0B53-8B7A-40B7-A9B4-FE53C5B3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02A0-1FD5-4978-9655-495C050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5856-E21B-4367-A6EE-C392C801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5C4D-1236-4137-943F-DE1551F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0540-903D-49C2-AEB7-DD8F20A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0858-352E-4428-8587-C0E7589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CF65-5A93-4D5D-B2FB-DC24267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CDA7-48E8-4988-B875-0A2818E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595-9E8F-4F9C-92FA-0EEDFFB0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DCF8-B6D7-4C85-9E3C-3D850CE9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B6A-D3EC-47FC-A90E-0744E82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D2A-D6D1-426B-AFCF-A8D1334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AAD-3C34-45D9-810A-FA5917CD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602-B2BA-4EEE-8C81-C6EDA40E424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DCB-4217-42A3-B98C-05E709176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17B-5990-404F-A424-76B17058E95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CA5-5B65-4258-8F7B-DB2656385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99b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222-463A-448B-ADD7-4F61573D742F}" type="datetime">
              <a:rPr b="0" lang="ru-RU" sz="1000" spc="-1" strike="noStrike">
                <a:solidFill>
                  <a:srgbClr val="099bdd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9D7-EB20-41CA-91A2-BD7EF8F98A4C}" type="slidenum">
              <a:rPr b="0" lang="ru-RU" sz="1200" spc="-1" strike="noStrike">
                <a:solidFill>
                  <a:srgbClr val="099b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591-1C9F-438B-8C6E-1A197BDB6C6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33E-C37C-4E3C-801F-6F2AB3852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3B8-9443-48E2-8C1F-38D73599AF12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5C90-BDE5-4778-B87D-D751DDFA14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368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ТЕХНОЛОГИЯ ПРОЕКТИРОВАНИЯ РАБОЧЕЙ ПРОГРАММЫ  В УСЛОВИЯХ ВВЕДЕ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 ФГОС ООО</a:t>
            </a:r>
            <a:br>
              <a:rPr sz="1600"/>
            </a:b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2420640"/>
            <a:ext cx="8229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ЕЙ ПРОГРАММ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итульный лис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езультаты освоения конкретного учебного предмета, курса (требования к уровню подготовки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о-тематический план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одержание тем учебного кур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риложения к программе: </a:t>
            </a:r>
            <a:r>
              <a:rPr b="0" i="1" lang="ru-RU" sz="1400" spc="-1" strike="noStrike">
                <a:solidFill>
                  <a:srgbClr val="ffffff"/>
                </a:solidFill>
                <a:latin typeface="Corbel"/>
              </a:rPr>
              <a:t>Контрольные измерительные материалы реализации программы в соответствии с требованиями к результатам обучения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жен содержать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именование учреждения в соответствии с Уставом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ифы рассмотре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ые М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согласова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со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и утверждения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ные данные приказ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именование учебного предмета с указанием класса (параллели), на который рассчитана рабочая программа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ИО педагога, разработавшего рабочую программу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д составления рабочей программ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ТИТУЛЬНЫЙ ЛИСТ РАБОЧЕЙ ПРОГРАММЫ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  <a:ea typeface="Times New Roman"/>
              </a:rPr>
              <a:t>ПОЯСНИТЕЛЬНАЯ ЗАПИСКА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130320" y="1776240"/>
            <a:ext cx="856764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олжна отражать информацию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рмативных документах и материал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 основе которых составлена рабочая програм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ичестве учебных часов в год, неде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 которое рассчитано преподавание предмет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в соответствии с УП школ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ях и задачах образовательной деятельности по предмету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ом классе (параллели), на  которые направлена рабочая програм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ениях,   внесенных   учителем   в   авторскую  рабочую программу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предмету, курсу, дисциплине (модулю), если таковые имеются, и обосновании их целесообразности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пользуемых формах, методах и средствах оценки образовательных результатов учащихс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в том числе метапредметных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ах, методах и средствах обучения, технология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будут использоваться учителем при организации учебного процесса   с   целью   реализации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истемно-деятельностного подх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акж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личестве часов для проведения лабораторных, практических работ, экскурсий, исследовательских проек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62064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orbel"/>
                <a:ea typeface="Times New Roman"/>
              </a:rPr>
              <a:t>ПЛАНИРУЕМЫЕ ОБРАЗОВАТЕЛЬНЫЕ РЕЗУЛЬТАТ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187200" y="220500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мпонент «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ланируемые образовательные результаты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олжен отра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ечень требований к личностным, метапредметным, предметным результатам изучения учебного предмет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конец обучения в каждом клас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учетом уровневого подхода («Обучающийся научится», «Обучающийся получит возможность научиться»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апредметные и личностные образовательные результаты должны быть конкретизированы в виде перечня соответствующих УУД (метапредметные - в виде коммуникативных УУД, познавательных УУД, регулятивных УУД; личностные - в виде личностных УУД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 к образовательным результатам учащихся, прописанные в рабочей программе, не должны быть ниже сформулированных в стандар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КОНТРОЛЬ И ОЦЕНКА ПЛАНИРУЕМЫХ ОБРАЗОВАТЕЛЬНЫХ РЕЗУЛЬТАТОВ УЧАЩИХСЯ</a:t>
            </a:r>
            <a:endParaRPr b="0" lang="en-US" sz="24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анный компонент рабочей программы требует фиксирования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количества контрольных мероприятий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формы промежуточной аттестации учащихс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форм текущего контроля, методов, средств контроля и оценки планируемых образовательных результатов при реализации программы, которые будут реализованы учителем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ланируемые способы контроля и оценки образовательных результатов не должны противоречить Положению школы о промежуточной аттестации учащихся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истема оценки планируемых результатов учителя должна «вписываться» в систему оценки, реализуемую в школ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712800" y="2637000"/>
          <a:ext cx="7848720" cy="2438280"/>
        </p:xfrm>
        <a:graphic>
          <a:graphicData uri="http://schemas.openxmlformats.org/drawingml/2006/table">
            <a:tbl>
              <a:tblPr/>
              <a:tblGrid>
                <a:gridCol w="863640"/>
                <a:gridCol w="1512720"/>
                <a:gridCol w="1727280"/>
                <a:gridCol w="1800360"/>
                <a:gridCol w="1944720"/>
              </a:tblGrid>
              <a:tr h="30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и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2" name="Rectangle 1"/>
          <p:cNvSpPr/>
          <p:nvPr/>
        </p:nvSpPr>
        <p:spPr>
          <a:xfrm>
            <a:off x="1973160" y="487080"/>
            <a:ext cx="53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о-тематически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прим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УЧЕБНО-МЕТОДИЧЕСКОЕ ОБЕСПЕЧЕНИЕ ОБРАЗОВАТЕЛЬНОГО ПРОЦЕССА</a:t>
            </a:r>
            <a:endParaRPr b="0" lang="en-US" sz="24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6000" y="184464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Этот компонент рабочей программы должен отражать основную и дополнительную учебную литературу, другие информационные источники для учащихся и учителя, которые педагог будет использовать для реализации своей рабочей программ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еречень можно классифицировать по группам: «Литература (основная, дополнительная)», «Дидактические материал», «Электронные образовательные ресурсы» и т.д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7320"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УНИВЕРСАЛЬНЫЕ УЧЕБНЫЕ ДЕЙСТВИЯ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1828440"/>
            <a:ext cx="4114800" cy="24382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txBody>
          <a:bodyPr anchor="t">
            <a:normAutofit fontScale="96000"/>
          </a:bodyPr>
          <a:p>
            <a:pPr marL="174960" indent="-1749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Личностны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нутренняя позиция школьника, самоуважение и самооценка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тивация, границы собственного знания и «незнания»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4960" indent="-1749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риентация на выполнение моральных норм, способность к решению моральных проблем, оценка своих поступков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880" y="472392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Регулятивны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управление своей деятельностью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контроль и коррекци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инициативность и самостоятельность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5029200" y="1828800"/>
            <a:ext cx="3962520" cy="24382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абота с информаци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абота с учебными моделя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использование знакосимволиче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редств, общих схем реш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выполнение логических опер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равнения, анализа, обобщения, классификации, установления аналог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876920" y="4724280"/>
            <a:ext cx="4065480" cy="1189080"/>
          </a:xfrm>
          <a:prstGeom prst="rect">
            <a:avLst/>
          </a:prstGeom>
          <a:noFill/>
          <a:ln w="9360">
            <a:solidFill>
              <a:srgbClr val="099b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речевая деятель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- навыки сотрудни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rbel"/>
              </a:rPr>
              <a:t>МАТЕРИАЛЬНО-ТЕХНИЧЕСКОЕ ОБЕСПЕЧЕНИЕ ОБРАЗОВАТЕЛЬНОГО ПРОЦЕССА</a:t>
            </a:r>
            <a:endParaRPr b="0" lang="en-US" sz="26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ный компонент должен  отражать  перечень  учебного оборудования и оборудования для лабораторных, практических работ, организации проектной и исследовательск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ащихся, которые учитель будет использовать при реализации своей рабочей програм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ЗДЕЛ «СОДЕРЖАНИЕ ПРОГРАММЫ»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звание тем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обходимое количество часов для ее изуч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нкретизированные требования к результатам обуч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держание учебного материала (дидактические единицы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емы контрольных (практических и/или  лабораторных рабо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НОРМАТИВНО-ПРАВОВОЕ ОБЕСПЕЧЕНИЕ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4920" y="2011320"/>
            <a:ext cx="84978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7760" indent="-1677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оцедура разработки, принятия и утверждения рабочих программ согласно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т. 28 Федерального закона от 29.12.2012 № 273-ФЗ "Об образовании в Российской Федерации"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аходится в компетенции образовательной организации, и на основании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т. 30 ФЗ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"Об образовании в Российской Федерации", регламентируется локальным нормативным актом образовательной организаци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ОДЕРЖАНИЕ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должно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. Обеспечивать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преемственность 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одержания ООП соответствующего уровня образования/образовательной программы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2. Соответствовать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направленности (профилю) образования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ребованиям ФГОС ОО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ребованиям ФКГОС;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одержанию ООП образовательной организации соответствующего уровня образования/образовательной программы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пецифике и традициям образовательной организ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•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запросам участников образовательных отношений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ОДЕРЖАНИЕ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ожет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лностью соответствовать/дублировать содержание примерной программы учебного предмета, рекомендованной Минобрнауки России, и/или авторской программы курса/линии, учебно-методической системы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меть несущественные изменения, связанные с учетом особенностей предмета, учащихся конкретного класса, заключающиеся в новом порядке изучаемого материала; перераспределения/изменения количества часов, изменения содержания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существенно изменено/модифицировано через внесение из-менений не более 25% в примерную программу и/или авторскую согласно Положению об авторских разработках/программах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ПОРЯДОК РАЗРАБОТКИ, УТВЕРЖДЕНИЯ И ВНЕСЕНИЯ ИЗМЕНЕНИЙ И/ИЛИ ДОПОЛНЕНИЙ В РАБОЧУЮ ПРОГРАММУ</a:t>
            </a:r>
            <a:br>
              <a:rPr sz="2500"/>
            </a:br>
            <a:endParaRPr b="0" lang="en-US" sz="25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регламентируется документами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ложение о рабочей программе учебного предмета, курса, дисциплины (модуля) в образовательной организации общего образован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«О разработке рабочих программ учебных предметов, курсов, дисциплин (модулей) и дополнительных образовательных программ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об утверждении рабочих программ учебных предметов, курс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каз о внесении изменений в рабочие программы учебных курсов, предметов, дисциплин (модулей) и дополнительных образовательных програм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0600" y="191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конструировать содержание учебного материала курса, определив последовательность разделов, тем и количество часов на изучение каждог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ределить дополнительную справочную и учебную литературу, необходимые пособия, оборудование и прибор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здать контрольно-измерительные материалы: выделить перечень проверяемых умений (кодификатор) согласно этапу обучения и цели контроля; подобрать контролирующие задания, направленные на проверку планируемых результат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ставить рабочую программу: оформить материал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404640"/>
            <a:ext cx="8229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оложение разрабатывается  в соответствии с документами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овательный стандарт начального общего образования, утв. приказом Минобрнауки России от 06.10.2009 № 373 (п. 19.5);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азовательный стандарт основного общего образования, утв. приказом Минобрнауки России от 17.12.2010 № 1897 (п. 18.2.2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государственный образовательный стандарт среднего (полного) общего образования, утв. приказом Минобрнауки России от 17.05.2012 № 413 (п. 18.2.2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компонент государственного образовательного стандарт а, утв. приказом Минобразования России от 05.03.2004 № 1089 (при реализации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Федеральный базисный учебный план, утв. приказом Минобразования России от 09.03.2004 № 1312 (при реализации)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. Приказом Минобрнауки России от 30.08.2013 №  1015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исьмо Рособрнадзора от 16.07.2012 № 05-2680 "О направлении методических рекомендаций о проведении федерального государственного контроля качества образования в образовательных учреждениях"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исьмо Минобразования России от 18.06.2003 № 28-02-484/16 "О направлении требований к содержанию и оформлению образовательных программ дополнительного образования детей";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Региональный компонент государственного образовательного стандарта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бочая программа является составной частью основной образовательной программы соответствующей ступени образования (далее – ООП), образовательной программы и призвана обеспечить целенаправленность, систематичность, последовательность в работе учителя по раскрытию ее содержания через урочную и внеурочную деятельность, дополнительное образовани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76200" y="666720"/>
            <a:ext cx="83898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84040"/>
            <a:ext cx="828828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МЕСТО РАБОЧИХ ПРОГРАММ В ООП ООО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348000" y="3129120"/>
            <a:ext cx="2762280" cy="939600"/>
          </a:xfrm>
          <a:prstGeom prst="rect">
            <a:avLst/>
          </a:prstGeom>
          <a:ln w="0">
            <a:noFill/>
          </a:ln>
        </p:spPr>
      </p:pic>
      <p:pic>
        <p:nvPicPr>
          <p:cNvPr id="218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933480" y="3127320"/>
            <a:ext cx="1955880" cy="92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6373800" y="3078000"/>
            <a:ext cx="237636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2700360" y="1542960"/>
            <a:ext cx="3782880" cy="938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5"/>
          <a:stretch/>
        </p:blipFill>
        <p:spPr>
          <a:xfrm>
            <a:off x="2792520" y="4807080"/>
            <a:ext cx="38494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низ 5"/>
          <p:cNvSpPr/>
          <p:nvPr/>
        </p:nvSpPr>
        <p:spPr>
          <a:xfrm>
            <a:off x="4373640" y="2492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c9edfd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6"/>
          <a:stretch/>
        </p:blipFill>
        <p:spPr>
          <a:xfrm>
            <a:off x="4411800" y="405756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7"/>
          <a:stretch/>
        </p:blipFill>
        <p:spPr>
          <a:xfrm rot="2031000">
            <a:off x="2305080" y="2376000"/>
            <a:ext cx="542880" cy="749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8"/>
          <a:stretch/>
        </p:blipFill>
        <p:spPr>
          <a:xfrm rot="19882200">
            <a:off x="6348240" y="2366640"/>
            <a:ext cx="54324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8"/>
          <p:cNvSpPr/>
          <p:nvPr/>
        </p:nvSpPr>
        <p:spPr>
          <a:xfrm>
            <a:off x="3013560" y="17827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ООП ОО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extBox 19" descr=""/>
          <p:cNvPicPr/>
          <p:nvPr/>
        </p:nvPicPr>
        <p:blipFill>
          <a:blip r:embed="rId9"/>
          <a:stretch/>
        </p:blipFill>
        <p:spPr>
          <a:xfrm>
            <a:off x="3565440" y="334008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21" descr=""/>
          <p:cNvPicPr/>
          <p:nvPr/>
        </p:nvPicPr>
        <p:blipFill>
          <a:blip r:embed="rId10"/>
          <a:stretch/>
        </p:blipFill>
        <p:spPr>
          <a:xfrm>
            <a:off x="6620040" y="3078000"/>
            <a:ext cx="2127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22" descr=""/>
          <p:cNvPicPr/>
          <p:nvPr/>
        </p:nvPicPr>
        <p:blipFill>
          <a:blip r:embed="rId11"/>
          <a:stretch/>
        </p:blipFill>
        <p:spPr>
          <a:xfrm>
            <a:off x="2998800" y="4986360"/>
            <a:ext cx="367020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6600" y="317160"/>
            <a:ext cx="828828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АЯ ПРОГРАММ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В ОБЯЗАТЕЛЬНОМ ПОРЯДКЕ: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азрабатывается на учебный год/уровень образования (выбрать нужное):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 предметам обязательной части учебного план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ым курсам части учебного плана, формируемой участниками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бным курсам национально-регионального компонента и компонента 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граммам курсов внеурочной деятельности в соответствии с планом внеурочной деятельности, учебным планом основного и среднего (полного) общего образов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дополнительным образовательным программам внутришкольной системы дополнительного образов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233-72D9-4513-92AF-44470C7DE1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ЦЕЛИ И ЗАДАЧИ РАБОЧЕЙ ПРОГРАММЫ</a:t>
            </a:r>
            <a:endParaRPr b="0" lang="en-US" sz="2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1. 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Главной целью рабочей программы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является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реализация содержания ООП соответствующего уровня образования, образовательной программы по определенному предмету, курсу, дисциплине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(модулю) в соответствии с установленным количеством часов учебного плана, плана внеурочной деятельности общего образования, часами дополнительного образования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2. 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Основными задачами рабочей программы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являю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пределение содержания, объема, порядка изучения учебного предмета, курса, дисциплины (модуля) с учетом целей, задач и особенностей (специфики, традиций, уровня реализации программ и т. п.) образовательной деятельности образовательной организации и контингента учащихс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беспечение преемственности содержания между годами обучения и уровнями образования, при имеющейся возможности – обеспечение "сквозной" преемственност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тражение индивидуальности педагогической деятельности с учетом конкретных условий образовательной организации, образовательных потребностей и особенностей развития учащих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84040"/>
            <a:ext cx="889308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rbel"/>
              </a:rPr>
              <a:t>ОСНОВНЫЕ ФУНКЦИИ РАБОЧЕЙ ПРОГРАММЫ 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4920" y="2011320"/>
            <a:ext cx="80629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нормативная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(рабочая программа должна быть в обязательном порядке выполнена в полном объеме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целеполагания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(определяет ценности и цели, ради достижения которых она введена в образовательный процесс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содержатель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фиксирует состав элементов содержания, подлежащих усвоению учащимися и/или ознакомлению, а также степень их трудности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процессуаль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определяет логическую последовательность усвоения элементов со-держания, организационные формы и методы, средства и условия обучения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оценочная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выявляет уровни достижения предметных и метапредметных результатов освоения ООП соответствующего уровня образования в условиях реализации ФГОС ОО; вы-являет уровни усвоения элементов содержания, объекты контроля и критерии оценки уровня обученности учащихся в условиях реализации ФКГОС)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ТРУКТУРА И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РАБОЧЕЙ ПРОГРАММ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яснительная записка, в которой конкретизируются общие цели соответствующего уровня общего образования с учетом специфики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бщая характеристика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места учебного предмета, курса в учебном плане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ценностных ориентиров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личностные, метапредметные и предметные результаты освоения конкретного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одержание учебного предмета, курса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ематическое/календарно-тематическое планирование с определением основных видов учебной деятельности обучающихся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писание учебно-методического и материально-технического обеспечения образовательного процесс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54:52Z</dcterms:created>
  <dc:creator>Любовь Григорьевна</dc:creator>
  <dc:description/>
  <dc:language>en-US</dc:language>
  <cp:lastModifiedBy>Ната</cp:lastModifiedBy>
  <dcterms:modified xsi:type="dcterms:W3CDTF">2019-01-10T15:07:15Z</dcterms:modified>
  <cp:revision>56</cp:revision>
  <dc:subject/>
  <dc:title>Программное обеспечение учебного процесса</dc:title>
</cp:coreProperties>
</file>