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C0C-AD28-4C46-9FB6-764137E0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2AB-7DAB-4208-A01E-53C774FF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31E-B619-4A57-A3B9-E062A21F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09C-32E9-4B2F-B0FB-73DA0B14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2B9-93F6-4972-9DAF-D505717C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5B6-D011-4CD0-BFD0-EBA5640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8E8-5B74-4B4E-9403-0264D33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FD2-06F8-4640-93DF-BD3D1E47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D509-118D-4C96-9A0A-CDB4B98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B9AB-24F4-4354-BD2B-C4814A8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4135-8169-4437-80CA-58EE592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66C-64F9-469E-9796-426A3D6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5C2-6EC6-4938-A51C-EE9E12B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C2A-5020-4D14-9D77-819FD21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C591-348A-4B5E-85B5-680F742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5E3-1228-4D0E-9109-9C76D731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4503-E04D-4889-BA86-AE710F32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0284-3129-4610-883C-2081C7B2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3082-AB09-4877-9A03-3D4A13C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CEA9-ACCD-4D01-B996-B651091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AF28-C7B6-4862-A4E1-CC9D740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A3C2-58E0-4B1F-8B66-769FEAD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D57-ABE1-4867-B08E-C0518E5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311F-C57E-462C-B2C4-9AC5AF2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24B0-504B-4B66-BE99-4D55CC8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2FC3-BE9D-4E97-A8EB-3A27B85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6638-51A1-4008-AD36-6B8E3C7D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CBAD-A43F-41C0-8AF6-75CC2DBF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73F2-ADCD-4A78-BA9B-D4BEF51F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BE71-C3E5-46DF-918B-BF6BD9C0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AF53-D2BD-4ED7-A1AB-AC01D2B2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84BB-80EF-4431-8380-1B263CB1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8951-3417-4091-83EC-0634732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37D-CAD2-45C3-9D79-F3AC664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04EA-6EB9-4FC5-AA42-E2DE74CA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3B90-E215-494E-8E2C-E57717C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9086-BFA4-4BB2-B005-002A5AAC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9236-E5DA-48C6-8080-C9392E2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254A-3C49-4D3E-8C51-7A7A4B4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AB3F-695F-45B1-BB7A-D7D3514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8400-3F35-4B01-82C0-126701D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618D-57EB-4BAB-8F39-A60C285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C8AC4-21B0-4BF3-8BDD-607CD93E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24D4-0B84-4E41-A8EF-38A1782C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809-CD3C-4703-95F6-AF55FC0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C98B-0F3D-4477-80E7-42E2AB9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2C56-4E95-41B0-AD04-52FA0F4D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F14B-DC60-412B-9527-CED80E2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0F01-3016-48C0-A3BD-F65D3B4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7B8E-0FCE-4BF6-8084-12E311B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59EF-76B3-47A7-9055-5DDF5B5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AB86-6F14-46F8-BF03-25B04A0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CEB5-38FA-424F-87C3-B51E1D7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D5BC4-2987-4655-AD66-77460785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2F15-C1EE-4BE6-8B2B-67F52DC6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B23-86F6-42CA-BA51-41A6C49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77DE6-CDEF-41B6-BDF1-9B36F894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816-1550-4914-8460-4F520E1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78A-FC9E-4C09-93A8-B60E6B7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F51-4E8F-41BE-8268-6D03B83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B395-3521-4B5B-8A88-84BD7ED521A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73F-5041-4FA8-BFE0-DDB5F1811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4E0-DAF6-46DD-A075-71EC49F7878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6DA-E373-4E35-9814-0415F9D11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99b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487-B5A7-4B67-A495-AFA19BAE8114}" type="datetime">
              <a:rPr b="0" lang="ru-RU" sz="1000" spc="-1" strike="noStrike">
                <a:solidFill>
                  <a:srgbClr val="099bdd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3990-B925-4673-9232-37EA7B4AB698}" type="slidenum">
              <a:rPr b="0" lang="ru-RU" sz="1200" spc="-1" strike="noStrike">
                <a:solidFill>
                  <a:srgbClr val="099b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B79D-9596-49CD-AFEC-516D6759BDA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5F69-967C-450C-9CE1-9F3845EE5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73D5-20DD-49BE-8C3C-7B50F0844A0D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BE3-1F33-4D9B-B04F-0AA3A5757F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368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ТЕХНОЛОГИЯ ПРОЕКТИРОВАНИЯ РАБОЧЕЙ ПРОГРАММЫ  В УСЛОВИЯХ ВВЕДЕ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 ФГОС ООО</a:t>
            </a:r>
            <a:br>
              <a:rPr sz="1600"/>
            </a:b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2420640"/>
            <a:ext cx="8229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ЕЙ ПРОГРАММ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итульный лис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езультаты освоения конкретного учебного предмета, курса (требования к уровню подготовки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о-тематический план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одержание тем учебного кур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риложения к программе: </a:t>
            </a:r>
            <a:r>
              <a:rPr b="0" i="1" lang="ru-RU" sz="1400" spc="-1" strike="noStrike">
                <a:solidFill>
                  <a:srgbClr val="ffffff"/>
                </a:solidFill>
                <a:latin typeface="Corbel"/>
              </a:rPr>
              <a:t>Контрольные измерительные материалы реализации программы в соответствии с требованиями к результатам обучения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ен содержать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именование учреждения в соответствии с Уставом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ифы рассмотре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ые М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согласова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со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и утвержде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ные данные приказ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именование учебного предмета с указанием класса (параллели), на который рассчитана рабочая программа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ИО педагога, разработавшего рабочую программу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д составления рабочей программ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ИТУЛЬНЫЙ ЛИСТ РАБОЧЕЙ ПРОГРАММЫ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  <a:ea typeface="Times New Roman"/>
              </a:rPr>
              <a:t>ПОЯСНИТЕЛЬНАЯ ЗАПИСКА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130320" y="1776240"/>
            <a:ext cx="856764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олжна отражать информацию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рмативных документах и материал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 основе которых составлена рабочая програм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ичестве учебных часов в год, неде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 которое рассчитано преподавание предмет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в соответствии с УП школ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ях и задачах образовательной деятельности по предмету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ом классе (параллели), на  которые направлена рабочая програм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ениях,   внесенных   учителем   в   авторскую  рабочую программу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предмету, курсу, дисциплине (модулю), если таковые имеются, и обосновании их целесообразности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пользуемых формах, методах и средствах оценки образовательных результатов учащихс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в том числе метапредметных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ах, методах и средствах обучения, технология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будут использоваться учителем при организации учебного процесса   с   целью   реализации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истемно-деятельностного подх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акж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ичестве часов для проведения лабораторных, практических работ, экскурсий, исследовательских проек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62064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orbel"/>
                <a:ea typeface="Times New Roman"/>
              </a:rPr>
              <a:t>ПЛАНИРУЕМЫЕ ОБРАЗОВАТЕЛЬНЫЕ РЕЗУЛЬТАТ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187200" y="220500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мпонент «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ланируемые образовательные результаты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олжен отра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ечень требований к личностным, метапредметным, предметным результатам изучения учебного предмет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конец обучения в каждом клас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учетом уровневого подхода («Обучающийся научится», «Обучающийся получит возможность научиться»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апредметные и личностные образовательные результаты должны быть конкретизированы в виде перечня соответствующих УУД (метапредметные - в виде коммуникативных УУД, познавательных УУД, регулятивных УУД; личностные - в виде личностных УУД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 к образовательным результатам учащихся, прописанные в рабочей программе, не должны быть ниже сформулированных в стандар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КОНТРОЛЬ И ОЦЕНКА ПЛАНИРУЕМЫХ ОБРАЗОВАТЕЛЬНЫХ РЕЗУЛЬТАТОВ УЧАЩИХСЯ</a:t>
            </a:r>
            <a:endParaRPr b="0" lang="en-US" sz="24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анный компонент рабочей программы требует фиксирования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количества контрольных мероприятий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формы промежуточной аттестации учащихс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форм текущего контроля, методов, средств контроля и оценки планируемых образовательных результатов при реализации программы, которые будут реализованы учителем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ланируемые способы контроля и оценки образовательных результатов не должны противоречить Положению школы о промежуточной аттестации учащихся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истема оценки планируемых результатов учителя должна «вписываться» в систему оценки, реализуемую в школ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712800" y="2637000"/>
          <a:ext cx="7848720" cy="2438280"/>
        </p:xfrm>
        <a:graphic>
          <a:graphicData uri="http://schemas.openxmlformats.org/drawingml/2006/table">
            <a:tbl>
              <a:tblPr/>
              <a:tblGrid>
                <a:gridCol w="863640"/>
                <a:gridCol w="1512720"/>
                <a:gridCol w="1727280"/>
                <a:gridCol w="1800360"/>
                <a:gridCol w="1944720"/>
              </a:tblGrid>
              <a:tr h="30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и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2" name="Rectangle 1"/>
          <p:cNvSpPr/>
          <p:nvPr/>
        </p:nvSpPr>
        <p:spPr>
          <a:xfrm>
            <a:off x="1973160" y="487080"/>
            <a:ext cx="53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о-тематически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прим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УЧЕБНО-МЕТОДИЧЕСКОЕ ОБЕСПЕЧЕНИЕ ОБРАЗОВАТЕЛЬНОГО ПРОЦЕССА</a:t>
            </a:r>
            <a:endParaRPr b="0" lang="en-US" sz="24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6000" y="1844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Этот компонент рабочей программы должен отражать основную и дополнительную учебную литературу, другие информационные источники для учащихся и учителя, которые педагог будет использовать для реализации своей рабочей программ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еречень можно классифицировать по группам: «Литература (основная, дополнительная)», «Дидактические материал», «Электронные образовательные ресурсы» и т.д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УНИВЕРСАЛЬНЫЕ УЧЕБНЫЕ ДЕЙСТВИЯ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1828440"/>
            <a:ext cx="4114800" cy="24382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txBody>
          <a:bodyPr anchor="t">
            <a:normAutofit fontScale="96000"/>
          </a:bodyPr>
          <a:p>
            <a:pPr marL="174960" indent="-1749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Личностны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нутренняя позиция школьника, самоуважение и самооценка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тивация, границы собственного знания и «незнания»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риентация на выполнение моральных норм, способность к решению моральных проблем, оценка своих поступков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880" y="472392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Регулятивны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управление своей деятельностью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контроль и коррекци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инициативность и самостоятельность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5029200" y="1828800"/>
            <a:ext cx="3962520" cy="24382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абота с информаци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абота с учебными моделя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использование знакосимволиче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редств, общих схем реш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выполнение логических опер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авнения, анализа, обобщения, классификации, установления аналог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876920" y="4724280"/>
            <a:ext cx="4065480" cy="11890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ечевая деятель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навыки сотрудни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rbel"/>
              </a:rPr>
              <a:t>МАТЕРИАЛЬНО-ТЕХНИЧЕСКОЕ ОБЕСПЕЧЕНИЕ ОБРАЗОВАТЕЛЬНОГО ПРОЦЕССА</a:t>
            </a:r>
            <a:endParaRPr b="0" lang="en-US" sz="26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ный компонент должен  отражать  перечень  учебного оборудования и оборудования для лабораторных, практических работ, организации проектной и исследовательск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ащихся, которые учитель будет использовать при реализации своей рабочей програм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ЗДЕЛ «СОДЕРЖАНИЕ ПРОГРАММЫ»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звание тем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обходимое количество часов для ее изуч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нкретизированные требования к результатам обуч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держание учебного материала (дидактические единицы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емы контрольных (практических и/или  лабораторных рабо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НОРМАТИВНО-ПРАВОВОЕ ОБЕСПЕЧЕНИЕ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4920" y="2011320"/>
            <a:ext cx="84978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7760" indent="-1677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оцедура разработки, принятия и утверждения рабочих программ согласно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т. 28 Федерального закона от 29.12.2012 № 273-ФЗ "Об образовании в Российской Федерации"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аходится в компетенции образовательной организации, и на основании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т. 30 ФЗ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"Об образовании в Российской Федерации", регламентируется локальным нормативным актом образовательной организаци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ОДЕРЖАНИЕ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должно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. Обеспечивать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преемственность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одержания ООП соответствующего уровня образования/образовательной программы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2. Соответствовать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направленности (профилю) образования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ребованиям ФГОС ОО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ребованиям ФКГОС;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одержанию ООП образовательной организации соответствующего уровня образования/образовательной программы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пецифике и традициям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запросам участников образовательных отношений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ОДЕРЖАНИЕ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ожет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лностью соответствовать/дублировать содержание примерной программы учебного предмета, рекомендованной Минобрнауки России, и/или авторской программы курса/линии, учебно-методической системы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меть несущественные изменения, связанные с учетом особенностей предмета, учащихся конкретного класса, заключающиеся в новом порядке изучаемого материала; перераспределения/изменения количества часов, изменения содержани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существенно изменено/модифицировано через внесение из-менений не более 25% в примерную программу и/или авторскую согласно Положению об авторских разработках/программах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ПОРЯДОК РАЗРАБОТКИ, УТВЕРЖДЕНИЯ И ВНЕСЕНИЯ ИЗМЕНЕНИЙ И/ИЛИ ДОПОЛНЕНИЙ В РАБОЧУЮ ПРОГРАММУ</a:t>
            </a:r>
            <a:br>
              <a:rPr sz="2500"/>
            </a:br>
            <a:endParaRPr b="0" lang="en-US" sz="25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регламентируется документами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ложение о рабочей программе учебного предмета, курса, дисциплины (модуля) в образовательной организации общего образован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«О разработке рабочих программ учебных предметов, курсов, дисциплин (модулей) и дополнительных образовательных программ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об утверждении рабочих программ учебных предметов, курс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о внесении изменений в рабочие программы учебных курсов, предмет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0600" y="191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конструировать содержание учебного материала курса, определив последовательность разделов, тем и количество часов на изучение каждог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ределить дополнительную справочную и учебную литературу, необходимые пособия, оборудование и прибор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здать контрольно-измерительные материалы: выделить перечень проверяемых умений (кодификатор) согласно этапу обучения и цели контроля; подобрать контролирующие задания, направленные на проверку планируемых результат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ставить рабочую программу: оформить материал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40464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оложение разрабатывается  в соответствии с документами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овательный стандарт начального общего образования, утв. приказом Минобрнауки России от 06.10.2009 № 373 (п. 19.5);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азовательный стандарт основного общего образования, утв. приказом Минобрнауки России от 17.12.2010 № 1897 (п. 18.2.2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азовательный стандарт среднего (полного) общего образования, утв. приказом Минобрнауки России от 17.05.2012 № 413 (п. 18.2.2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компонент государственного образовательного стандарт а, утв. приказом Минобразования России от 05.03.2004 № 1089 (при реализации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базисный учебный план, утв. приказом Минобразования России от 09.03.2004 № 1312 (при реализации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. Приказом Минобрнауки России от 30.08.2013 №  1015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исьмо Рособрнадзора от 16.07.2012 № 05-2680 "О направлении методических рекомендаций о проведении федерального государственного контроля качества образования в образовательных учреждениях"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исьмо Минобразования России от 18.06.2003 № 28-02-484/16 "О направлении требований к содержанию и оформлению образовательных программ дополнительного образования детей"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Региональный компонент государственного образовательного стандарта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бочая программа является составной частью основной образовательной программы соответствующей ступени образования (далее – ООП), образовательной программы и призвана обеспечить целенаправленность, систематичность, последовательность в работе учителя по раскрытию ее содержания через урочную и внеурочную деятельность, дополнительное образовани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76200" y="666720"/>
            <a:ext cx="83898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84040"/>
            <a:ext cx="828828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МЕСТО РАБОЧИХ ПРОГРАММ В ООП ООО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348000" y="3129120"/>
            <a:ext cx="2762280" cy="939600"/>
          </a:xfrm>
          <a:prstGeom prst="rect">
            <a:avLst/>
          </a:prstGeom>
          <a:ln w="0">
            <a:noFill/>
          </a:ln>
        </p:spPr>
      </p:pic>
      <p:pic>
        <p:nvPicPr>
          <p:cNvPr id="218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933480" y="3127320"/>
            <a:ext cx="1955880" cy="92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6373800" y="3078000"/>
            <a:ext cx="23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2700360" y="1542960"/>
            <a:ext cx="3782880" cy="938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5"/>
          <a:stretch/>
        </p:blipFill>
        <p:spPr>
          <a:xfrm>
            <a:off x="2792520" y="4807080"/>
            <a:ext cx="38494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низ 5"/>
          <p:cNvSpPr/>
          <p:nvPr/>
        </p:nvSpPr>
        <p:spPr>
          <a:xfrm>
            <a:off x="4373640" y="2492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c9edfd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6"/>
          <a:stretch/>
        </p:blipFill>
        <p:spPr>
          <a:xfrm>
            <a:off x="4411800" y="405756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7"/>
          <a:stretch/>
        </p:blipFill>
        <p:spPr>
          <a:xfrm rot="2031000">
            <a:off x="2305080" y="237600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8"/>
          <a:stretch/>
        </p:blipFill>
        <p:spPr>
          <a:xfrm rot="19882200">
            <a:off x="6348240" y="2366640"/>
            <a:ext cx="54324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8"/>
          <p:cNvSpPr/>
          <p:nvPr/>
        </p:nvSpPr>
        <p:spPr>
          <a:xfrm>
            <a:off x="3013560" y="17827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ООП ОО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extBox 19" descr=""/>
          <p:cNvPicPr/>
          <p:nvPr/>
        </p:nvPicPr>
        <p:blipFill>
          <a:blip r:embed="rId9"/>
          <a:stretch/>
        </p:blipFill>
        <p:spPr>
          <a:xfrm>
            <a:off x="3565440" y="334008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21" descr=""/>
          <p:cNvPicPr/>
          <p:nvPr/>
        </p:nvPicPr>
        <p:blipFill>
          <a:blip r:embed="rId10"/>
          <a:stretch/>
        </p:blipFill>
        <p:spPr>
          <a:xfrm>
            <a:off x="6620040" y="3078000"/>
            <a:ext cx="2127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22" descr=""/>
          <p:cNvPicPr/>
          <p:nvPr/>
        </p:nvPicPr>
        <p:blipFill>
          <a:blip r:embed="rId11"/>
          <a:stretch/>
        </p:blipFill>
        <p:spPr>
          <a:xfrm>
            <a:off x="2998800" y="4986360"/>
            <a:ext cx="367020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6600" y="317160"/>
            <a:ext cx="828828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АЯ ПРОГРАММ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В ОБЯЗАТЕЛЬНОМ ПОРЯДКЕ: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азрабатывается на учебный год/уровень образования (выбрать нужное)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 предметам обязательной части учебного план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ым курсам части учебного плана, формируемой участниками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ым курсам национально-регионального компонента и компонента 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граммам курсов внеурочной деятельности в соответствии с планом внеурочной деятельности, учебным планом основного и среднего (полного) общего образов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дополнительным образовательным программам внутришкольной системы дополнительного образов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835-4B8C-4344-87C3-F89479CEDB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ЦЕЛИ И ЗАДАЧИ РАБОЧЕЙ ПРОГРАММЫ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1. 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Главной целью рабочей программы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является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реализация содержания ООП соответствующего уровня образования, образовательной программы по определенному предмету, курсу, дисциплине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(модулю) в соответствии с установленным количеством часов учебного плана, плана внеурочной деятельности общего образования, часами дополнительного образования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2. 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Основными задачами рабочей программы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являю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пределение содержания, объема, порядка изучения учебного предмета, курса, дисциплины (модуля) с учетом целей, задач и особенностей (специфики, традиций, уровня реализации программ и т. п.) образовательной деятельности образовательной организации и контингента учащихс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беспечение преемственности содержания между годами обучения и уровнями образования, при имеющейся возможности – обеспечение "сквозной" преемственност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тражение индивидуальности педагогической деятельности с учетом конкретных условий образовательной организации, образовательных потребностей и особенностей развития учащих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84040"/>
            <a:ext cx="889308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ОСНОВНЫЕ ФУНКЦИИ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4920" y="2011320"/>
            <a:ext cx="80629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нормативная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(рабочая программа должна быть в обязательном порядке выполнена в полном объеме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целеполагания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(определяет ценности и цели, ради достижения которых она введена в образовательный процесс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содержатель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фиксирует состав элементов содержания, подлежащих усвоению учащимися и/или ознакомлению, а также степень их трудности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процессуаль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определяет логическую последовательность усвоения элементов со-держания, организационные формы и методы, средства и условия обучения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оценоч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выявляет уровни достижения предметных и метапредметных результатов освоения ООП соответствующего уровня образования в условиях реализации ФГОС ОО; вы-являет уровни усвоения элементов содержания, объекты контроля и критерии оценки уровня обученности учащихся в условиях реализации ФКГОС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ЕЙ ПРОГРАММ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яснительная записка, в которой конкретизируются общие цели соответствующего уровня общего образования с учетом специфики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бщая характеристика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места учебного предмета, курса в учебном плане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ценностных ориентиров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личностные, метапредметные и предметные результаты освоения конкретного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одержание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54:52Z</dcterms:created>
  <dc:creator>Любовь Григорьевна</dc:creator>
  <dc:description/>
  <dc:language>en-US</dc:language>
  <cp:lastModifiedBy>Ната</cp:lastModifiedBy>
  <dcterms:modified xsi:type="dcterms:W3CDTF">2019-01-10T15:07:15Z</dcterms:modified>
  <cp:revision>56</cp:revision>
  <dc:subject/>
  <dc:title>Программное обеспечение учебного процесса</dc:title>
</cp:coreProperties>
</file>