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8D5-AF71-4616-924A-3C2E7275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E15-8703-4280-9302-057E3AA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41C-F372-4D64-872D-6C466408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95C-30EA-449A-A54F-7A5E21F2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015-1B42-4932-92B9-2912D0A8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AE8-F2EB-4989-B457-F970751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522-B15C-4A15-8916-670EF30A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34F-82F5-40A1-88E3-9E6EF70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F26-D933-48A7-9A5A-C4D80D6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559-E648-488E-AA72-65E1A4A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4BA-2D14-4EBC-A4A6-F987718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9F5-3437-4869-B017-43C1BDF2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28E8-0FA0-44C9-9CD7-2E8DCBBC2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79280" y="189000"/>
            <a:ext cx="878544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Русские народные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сказки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Выполнила: учитель начальных классов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Мирзоева З.Г.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50920" y="404640"/>
            <a:ext cx="42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о встретил колобок после зайца в сказке «Колобок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В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Ли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Медве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4559400" y="2262240"/>
            <a:ext cx="4584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исунок8.jpg"/>
          <p:cNvPicPr/>
          <p:nvPr/>
        </p:nvPicPr>
        <p:blipFill>
          <a:blip r:embed="rId1"/>
          <a:stretch/>
        </p:blipFill>
        <p:spPr>
          <a:xfrm>
            <a:off x="4773600" y="1401840"/>
            <a:ext cx="4370400" cy="5456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755640" y="620640"/>
            <a:ext cx="42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сколько грошей купили козу в сказке  «Коза – дерез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За 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За 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За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50920" y="260280"/>
            <a:ext cx="6462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сеял мужик на другой год в сказ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Мужик и медвед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Овё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Рисунок9.jpg"/>
          <p:cNvPicPr/>
          <p:nvPr/>
        </p:nvPicPr>
        <p:blipFill>
          <a:blip r:embed="rId1"/>
          <a:stretch/>
        </p:blipFill>
        <p:spPr>
          <a:xfrm>
            <a:off x="3554280" y="1974960"/>
            <a:ext cx="55897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4632480" y="1835280"/>
            <a:ext cx="4511520" cy="5022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684360" y="404640"/>
            <a:ext cx="431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го позвала Жучка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азке «Репк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Мы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Баб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Ко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4559400" y="1231920"/>
            <a:ext cx="4584600" cy="5626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0" y="404640"/>
            <a:ext cx="478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ие берега были у молочной речки в сказке «Гуси-лебед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Кру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Кис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Бел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ноп.jpg"/>
          <p:cNvPicPr/>
          <p:nvPr/>
        </p:nvPicPr>
        <p:blipFill>
          <a:blip r:embed="rId1"/>
          <a:stretch/>
        </p:blipFill>
        <p:spPr>
          <a:xfrm>
            <a:off x="5076720" y="3429000"/>
            <a:ext cx="3900600" cy="3249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55640" y="54936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то первым поселился в теремке в сказке «Теремок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М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пно.jpg"/>
          <p:cNvPicPr/>
          <p:nvPr/>
        </p:nvPicPr>
        <p:blipFill>
          <a:blip r:embed="rId2"/>
          <a:stretch/>
        </p:blipFill>
        <p:spPr>
          <a:xfrm>
            <a:off x="0" y="4135320"/>
            <a:ext cx="3132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411280" y="260280"/>
            <a:ext cx="6264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чинались волшебные слова , которые говорил Емеля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щучьему  вел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По моему жел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По моему хот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Рисунок5.jpg"/>
          <p:cNvPicPr/>
          <p:nvPr/>
        </p:nvPicPr>
        <p:blipFill>
          <a:blip r:embed="rId1"/>
          <a:stretch/>
        </p:blipFill>
        <p:spPr>
          <a:xfrm>
            <a:off x="0" y="2481120"/>
            <a:ext cx="2712960" cy="4376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Рисунок6.jpg"/>
          <p:cNvPicPr/>
          <p:nvPr/>
        </p:nvPicPr>
        <p:blipFill>
          <a:blip r:embed="rId2"/>
          <a:stretch/>
        </p:blipFill>
        <p:spPr>
          <a:xfrm>
            <a:off x="2771640" y="3919680"/>
            <a:ext cx="3108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395280" y="47628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какие горы несла лиса петушка  в сказке «Петушок-Золотой гребешок»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Низ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Высо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Кру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5499000" y="1401840"/>
            <a:ext cx="36450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979640" y="260280"/>
            <a:ext cx="59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то спас зайчика от лисы в сказке «Заюшкина избушк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Петуш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0" y="3200400"/>
            <a:ext cx="350532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Рисунок3.jpg"/>
          <p:cNvPicPr/>
          <p:nvPr/>
        </p:nvPicPr>
        <p:blipFill>
          <a:blip r:embed="rId2"/>
          <a:stretch/>
        </p:blipFill>
        <p:spPr>
          <a:xfrm>
            <a:off x="5353200" y="4138560"/>
            <a:ext cx="3790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468360" y="549360"/>
            <a:ext cx="36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ельзя было есть медведю из сказки «Маша и медвед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Бул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Пиро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4354560" y="0"/>
            <a:ext cx="4789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Рисунок4.jpg"/>
          <p:cNvPicPr/>
          <p:nvPr/>
        </p:nvPicPr>
        <p:blipFill>
          <a:blip r:embed="rId2"/>
          <a:stretch/>
        </p:blipFill>
        <p:spPr>
          <a:xfrm>
            <a:off x="755640" y="4932360"/>
            <a:ext cx="36147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539640" y="333360"/>
            <a:ext cx="41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ую воду пила мама-коза в сказке «Волк и семеро козля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Холод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Чист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Студё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Рисунок6.jpg"/>
          <p:cNvPicPr/>
          <p:nvPr/>
        </p:nvPicPr>
        <p:blipFill>
          <a:blip r:embed="rId1"/>
          <a:stretch/>
        </p:blipFill>
        <p:spPr>
          <a:xfrm>
            <a:off x="4486320" y="1468440"/>
            <a:ext cx="46576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4:56:27Z</dcterms:created>
  <dc:creator>Дом</dc:creator>
  <dc:description/>
  <dc:language>en-US</dc:language>
  <cp:lastModifiedBy>Personals</cp:lastModifiedBy>
  <dcterms:modified xsi:type="dcterms:W3CDTF">2019-01-01T13:15:55Z</dcterms:modified>
  <cp:revision>52</cp:revision>
  <dc:subject/>
  <dc:title>Слайд 1</dc:title>
</cp:coreProperties>
</file>