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D41-C523-44E5-84D3-4F51D192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785-5306-42DD-8EBC-50C5758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C06-2585-4A45-9526-A19B28F6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BF9-7C31-4E0C-808D-8F3F99AF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BF0-E6C0-45BA-9DC1-FCF8FBA6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CBD-A185-4493-AC7A-EE60CB0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3C3-99D1-42FA-8A92-F58E0DE3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DFE-89A7-4E7A-9123-81B91B2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956-A3D7-46BD-87BA-19F459FF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F85-2D58-4C35-AA07-8B194A5F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12A-C998-4FCD-A45D-A88711C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881-5B93-453A-97D3-F44DDED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E06-A7A5-4690-AF36-59BE8C472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79280" y="189000"/>
            <a:ext cx="878544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Русские народные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сказки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Выполнила: учитель начальных классов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Мирзоева З.Г.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50920" y="404640"/>
            <a:ext cx="42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о встретил колобок после зайца в сказке «Колобок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В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Ли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Медве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4559400" y="2262240"/>
            <a:ext cx="4584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исунок8.jpg"/>
          <p:cNvPicPr/>
          <p:nvPr/>
        </p:nvPicPr>
        <p:blipFill>
          <a:blip r:embed="rId1"/>
          <a:stretch/>
        </p:blipFill>
        <p:spPr>
          <a:xfrm>
            <a:off x="4773600" y="1401840"/>
            <a:ext cx="4370400" cy="5456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755640" y="620640"/>
            <a:ext cx="42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сколько грошей купили козу в сказке  «Коза – дерез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За 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За 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За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50920" y="260280"/>
            <a:ext cx="6462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посеял мужик на другой год в сказ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Мужик и медвед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Овё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Рисунок9.jpg"/>
          <p:cNvPicPr/>
          <p:nvPr/>
        </p:nvPicPr>
        <p:blipFill>
          <a:blip r:embed="rId1"/>
          <a:stretch/>
        </p:blipFill>
        <p:spPr>
          <a:xfrm>
            <a:off x="3554280" y="1974960"/>
            <a:ext cx="55897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4632480" y="1835280"/>
            <a:ext cx="4511520" cy="5022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684360" y="404640"/>
            <a:ext cx="431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го позвала Жучка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казке «Репк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Мы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Баб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Кош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4559400" y="1231920"/>
            <a:ext cx="4584600" cy="5626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0" y="404640"/>
            <a:ext cx="478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ие берега были у молочной речки в сказке «Гуси-лебед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Кру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Кис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Бел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ноп.jpg"/>
          <p:cNvPicPr/>
          <p:nvPr/>
        </p:nvPicPr>
        <p:blipFill>
          <a:blip r:embed="rId1"/>
          <a:stretch/>
        </p:blipFill>
        <p:spPr>
          <a:xfrm>
            <a:off x="5076720" y="3429000"/>
            <a:ext cx="3900600" cy="3249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55640" y="54936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то первым поселился в теремке в сказке «Теремок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М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пно.jpg"/>
          <p:cNvPicPr/>
          <p:nvPr/>
        </p:nvPicPr>
        <p:blipFill>
          <a:blip r:embed="rId2"/>
          <a:stretch/>
        </p:blipFill>
        <p:spPr>
          <a:xfrm>
            <a:off x="0" y="4135320"/>
            <a:ext cx="31320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411280" y="260280"/>
            <a:ext cx="6264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чинались волшебные слова , которые говорил Емеля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щучьему  вел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По моему жел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По моему хот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Рисунок5.jpg"/>
          <p:cNvPicPr/>
          <p:nvPr/>
        </p:nvPicPr>
        <p:blipFill>
          <a:blip r:embed="rId1"/>
          <a:stretch/>
        </p:blipFill>
        <p:spPr>
          <a:xfrm>
            <a:off x="0" y="2481120"/>
            <a:ext cx="2712960" cy="4376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Рисунок6.jpg"/>
          <p:cNvPicPr/>
          <p:nvPr/>
        </p:nvPicPr>
        <p:blipFill>
          <a:blip r:embed="rId2"/>
          <a:stretch/>
        </p:blipFill>
        <p:spPr>
          <a:xfrm>
            <a:off x="2771640" y="3919680"/>
            <a:ext cx="3108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395280" y="47628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какие горы несла лиса петушка  в сказке «Петушок-Золотой гребешок»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Низ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Высо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Кру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5499000" y="1401840"/>
            <a:ext cx="36450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979640" y="260280"/>
            <a:ext cx="59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то спас зайчика от лисы в сказке «Заюшкина избушк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Петуш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Соб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0" y="3200400"/>
            <a:ext cx="350532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Рисунок3.jpg"/>
          <p:cNvPicPr/>
          <p:nvPr/>
        </p:nvPicPr>
        <p:blipFill>
          <a:blip r:embed="rId2"/>
          <a:stretch/>
        </p:blipFill>
        <p:spPr>
          <a:xfrm>
            <a:off x="5353200" y="4138560"/>
            <a:ext cx="3790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468360" y="549360"/>
            <a:ext cx="36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ельзя было есть медведю из сказки «Маша и медвед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Бул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Пиро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4354560" y="0"/>
            <a:ext cx="4789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Рисунок4.jpg"/>
          <p:cNvPicPr/>
          <p:nvPr/>
        </p:nvPicPr>
        <p:blipFill>
          <a:blip r:embed="rId2"/>
          <a:stretch/>
        </p:blipFill>
        <p:spPr>
          <a:xfrm>
            <a:off x="755640" y="4932360"/>
            <a:ext cx="36147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539640" y="333360"/>
            <a:ext cx="41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ую воду пила мама-коза в сказке «Волк и семеро козля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Холод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Чист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Студё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Рисунок6.jpg"/>
          <p:cNvPicPr/>
          <p:nvPr/>
        </p:nvPicPr>
        <p:blipFill>
          <a:blip r:embed="rId1"/>
          <a:stretch/>
        </p:blipFill>
        <p:spPr>
          <a:xfrm>
            <a:off x="4486320" y="1468440"/>
            <a:ext cx="46576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4:56:27Z</dcterms:created>
  <dc:creator>Дом</dc:creator>
  <dc:description/>
  <dc:language>en-US</dc:language>
  <cp:lastModifiedBy>Personals</cp:lastModifiedBy>
  <dcterms:modified xsi:type="dcterms:W3CDTF">2019-01-01T13:15:55Z</dcterms:modified>
  <cp:revision>52</cp:revision>
  <dc:subject/>
  <dc:title>Слайд 1</dc:title>
</cp:coreProperties>
</file>