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E943-D3D5-4D8F-B4B3-27691E025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B25-D495-47F0-8481-6B0D4C41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2E6-A6AD-4CA2-99CB-7391CCE9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1DC9-EC09-40D3-8B87-FECED9A0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13E2-9E87-49A3-A1CD-C3F823E4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602F-424C-482D-B7A1-76DFA7F3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BDBC-0893-4B9D-BACB-55CEEAA0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14E1-F848-449B-B987-F55E20CA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FCDB-6F9C-430F-B8F2-DE4DC6F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986-AA57-4CAD-8975-BE89745F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4515-4EE2-4679-91D7-A4F80631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2598-F3E7-4BF5-B3DC-C74A2F33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9808-111E-4E34-931E-E5C7F2D08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E609-11B9-4F5D-8A1C-6A59E79A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1468-4A25-4021-9224-5FDF4937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5E10-BBD7-4038-9EBE-E2586EB2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C8B8-6922-4546-AC33-7CFC82B4A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01B-3E0C-4D49-B979-9B6A1355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C7D2-D214-493F-956E-63451E42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33B8-E1BD-45EF-BE8B-57498D58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5723-0006-4E1F-B5E8-0D8ADDFF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CED-86CB-47A1-8785-DE4999851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89E-1115-40D1-932F-59D0AC37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D3F4-421C-4917-BCCF-CA6DCDE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093B-06A6-416E-8899-2AB9C2E4375B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6440-6A0C-4506-AC8A-0D751D089157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55;&#1080;&#1088;&#1072;&#1084;&#1080;&#1076;&#1099;.m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72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134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38" h="21600">
                <a:moveTo>
                  <a:pt x="14574" y="14281"/>
                </a:moveTo>
                <a:lnTo>
                  <a:pt x="14574" y="12323"/>
                </a:lnTo>
                <a:cubicBezTo>
                  <a:pt x="14574" y="11496"/>
                  <a:pt x="14905" y="10800"/>
                  <a:pt x="15505" y="10800"/>
                </a:cubicBezTo>
                <a:cubicBezTo>
                  <a:pt x="16637" y="10800"/>
                  <a:pt x="17533" y="9434"/>
                  <a:pt x="17533" y="7849"/>
                </a:cubicBezTo>
                <a:cubicBezTo>
                  <a:pt x="17533" y="5534"/>
                  <a:pt x="15680" y="3794"/>
                  <a:pt x="13469" y="3794"/>
                </a:cubicBezTo>
                <a:cubicBezTo>
                  <a:pt x="11258" y="3794"/>
                  <a:pt x="9587" y="5534"/>
                  <a:pt x="9587" y="7849"/>
                </a:cubicBezTo>
                <a:lnTo>
                  <a:pt x="11441" y="7849"/>
                </a:lnTo>
                <a:cubicBezTo>
                  <a:pt x="11441" y="6709"/>
                  <a:pt x="12363" y="5821"/>
                  <a:pt x="13469" y="5821"/>
                </a:cubicBezTo>
                <a:cubicBezTo>
                  <a:pt x="14574" y="5821"/>
                  <a:pt x="15505" y="6709"/>
                  <a:pt x="15505" y="7849"/>
                </a:cubicBezTo>
                <a:cubicBezTo>
                  <a:pt x="15505" y="8589"/>
                  <a:pt x="15035" y="9320"/>
                  <a:pt x="14574" y="9320"/>
                </a:cubicBezTo>
                <a:cubicBezTo>
                  <a:pt x="13469" y="9320"/>
                  <a:pt x="12363" y="10800"/>
                  <a:pt x="12363" y="12323"/>
                </a:cubicBezTo>
                <a:lnTo>
                  <a:pt x="12363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5943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ЕС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00720" y="285264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6372000" y="2781360"/>
            <a:ext cx="165564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16720" y="292428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372360" y="1699920"/>
            <a:ext cx="93636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0720" y="285264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372000" y="2781360"/>
            <a:ext cx="165564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92428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372360" y="1699920"/>
            <a:ext cx="93636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508360" y="1484280"/>
            <a:ext cx="187164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-1371600"/>
            <a:ext cx="1051560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" action="ppaction://hlinkshowjump?jump=endshow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476280"/>
            <a:ext cx="21301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Кроссвор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5640" y="-531720"/>
            <a:ext cx="590400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1280" y="2565360"/>
            <a:ext cx="79200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По знаменитым местам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340000" y="4076640"/>
            <a:ext cx="417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урок-путешествие</a:t>
            </a:r>
            <a:endParaRPr b="1" i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2"/>
          </p:cNvPr>
          <p:cNvSpPr/>
          <p:nvPr/>
        </p:nvSpPr>
        <p:spPr>
          <a:xfrm>
            <a:off x="781200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301"/>
                </a:moveTo>
                <a:lnTo>
                  <a:pt x="6975" y="7301"/>
                </a:lnTo>
                <a:lnTo>
                  <a:pt x="7358" y="7667"/>
                </a:lnTo>
                <a:lnTo>
                  <a:pt x="16567" y="7667"/>
                </a:lnTo>
                <a:lnTo>
                  <a:pt x="17124" y="8224"/>
                </a:lnTo>
                <a:lnTo>
                  <a:pt x="17124" y="8772"/>
                </a:lnTo>
                <a:lnTo>
                  <a:pt x="18969" y="8772"/>
                </a:lnTo>
                <a:lnTo>
                  <a:pt x="19334" y="8224"/>
                </a:lnTo>
                <a:lnTo>
                  <a:pt x="20074" y="8224"/>
                </a:lnTo>
                <a:lnTo>
                  <a:pt x="20074" y="13376"/>
                </a:lnTo>
                <a:lnTo>
                  <a:pt x="19334" y="13376"/>
                </a:lnTo>
                <a:lnTo>
                  <a:pt x="18969" y="12828"/>
                </a:lnTo>
                <a:lnTo>
                  <a:pt x="17124" y="12828"/>
                </a:lnTo>
                <a:lnTo>
                  <a:pt x="17124" y="14107"/>
                </a:lnTo>
                <a:lnTo>
                  <a:pt x="7541" y="14107"/>
                </a:lnTo>
                <a:lnTo>
                  <a:pt x="7541" y="9877"/>
                </a:lnTo>
                <a:lnTo>
                  <a:pt x="7358" y="9877"/>
                </a:lnTo>
                <a:lnTo>
                  <a:pt x="6975" y="10243"/>
                </a:lnTo>
                <a:lnTo>
                  <a:pt x="6061" y="102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372000" y="2781360"/>
            <a:ext cx="165564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4:29:38Z</dcterms:created>
  <dc:creator>K4</dc:creator>
  <dc:description/>
  <dc:language>en-US</dc:language>
  <cp:lastModifiedBy>ШКОЛА</cp:lastModifiedBy>
  <dcterms:modified xsi:type="dcterms:W3CDTF">2019-01-10T13:29:45Z</dcterms:modified>
  <cp:revision>77</cp:revision>
  <dc:subject/>
  <dc:title>Слайд 1</dc:title>
</cp:coreProperties>
</file>