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3847-DD41-4CE1-80A1-B6FEFB3E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8F7-8C32-402D-AFDD-1B24BE7D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DD05-0588-410E-BC83-34A128D7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253-5A3A-45F7-88B6-CF3A4AF6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8775-B4EF-4CE8-8792-4594E73A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D4D1-583B-4EEC-BA66-80217251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D3E1-0D9F-447D-BBF8-8B9C1521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9E2E-96B4-45E6-9AE1-2335A7D0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AE16-D3FC-4BCC-9731-E8C6BB4DE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6066-79B0-430F-9D51-6EE8789BB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F6C-8A4A-44C7-AF9B-9B479DEC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F750-D76A-4F0F-97C0-0CD0E1BE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F104F-C865-4E7E-B4E2-6AC1DEAF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8FF3-2D6B-44BB-AD8C-3823F86C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E461-9334-4813-A008-C46F62DD3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6F28-A5C5-41B0-A794-D500A6D4F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C62A-EB5E-4F96-8725-BBD437470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131-1646-47FA-8E09-1ACA2834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373B-F6E7-40E3-AC95-607B937F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A382-0E60-4E54-923D-0CB14623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95F1-152B-4BAC-B14A-0A9FEB77A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643-C35A-4B29-A88F-6E316365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0201-6CAD-4ECC-8B54-368D4E1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F99-63E2-47AE-8B57-531E154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2B17-FC4F-4C22-AB29-ADF32E81B063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978A-9750-4B45-9F19-A081AD77FA9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file:///&#1055;&#1080;&#1088;&#1072;&#1084;&#1080;&#1076;&#1099;.mpg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372360" y="6453360"/>
            <a:ext cx="504720" cy="404640"/>
          </a:xfrm>
          <a:custGeom>
            <a:avLst/>
            <a:gdLst>
              <a:gd name="textAreaLeft" fmla="*/ 25920 w 504720"/>
              <a:gd name="textAreaRight" fmla="*/ 478800 w 50472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6938" h="21600">
                <a:moveTo>
                  <a:pt x="0" y="0"/>
                </a:moveTo>
                <a:lnTo>
                  <a:pt x="26938" y="0"/>
                </a:lnTo>
                <a:lnTo>
                  <a:pt x="26938" y="21600"/>
                </a:lnTo>
                <a:lnTo>
                  <a:pt x="0" y="21600"/>
                </a:lnTo>
                <a:close/>
              </a:path>
              <a:path fill="lightenLess" w="26938" h="21600">
                <a:moveTo>
                  <a:pt x="0" y="0"/>
                </a:moveTo>
                <a:lnTo>
                  <a:pt x="26938" y="0"/>
                </a:lnTo>
                <a:lnTo>
                  <a:pt x="25538" y="1400"/>
                </a:lnTo>
                <a:lnTo>
                  <a:pt x="1400" y="1400"/>
                </a:lnTo>
                <a:close/>
              </a:path>
              <a:path fill="darken" w="26938" h="21600">
                <a:moveTo>
                  <a:pt x="26938" y="0"/>
                </a:moveTo>
                <a:lnTo>
                  <a:pt x="26938" y="21600"/>
                </a:lnTo>
                <a:lnTo>
                  <a:pt x="25538" y="20200"/>
                </a:lnTo>
                <a:lnTo>
                  <a:pt x="25538" y="1400"/>
                </a:lnTo>
                <a:close/>
              </a:path>
              <a:path fill="darkenLess" w="26938" h="21600">
                <a:moveTo>
                  <a:pt x="269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8" y="20200"/>
                </a:lnTo>
                <a:close/>
              </a:path>
              <a:path fill="lighten" w="269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8" h="21600">
                <a:moveTo>
                  <a:pt x="13469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938" h="21600">
                <a:moveTo>
                  <a:pt x="14574" y="14281"/>
                </a:moveTo>
                <a:lnTo>
                  <a:pt x="14574" y="12323"/>
                </a:lnTo>
                <a:cubicBezTo>
                  <a:pt x="14574" y="11496"/>
                  <a:pt x="14905" y="10800"/>
                  <a:pt x="15505" y="10800"/>
                </a:cubicBezTo>
                <a:cubicBezTo>
                  <a:pt x="16637" y="10800"/>
                  <a:pt x="17533" y="9434"/>
                  <a:pt x="17533" y="7849"/>
                </a:cubicBezTo>
                <a:cubicBezTo>
                  <a:pt x="17533" y="5534"/>
                  <a:pt x="15680" y="3794"/>
                  <a:pt x="13469" y="3794"/>
                </a:cubicBezTo>
                <a:cubicBezTo>
                  <a:pt x="11258" y="3794"/>
                  <a:pt x="9587" y="5534"/>
                  <a:pt x="9587" y="7849"/>
                </a:cubicBezTo>
                <a:lnTo>
                  <a:pt x="11441" y="7849"/>
                </a:lnTo>
                <a:cubicBezTo>
                  <a:pt x="11441" y="6709"/>
                  <a:pt x="12363" y="5821"/>
                  <a:pt x="13469" y="5821"/>
                </a:cubicBezTo>
                <a:cubicBezTo>
                  <a:pt x="14574" y="5821"/>
                  <a:pt x="15505" y="6709"/>
                  <a:pt x="15505" y="7849"/>
                </a:cubicBezTo>
                <a:cubicBezTo>
                  <a:pt x="15505" y="8589"/>
                  <a:pt x="15035" y="9320"/>
                  <a:pt x="14574" y="9320"/>
                </a:cubicBezTo>
                <a:cubicBezTo>
                  <a:pt x="13469" y="9320"/>
                  <a:pt x="12363" y="10800"/>
                  <a:pt x="12363" y="12323"/>
                </a:cubicBezTo>
                <a:lnTo>
                  <a:pt x="12363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43600" y="5943600"/>
            <a:ext cx="12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ТЕСТ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675640" y="6524640"/>
            <a:ext cx="468360" cy="333360"/>
          </a:xfrm>
          <a:custGeom>
            <a:avLst/>
            <a:gdLst>
              <a:gd name="textAreaLeft" fmla="*/ 21600 w 468360"/>
              <a:gd name="textAreaRight" fmla="*/ 446760 w 46836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0338" h="21600">
                <a:moveTo>
                  <a:pt x="0" y="0"/>
                </a:moveTo>
                <a:lnTo>
                  <a:pt x="30338" y="0"/>
                </a:lnTo>
                <a:lnTo>
                  <a:pt x="30338" y="21600"/>
                </a:lnTo>
                <a:lnTo>
                  <a:pt x="0" y="21600"/>
                </a:lnTo>
                <a:close/>
              </a:path>
              <a:path fill="lightenLess" w="30338" h="21600">
                <a:moveTo>
                  <a:pt x="0" y="0"/>
                </a:moveTo>
                <a:lnTo>
                  <a:pt x="30338" y="0"/>
                </a:lnTo>
                <a:lnTo>
                  <a:pt x="28938" y="1400"/>
                </a:lnTo>
                <a:lnTo>
                  <a:pt x="1400" y="1400"/>
                </a:lnTo>
                <a:close/>
              </a:path>
              <a:path fill="darken" w="30338" h="21600">
                <a:moveTo>
                  <a:pt x="30338" y="0"/>
                </a:moveTo>
                <a:lnTo>
                  <a:pt x="30338" y="21600"/>
                </a:lnTo>
                <a:lnTo>
                  <a:pt x="28938" y="20200"/>
                </a:lnTo>
                <a:lnTo>
                  <a:pt x="28938" y="1400"/>
                </a:lnTo>
                <a:close/>
              </a:path>
              <a:path fill="darkenLess" w="30338" h="21600">
                <a:moveTo>
                  <a:pt x="303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38" y="20200"/>
                </a:lnTo>
                <a:close/>
              </a:path>
              <a:path fill="lighten" w="303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38" h="21600">
                <a:moveTo>
                  <a:pt x="8162" y="3794"/>
                </a:moveTo>
                <a:lnTo>
                  <a:pt x="22175" y="10800"/>
                </a:lnTo>
                <a:lnTo>
                  <a:pt x="816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4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300720" y="285264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16720" y="292428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6372360" y="1699920"/>
            <a:ext cx="93636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3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-2743200" y="-1447920"/>
            <a:ext cx="14630400" cy="975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300720" y="285264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292428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372360" y="1699920"/>
            <a:ext cx="936360" cy="1081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5508360" y="1484280"/>
            <a:ext cx="1871640" cy="21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-1371600"/>
            <a:ext cx="1051560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>
            <a:hlinkClick r:id="" action="ppaction://hlinkshowjump?jump=endshow"/>
          </p:cNvPr>
          <p:cNvSpPr/>
          <p:nvPr/>
        </p:nvSpPr>
        <p:spPr>
          <a:xfrm>
            <a:off x="8604360" y="6524640"/>
            <a:ext cx="539640" cy="333360"/>
          </a:xfrm>
          <a:custGeom>
            <a:avLst/>
            <a:gdLst>
              <a:gd name="textAreaLeft" fmla="*/ 21600 w 539640"/>
              <a:gd name="textAreaRight" fmla="*/ 518040 w 53964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4951" h="21600">
                <a:moveTo>
                  <a:pt x="0" y="0"/>
                </a:moveTo>
                <a:lnTo>
                  <a:pt x="34951" y="0"/>
                </a:lnTo>
                <a:lnTo>
                  <a:pt x="34951" y="21600"/>
                </a:lnTo>
                <a:lnTo>
                  <a:pt x="0" y="21600"/>
                </a:lnTo>
                <a:close/>
              </a:path>
              <a:path fill="lightenLess" w="34951" h="21600">
                <a:moveTo>
                  <a:pt x="0" y="0"/>
                </a:moveTo>
                <a:lnTo>
                  <a:pt x="34951" y="0"/>
                </a:lnTo>
                <a:lnTo>
                  <a:pt x="33551" y="1400"/>
                </a:lnTo>
                <a:lnTo>
                  <a:pt x="1400" y="1400"/>
                </a:lnTo>
                <a:close/>
              </a:path>
              <a:path fill="darken" w="34951" h="21600">
                <a:moveTo>
                  <a:pt x="34951" y="0"/>
                </a:moveTo>
                <a:lnTo>
                  <a:pt x="34951" y="21600"/>
                </a:lnTo>
                <a:lnTo>
                  <a:pt x="33551" y="20200"/>
                </a:lnTo>
                <a:lnTo>
                  <a:pt x="33551" y="1400"/>
                </a:lnTo>
                <a:close/>
              </a:path>
              <a:path fill="darkenLess" w="34951" h="21600">
                <a:moveTo>
                  <a:pt x="349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551" y="20200"/>
                </a:lnTo>
                <a:close/>
              </a:path>
              <a:path fill="lighten" w="349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951" h="21600">
                <a:moveTo>
                  <a:pt x="10469" y="3794"/>
                </a:moveTo>
                <a:lnTo>
                  <a:pt x="24482" y="10800"/>
                </a:lnTo>
                <a:lnTo>
                  <a:pt x="104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732720" y="476280"/>
            <a:ext cx="2130120" cy="1068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Кроссвор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55640" y="-531720"/>
            <a:ext cx="5904000" cy="738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11280" y="2565360"/>
            <a:ext cx="792000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По знаменитым местам ми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2340000" y="4076640"/>
            <a:ext cx="4176720" cy="8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Medium"/>
              </a:rPr>
              <a:t>урок-путешествие</a:t>
            </a:r>
            <a:endParaRPr b="1" i="1" lang="en-US" sz="3200" spc="1" strike="noStrike">
              <a:ln w="0">
                <a:noFill/>
              </a:ln>
              <a:solidFill>
                <a:srgbClr val="ff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Franklin Gothic Medium"/>
              <a:ea typeface="Franklin Gothic Medium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>
            <a:hlinkClick r:id="rId2"/>
          </p:cNvPr>
          <p:cNvSpPr/>
          <p:nvPr/>
        </p:nvSpPr>
        <p:spPr>
          <a:xfrm>
            <a:off x="7812000" y="6381720"/>
            <a:ext cx="576360" cy="476280"/>
          </a:xfrm>
          <a:custGeom>
            <a:avLst/>
            <a:gdLst>
              <a:gd name="textAreaLeft" fmla="*/ 30600 w 576360"/>
              <a:gd name="textAreaRight" fmla="*/ 545760 w 576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35" h="21600">
                <a:moveTo>
                  <a:pt x="0" y="0"/>
                </a:moveTo>
                <a:lnTo>
                  <a:pt x="26135" y="0"/>
                </a:lnTo>
                <a:lnTo>
                  <a:pt x="26135" y="21600"/>
                </a:lnTo>
                <a:lnTo>
                  <a:pt x="0" y="21600"/>
                </a:lnTo>
                <a:close/>
              </a:path>
              <a:path fill="lightenLess" w="26135" h="21600">
                <a:moveTo>
                  <a:pt x="0" y="0"/>
                </a:moveTo>
                <a:lnTo>
                  <a:pt x="26135" y="0"/>
                </a:lnTo>
                <a:lnTo>
                  <a:pt x="24735" y="1400"/>
                </a:lnTo>
                <a:lnTo>
                  <a:pt x="1400" y="1400"/>
                </a:lnTo>
                <a:close/>
              </a:path>
              <a:path fill="darken" w="26135" h="21600">
                <a:moveTo>
                  <a:pt x="26135" y="0"/>
                </a:moveTo>
                <a:lnTo>
                  <a:pt x="26135" y="21600"/>
                </a:lnTo>
                <a:lnTo>
                  <a:pt x="24735" y="20200"/>
                </a:lnTo>
                <a:lnTo>
                  <a:pt x="24735" y="1400"/>
                </a:lnTo>
                <a:close/>
              </a:path>
              <a:path fill="darkenLess" w="26135" h="21600">
                <a:moveTo>
                  <a:pt x="261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35" y="20200"/>
                </a:lnTo>
                <a:close/>
              </a:path>
              <a:path fill="lighten" w="261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35" h="21600">
                <a:moveTo>
                  <a:pt x="6061" y="7301"/>
                </a:moveTo>
                <a:lnTo>
                  <a:pt x="6975" y="7301"/>
                </a:lnTo>
                <a:lnTo>
                  <a:pt x="7358" y="7667"/>
                </a:lnTo>
                <a:lnTo>
                  <a:pt x="16567" y="7667"/>
                </a:lnTo>
                <a:lnTo>
                  <a:pt x="17124" y="8224"/>
                </a:lnTo>
                <a:lnTo>
                  <a:pt x="17124" y="8772"/>
                </a:lnTo>
                <a:lnTo>
                  <a:pt x="18969" y="8772"/>
                </a:lnTo>
                <a:lnTo>
                  <a:pt x="19334" y="8224"/>
                </a:lnTo>
                <a:lnTo>
                  <a:pt x="20074" y="8224"/>
                </a:lnTo>
                <a:lnTo>
                  <a:pt x="20074" y="13376"/>
                </a:lnTo>
                <a:lnTo>
                  <a:pt x="19334" y="13376"/>
                </a:lnTo>
                <a:lnTo>
                  <a:pt x="18969" y="12828"/>
                </a:lnTo>
                <a:lnTo>
                  <a:pt x="17124" y="12828"/>
                </a:lnTo>
                <a:lnTo>
                  <a:pt x="17124" y="14107"/>
                </a:lnTo>
                <a:lnTo>
                  <a:pt x="7541" y="14107"/>
                </a:lnTo>
                <a:lnTo>
                  <a:pt x="7541" y="9877"/>
                </a:lnTo>
                <a:lnTo>
                  <a:pt x="7358" y="9877"/>
                </a:lnTo>
                <a:lnTo>
                  <a:pt x="6975" y="10243"/>
                </a:lnTo>
                <a:lnTo>
                  <a:pt x="6061" y="10243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675640" y="6381720"/>
            <a:ext cx="468360" cy="476280"/>
          </a:xfrm>
          <a:custGeom>
            <a:avLst/>
            <a:gdLst>
              <a:gd name="textAreaLeft" fmla="*/ 30240 w 468360"/>
              <a:gd name="textAreaRight" fmla="*/ 438120 w 468360"/>
              <a:gd name="textAreaTop" fmla="*/ 30240 h 476280"/>
              <a:gd name="textAreaBottom" fmla="*/ 446040 h 476280"/>
            </a:gdLst>
            <a:ahLst/>
            <a:rect l="textAreaLeft" t="textAreaTop" r="textAreaRight" b="textAreaBottom"/>
            <a:pathLst>
              <a:path w="21600" h="21965">
                <a:moveTo>
                  <a:pt x="0" y="0"/>
                </a:moveTo>
                <a:lnTo>
                  <a:pt x="21600" y="0"/>
                </a:lnTo>
                <a:lnTo>
                  <a:pt x="21600" y="21965"/>
                </a:lnTo>
                <a:lnTo>
                  <a:pt x="0" y="21965"/>
                </a:lnTo>
                <a:close/>
              </a:path>
              <a:path fill="lightenLess" w="21600" h="2196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65">
                <a:moveTo>
                  <a:pt x="21600" y="0"/>
                </a:moveTo>
                <a:lnTo>
                  <a:pt x="21600" y="21965"/>
                </a:lnTo>
                <a:lnTo>
                  <a:pt x="20200" y="20565"/>
                </a:lnTo>
                <a:lnTo>
                  <a:pt x="20200" y="1400"/>
                </a:lnTo>
                <a:close/>
              </a:path>
              <a:path fill="darkenLess" w="21600" h="21965">
                <a:moveTo>
                  <a:pt x="21600" y="21965"/>
                </a:moveTo>
                <a:lnTo>
                  <a:pt x="0" y="21965"/>
                </a:lnTo>
                <a:lnTo>
                  <a:pt x="1400" y="20565"/>
                </a:lnTo>
                <a:lnTo>
                  <a:pt x="20200" y="20565"/>
                </a:lnTo>
                <a:close/>
              </a:path>
              <a:path fill="lighten" w="21600" h="21965">
                <a:moveTo>
                  <a:pt x="0" y="2196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65"/>
                </a:lnTo>
                <a:close/>
              </a:path>
              <a:path fill="darken" w="21600" h="21965">
                <a:moveTo>
                  <a:pt x="3794" y="3976"/>
                </a:moveTo>
                <a:lnTo>
                  <a:pt x="17806" y="10982"/>
                </a:lnTo>
                <a:lnTo>
                  <a:pt x="3794" y="17989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1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6227640" y="1484280"/>
            <a:ext cx="144720" cy="144360"/>
          </a:xfrm>
          <a:prstGeom prst="flowChartConnector">
            <a:avLst/>
          </a:prstGeom>
          <a:solidFill>
            <a:srgbClr val="e9fa44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908000" y="220500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32360" y="249228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4508640"/>
            <a:ext cx="215640" cy="21564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156360" y="2565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236000" y="1557360"/>
            <a:ext cx="21564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2720" y="1341360"/>
            <a:ext cx="216000" cy="289080"/>
          </a:xfrm>
          <a:prstGeom prst="flowChartConnector">
            <a:avLst/>
          </a:prstGeom>
          <a:solidFill>
            <a:srgbClr val="d1090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050920" y="1557360"/>
            <a:ext cx="4105440" cy="792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84720" y="141300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724360" y="1341360"/>
            <a:ext cx="0" cy="0"/>
          </a:xfrm>
          <a:prstGeom prst="line">
            <a:avLst/>
          </a:prstGeom>
          <a:ln w="936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4000" y="2349360"/>
            <a:ext cx="2879640" cy="287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360" y="2708280"/>
            <a:ext cx="2879640" cy="1873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6372000" y="2781360"/>
            <a:ext cx="1655640" cy="1727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04:29:38Z</dcterms:created>
  <dc:creator>K4</dc:creator>
  <dc:description/>
  <dc:language>en-US</dc:language>
  <cp:lastModifiedBy>ШКОЛА</cp:lastModifiedBy>
  <dcterms:modified xsi:type="dcterms:W3CDTF">2019-01-10T13:29:45Z</dcterms:modified>
  <cp:revision>77</cp:revision>
  <dc:subject/>
  <dc:title>Слайд 1</dc:title>
</cp:coreProperties>
</file>