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841-01BC-473A-83CF-600FE0D3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696-BAF5-42B7-8BE2-A935F734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C70-63F6-4224-AC0F-97CF8E3B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118-8BD4-4FF2-8655-BFE726D6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745-987D-455D-AFDB-5870CF2C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0F7-9B2E-4C8A-BB16-70E2D26C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B15-A0D7-4B0D-9492-015D5AB2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856-4D95-4409-943B-365EC25C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BFD-F3C7-41C2-A3BF-9644E69B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D29-C47E-4E80-B7CD-93CD995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76F-8E6D-49A1-9ACB-DE490D9A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B0B-3215-4178-B736-5D73D411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B6F5-61F6-4532-BDD2-26E168326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shell\Desktop\практика\для презентации картинки\calendar_design_10.jpg"/>
          <p:cNvPicPr/>
          <p:nvPr/>
        </p:nvPicPr>
        <p:blipFill>
          <a:blip r:embed="rId1"/>
          <a:stretch/>
        </p:blipFill>
        <p:spPr>
          <a:xfrm>
            <a:off x="-7920" y="928800"/>
            <a:ext cx="9151920" cy="5929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ungsuh"/>
                <a:ea typeface="Gungsuh"/>
              </a:rPr>
              <a:t>What date is it today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42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-96840" y="792000"/>
            <a:ext cx="933768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Преобразуйте слова, напечатанные заглавными буквами в конце строк, так, чтобы они грамматически и лексически соответствовали содержанию текс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597204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ok at the sky. It is blue and (1)--------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job was  not difficult and Ron did it  (2)_______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ses are ancient symbols of love and (3)____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bald eagles are (4)________ fl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old lady was so lonely and (5)____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 many years (6)_____ in England have enjoyed her stories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bably the best (7)______  are the lark and nighting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643440" y="1599840"/>
            <a:ext cx="20430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auti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ppy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142920" y="600084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 cloudless  2 easily  3 beauty   4 powerful  5 unhappy  6 children    7 sing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J:\восстановленные файлы из лап вируса\Новая папка\Материал для учителей английского языка\40909\SCRBEANS\AMTEAM.WMF"/>
          <p:cNvPicPr/>
          <p:nvPr/>
        </p:nvPicPr>
        <p:blipFill>
          <a:blip r:embed="rId1"/>
          <a:stretch/>
        </p:blipFill>
        <p:spPr>
          <a:xfrm>
            <a:off x="285840" y="5857920"/>
            <a:ext cx="78588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Open your </a:t>
            </a:r>
            <a:r>
              <a:rPr b="1" i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books, page </a:t>
            </a:r>
            <a:r>
              <a:rPr b="1" i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23</a:t>
            </a:r>
            <a:r>
              <a:rPr b="1" i="1" lang="en-US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, exercise </a:t>
            </a:r>
            <a:r>
              <a:rPr b="1" i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</a:t>
            </a:r>
            <a:r>
              <a:rPr b="1" i="1" lang="en-US" sz="40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annahs       [ Sə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′væ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z]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ан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ll midday     [Til midei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До обе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rians     [Vedʒitəriənz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егетариан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esticate    [Də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′mestikeit]</a:t>
            </a:r>
            <a:r>
              <a:rPr b="0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уч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o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Ki:p ɔn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Поддержив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your workbooks, page 86, exercise 9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Черепаха"/>
          <p:cNvPicPr/>
          <p:nvPr/>
        </p:nvPicPr>
        <p:blipFill>
          <a:blip r:embed="rId1"/>
          <a:stretch/>
        </p:blipFill>
        <p:spPr>
          <a:xfrm>
            <a:off x="3419640" y="0"/>
            <a:ext cx="2879640" cy="3887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539640" y="3284640"/>
            <a:ext cx="818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30c07"/>
                </a:solidFill>
                <a:latin typeface="Comic Sans MS"/>
              </a:rPr>
              <a:t>p.131,ex.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79280" y="189000"/>
            <a:ext cx="8713800" cy="640872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Users\shell\Desktop\практика\для презентации картинки\thursda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What day of the week is it today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o</a:t>
            </a: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d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e46c0a"/>
                </a:solidFill>
                <a:latin typeface="Calibri"/>
              </a:rPr>
              <a:t>s</a:t>
            </a: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31859c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7200" spc="-1" strike="noStrike">
                <a:solidFill>
                  <a:srgbClr val="9bbb59"/>
                </a:solidFill>
                <a:latin typeface="Times New Roman"/>
                <a:ea typeface="Times New Roman"/>
              </a:rPr>
              <a:t>W</a:t>
            </a:r>
            <a:r>
              <a:rPr b="0" lang="en-US" sz="7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e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7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n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</a:t>
            </a:r>
            <a:r>
              <a:rPr b="0" lang="en-US" sz="7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s</a:t>
            </a:r>
            <a:r>
              <a:rPr b="0" lang="en-US" sz="7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</a:t>
            </a:r>
            <a:r>
              <a:rPr b="0" lang="en-US" sz="7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</a:t>
            </a:r>
            <a:r>
              <a:rPr b="0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BECTI_net_R352664D17T04421N1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390600" y="378000"/>
            <a:ext cx="81500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BECTI_net_R352664D17T04421N1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2"/>
          <a:stretch/>
        </p:blipFill>
        <p:spPr>
          <a:xfrm>
            <a:off x="274680" y="353880"/>
            <a:ext cx="8753400" cy="20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3" descr=""/>
          <p:cNvPicPr/>
          <p:nvPr/>
        </p:nvPicPr>
        <p:blipFill>
          <a:blip r:embed="rId1"/>
          <a:stretch/>
        </p:blipFill>
        <p:spPr>
          <a:xfrm>
            <a:off x="-1884240" y="-596880"/>
            <a:ext cx="12850560" cy="994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462560" y="2643120"/>
            <a:ext cx="1839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://zaz.gendocs.ru/tw_files2/urls_28/598/d-597072/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42840"/>
            <a:ext cx="8985240" cy="39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rd-formation </a:t>
            </a:r>
            <a:br>
              <a:rPr sz="6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uffixes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+ er=N(write+er=wri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+y=Adj(cloud+y=cloudy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j+ly=Ad(warm+ly=warmly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+ful=Adj(beauty+ful=beautiful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+less=Adj(help+less=helpless)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f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n+Adj(un+happy=unhapp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(un+pleasant= unpleasant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is+V(dis+like=dislik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(dis+appear= disappea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3:42:16Z</dcterms:created>
  <dc:creator>shell</dc:creator>
  <dc:description/>
  <dc:language>en-US</dc:language>
  <cp:lastModifiedBy>Морозова</cp:lastModifiedBy>
  <dcterms:modified xsi:type="dcterms:W3CDTF">2013-12-27T09:03:12Z</dcterms:modified>
  <cp:revision>167</cp:revision>
  <dc:subject/>
  <dc:title>Sport in Russia</dc:title>
</cp:coreProperties>
</file>