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jpeg" ContentType="image/jpeg"/>
  <Override PartName="/ppt/media/image6.png" ContentType="image/png"/>
  <Override PartName="/ppt/media/image10.wmf" ContentType="image/x-wmf"/>
  <Override PartName="/ppt/media/image11.png" ContentType="image/png"/>
  <Override PartName="/ppt/media/image7.png" ContentType="image/pn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7B1E0-2994-4B20-8206-8A2346328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1482C-7877-49DF-BB8C-E1E2CDA1E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9AAFA-8E3E-4018-AFDA-C2F5D79FE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1F3AD-4F68-40F1-B99E-434FFC2A1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4D729-8BFA-4ECC-895E-0D6498012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56C68-EDF5-4671-8580-673177D45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0ADA4-E774-4C26-B129-D7D419378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13741-F3D9-4053-9F6D-6167E5594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3E428-5202-4C2B-9D51-5C671BE94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EE5B4-2951-4984-AB10-C1B50FAA3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5AAD8-A613-4302-A812-922C6C532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5AACB-CC2E-45C6-96DF-E534F53A9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18564-408F-4A21-BD0D-A1D7AE1B4E6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C:\Users\shell\Desktop\практика\для презентации картинки\calendar_design_10.jpg"/>
          <p:cNvPicPr/>
          <p:nvPr/>
        </p:nvPicPr>
        <p:blipFill>
          <a:blip r:embed="rId1"/>
          <a:stretch/>
        </p:blipFill>
        <p:spPr>
          <a:xfrm>
            <a:off x="-7920" y="928800"/>
            <a:ext cx="9151920" cy="59292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288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Gungsuh"/>
                <a:ea typeface="Gungsuh"/>
              </a:rPr>
              <a:t>What date is it today?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214200" y="1071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Прямоугольник 4" descr=""/>
          <p:cNvPicPr/>
          <p:nvPr/>
        </p:nvPicPr>
        <p:blipFill>
          <a:blip r:embed="rId2"/>
          <a:stretch/>
        </p:blipFill>
        <p:spPr>
          <a:xfrm>
            <a:off x="-96840" y="792000"/>
            <a:ext cx="9337680" cy="1579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br>
              <a:rPr sz="2200"/>
            </a:br>
            <a:r>
              <a:rPr b="0" lang="ru-RU" sz="20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Преобразуйте слова, напечатанные заглавными буквами в конце строк, так, чтобы они грамматически и лексически соответствовали содержанию текста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6840" y="1599840"/>
            <a:ext cx="5972040" cy="42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Look at the sky. It is blue and (1)--------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The job was  not difficult and Ron did it  (2)_______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Roses are ancient symbols of love and (3)_____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The bald eagles are (4)________ flier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The old lady was so lonely and (5)____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For many years (6)_____ in England have enjoyed her stories.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robably the best (7)______  are the lark and nightingal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6643440" y="1599840"/>
            <a:ext cx="2043000" cy="42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ou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as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eautifu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ow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appy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hil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Прямоугольник 4"/>
          <p:cNvSpPr/>
          <p:nvPr/>
        </p:nvSpPr>
        <p:spPr>
          <a:xfrm>
            <a:off x="142920" y="6000840"/>
            <a:ext cx="8858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 cloudless  2 easily  3 beauty   4 powerful  5 unhappy  6 children    7 sing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6" descr="J:\восстановленные файлы из лап вируса\Новая папка\Материал для учителей английского языка\40909\SCRBEANS\AMTEAM.WMF"/>
          <p:cNvPicPr/>
          <p:nvPr/>
        </p:nvPicPr>
        <p:blipFill>
          <a:blip r:embed="rId1"/>
          <a:stretch/>
        </p:blipFill>
        <p:spPr>
          <a:xfrm>
            <a:off x="285840" y="5857920"/>
            <a:ext cx="785880" cy="571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" dur="8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" dur="8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179280" y="692280"/>
            <a:ext cx="8785440" cy="53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Open your </a:t>
            </a:r>
            <a:r>
              <a:rPr b="1" i="1" lang="ru-RU" sz="40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 </a:t>
            </a:r>
            <a:r>
              <a:rPr b="1" i="1" lang="en-US" sz="40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books, page </a:t>
            </a:r>
            <a:r>
              <a:rPr b="1" i="1" lang="ru-RU" sz="40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123</a:t>
            </a:r>
            <a:r>
              <a:rPr b="1" i="1" lang="en-US" sz="40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, exercise </a:t>
            </a:r>
            <a:r>
              <a:rPr b="1" i="1" lang="ru-RU" sz="40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1</a:t>
            </a:r>
            <a:r>
              <a:rPr b="1" i="1" lang="en-US" sz="4000" spc="-1" strike="noStrike">
                <a:solidFill>
                  <a:srgbClr val="953735"/>
                </a:solidFill>
                <a:latin typeface="Calibri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vannahs       [ Sə</a:t>
            </a:r>
            <a:r>
              <a:rPr b="0" lang="en-US" sz="3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′væn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əz]   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ванн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ll midday     [Til midei]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До обед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getarians     [Vedʒitəriənz]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Вегетарианц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mesticate    [Də</a:t>
            </a:r>
            <a:r>
              <a:rPr b="0" lang="en-US" sz="3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′mestikeit]</a:t>
            </a:r>
            <a:r>
              <a:rPr b="0" lang="ru-RU" sz="3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ручат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on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Ki:p ɔn]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Поддерживат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n your workbooks, page 86, exercise 9</a:t>
            </a: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4" descr="Черепаха"/>
          <p:cNvPicPr/>
          <p:nvPr/>
        </p:nvPicPr>
        <p:blipFill>
          <a:blip r:embed="rId1"/>
          <a:stretch/>
        </p:blipFill>
        <p:spPr>
          <a:xfrm>
            <a:off x="3419640" y="0"/>
            <a:ext cx="2879640" cy="388764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5"/>
          <p:cNvSpPr/>
          <p:nvPr/>
        </p:nvSpPr>
        <p:spPr>
          <a:xfrm>
            <a:off x="539640" y="3284640"/>
            <a:ext cx="8183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e30c07"/>
                </a:solidFill>
                <a:latin typeface="Comic Sans MS"/>
              </a:rPr>
              <a:t>p.131,ex.1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179280" y="189000"/>
            <a:ext cx="8713800" cy="6408720"/>
          </a:xfrm>
          <a:prstGeom prst="rect">
            <a:avLst/>
          </a:prstGeom>
          <a:noFill/>
          <a:ln w="38160">
            <a:solidFill>
              <a:srgbClr val="969696"/>
            </a:solidFill>
            <a:miter/>
          </a:ln>
          <a:effectLst>
            <a:outerShdw dist="107932" dir="27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5" descr="C:\Users\shell\Desktop\практика\для презентации картинки\thursday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Calibri"/>
              </a:rPr>
              <a:t>What day of the week is it today?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28760" y="1428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53735"/>
                </a:solidFill>
                <a:latin typeface="Calibri"/>
              </a:rPr>
              <a:t>T</a:t>
            </a:r>
            <a:r>
              <a:rPr b="0" lang="en-US" sz="4000" spc="-1" strike="noStrike">
                <a:solidFill>
                  <a:srgbClr val="558ed5"/>
                </a:solidFill>
                <a:latin typeface="Calibri"/>
              </a:rPr>
              <a:t>o</a:t>
            </a:r>
            <a:r>
              <a:rPr b="0" lang="en-US" sz="4000" spc="-1" strike="noStrike">
                <a:solidFill>
                  <a:srgbClr val="00b050"/>
                </a:solidFill>
                <a:latin typeface="Calibri"/>
              </a:rPr>
              <a:t>d</a:t>
            </a:r>
            <a:r>
              <a:rPr b="0" lang="en-US" sz="4000" spc="-1" strike="noStrike">
                <a:solidFill>
                  <a:srgbClr val="ffff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7030a0"/>
                </a:solidFill>
                <a:latin typeface="Calibri"/>
              </a:rPr>
              <a:t>y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4000" spc="-1" strike="noStrike">
                <a:solidFill>
                  <a:srgbClr val="ff0000"/>
                </a:solidFill>
                <a:latin typeface="Calibri"/>
              </a:rPr>
              <a:t>i</a:t>
            </a:r>
            <a:r>
              <a:rPr b="0" lang="en-US" sz="4000" spc="-1" strike="noStrike">
                <a:solidFill>
                  <a:srgbClr val="e46c0a"/>
                </a:solidFill>
                <a:latin typeface="Calibri"/>
              </a:rPr>
              <a:t>s</a:t>
            </a: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.</a:t>
            </a:r>
            <a:r>
              <a:rPr b="0" lang="en-US" sz="4000" spc="-1" strike="noStrike">
                <a:solidFill>
                  <a:srgbClr val="558ed5"/>
                </a:solidFill>
                <a:latin typeface="Calibri"/>
              </a:rPr>
              <a:t>.</a:t>
            </a:r>
            <a:r>
              <a:rPr b="0" lang="en-US" sz="4000" spc="-1" strike="noStrike">
                <a:solidFill>
                  <a:srgbClr val="31859c"/>
                </a:solidFill>
                <a:latin typeface="Calibri"/>
              </a:rPr>
              <a:t>.</a:t>
            </a:r>
            <a:r>
              <a:rPr b="0" lang="en-US" sz="4000" spc="-1" strike="noStrike">
                <a:solidFill>
                  <a:srgbClr val="e46c0a"/>
                </a:solidFill>
                <a:latin typeface="Calibri"/>
              </a:rPr>
              <a:t> </a:t>
            </a:r>
            <a:r>
              <a:rPr b="0" lang="en-US" sz="7200" spc="-1" strike="noStrike">
                <a:solidFill>
                  <a:srgbClr val="9bbb59"/>
                </a:solidFill>
                <a:latin typeface="Times New Roman"/>
                <a:ea typeface="Times New Roman"/>
              </a:rPr>
              <a:t>W</a:t>
            </a:r>
            <a:r>
              <a:rPr b="0" lang="en-US" sz="72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e</a:t>
            </a:r>
            <a:r>
              <a:rPr b="0" lang="en-US" sz="7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</a:t>
            </a:r>
            <a:r>
              <a:rPr b="0" lang="en-US" sz="72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n</a:t>
            </a:r>
            <a:r>
              <a:rPr b="0" lang="en-US" sz="7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</a:t>
            </a:r>
            <a:r>
              <a:rPr b="0" lang="en-US" sz="72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s</a:t>
            </a:r>
            <a:r>
              <a:rPr b="0" lang="en-US" sz="72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d</a:t>
            </a:r>
            <a:r>
              <a:rPr b="0" lang="en-US" sz="72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a</a:t>
            </a:r>
            <a:r>
              <a:rPr b="0" lang="en-US" sz="7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y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Содержимое 3" descr="BECTI_net_R352664D17T04421N11[1]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0" name="Прямоугольник 4" descr=""/>
          <p:cNvPicPr/>
          <p:nvPr/>
        </p:nvPicPr>
        <p:blipFill>
          <a:blip r:embed="rId2"/>
          <a:stretch/>
        </p:blipFill>
        <p:spPr>
          <a:xfrm>
            <a:off x="390600" y="378000"/>
            <a:ext cx="8150040" cy="2786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Содержимое 3" descr="BECTI_net_R352664D17T04421N11[1]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3" name="Прямоугольник 4" descr=""/>
          <p:cNvPicPr/>
          <p:nvPr/>
        </p:nvPicPr>
        <p:blipFill>
          <a:blip r:embed="rId2"/>
          <a:stretch/>
        </p:blipFill>
        <p:spPr>
          <a:xfrm>
            <a:off x="274680" y="353880"/>
            <a:ext cx="8753400" cy="2024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Прямоугольник 3" descr=""/>
          <p:cNvPicPr/>
          <p:nvPr/>
        </p:nvPicPr>
        <p:blipFill>
          <a:blip r:embed="rId1"/>
          <a:stretch/>
        </p:blipFill>
        <p:spPr>
          <a:xfrm>
            <a:off x="-1884240" y="-596880"/>
            <a:ext cx="12850560" cy="9942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Прямоугольник 1"/>
          <p:cNvSpPr/>
          <p:nvPr/>
        </p:nvSpPr>
        <p:spPr>
          <a:xfrm>
            <a:off x="4462560" y="2643120"/>
            <a:ext cx="183960" cy="14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http://zaz.gendocs.ru/tw_files2/urls_28/598/d-597072/img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Прямоугольник 1" descr=""/>
          <p:cNvPicPr/>
          <p:nvPr/>
        </p:nvPicPr>
        <p:blipFill>
          <a:blip r:embed="rId1"/>
          <a:stretch/>
        </p:blipFill>
        <p:spPr>
          <a:xfrm>
            <a:off x="152280" y="42840"/>
            <a:ext cx="8985240" cy="3949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500040"/>
            <a:ext cx="7772400" cy="578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1" i="1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6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Word-formation </a:t>
            </a:r>
            <a:br>
              <a:rPr sz="6600"/>
            </a:br>
            <a:r>
              <a:rPr b="0" i="1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suffixes</a:t>
            </a:r>
            <a:br>
              <a:rPr sz="36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+ er=N(write+er=writer)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+y=Adj(cloud+y=cloudy)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dj+ly=Ad(warm+ly=warmly)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+ful=Adj(beauty+ful=beautiful)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+less=Adj(help+less=helpless)</a:t>
            </a:r>
            <a:br>
              <a:rPr sz="4400"/>
            </a:b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457200" y="500040"/>
            <a:ext cx="8229600" cy="56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Prefi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Un+Adj(un+happy=unhappy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(un+pleasant= unpleasant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)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Dis+V(dis+like=dislike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  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(dis+appear= disappear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5T13:42:16Z</dcterms:created>
  <dc:creator>shell</dc:creator>
  <dc:description/>
  <dc:language>en-US</dc:language>
  <cp:lastModifiedBy>Морозова</cp:lastModifiedBy>
  <dcterms:modified xsi:type="dcterms:W3CDTF">2013-12-27T09:03:12Z</dcterms:modified>
  <cp:revision>167</cp:revision>
  <dc:subject/>
  <dc:title>Sport in Russia</dc:title>
</cp:coreProperties>
</file>