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8FB-4564-4D74-9D72-DFA9FB9C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12D-B0AD-4B84-85F7-B6774DD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6D4-A0D2-42F4-98C0-58D30FEC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860-FD8F-4609-AB34-7D955650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3142-1197-4EC7-849B-02C258C9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73A8-7634-4F96-944E-8388075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14F3-4F5E-4EFF-B80C-FDBC0B5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0940-3B6B-486A-9E51-2F6D371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E4BD-E83E-4432-A61F-D1918A0A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BFDF-7CA4-445C-AC70-4636FD23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E2B6-FCA8-4B20-B048-48351BF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8FB-B429-4378-8558-019128C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AB3-0F16-429B-B998-7C126C4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7B67-36D9-4BB2-B881-4E31520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A8B-2B5C-449A-ACB1-57FFF1E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9EA4-9435-4529-A9FA-C6B6A834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C159-A595-45B1-885F-A81821A5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947-02FF-45D9-B33D-D514BF4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82C-D30B-4E19-B6B1-5BAF48C4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EC4-847D-4A16-B48B-8B419B53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73E-A498-48B0-BAEE-E586D1A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DF9-770D-4E70-9836-5D5CF1B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E69-BB70-4976-ADB7-2752242B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4CA-0CCA-4D59-889A-1496977A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C1FA-AAC7-4D7B-A7BE-2EEE61BF64F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B161-2C00-49F4-95CD-2493B9A5CA5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60360" y="285840"/>
            <a:ext cx="8229600" cy="163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71840" y="5000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3466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9" descr="letter-writing"/>
          <p:cNvPicPr/>
          <p:nvPr/>
        </p:nvPicPr>
        <p:blipFill>
          <a:blip r:embed="rId2"/>
          <a:stretch/>
        </p:blipFill>
        <p:spPr>
          <a:xfrm>
            <a:off x="3357720" y="2071800"/>
            <a:ext cx="2438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266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>
            <a:hlinkClick r:id="rId2" action="ppaction://hlinksldjump"/>
          </p:cNvPr>
          <p:cNvSpPr/>
          <p:nvPr/>
        </p:nvSpPr>
        <p:spPr>
          <a:xfrm>
            <a:off x="5643720" y="1285920"/>
            <a:ext cx="2786040" cy="42876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643720" y="1928880"/>
            <a:ext cx="2857320" cy="35712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>
            <a:hlinkClick r:id="rId4" action="ppaction://hlinksldjump"/>
          </p:cNvPr>
          <p:cNvSpPr/>
          <p:nvPr/>
        </p:nvSpPr>
        <p:spPr>
          <a:xfrm>
            <a:off x="785880" y="2571840"/>
            <a:ext cx="3071880" cy="28584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R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785880" y="3143160"/>
            <a:ext cx="7786800" cy="57168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1 BODY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785880" y="3786120"/>
            <a:ext cx="7786800" cy="100008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information you are 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3  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785880" y="5072040"/>
            <a:ext cx="7643880" cy="50004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4</a:t>
            </a:r>
            <a:r>
              <a:rPr b="1" lang="en-US" sz="1800" spc="-1" strike="noStrike">
                <a:solidFill>
                  <a:srgbClr val="9cb084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785880" y="5786280"/>
            <a:ext cx="3071880" cy="35748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losing/E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857160" y="6215040"/>
            <a:ext cx="2857680" cy="285840"/>
          </a:xfrm>
          <a:prstGeom prst="rect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g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2" descr=""/>
          <p:cNvPicPr/>
          <p:nvPr/>
        </p:nvPicPr>
        <p:blipFill>
          <a:blip r:embed="rId5"/>
          <a:stretch/>
        </p:blipFill>
        <p:spPr>
          <a:xfrm>
            <a:off x="7286760" y="4286160"/>
            <a:ext cx="157140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letter-writing"/>
          <p:cNvPicPr/>
          <p:nvPr/>
        </p:nvPicPr>
        <p:blipFill>
          <a:blip r:embed="rId6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3"/>
          <p:cNvSpPr/>
          <p:nvPr/>
        </p:nvSpPr>
        <p:spPr>
          <a:xfrm>
            <a:off x="4357800" y="1557360"/>
            <a:ext cx="4357440" cy="3311640"/>
          </a:xfrm>
          <a:prstGeom prst="roundRect">
            <a:avLst>
              <a:gd name="adj" fmla="val 16667"/>
            </a:avLst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t.Petersbu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us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Л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aint Petersbu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uss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letter-writing"/>
          <p:cNvPicPr/>
          <p:nvPr/>
        </p:nvPicPr>
        <p:blipFill>
          <a:blip r:embed="rId2"/>
          <a:stretch/>
        </p:blipFill>
        <p:spPr>
          <a:xfrm>
            <a:off x="0" y="0"/>
            <a:ext cx="13572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1386-0808-2711-3746"/>
          <p:cNvPicPr/>
          <p:nvPr/>
        </p:nvPicPr>
        <p:blipFill>
          <a:blip r:embed="rId2"/>
          <a:stretch/>
        </p:blipFill>
        <p:spPr>
          <a:xfrm>
            <a:off x="500040" y="1500120"/>
            <a:ext cx="3238560" cy="381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3"/>
          <a:stretch/>
        </p:blipFill>
        <p:spPr>
          <a:xfrm>
            <a:off x="5143680" y="571680"/>
            <a:ext cx="380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gb-ni"/>
          <p:cNvPicPr/>
          <p:nvPr/>
        </p:nvPicPr>
        <p:blipFill>
          <a:blip r:embed="rId4"/>
          <a:stretch/>
        </p:blipFill>
        <p:spPr>
          <a:xfrm rot="21055800">
            <a:off x="1034640" y="2301840"/>
            <a:ext cx="11588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americanflag"/>
          <p:cNvPicPr/>
          <p:nvPr/>
        </p:nvPicPr>
        <p:blipFill>
          <a:blip r:embed="rId5"/>
          <a:stretch/>
        </p:blipFill>
        <p:spPr>
          <a:xfrm rot="770400">
            <a:off x="6705360" y="2197080"/>
            <a:ext cx="119988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9"/>
          <p:cNvSpPr/>
          <p:nvPr/>
        </p:nvSpPr>
        <p:spPr>
          <a:xfrm>
            <a:off x="1294560" y="29289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/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1156680" y="38577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8 September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6012000" y="2786040"/>
            <a:ext cx="1955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8/06/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8.06.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th J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 June 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9" descr="letter-writing"/>
          <p:cNvPicPr/>
          <p:nvPr/>
        </p:nvPicPr>
        <p:blipFill>
          <a:blip r:embed="rId6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499760" y="2071440"/>
            <a:ext cx="5429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9" descr="letter-writing"/>
          <p:cNvPicPr/>
          <p:nvPr/>
        </p:nvPicPr>
        <p:blipFill>
          <a:blip r:embed="rId2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с двумя скругленными противолежащими углами 5"/>
          <p:cNvSpPr/>
          <p:nvPr/>
        </p:nvSpPr>
        <p:spPr>
          <a:xfrm>
            <a:off x="928800" y="1428840"/>
            <a:ext cx="7715160" cy="4643280"/>
          </a:xfrm>
          <a:prstGeom prst="pie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8ea9"/>
                </a:solidFill>
                <a:latin typeface="Book Antiqua"/>
              </a:rPr>
              <a:t>mmmmdddd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Прямоугольник 6" descr=""/>
          <p:cNvPicPr/>
          <p:nvPr/>
        </p:nvPicPr>
        <p:blipFill>
          <a:blip r:embed="rId3"/>
          <a:stretch/>
        </p:blipFill>
        <p:spPr>
          <a:xfrm>
            <a:off x="1163520" y="1889280"/>
            <a:ext cx="3884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рямоугольник с двумя скругленными противолежащими углами 3"/>
          <p:cNvSpPr/>
          <p:nvPr/>
        </p:nvSpPr>
        <p:spPr>
          <a:xfrm>
            <a:off x="642960" y="1143000"/>
            <a:ext cx="7643880" cy="5357880"/>
          </a:xfrm>
          <a:prstGeom prst="pie">
            <a:avLst/>
          </a:prstGeom>
          <a:solidFill>
            <a:srgbClr val="3e8ea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graph 1 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000080" y="-366480"/>
            <a:ext cx="6858000" cy="83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Thank you very much for your letter. Sorry, I haven’t written to you so long. I was busy with my studies.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aragraph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The information you are wri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In your letter you asked me about my family. Well, I have a mother, a father and a sister Olga…………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aragraph 4</a:t>
            </a:r>
            <a:r>
              <a:rPr b="1" lang="en-US" sz="2000" spc="-1" strike="noStrike">
                <a:solidFill>
                  <a:srgbClr val="9cb084"/>
                </a:solidFill>
                <a:latin typeface="Times New Roman"/>
                <a:ea typeface="Calibri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It’s great  that …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Closing/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Best  wishes</a:t>
            </a:r>
            <a:r>
              <a:rPr b="1" lang="ru-RU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Signature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(твое и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letter-writing"/>
          <p:cNvPicPr/>
          <p:nvPr/>
        </p:nvPicPr>
        <p:blipFill>
          <a:blip r:embed="rId2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085760" y="139680"/>
            <a:ext cx="8356680" cy="149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000160" y="3428640"/>
            <a:ext cx="6686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9" descr="letter-writing"/>
          <p:cNvPicPr/>
          <p:nvPr/>
        </p:nvPicPr>
        <p:blipFill>
          <a:blip r:embed="rId2"/>
          <a:stretch/>
        </p:blipFill>
        <p:spPr>
          <a:xfrm>
            <a:off x="142920" y="142920"/>
            <a:ext cx="1287360" cy="8539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с двумя скругленными противолежащими углами 4"/>
          <p:cNvSpPr/>
          <p:nvPr/>
        </p:nvSpPr>
        <p:spPr>
          <a:xfrm>
            <a:off x="714240" y="1143000"/>
            <a:ext cx="8215560" cy="5715000"/>
          </a:xfrm>
          <a:prstGeom prst="pie">
            <a:avLst/>
          </a:prstGeom>
          <a:solidFill>
            <a:srgbClr val="295f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нимательно прочитай задание и опреде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тему пись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вопросы, на которые тебе нужно ответ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) нужно ли задавать 3 вопроса и на какую те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Пиши по образцу(образец смотри выше): выучи выделенные  части письма наизусть и сохрани их расположение в своем письме.(другое расположение частей не допускается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Помни, что после предложения, начинающегося с красной строки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In your letter you ask(ed) me about …,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ы четко отвечаешь на заданные в письме вопросы. Связывай предложения словами-связками, такими как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Then, Besides, Well, By the way, Anyway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 забывай ставить знак «запятая» после этих слов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сли в задании сказано, что надо задать 3 вопроса другу, тебе необходимо с красной строки писать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It’s  great that …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с информацией о том, что происходит в жизни твоего друга и задать 3 вопроса четко по заданию. Если в задании не сказано, что надо задать 3 вопроса другу , переходи к завершающей части пись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вершающая часть письма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Sorry, I must finish as I have to do my project work. Write me soon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сегда пиши с красной строки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Не забудь  попрощаться, указав свое имя!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бразец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Best wish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Serg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7. Ты должен написать 100(140) с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с двумя скругленными противолежащими углами 3"/>
          <p:cNvSpPr/>
          <p:nvPr/>
        </p:nvSpPr>
        <p:spPr>
          <a:xfrm>
            <a:off x="428760" y="214200"/>
            <a:ext cx="8286480" cy="6143760"/>
          </a:xfrm>
          <a:prstGeom prst="pie">
            <a:avLst/>
          </a:prstGeom>
          <a:solidFill>
            <a:srgbClr val="295f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hank you very much for your letter. Sorry, I  haven’t written to you  so long . I was busy with my studies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ы  можешь написать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hank you   for your  last letter.  It was great to hear from you. Sorry for not replying to you sooner but I was really bu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t’s  great that  …  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можно использовать фразу</a:t>
            </a:r>
            <a:r>
              <a:rPr b="0" i="1" lang="en-US" sz="24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 am pleased to hear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orry, I must finish as I have to do my project work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ожно написать  </a:t>
            </a:r>
            <a:r>
              <a:rPr b="0" i="1" lang="en-US" sz="2400" spc="-1" strike="noStrike">
                <a:solidFill>
                  <a:srgbClr val="00206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’d  better go now because my Mum asked me to help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Write back soon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ы можешь написать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lease write to me soon and tell me all the news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или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 Hope to hear from you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est wishes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ожно использовать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All the best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 You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Не забывай ставить знак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запятая»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сле этих фраз.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letter-writing"/>
          <p:cNvPicPr/>
          <p:nvPr/>
        </p:nvPicPr>
        <p:blipFill>
          <a:blip r:embed="rId2"/>
          <a:stretch/>
        </p:blipFill>
        <p:spPr>
          <a:xfrm>
            <a:off x="0" y="214200"/>
            <a:ext cx="12873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ксты для чтения, обсуждения и развития письменной речи: сборник для уч-ся 9кл.-СПб., 20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.Н.Соловова, И.Е. Соколова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te Exam. Maximiser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нглийский язык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Longman,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9" descr="letter-writing"/>
          <p:cNvPicPr/>
          <p:nvPr/>
        </p:nvPicPr>
        <p:blipFill>
          <a:blip r:embed="rId2"/>
          <a:stretch/>
        </p:blipFill>
        <p:spPr>
          <a:xfrm>
            <a:off x="0" y="0"/>
            <a:ext cx="13572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 14-1</dc:creator>
  <dc:description/>
  <dc:language>en-US</dc:language>
  <cp:lastModifiedBy>Кабинет 14-1</cp:lastModifiedBy>
  <dcterms:modified xsi:type="dcterms:W3CDTF">2017-11-23T12:28:26Z</dcterms:modified>
  <cp:revision>34</cp:revision>
  <dc:subject/>
  <dc:title>PERSONAL  LETTER</dc:title>
</cp:coreProperties>
</file>