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977-559C-4D3E-8512-C96B9F64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21E-54C3-4AF5-B00E-EB4AC9F3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43D-3D3B-4763-9B69-D8010F31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21C-91E6-4E0C-9B26-73DC78DB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4B2-3589-4F40-BCA2-AB9ACB31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B0A-4130-48D5-AAF7-925D7447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38D-879E-45AB-921A-546C3A1A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85D-C6B1-4B38-950F-3EB2266D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E82-326A-40AE-9503-507F13E1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887-20D3-4619-8AFE-ABDD56C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362-8CD1-4F68-85A4-AEEDC0BE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1E0-1FE2-4FD0-9EE3-F6E59F51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A1A4-45B7-4A08-A6D3-E9B4FE0EE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3357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14 декабря 1990 года Генеральная Ассамблея постановила считать 1 октября Международным днем пожилых лю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den_pojilyh_lааudei.jpg"/>
          <p:cNvPicPr/>
          <p:nvPr/>
        </p:nvPicPr>
        <p:blipFill>
          <a:blip r:embed="rId1"/>
          <a:stretch/>
        </p:blipFill>
        <p:spPr>
          <a:xfrm>
            <a:off x="3911760" y="1500120"/>
            <a:ext cx="4878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714560" y="1500120"/>
            <a:ext cx="4043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1 октября проходят различные фестивали, организуемые ассоциациями в защиту прав пожилых людей, конференции и конгрессы, посвященные их правам и их роли в обществе. Общественные организации и фонды устраивают в этот день различные благотворительные а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64738956_a6d337081583.gif"/>
          <p:cNvPicPr/>
          <p:nvPr/>
        </p:nvPicPr>
        <p:blipFill>
          <a:blip r:embed="rId1"/>
          <a:stretch/>
        </p:blipFill>
        <p:spPr>
          <a:xfrm>
            <a:off x="285840" y="1500120"/>
            <a:ext cx="4416480" cy="385776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114b9542c5.jpg"/>
          <p:cNvPicPr/>
          <p:nvPr/>
        </p:nvPicPr>
        <p:blipFill>
          <a:blip r:embed="rId1"/>
          <a:stretch/>
        </p:blipFill>
        <p:spPr>
          <a:xfrm rot="468600">
            <a:off x="3468240" y="1307880"/>
            <a:ext cx="5454720" cy="3633480"/>
          </a:xfrm>
          <a:prstGeom prst="rect">
            <a:avLst/>
          </a:prstGeom>
          <a:ln w="0">
            <a:noFill/>
          </a:ln>
        </p:spPr>
      </p:pic>
      <p:sp>
        <p:nvSpPr>
          <p:cNvPr id="48" name="Заголовок 1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360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пония - как основатель дня пожилого человека В Японии в третий понедельник сентября отмечают День почитания пожилы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1269339277_pravilnyj_prazdnik_dlya_pozhilyx_lyudej.jpg"/>
          <p:cNvPicPr/>
          <p:nvPr/>
        </p:nvPicPr>
        <p:blipFill>
          <a:blip r:embed="rId1"/>
          <a:stretch/>
        </p:blipFill>
        <p:spPr>
          <a:xfrm>
            <a:off x="357120" y="1285920"/>
            <a:ext cx="5784840" cy="37861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714840" y="5011560"/>
            <a:ext cx="5429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бушке - солнышко, дедушке - стих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ного здоровья вам на двоих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частья желаю еще на два века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днем пожилого вас человека!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357120" y="2142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den_pojilyh_ludei.jpg"/>
          <p:cNvPicPr/>
          <p:nvPr/>
        </p:nvPicPr>
        <p:blipFill>
          <a:blip r:embed="rId1"/>
          <a:stretch/>
        </p:blipFill>
        <p:spPr>
          <a:xfrm>
            <a:off x="214200" y="3071880"/>
            <a:ext cx="5081760" cy="33717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4714920" y="128592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5749920" y="1905120"/>
            <a:ext cx="295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называли поколением Победителей, они перенесли неслыханные трагедии и громовые победы Великой Отечественной войны – наши вете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7" descr="пожилого человека.jpg"/>
          <p:cNvPicPr/>
          <p:nvPr/>
        </p:nvPicPr>
        <p:blipFill>
          <a:blip r:embed="rId1"/>
          <a:stretch/>
        </p:blipFill>
        <p:spPr>
          <a:xfrm>
            <a:off x="357120" y="2357280"/>
            <a:ext cx="4052880" cy="38577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5148360" y="2876400"/>
            <a:ext cx="34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2050 году число пожилых людей на планете возрастёт от нынешних 600 млн. до 2 миллиар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4" descr="den_pozhilogo_cheloveka.jpg"/>
          <p:cNvPicPr/>
          <p:nvPr/>
        </p:nvPicPr>
        <p:blipFill>
          <a:blip r:embed="rId1"/>
          <a:stretch/>
        </p:blipFill>
        <p:spPr>
          <a:xfrm>
            <a:off x="4643280" y="1714680"/>
            <a:ext cx="4286520" cy="4438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октября –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 пожилого  человек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214200" y="17146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сть осень жизни будет радостной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кругу семьи, в любви, достатке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сть дети тебе каждый день звонят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внуки дарят шоколадки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умолим закон природы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зрелостью приходит старость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сть будут радостными твои дни –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, сколько бы их не оста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6:36:26Z</dcterms:created>
  <dc:creator>liliana</dc:creator>
  <dc:description/>
  <dc:language>en-US</dc:language>
  <cp:lastModifiedBy>Иван</cp:lastModifiedBy>
  <dcterms:modified xsi:type="dcterms:W3CDTF">2016-10-02T16:18:00Z</dcterms:modified>
  <cp:revision>7</cp:revision>
  <dc:subject/>
  <dc:title>1 октября –  День  пожилого  человека!</dc:title>
</cp:coreProperties>
</file>