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477-90AD-4008-9FC8-73550A09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0B1-0ADD-493E-A7F0-A9B60C6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06B-C7E7-48CF-BE88-59270FB0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6C1-1219-46D5-A71E-EBDF63EF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603-B783-463A-B3ED-1DCFA61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EDE-4272-45D1-A343-588ED38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9B0-7EC4-4366-9B0D-3FE782E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18E-6851-439E-8E38-4353E1E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25D-76E2-468A-91FD-EB9D104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56E-CAE8-462E-B26E-EDAB98D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D9F-93D1-49DD-9ED1-D4B3EF2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D73-B996-4EE5-8A34-FBFED1B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06B-ADD5-4299-96E9-FCDF6CF5D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3357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14 декабря 1990 года Генеральная Ассамблея постановила считать 1 октября Международным днем пожилых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den_pojilyh_lааudei.jpg"/>
          <p:cNvPicPr/>
          <p:nvPr/>
        </p:nvPicPr>
        <p:blipFill>
          <a:blip r:embed="rId1"/>
          <a:stretch/>
        </p:blipFill>
        <p:spPr>
          <a:xfrm>
            <a:off x="3911760" y="1500120"/>
            <a:ext cx="4878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14560" y="1500120"/>
            <a:ext cx="4043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1 октября проходят различные фестивали, организуемые ассоциациями в защиту прав пожилых людей, конференции и конгрессы, посвященные их правам и их роли в обществе. Общественные организации и фонды устраивают в этот день различные благотворительные а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64738956_a6d337081583.gif"/>
          <p:cNvPicPr/>
          <p:nvPr/>
        </p:nvPicPr>
        <p:blipFill>
          <a:blip r:embed="rId1"/>
          <a:stretch/>
        </p:blipFill>
        <p:spPr>
          <a:xfrm>
            <a:off x="285840" y="1500120"/>
            <a:ext cx="4416480" cy="385776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114b9542c5.jpg"/>
          <p:cNvPicPr/>
          <p:nvPr/>
        </p:nvPicPr>
        <p:blipFill>
          <a:blip r:embed="rId1"/>
          <a:stretch/>
        </p:blipFill>
        <p:spPr>
          <a:xfrm rot="468600">
            <a:off x="3468240" y="1307880"/>
            <a:ext cx="5454720" cy="363348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6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пония - как основатель дня пожилого человека В Японии в третий понедельник сентября отмечают День почитания пожил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1269339277_pravilnyj_prazdnik_dlya_pozhilyx_lyudej.jpg"/>
          <p:cNvPicPr/>
          <p:nvPr/>
        </p:nvPicPr>
        <p:blipFill>
          <a:blip r:embed="rId1"/>
          <a:stretch/>
        </p:blipFill>
        <p:spPr>
          <a:xfrm>
            <a:off x="357120" y="1285920"/>
            <a:ext cx="5784840" cy="37861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714840" y="5011560"/>
            <a:ext cx="5429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бушке - солнышко, дедушке - стих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ого здоровья вам на двоих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частья желаю еще на два века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нем пожилого вас человека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57120" y="2142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den_pojilyh_ludei.jpg"/>
          <p:cNvPicPr/>
          <p:nvPr/>
        </p:nvPicPr>
        <p:blipFill>
          <a:blip r:embed="rId1"/>
          <a:stretch/>
        </p:blipFill>
        <p:spPr>
          <a:xfrm>
            <a:off x="214200" y="3071880"/>
            <a:ext cx="5081760" cy="3371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4714920" y="12859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5749920" y="190512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называли поколением Победителей, они перенесли неслыханные трагедии и громовые победы Великой Отечественной войны – наши вете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пожилого человека.jpg"/>
          <p:cNvPicPr/>
          <p:nvPr/>
        </p:nvPicPr>
        <p:blipFill>
          <a:blip r:embed="rId1"/>
          <a:stretch/>
        </p:blipFill>
        <p:spPr>
          <a:xfrm>
            <a:off x="357120" y="2357280"/>
            <a:ext cx="4052880" cy="3857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148360" y="287640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2050 году число пожилых людей на планете возрастёт от нынешних 600 млн. до 2 миллиар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4" descr="den_pozhilogo_cheloveka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443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214200" y="17146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осень жизни будет радостной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кругу семьи, в любви, достатке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дети тебе каждый день звонят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внуки дарят шоколадки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умолим закон природы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релостью приходит старость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будут радостными твои дни –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, сколько бы их не ост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36:26Z</dcterms:created>
  <dc:creator>liliana</dc:creator>
  <dc:description/>
  <dc:language>en-US</dc:language>
  <cp:lastModifiedBy>Иван</cp:lastModifiedBy>
  <dcterms:modified xsi:type="dcterms:W3CDTF">2016-10-02T16:18:00Z</dcterms:modified>
  <cp:revision>7</cp:revision>
  <dc:subject/>
  <dc:title>1 октября –  День  пожилого  человека!</dc:title>
</cp:coreProperties>
</file>