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3.png" ContentType="image/pn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C5D-A691-4023-A445-A57B8447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B43-C96A-448C-9079-7215CEA6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9CA-C62C-44A8-B5DA-214C6A48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2E4F-8FBE-42BE-90F8-A7206FDF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7B92-1F34-451C-924B-8C04A248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7724-1A31-4D94-B37A-63CCCD69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EE12-94C3-4A74-9D5E-7DA58946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3EDD-74B6-45FD-B579-482C23D4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194-8CCE-431E-8B2A-21BA56E6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0FC5-FE3F-447F-B10C-B9114BBF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E508-818A-426E-9163-5DF776D5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8F37-B260-4EED-8A96-86FD70EB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2633-198F-4DEA-B244-A4DC447E1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ke up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l, Mike, play,  basketball, with, his frie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Mike will play basketball with his frie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y, computer, games, will, tomorrow, Pe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ete will play computer games tomorr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t week, I, shall, my Granny, vis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Next week I shall visit my Grann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, it, will, in winter, rain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In winter it will not be rain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 shopping, they, will, in an hou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They will go shopping in an hou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45320" y="549360"/>
            <a:ext cx="833400" cy="143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1133280" cy="876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77080" y="249228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11280" y="2997360"/>
            <a:ext cx="1655640" cy="1317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948360" y="4437000"/>
            <a:ext cx="151308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Monotype Corsiva"/>
              </a:rPr>
              <a:t>             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Monotype Corsiva"/>
              </a:rPr>
              <a:t>Degrees of comparison of ad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Monotype Corsiva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i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– ni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r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– the ni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larg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-            - the larg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st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 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ind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– wind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er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-  the wind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 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unn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– funn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er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ig – bi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gg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r – the bi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gg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at – fa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t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r -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eautiful –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ore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beautiful –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most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urious -                              -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most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cur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good – better – the 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ad – worse - the wo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any – more – the m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uch – more – the m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ittle – less – the l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95080" y="-2682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arg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43080" y="-439560"/>
            <a:ext cx="13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e fun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5080" y="-674640"/>
            <a:ext cx="11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e f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t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35800" y="215280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ur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29 0.01226 L -0.09497 0.21809 E">
                                      <p:cBhvr>
                                        <p:cTn id="5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1225 L -0.26945 0.34967 E">
                                      <p:cBhvr>
                                        <p:cTn id="6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1226 L -0.19653 0.47549 E">
                                      <p:cBhvr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945 0.0754 L -0.70225 0.15935 E">
                                      <p:cBhvr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ef6f1"/>
              </a:gs>
              <a:gs pos="100000">
                <a:srgbClr val="deddac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ice -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nic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old 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e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nteresting – more interesting 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worse 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rty 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he dirti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6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mother is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better, bes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3:32:14Z</dcterms:created>
  <dc:creator/>
  <dc:description/>
  <dc:language>en-US</dc:language>
  <cp:lastModifiedBy>Настя</cp:lastModifiedBy>
  <dcterms:modified xsi:type="dcterms:W3CDTF">2008-10-26T12:11:55Z</dcterms:modified>
  <cp:revision>3</cp:revision>
  <dc:subject/>
  <dc:title>Слайд 1</dc:title>
</cp:coreProperties>
</file>