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3.png" ContentType="image/png"/>
  <Override PartName="/ppt/media/image5.gif" ContentType="image/gi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2E1B-D77E-4013-886E-0DA67C8D0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BDF1-A5E6-41E7-89A6-0281A2E5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A661-4219-450A-95B0-661DB5A6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FD0B-AD8E-4001-A1B3-C98544BF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250C-789B-4FD1-B836-7555B499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B0EA-5A6A-4065-9DB7-FC20DFEF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652F-CF48-4244-8618-BD7229F1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E1C0-3233-43F2-8796-92A37BB6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BB27-E5F2-4C94-9A89-3C066C13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7B15-BDA3-465B-B9D1-107FA444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FF45-98CC-4759-90A9-8EA520B1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9A71-92B0-4C0A-8723-4AA64E07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8068-579B-4E29-856B-5010E8866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ke up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ll, Mike, play,  basketball, with, his frien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Mike will play basketball with his frien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y, computer, games, will, tomorrow, Pe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Pete will play computer games tomorr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xt week, I, shall, my Granny, vis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Next week I shall visit my Grann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, it, will, in winter, rain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In winter it will not be rain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 shopping, they, will, in an hou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They will go shopping in an hour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45320" y="549360"/>
            <a:ext cx="833400" cy="1439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1133280" cy="876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877080" y="2492280"/>
            <a:ext cx="76212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11280" y="2997360"/>
            <a:ext cx="1655640" cy="1317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6948360" y="4437000"/>
            <a:ext cx="151308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Monotype Corsiva"/>
              </a:rPr>
              <a:t>              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Monotype Corsiva"/>
              </a:rPr>
              <a:t>Degrees of comparison of ad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Monotype Corsiva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nic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– nic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r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– the nic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larg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-            - the larg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st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                               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ind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– wind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er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-  the wind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                               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unn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– funn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er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big – bi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gg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r – the bi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gg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at – fa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t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r -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                   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beautiful –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more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beautiful –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e most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beauti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                   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urious -                              -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e most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cur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good – better – the 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ad – worse - the wo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many – more – the m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much – more – the m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ittle – less – the le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95080" y="-2682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larg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43080" y="-439560"/>
            <a:ext cx="136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e fun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5080" y="-674640"/>
            <a:ext cx="11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e f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t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235800" y="215280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ur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29 0.01226 L -0.09497 0.21809 E">
                                      <p:cBhvr>
                                        <p:cTn id="58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.01225 L -0.26945 0.34967 E">
                                      <p:cBhvr>
                                        <p:cTn id="62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0.01226 L -0.19653 0.47549 E">
                                      <p:cBhvr>
                                        <p:cTn id="6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945 0.0754 L -0.70225 0.15935 E">
                                      <p:cBhvr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ef6f1"/>
              </a:gs>
              <a:gs pos="100000">
                <a:srgbClr val="deddac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nice -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nic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old -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e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nteresting – more interesting -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…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worse -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rty -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…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the dirti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6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mother is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better, bes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13:32:14Z</dcterms:created>
  <dc:creator/>
  <dc:description/>
  <dc:language>en-US</dc:language>
  <cp:lastModifiedBy>Настя</cp:lastModifiedBy>
  <dcterms:modified xsi:type="dcterms:W3CDTF">2008-10-26T12:11:55Z</dcterms:modified>
  <cp:revision>3</cp:revision>
  <dc:subject/>
  <dc:title>Слайд 1</dc:title>
</cp:coreProperties>
</file>