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CC2-414D-42F1-BE09-165E9FB6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EAB-50A9-4E75-A754-5070E809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990-88DF-4D97-9A7C-19D52765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508-6336-4443-82C4-904A85EA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012-EBF2-4A6F-BF8B-1201F3EC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0EC-5231-4BD0-BF83-59B8CF29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C3B-2187-427E-AC2C-A68E7898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195-FA7F-4686-8D86-95B5D03F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800-4B3C-4E16-A9EA-49DED6F3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286-C6DF-4D44-9189-FB2A034D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FA7-81F5-4750-A5C5-5B3A6A36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8BD0-4877-4B0E-AE66-9DFC906F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9B31-041D-4BB3-BDB4-4580CA2FC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49360"/>
            <a:ext cx="8280360" cy="5759280"/>
          </a:xfrm>
          <a:prstGeom prst="rec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7280" y="1125360"/>
            <a:ext cx="6551640" cy="258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Comic Sans MS"/>
              </a:rPr>
              <a:t>АЛЯ, КЛЯКСИЧ </a:t>
            </a:r>
            <a:endParaRPr b="1" lang="en-US" sz="1800" spc="1" strike="noStrike">
              <a:ln w="38160">
                <a:solidFill>
                  <a:srgbClr val="ff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Comic Sans MS"/>
              </a:rPr>
              <a:t>И БУКВА А.</a:t>
            </a:r>
            <a:endParaRPr b="1" lang="en-US" sz="1800" spc="1" strike="noStrike">
              <a:ln w="38160">
                <a:solidFill>
                  <a:srgbClr val="ff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63480" y="4168800"/>
            <a:ext cx="743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 мотивам повести-сказки И.П.Токмак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582480" y="-209520"/>
            <a:ext cx="972648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254160" y="0"/>
            <a:ext cx="93981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108000" y="-8100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5040" y="0"/>
            <a:ext cx="877896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900000" y="0"/>
            <a:ext cx="97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424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6071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412920"/>
            <a:ext cx="8712000" cy="6040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280" y="333360"/>
            <a:ext cx="8856720" cy="6264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03780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8840" y="0"/>
            <a:ext cx="940284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35200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кий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д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левался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ый удод – он наелся на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елся удод и песни по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ые летние дни напролё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ое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о,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венькая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о доброе, синяя вол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венькая яхта, а вон там, в горах-т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ая звёздочка всё ещё вид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692280"/>
            <a:ext cx="3906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Arial Black"/>
              </a:rPr>
              <a:t>Д</a:t>
            </a:r>
            <a:endParaRPr b="1" lang="en-US" sz="1800" spc="1" strike="noStrike">
              <a:ln w="316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Arial Black"/>
              </a:rPr>
              <a:t>У</a:t>
            </a:r>
            <a:endParaRPr b="1" lang="en-US" sz="1800" spc="1" strike="noStrike">
              <a:ln w="316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Arial Black"/>
              </a:rPr>
              <a:t>Н</a:t>
            </a:r>
            <a:endParaRPr b="1" lang="en-US" sz="1800" spc="1" strike="noStrike">
              <a:ln w="316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Arial Black"/>
              </a:rPr>
              <a:t>Я</a:t>
            </a:r>
            <a:endParaRPr b="1" lang="en-US" sz="1800" spc="1" strike="noStrike">
              <a:ln w="316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16000" y="3284640"/>
            <a:ext cx="3906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8100000"/>
                </a:gradFill>
                <a:latin typeface="Arial Black"/>
              </a:rPr>
              <a:t>Д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8100000"/>
                </a:gradFill>
                <a:latin typeface="Arial Black"/>
              </a:rPr>
              <a:t>У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8100000"/>
                </a:gradFill>
                <a:latin typeface="Arial Black"/>
              </a:rPr>
              <a:t>Н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8100000"/>
                </a:gradFill>
                <a:latin typeface="Arial Black"/>
              </a:rPr>
              <a:t>Я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280360" cy="58327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116000" y="836640"/>
            <a:ext cx="4951440" cy="481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57240">
                  <a:solidFill>
                    <a:srgbClr val="ff3399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Arial Black"/>
              </a:rPr>
              <a:t>Н</a:t>
            </a:r>
            <a:endParaRPr b="1" lang="en-US" sz="4800" spc="1" strike="noStrike">
              <a:ln w="57240">
                <a:solidFill>
                  <a:srgbClr val="ff3399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57240">
                  <a:solidFill>
                    <a:srgbClr val="ff3399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Arial Black"/>
              </a:rPr>
              <a:t>   </a:t>
            </a:r>
            <a:r>
              <a:rPr b="1" lang="en-US" sz="4800" spc="1" strike="noStrike">
                <a:ln w="57240">
                  <a:solidFill>
                    <a:srgbClr val="ff3399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Arial Black"/>
              </a:rPr>
              <a:t>О</a:t>
            </a:r>
            <a:endParaRPr b="1" lang="en-US" sz="4800" spc="1" strike="noStrike">
              <a:ln w="57240">
                <a:solidFill>
                  <a:srgbClr val="ff3399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57240">
                  <a:solidFill>
                    <a:srgbClr val="ff3399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Arial Black"/>
              </a:rPr>
              <a:t>       </a:t>
            </a:r>
            <a:r>
              <a:rPr b="1" lang="en-US" sz="4800" spc="1" strike="noStrike">
                <a:ln w="57240">
                  <a:solidFill>
                    <a:srgbClr val="ff3399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Arial Black"/>
              </a:rPr>
              <a:t>П</a:t>
            </a:r>
            <a:endParaRPr b="1" lang="en-US" sz="4800" spc="1" strike="noStrike">
              <a:ln w="57240">
                <a:solidFill>
                  <a:srgbClr val="ff3399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2603880" y="1403280"/>
            <a:ext cx="4304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уч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ыт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н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1935360" cy="309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flipH="1">
            <a:off x="6516720" y="692280"/>
            <a:ext cx="1525680" cy="251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476280"/>
            <a:ext cx="8209080" cy="59054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35280" y="404640"/>
            <a:ext cx="3503880" cy="4897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692360" y="981000"/>
            <a:ext cx="4319640" cy="50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Т     </a:t>
            </a:r>
            <a:endParaRPr b="1" lang="en-US" sz="1800" spc="1" strike="noStrike">
              <a:ln w="2844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Е     </a:t>
            </a:r>
            <a:endParaRPr b="1" lang="en-US" sz="1800" spc="1" strike="noStrike">
              <a:ln w="2844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Л     </a:t>
            </a:r>
            <a:endParaRPr b="1" lang="en-US" sz="1800" spc="1" strike="noStrike">
              <a:ln w="2844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Е     </a:t>
            </a:r>
            <a:endParaRPr b="1" lang="en-US" sz="1800" spc="1" strike="noStrike">
              <a:ln w="2844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ПОН</a:t>
            </a:r>
            <a:endParaRPr b="1" lang="en-US" sz="1800" spc="1" strike="noStrike">
              <a:ln w="2844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333360"/>
            <a:ext cx="8280360" cy="6264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3503520" cy="4897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763640" y="620640"/>
            <a:ext cx="5545080" cy="50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ТЕЛЕ</a:t>
            </a:r>
            <a:endParaRPr b="1" lang="en-US" sz="1800" spc="1" strike="noStrike">
              <a:ln w="2844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       </a:t>
            </a: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Н</a:t>
            </a:r>
            <a:endParaRPr b="1" lang="en-US" sz="1800" spc="1" strike="noStrike">
              <a:ln w="2844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       </a:t>
            </a: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О</a:t>
            </a:r>
            <a:endParaRPr b="1" lang="en-US" sz="1800" spc="1" strike="noStrike">
              <a:ln w="2844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       </a:t>
            </a: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П</a:t>
            </a:r>
            <a:endParaRPr b="1" lang="en-US" sz="1800" spc="1" strike="noStrike">
              <a:ln w="2844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8353440" cy="6264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0:18:15Z</dcterms:created>
  <dc:creator>Muumipeikko</dc:creator>
  <dc:description/>
  <dc:language>en-US</dc:language>
  <cp:lastModifiedBy>Muumipeikko</cp:lastModifiedBy>
  <dcterms:modified xsi:type="dcterms:W3CDTF">2009-03-31T20:36:28Z</dcterms:modified>
  <cp:revision>10</cp:revision>
  <dc:subject/>
  <dc:title>Слайд 1</dc:title>
</cp:coreProperties>
</file>