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4FD2-70E1-4570-9F04-A44753952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4EB7-7668-4B67-92B5-80B0FE6D3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B4A-B262-4E70-88AE-358EE4D5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7E0-66DA-4195-92F9-921486CC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F67-86B1-4DC8-A3D1-11E2FF24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710-6CDC-41EA-9A52-BA0C6961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0BE9-0531-45F9-A609-517097C2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7782-9B04-479B-8637-E1B59A63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12BC-1A93-4E13-8D1B-730C32A1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18E3-A02A-411E-B56A-DA3ACA79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2349-6125-4F4B-B187-2AE5574C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A8FE-E82C-4956-97FC-E82B7E77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2BA1-B0BE-45B6-8190-B27D4E1D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767-C054-4CCF-85E4-4E63642A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C48-1E9C-437F-8E13-05C04952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A6FA-458C-410F-9666-08DBB831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3C20-9D8E-4080-ABE9-E56FFCE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9054-55C9-4DFC-A640-CDCBD37C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91EF-9A2D-4625-B0A9-006BEDBD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8BEA-839E-43BC-8F0D-DFD211D3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B1E9-83EC-447B-A1AA-61E9C4C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76C5-27FE-40FB-8661-38595C0D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86C7-D968-4090-A8CF-D146D89E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5E69-BB74-4C3C-B527-E439BBF3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3D1-DDE7-49D7-9577-38482284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A843-4C3F-42BC-A718-C2D30282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D6BE-2162-4882-B42E-6F90A76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E74A-E02D-4185-AF3D-453A1B2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A6F3-5ECE-4AF0-B5AE-0A1C3A1E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FE04-245A-481F-8BA9-2B004BF5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908F-42A3-4210-9F4A-B7105ABE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3712-56ED-4B30-A606-A996129A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C67-DDF6-4034-B2FE-1AFB42C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274-22EE-4FB6-B5CA-59DA8676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A5C-02EB-47C4-B9E9-4425F416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514-163D-4AD7-889E-45E9304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B25-9A6A-471B-BBF6-0DB8EC0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E11-95BD-419D-B0FC-4B7C5F1A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69F-BA96-4E57-B815-58BBA3FE3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E4D5-F8AE-4E36-A047-85DC5CD9D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0C85-F030-4BEF-A89C-57E921CB1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628280"/>
            <a:ext cx="878508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   </a:t>
            </a:r>
            <a:r>
              <a:rPr b="1" i="1" lang="ru-RU" sz="2000" spc="-1" strike="noStrike">
                <a:solidFill>
                  <a:srgbClr val="c00000"/>
                </a:solidFill>
                <a:latin typeface="Comic Sans MS"/>
              </a:rPr>
              <a:t>Что доступно для освоения и понимания ребёнку в 4-5 лет?</a:t>
            </a:r>
            <a:br>
              <a:rPr sz="2000"/>
            </a:br>
            <a:br>
              <a:rPr sz="16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атематика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Определяет расположение предметов: справа, слева, посередине, вверху, внизу, сзади, 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спереди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Различает и называет основные геометрические фигуры (круг, овал, квадрат, треугольник и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прямоугольник)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Называет все цифры - 0, 1, 2, 3, 4, 5, 6, 7, 8, 9. Считает предметы в пределах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десяти, соотносит количество предметов с нужной цифрой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Расставляет цифры от 1 до 5 в правильной последовательности и в обратном порядке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Способен сравнивать количество предметов, понимать значение: больше - меньше,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поровну. Делать равными неравные группы предметов: добавлять один предмет к группе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с меньшим количеством предметов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Знакомится с графическим образом числа (как выглядит то или иное число), учится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правильно писать цифры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-214200" y="3357720"/>
            <a:ext cx="75722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195280" y="333360"/>
            <a:ext cx="694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Логическое мышление  (развитие мышления, памяти, внимания)</a:t>
            </a: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Calibri"/>
              </a:rPr>
              <a:t>1.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пособен находить отличия и сходства между двумя картин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(между двумя игрушками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Способен складывать по образцу постройки из конструктора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Способен складывать разрезанную картинку из 2-4 частей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Способен не отвлекаясь, в течение 5 минут, выполнять зада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(внимание становится более устойчивым, начинает формироватьс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оизвольная сфера – ребёнок контролирует своё поведени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нимает учебную задачу и выполняет её заданное время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доводит начатое дело до конца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Называет обобщающим словом группу предметов (корова, лошадь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коза-домашние животные; зима, лето, весна- времена года). Находит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лишний предмет в каждой группе. Находить пару каждому предмету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Способен отвечать на такие вопросы, как: Можно ли летом кататься на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анках? Почему? Зачем зимой одевают тёплые куртки? Для чего нужн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окна и двери в доме? и т.д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Способен подбирать противоположные слова:  стакан полный - стака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устой, дерево высокое – дерево низкое, идти медленно – идти быстро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ояс узкий – пояс широкий, ребёнок голодный - ребёнок сытый, чай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холодный – чай горячий и т.д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Способен видеть на картинке неправильно изображённые предмет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объяснять, что не так и поч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124000" y="404280"/>
            <a:ext cx="70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Развитие речи</a:t>
            </a:r>
            <a:br>
              <a:rPr sz="18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Способен строить фразы из 6-8 слов. Понимать ребёнка должны даж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осторонние люди, а не только родители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Понимает, чем отличается строение человека от строения животных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называет их части тела (руки - лапы, ногти - когти, волосы - шерсть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Правильно ставит существительные в форму множественного числа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(цветок - цветы, девочка - девочки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Способен находить предмет по описанию (яблоко - круглое, сладкое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жёлтое). Умеет  самостоятельно составлять описание предмета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Понимает значение предлогов (в, на, под, за, между, перед, около и т. д.)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Умеет поддерживать беседу: отвечать на вопросы и правильно их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задавать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Способен пересказывать содержание услышанной сказки, рассказа.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ассказать наизусть несколько стихов, потешек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Называет своё имя, фамилию, сколько ему лет, город в котором живёт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9.  Способен отвечать на вопросы, касательно недавно произошедши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событий:  Где ты был сегодня? Кого встретил по дороге? Что мама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купила в магазине? Что было на тебе одето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700000" y="404280"/>
            <a:ext cx="6443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кружающий мир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Различает овощи, фрукты и ягоды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Знает названия насекомых, рассказывает о том, как они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ередвигаются (бабочка летает, улитка ползает, кузнечик прыгает). 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Знает всех домашних животных и их детёнышей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Способен угадывать по картинкам времена года, называ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меты каждого из 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Навыки обихода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Ребёнок уже отлично застёгивает пуговки, молнии и развязывает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шнурки, его хорошо слушаются ложка и вил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Способен самостоятельно одеваться (футболку, колготки, носки,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шапку, сандалии, кофту, куртку), знает предназначение кажд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вещи.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Различает правую и левую ру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700000" y="404280"/>
            <a:ext cx="6443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елкая мотор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1. Разукрашивает рисунки, не выходя за их кон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2. Держит в руках карандаш, кисть и изменяет направле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движения руки в зависимости от формы изображённого предм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3. Лепит из пластилина мелкие фигур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4. Завязывает узелки на верёв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5. Нанизывает крупные пуговицы или бусины на нит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6. Умеет точно проводить линии не отрывая карандаш от бума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7. Способен заштриховывает фигуры ровными прямыми линиями, н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выходя за контуры рису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8. Способен обводить и раскрашивать картинки, не выходя за кр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9. Проводит линии посередине дорожки, не выходя за её кр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Если Вы видите, что с какими-то заданиями ребёнок справляется с трудом, эти области знаний требуют дополнительного в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18:34:42Z</dcterms:created>
  <dc:creator>DAY</dc:creator>
  <dc:description/>
  <dc:language>en-US</dc:language>
  <cp:lastModifiedBy>Пользователь</cp:lastModifiedBy>
  <cp:lastPrinted>2017-08-07T03:49:31Z</cp:lastPrinted>
  <dcterms:modified xsi:type="dcterms:W3CDTF">2019-01-10T06:20:37Z</dcterms:modified>
  <cp:revision>89</cp:revision>
  <dc:subject/>
  <dc:title>Слайд 1</dc:title>
</cp:coreProperties>
</file>