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A910-C0FB-4465-8C04-7DC48C8065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D637-0B04-48DB-ACC1-52A627EB3E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4529-D6E8-42BF-B80A-0B637F38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F40E-C708-4FFB-BB41-1D1F8AB6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E88D-B136-425B-AB9D-5B286576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62CD-E5DE-444F-BF0D-E0250B68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0BF5-4EC8-40F7-B880-27512332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47CE-8F71-4FD6-9541-C1A65784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9754-C152-4099-B0D9-FC765D36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56DD-8A2D-4A28-A459-BC4F4A15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9191-7472-4A7F-ABE0-BD111E17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A4E7-D76A-413A-832B-B7AF0D37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EB50-F5A7-470C-94FE-439FAA16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9A6-01DB-4D5C-8D9A-689887FB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1A32-174D-4885-B048-C5B18011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F712-A39A-4F00-BE35-8B40A2C2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E1B5-A2A6-4559-9D15-B1C23785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6141-5A56-46B4-8181-BC65570C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DD0C-FCBA-4E0D-9B7C-A374A87C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CA2A2-6CAF-4174-BE34-94AEF39D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45C55-4B12-4871-B3F9-95B0DD28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F4F82-F343-4625-8381-38B9AAFF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5ED00-512B-4AEA-8772-4106B4D7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0473D-E297-473D-9DEA-A04AD58C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8D04-39E2-4036-9499-FD2598DB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25DB8-DF99-409F-9D8F-61B349F2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00E10-64AA-4D96-B9C1-64606CA7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1D97E-59BB-40F3-8382-25AB54FA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1098E-2265-4A1C-95E6-65AEBCAF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D8659-28C9-4AAE-815A-99AA10F4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12C2C-4AC0-4ECE-B916-E07E23AB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B43B-6773-45E3-B4A2-3D022C99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14DC-F2AC-4385-9D6B-F030A720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897-08A4-4AD4-8929-623AE75B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D2D-C64A-4AFB-867D-00B8D574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3CF6-AA06-4E6D-BB2E-F100319A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3F21-D885-45FC-B770-9C97DA23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AEA5-BFC1-48C3-84D6-7420D2CE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CA61-E1E5-4EDE-8A0D-0C8A972F56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DD9E-2A94-4203-AE59-F6581C94FD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79B4-EF2B-46F8-BCE9-88D766EFAE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1628280"/>
            <a:ext cx="878508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omic Sans MS"/>
              </a:rPr>
              <a:t>   </a:t>
            </a:r>
            <a:r>
              <a:rPr b="1" i="1" lang="ru-RU" sz="2000" spc="-1" strike="noStrike">
                <a:solidFill>
                  <a:srgbClr val="c00000"/>
                </a:solidFill>
                <a:latin typeface="Comic Sans MS"/>
              </a:rPr>
              <a:t>Что доступно для освоения и понимания ребёнку в 4-5 лет?</a:t>
            </a:r>
            <a:br>
              <a:rPr sz="2000"/>
            </a:br>
            <a:br>
              <a:rPr sz="16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Математика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. Определяет расположение предметов: справа, слева, посередине, вверху, внизу, сзади,  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спереди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2. Различает и называет основные геометрические фигуры (круг, овал, квадрат, треугольник и 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прямоугольник)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3. Называет все цифры - 0, 1, 2, 3, 4, 5, 6, 7, 8, 9. Считает предметы в пределах 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десяти, соотносит количество предметов с нужной цифрой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4. Расставляет цифры от 1 до 5 в правильной последовательности и в обратном порядке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5. Способен сравнивать количество предметов, понимать значение: больше - меньше, 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поровну. Делать равными неравные группы предметов: добавлять один предмет к группе 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с меньшим количеством предметов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6. Знакомится с графическим образом числа (как выглядит то или иное число), учится 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правильно писать цифры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-214200" y="3357720"/>
            <a:ext cx="757224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195280" y="333360"/>
            <a:ext cx="6948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Логическое мышление  (развитие мышления, памяти, внимания)</a:t>
            </a:r>
            <a:br>
              <a:rPr sz="1600"/>
            </a:br>
            <a:r>
              <a:rPr b="0" lang="ru-RU" sz="1600" spc="-1" strike="noStrike">
                <a:solidFill>
                  <a:srgbClr val="7030a0"/>
                </a:solidFill>
                <a:latin typeface="Calibri"/>
              </a:rPr>
              <a:t>1.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Способен находить отличия и сходства между двумя картинкам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(между двумя игрушками)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2. Способен складывать по образцу постройки из конструктора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3. Способен складывать разрезанную картинку из 2-4 частей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4. Способен не отвлекаясь, в течение 5 минут, выполнять задание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 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(внимание становится более устойчивым, начинает формироваться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  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роизвольная сфера – ребёнок контролирует своё поведение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  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ринимает учебную задачу и выполняет её заданное время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  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доводит начатое дело до конца)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5. Называет обобщающим словом группу предметов (корова, лошадь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коза-домашние животные; зима, лето, весна- времена года). Находит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лишний предмет в каждой группе. Находить пару каждому предмету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6. Способен отвечать на такие вопросы, как: Можно ли летом кататься на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санках? Почему? Зачем зимой одевают тёплые куртки? Для чего нужны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окна и двери в доме? и т.д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7. Способен подбирать противоположные слова:  стакан полный - стакан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устой, дерево высокое – дерево низкое, идти медленно – идти быстро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ояс узкий – пояс широкий, ребёнок голодный - ребёнок сытый, чай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холодный – чай горячий и т.д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8. Способен видеть на картинке неправильно изображённые предмет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объяснять, что не так и поч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124000" y="404280"/>
            <a:ext cx="7020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Развитие речи</a:t>
            </a:r>
            <a:br>
              <a:rPr sz="18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. Способен строить фразы из 6-8 слов. Понимать ребёнка должны даже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осторонние люди, а не только родители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2. Понимает, чем отличается строение человека от строения животных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называет их части тела (руки - лапы, ногти - когти, волосы - шерсть)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3. Правильно ставит существительные в форму множественного числа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(цветок - цветы, девочка - девочки)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4. Способен находить предмет по описанию (яблоко - круглое, сладкое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жёлтое). Умеет  самостоятельно составлять описание предмета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5. Понимает значение предлогов (в, на, под, за, между, перед, около и т. д.)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6. Умеет поддерживать беседу: отвечать на вопросы и правильно их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задавать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7. Способен пересказывать содержание услышанной сказки, рассказа.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Рассказать наизусть несколько стихов, потешек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8. Называет своё имя, фамилию, сколько ему лет, город в котором живёт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9.  Способен отвечать на вопросы, касательно недавно произошедших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событий:  Где ты был сегодня? Кого встретил по дороге? Что мама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купила в магазине? Что было на тебе одето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700000" y="404280"/>
            <a:ext cx="6443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кружающий мир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. Различает овощи, фрукты и ягоды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2. Знает названия насекомых, рассказывает о том, как они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ередвигаются (бабочка летает, улитка ползает, кузнечик прыгает). 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3. Знает всех домашних животных и их детёнышей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4. Способен угадывать по картинкам времена года, называ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риметы каждого из ни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Навыки обихода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. Ребёнок уже отлично застёгивает пуговки, молнии и развязывает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шнурки, его хорошо слушаются ложка и вил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2. Способен самостоятельно одеваться (футболку, колготки, носки,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шапку, сандалии, кофту, куртку), знает предназначение каждо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вещи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3. Различает правую и левую рук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700000" y="404280"/>
            <a:ext cx="6443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Мелкая мотор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. Разукрашивает рисунки, не выходя за их контур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2. Держит в руках карандаш, кисть и изменяет направление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движения руки в зависимости от формы изображённого предме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3. Лепит из пластилина мелкие фигур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4. Завязывает узелки на верёвк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5. Нанизывает крупные пуговицы или бусины на нитк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6. Умеет точно проводить линии не отрывая карандаш от бумаг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7. Способен заштриховывает фигуры ровными прямыми линиями, не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выходя за контуры рисун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8. Способен обводить и раскрашивать картинки, не выходя за кр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9. Проводит линии посередине дорожки, не выходя за её кр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Если Вы видите, что с какими-то заданиями ребёнок справляется с трудом, эти области знаний требуют дополнительного вним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2T18:34:42Z</dcterms:created>
  <dc:creator>DAY</dc:creator>
  <dc:description/>
  <dc:language>en-US</dc:language>
  <cp:lastModifiedBy>Пользователь</cp:lastModifiedBy>
  <cp:lastPrinted>2017-08-07T03:49:31Z</cp:lastPrinted>
  <dcterms:modified xsi:type="dcterms:W3CDTF">2019-01-10T06:20:37Z</dcterms:modified>
  <cp:revision>89</cp:revision>
  <dc:subject/>
  <dc:title>Слайд 1</dc:title>
</cp:coreProperties>
</file>