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A81B-3649-42EA-98FF-57D51A90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356C-F713-4845-BB02-99607686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7CAC-10A9-4794-A852-6CB71201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5903-A8AD-4236-B48C-2C41CCC1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A9C1-E105-41D1-A468-8869AF77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8D08-B570-4BA9-89B4-B4B7492B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21A09-A1E2-4D75-9065-89AE496A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A343C-E74A-42BE-A993-1AA447995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35A0-9B80-4724-8D71-9EC76950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A39D-59DC-4093-8F68-8CB118E43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B73E-E948-49B9-8151-A52CB464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17A-5E37-4DCB-8834-76017605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8936-BE07-4AE1-991F-2D00E69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BC1B-73E0-4513-95A4-4488FF15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762A-4479-4A05-90A4-9071F240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9714-DB97-4451-B54B-1DBCA8DC9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8872-0291-42F5-9605-911796744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FE740-C476-4547-914A-86CE2FEF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2F125-392E-4A6F-9202-BAB32261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FD69B-F849-4FEB-BC24-2D6C2F7E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80D9-246D-46E4-9B26-87E7F7C4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8F83-BBD7-46DA-BDED-0332DB8E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4C91-F2B1-4093-9D14-2BBA0378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FBFB3-3342-4AF1-9E14-7B547B7F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5675-E90B-4A75-A1B3-3CED4662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0A6BE-29EE-44D8-A424-09BFE747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CCBCE-80B1-4AEF-A64E-4DFA0BDC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67479-BD0F-40DA-84CE-3766F80D2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16C6-5755-49EA-A0CA-304B1C9C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F2875-A073-466B-93C6-11B6B3A6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966E-8A78-4C63-B108-8F1FFF37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FF725-F6C8-496B-975D-1D0C474B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3673C0-3666-42EE-A26E-E99435F2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480-8AAC-4A70-8A62-929EE4A4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7287-0857-4E56-B308-FE0708220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0BD9D-EA98-4D80-815A-60C948C21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A79B2-83E2-4753-AE1D-972293D9F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2A881-99D3-4AC7-B757-0EE9E340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0017B-EA9A-4CE4-807C-3DFB795C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D4F45-F1E6-488B-82A0-6D6DD735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8032-A6F9-474F-923C-6D0E8EBF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9BC3E-4F33-4E3F-BD26-211F75B6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ED5D8-EB58-4533-9364-64457F5A6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B9CBA-7D0B-4D1C-B749-55CD6132E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66D-F8C8-4F3F-BE76-84F77CB7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44EBE-5217-40E6-8109-BA0BEDBE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61D89-419F-4728-85AC-5EF0D0EA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32C3D-7BF0-468D-954C-FAF379917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5E8A2D-C59D-4102-B8E0-B5D774E2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95BF-8FC7-4307-8C45-B67D9C6A0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4889-2B93-4370-9ABF-4EF1C344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0817-4C73-4AC0-ABF1-06204C01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A49E3-C6A0-4D03-8864-5AAC154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08F3D-0B62-40C2-8BAA-B8BF516B2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F2DB5-730C-446A-AFF6-6E9AEA80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0E5-3BD0-4E45-B486-ABD717CE8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55029B-8F77-47B7-9F42-518EA8DE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230-D5A0-4275-9DEA-390E7B5D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C8F8-F1B9-457A-B3E4-18631570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B72-AC71-4B37-BAC2-E1B5FD673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F7B-2F58-433C-A5D0-FCF4E5367FA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794B-0268-473C-B306-07163D3C340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9C80-8811-493E-A37E-536B5BE541F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2F5F-364A-4CDF-8893-727C6E1A608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CBC2-23CF-4477-9BB6-41C15466281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ни защищали родину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икунов Николай Алексеевич (8.05.1926-20.11.2014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1962360" cy="292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5211720" y="1219320"/>
            <a:ext cx="3932280" cy="2628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2529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dverigerda.ru/prefix/dolzhnostnaya-instruktsiya-operatora-tehnologichenskih-liniy-5-razryad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Годы жизн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mbria"/>
              </a:rPr>
              <a:t>Мой прадедушка Чикунов Николай Алексеевич родился 08.05.1928 году. В 1940 году закончил 7 классов  Верхнехавской школы и поступил в ремесленное училище в г. Воронеже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mbria"/>
              </a:rPr>
              <a:t>Летом 1941 года, когда началась война , училище эвакуировали, всех учеников распустили по домам. В июне 1941 года ему было 15 лет, поэтому на фронт его не взяли.  И он пошёл работать трактористом, так как взрослые мужчины ушли на фронт. У него была броня , потому что некому было пахать землю в колхозе. Но он все равно ходил в военкомат просился на фронт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mbria"/>
              </a:rPr>
              <a:t>29 ноября 1943 года мой прадедушка был призван и направлен курсантом в одесскую авиашколу пилотов, где учился с ноября 1943 года по май 1944 года, хотел стать лётчиком, но медкомиссия до полётов его не допустила( по сердцу). Его перевели учится на авиамеханика, в Серпуховскую авиашколу механиков , где он получил специальность « авиамеханик ИЛ-10». Служил в рядах Советской армии по март 1951 года. Он готовил самолеты ИЛ-10 к параду над красной площадью каждый год 9 мая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286000" y="762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ой прадедушка Чикунов Николай Алексеевич честно и добросовестно трудился в нашем селе с 1951 по 1986 годы. Я горжусь своим прадеду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3708360" y="1905120"/>
            <a:ext cx="5435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аграды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за победу над Германией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за доблестный труд в ВОВ 1941-1945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«двадцать лет « победы в ВОВ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ХХХ лет Советской армии и флот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50 лет побед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60 лет побед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65 лет побед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Den_Pobedy_-_Den_Pobedy_Den_Pobedy_Den_Pobedy.mp3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094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1:50:32Z</dcterms:created>
  <dc:creator>Администратор</dc:creator>
  <dc:description/>
  <dc:language>en-US</dc:language>
  <cp:lastModifiedBy>777</cp:lastModifiedBy>
  <dcterms:modified xsi:type="dcterms:W3CDTF">2019-01-11T17:59:21Z</dcterms:modified>
  <cp:revision>24</cp:revision>
  <dc:subject/>
  <dc:title>Слайд 1</dc:title>
</cp:coreProperties>
</file>