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2E77-4BDE-411F-AA41-3318C294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7CFE-55D7-4A80-8DBF-8EFB1996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A7A-50B5-4A68-BFAC-D7672BF3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5119-7CF5-4677-823A-6FBE6480B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ED23F-B8F4-4BBD-97D6-C6828C3C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04500-A2E4-4295-BF9E-F6200FE7A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87F0-82B2-4198-A49C-553355D0B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717E-0695-48E1-89C8-3151A496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0F03-83F7-4F00-A1DB-BC1992B34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0442-E96B-4C82-BE7C-B020DE83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48992-555A-498B-8B2F-3F20B53DB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2CE-6589-4367-8E36-288334667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BED91-A443-466A-8166-9D18C719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702D-520F-4643-B275-2DEFCDD30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1B54-A0D1-41F2-9F7F-12960C04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3BBAC-AF33-47E8-9AC6-CB0868B8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E8E1B-7C45-4516-A29B-99FDFDD50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5AFC7-C726-428E-9F6C-711CA1FCB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3AB04-98F7-41F4-AD47-05E39E082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74468-8615-458B-BD16-C2E4B34D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AEACBE-A5E8-40B3-AE48-643541D2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1F106-F723-47DC-85FB-CF1797787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F787-5A5A-44B5-8D0E-F531C3A1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97AA6-0377-4A01-847B-56A3E0191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289AC-4DAA-4E72-A6A3-49D4AD3D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BB379-811B-4DD3-B326-F58F27AC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B389C-48B1-48DD-BB85-A6369000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54C98-4134-4809-8E7E-0E5E5A83F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CB539-E876-4027-988A-6ACEE74A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D4812-627D-4644-8C07-F8C026A5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963AD-032E-4FAC-8C64-B78DF6EED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3A7508-3010-496B-8C18-8A4555DB9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C94F8-ADEF-484E-8983-8AFC3F5F3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7092-027C-4B7A-BD97-0A7C5F811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714B50-C311-498E-A48B-4442C78E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8F090-FF53-4DF1-AD6D-E6506E28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76A8E-AFB1-4A3A-99DD-F8076DF9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C8E11-0C3B-4DEF-9764-FEB6843C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4C296-1802-4FDC-B725-04053CCB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9C6C9-1724-4425-A70E-7FB9D57A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3C947-24BF-4F75-B974-389E8A4AC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C55B9-58FD-47F3-999C-F53E73617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FF8CA0-CA96-47F5-8110-3506AFDE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8F745-E56E-4FF7-8550-A8689878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1B1A-A5E5-497C-A615-760F5BF5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BEEF3-028B-434B-A529-DBCFD81BA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4DCEA-0A01-44BD-A0B8-BB3F810EB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E18A0-1DE8-4F03-8082-EC8C7657C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47D1C-50ED-42D6-A0C0-7D0ED794A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9B42D9-81D2-4B29-9F5C-CED40CD3B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79D4C-A868-472D-95CC-97154DDAE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7AA17-882A-4F05-AE88-206615CB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1F3F0-EF50-4F9A-964D-CE91B9378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26CBFB-1322-4EC6-99A4-A27BB46D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A241F-6040-467F-A605-3352EFA7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EF58-6FA7-486A-9A8F-99B1F6DE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3823C-A02D-4FC3-9937-35467DFF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A41A-DAC8-41A4-9F02-F304F905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0D15-942E-40D1-B8D6-AA9825BC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383B-DE50-40B7-8E10-2C3B23D1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38B2-53EE-4877-B9E7-57B641A31C42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300B-943C-467E-97AF-B9C63D368BAB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0207D-1470-40BD-A547-BCAA544F802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9488-D534-4491-955C-028FC481235C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E2C4-2E60-419C-8570-06F84BEB869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696464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Они защищали родину.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Чикунов Николай Алексеевич (8.05.1926-20.11.2014)</a:t>
            </a:r>
            <a:endParaRPr b="0" lang="en-US" sz="36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1" name="Picture 3" descr=""/>
          <p:cNvPicPr/>
          <p:nvPr/>
        </p:nvPicPr>
        <p:blipFill>
          <a:blip r:embed="rId1"/>
          <a:stretch/>
        </p:blipFill>
        <p:spPr>
          <a:xfrm>
            <a:off x="3124080" y="2590920"/>
            <a:ext cx="1962360" cy="2925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"/>
          <p:cNvPicPr/>
          <p:nvPr/>
        </p:nvPicPr>
        <p:blipFill>
          <a:blip r:embed="rId2"/>
          <a:stretch/>
        </p:blipFill>
        <p:spPr>
          <a:xfrm>
            <a:off x="5211720" y="1219320"/>
            <a:ext cx="3932280" cy="2628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2529000" cy="30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dverigerda.ru/prefix/dolzhnostnaya-instruktsiya-operatora-tehnologichenskih-liniy-5-razryad.jpg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22160" y="9522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Годы жизни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22160" y="2547720"/>
            <a:ext cx="7772400" cy="40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mbria"/>
              </a:rPr>
              <a:t>Мой прадедушка Чикунов Николай Алексеевич родился 08.05.1928 году. В 1940 году закончил 7 классов  Верхнехавской школы и поступил в ремесленное училище в г. Воронеже.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mbria"/>
              </a:rPr>
              <a:t>Летом 1941 года, когда началась война , училище эвакуировали, всех учеников распустили по домам. В июне 1941 года ему было 15 лет, поэтому на фронт его не взяли.  И он пошёл работать трактористом, так как взрослые мужчины ушли на фронт. У него была броня , потому что некому было пахать землю в колхозе. Но он все равно ходил в военкомат просился на фронт.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898989"/>
                </a:solidFill>
                <a:latin typeface="Cambria"/>
              </a:rPr>
              <a:t>29 ноября 1943 года мой прадедушка был призван и направлен курсантом в одесскую авиашколу пилотов, где учился с ноября 1943 года по май 1944 года, хотел стать лётчиком, но медкомиссия до полётов его не допустила( по сердцу). Его перевели учится на авиамеханика, в Серпуховскую авиашколу механиков , где он получил специальность « авиамеханик ИЛ-10». Служил в рядах Советской армии по март 1951 года. Он готовил самолеты ИЛ-10 к параду над красной площадью каждый год 9 мая.</a:t>
            </a: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  <a:p>
            <a:pPr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286000" y="762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mbria"/>
              </a:rPr>
              <a:t>Мой прадедушка Чикунов Николай Алексеевич честно и добросовестно трудился в нашем селе с 1951 по 1986 годы. Я горжусь своим прадедуш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152280" y="1981080"/>
            <a:ext cx="3657600" cy="4876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3708360" y="1905120"/>
            <a:ext cx="54356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Награды 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едаль за победу над Германией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едаль за доблестный труд в ВОВ 1941-1945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едаль юбилейная «двадцать лет « победы в ВОВ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едаль юбилейная ХХХ лет Советской армии и флота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едаль Юбилейная 50 лет победе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едаль юбилейная 60 лет победе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едаль юбилейная 65 лет победе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2" name="Den_Pobedy_-_Den_Pobedy_Den_Pobedy_Den_Pobedy.mp3" descr=""/>
          <p:cNvPicPr/>
          <p:nvPr/>
        </p:nvPicPr>
        <p:blipFill>
          <a:blip r:embed="rId1"/>
          <a:stretch/>
        </p:blipFill>
        <p:spPr>
          <a:xfrm>
            <a:off x="7620120" y="7621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5094" fill="hold"/>
                                        <p:tgtEl>
                                          <p:spTgt spid="2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06T11:50:32Z</dcterms:created>
  <dc:creator>Администратор</dc:creator>
  <dc:description/>
  <dc:language>en-US</dc:language>
  <cp:lastModifiedBy>777</cp:lastModifiedBy>
  <dcterms:modified xsi:type="dcterms:W3CDTF">2019-01-11T17:59:21Z</dcterms:modified>
  <cp:revision>24</cp:revision>
  <dc:subject/>
  <dc:title>Слайд 1</dc:title>
</cp:coreProperties>
</file>