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227-0581-4673-BE91-C68A2EF0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0D5-28CD-48D1-B74D-43E2A0F3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D6A-9613-48C3-B0DB-FD8D3D32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D52-409D-4511-9FB2-2357D866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66A-43C5-4AA9-AA42-64645ED7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BA0-6CE3-418F-9859-2F7A2D7E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48D-05F6-4751-B8C7-32EB8C5F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06B-71F7-4D95-B39A-FF92081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552-E82C-4CD3-A9D8-5CF00C4A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648-B2CF-47C7-956E-918671B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BDA-8247-41BA-B59D-630EB4F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DCD-D5AD-4D30-AC52-56041D3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62A-842F-4809-A558-F85423D9B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284720" y="2421000"/>
            <a:ext cx="424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тяжание 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жия есть т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,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дат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чный. Дел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ро Х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одобный Серафим Са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95280" y="692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ховно-нравственное воспитание- одно из главных направлений работы в современ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32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68360" y="71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уховно-нравственное воспитание учащихс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 «Отрадненская  ООШ» на 2013 - 2018 г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68360" y="211356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триотическое, гражданское и  духовно-нравственное воспитание учащихся  посредством создания в сельском поселении  социально-педагогической среды, ориентированной на  традиционные нравственные и культурные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Формирование комплекса организационно-методического, информационно-просветительского    обеспечения системы патриотического и   духовно-нравственного воспитания детей и молодеж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комплекса мер по просвещению  родителей в вопросах духовно-нравственного  становления и воспитан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действий социокультурного окружения школы при проведени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мер по накоплению исторического и  литературного краеведческ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Раскрытие определяющей роли Православия в становлении культурных и духовно-нравственных традиций русского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Diagram 7"/>
          <p:cNvGrpSpPr/>
          <p:nvPr/>
        </p:nvGrpSpPr>
        <p:grpSpPr>
          <a:xfrm>
            <a:off x="2197800" y="614520"/>
            <a:ext cx="4353120" cy="4898520"/>
            <a:chOff x="2197800" y="614520"/>
            <a:chExt cx="4353120" cy="489852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3296880" y="2844720"/>
              <a:ext cx="54108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2197800" y="198360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От прекрас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 доброму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3708720" y="3782880"/>
              <a:ext cx="33480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2813760" y="419580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В здоровом тел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доровый дух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>
              <a:off x="4703040" y="3782880"/>
              <a:ext cx="33660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4806360" y="4195800"/>
              <a:ext cx="112860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Наш дом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оссия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 flipV="1">
              <a:off x="4907880" y="2842560"/>
              <a:ext cx="543240" cy="20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5422680" y="198360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Православ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ультура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 flipV="1">
              <a:off x="4373640" y="1929960"/>
              <a:ext cx="0" cy="66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3809880" y="61452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Берег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Людей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3809880" y="259596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або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21" descr="DSC02401"/>
          <p:cNvPicPr/>
          <p:nvPr/>
        </p:nvPicPr>
        <p:blipFill>
          <a:blip r:embed="rId1"/>
          <a:stretch/>
        </p:blipFill>
        <p:spPr>
          <a:xfrm>
            <a:off x="0" y="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E:\Куликова\мои фото\2017\святой николай\Изображение 007.jpg"/>
          <p:cNvPicPr/>
          <p:nvPr/>
        </p:nvPicPr>
        <p:blipFill>
          <a:blip r:embed="rId2"/>
          <a:stretch/>
        </p:blipFill>
        <p:spPr>
          <a:xfrm>
            <a:off x="6300720" y="41400"/>
            <a:ext cx="2656080" cy="222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E:\Куликова\мои фото\2017\пост\001.jpg"/>
          <p:cNvPicPr/>
          <p:nvPr/>
        </p:nvPicPr>
        <p:blipFill>
          <a:blip r:embed="rId3"/>
          <a:stretch/>
        </p:blipFill>
        <p:spPr>
          <a:xfrm>
            <a:off x="6300720" y="3056040"/>
            <a:ext cx="2843280" cy="361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E:\Куликова\мои фото\2017\веселые старты2\100_3052.JPG"/>
          <p:cNvPicPr/>
          <p:nvPr/>
        </p:nvPicPr>
        <p:blipFill>
          <a:blip r:embed="rId4"/>
          <a:stretch/>
        </p:blipFill>
        <p:spPr>
          <a:xfrm>
            <a:off x="0" y="4492800"/>
            <a:ext cx="2728800" cy="2176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взаимодействия педагогов и учащихся в рамка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468360" y="1700280"/>
          <a:ext cx="129528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12952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7308720" y="1700280"/>
            <a:ext cx="1366920" cy="3673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612000" y="57340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453080" y="58053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2700360" y="1989000"/>
            <a:ext cx="3543120" cy="3430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предмет «Краеведени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2700360" y="2565360"/>
            <a:ext cx="3543120" cy="3430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ы, лекции,  круглые ст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2771640" y="3429000"/>
            <a:ext cx="3543480" cy="3430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импиады по православ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2700360" y="4221000"/>
            <a:ext cx="3543120" cy="3430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ые праз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2700360" y="4869000"/>
            <a:ext cx="3543120" cy="34272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 – значимые  дел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2843280" y="5516640"/>
            <a:ext cx="3543120" cy="5713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е часы, школьные мероприятия духовно – нравственной направ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1763280" y="220500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 flipH="1">
            <a:off x="1835280" y="2852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 flipH="1" flipV="1">
            <a:off x="1834920" y="3428640"/>
            <a:ext cx="865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H="1" flipV="1">
            <a:off x="1834920" y="3644640"/>
            <a:ext cx="865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 flipV="1">
            <a:off x="1692000" y="3789360"/>
            <a:ext cx="93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1692000" y="4220640"/>
            <a:ext cx="11509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00720" y="2133720"/>
            <a:ext cx="100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00720" y="2781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4"/>
          <p:cNvSpPr/>
          <p:nvPr/>
        </p:nvSpPr>
        <p:spPr>
          <a:xfrm flipV="1">
            <a:off x="6372360" y="3284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5"/>
          <p:cNvSpPr/>
          <p:nvPr/>
        </p:nvSpPr>
        <p:spPr>
          <a:xfrm flipV="1">
            <a:off x="6300720" y="3573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6"/>
          <p:cNvSpPr/>
          <p:nvPr/>
        </p:nvSpPr>
        <p:spPr>
          <a:xfrm flipV="1">
            <a:off x="6300720" y="40053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 flipV="1">
            <a:off x="6443640" y="4581360"/>
            <a:ext cx="936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кресная школ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шк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детей в добрых традициях наших предков и сплочение педагогов, родителей и детей в Православной ве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школ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оспитывать уважение к нравственным нормам христианской морали. Учить различать добро и зло, любить добро, быть в состоянии творить добро. Пресекать (в разных формах) безнравственные проявления в стремлениях и действиях ребен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оздать условия для восприятия целостной картины ми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Формировать чувство любви к Родине на основе изучения национальных культурных традици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Развивать музыкальную культуру, приобщать к хоровому пению, классической, духовной и народной музы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существлять целенаправленную работу по физическому воспитанию, укреплению воли и вынослив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ививать трудовые навыки, учить выполнять простейшие бытовые поручения, обучать основам ручного труда, продуктивной деятель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Ориентировать семью на духовно-нравственное воспитание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класс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57400" y="35002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церкви Святого Николая С.Отрад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181120" y="3500280"/>
            <a:ext cx="30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. мероприятие «Святитель Никола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52160" y="6257880"/>
            <a:ext cx="28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«Посади дереве возле хра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563800" y="618660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«Теплые ок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19040" y="2708640"/>
            <a:ext cx="3322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E:\Куликова\мои фото\2018\SDC12670.JPG"/>
          <p:cNvPicPr/>
          <p:nvPr/>
        </p:nvPicPr>
        <p:blipFill>
          <a:blip r:embed="rId1"/>
          <a:stretch/>
        </p:blipFill>
        <p:spPr>
          <a:xfrm>
            <a:off x="257040" y="620640"/>
            <a:ext cx="3883320" cy="2778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48320" y="1600200"/>
            <a:ext cx="40384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" descr="E:\Куликова\мои фото\2018\день св николая\100_3289.JPG"/>
          <p:cNvPicPr/>
          <p:nvPr/>
        </p:nvPicPr>
        <p:blipFill>
          <a:blip r:embed="rId2"/>
          <a:stretch/>
        </p:blipFill>
        <p:spPr>
          <a:xfrm>
            <a:off x="4613400" y="692280"/>
            <a:ext cx="3990960" cy="2695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E:\Куликова\мои фото\2018\Посадка деревьев\SDC12625.JPG"/>
          <p:cNvPicPr/>
          <p:nvPr/>
        </p:nvPicPr>
        <p:blipFill>
          <a:blip r:embed="rId3"/>
          <a:stretch/>
        </p:blipFill>
        <p:spPr>
          <a:xfrm>
            <a:off x="436680" y="3768840"/>
            <a:ext cx="3678120" cy="248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E:\Куликова\мои фото\2014\акция теплые окна\P1010578.JPG"/>
          <p:cNvPicPr/>
          <p:nvPr/>
        </p:nvPicPr>
        <p:blipFill>
          <a:blip r:embed="rId4"/>
          <a:stretch/>
        </p:blipFill>
        <p:spPr>
          <a:xfrm>
            <a:off x="4695840" y="3776760"/>
            <a:ext cx="390852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Куликова\мои фото\2017\день матери 2017\Изображение 009.jpg"/>
          <p:cNvPicPr/>
          <p:nvPr/>
        </p:nvPicPr>
        <p:blipFill>
          <a:blip r:embed="rId1"/>
          <a:stretch/>
        </p:blipFill>
        <p:spPr>
          <a:xfrm>
            <a:off x="179280" y="189000"/>
            <a:ext cx="3911760" cy="29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E:\Куликова\мои фото\2017\8 марта\Фото1660.jpg"/>
          <p:cNvPicPr/>
          <p:nvPr/>
        </p:nvPicPr>
        <p:blipFill>
          <a:blip r:embed="rId2"/>
          <a:stretch/>
        </p:blipFill>
        <p:spPr>
          <a:xfrm>
            <a:off x="4788000" y="189000"/>
            <a:ext cx="3960720" cy="30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E:\Куликова\мои фото\2015\родные напевы2016\DSCN2232.JPG"/>
          <p:cNvPicPr/>
          <p:nvPr/>
        </p:nvPicPr>
        <p:blipFill>
          <a:blip r:embed="rId3"/>
          <a:stretch/>
        </p:blipFill>
        <p:spPr>
          <a:xfrm>
            <a:off x="250920" y="3645000"/>
            <a:ext cx="38401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E:\Куликова\мои фото\2015\Фото0957.jpg"/>
          <p:cNvPicPr/>
          <p:nvPr/>
        </p:nvPicPr>
        <p:blipFill>
          <a:blip r:embed="rId4"/>
          <a:stretch/>
        </p:blipFill>
        <p:spPr>
          <a:xfrm>
            <a:off x="4932360" y="3755880"/>
            <a:ext cx="3308400" cy="24814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1121400" y="32130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ма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932800" y="33163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8 М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18800" y="6381720"/>
            <a:ext cx="43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йонный фестиваль Родные напе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4491000" y="6384960"/>
            <a:ext cx="46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курс рисунков «Наши бабушки и дедуш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DSC02397"/>
          <p:cNvPicPr/>
          <p:nvPr/>
        </p:nvPicPr>
        <p:blipFill>
          <a:blip r:embed="rId1"/>
          <a:stretch/>
        </p:blipFill>
        <p:spPr>
          <a:xfrm>
            <a:off x="4643280" y="15573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826920" y="5013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вещение семьи по вопросам духовно-нравственного воспитания, возрождение традиционного уклада жизни семьи и развитие семейных отношений на основе  российско-духовных и культурно-исторических традиций – важнейшее направление деятельности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E:\Куликова\мои фото\2017\Фото1498.jpg"/>
          <p:cNvPicPr/>
          <p:nvPr/>
        </p:nvPicPr>
        <p:blipFill>
          <a:blip r:embed="rId2"/>
          <a:stretch/>
        </p:blipFill>
        <p:spPr>
          <a:xfrm>
            <a:off x="395280" y="1557360"/>
            <a:ext cx="4032360" cy="295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26:05Z</dcterms:created>
  <dc:creator>Admin</dc:creator>
  <dc:description/>
  <dc:language>en-US</dc:language>
  <cp:lastModifiedBy>User</cp:lastModifiedBy>
  <dcterms:modified xsi:type="dcterms:W3CDTF">2019-01-11T15:33:30Z</dcterms:modified>
  <cp:revision>13</cp:revision>
  <dc:subject/>
  <dc:title>Слайд 1</dc:title>
</cp:coreProperties>
</file>