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369-8735-4E41-9120-A9EDB21B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DFA-7BF5-4315-8B6F-25772EBC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B4E-0AC0-45FA-AF82-74DA7DE6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4F8-D68E-4449-A052-A6863621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5C9-79BE-40BC-847B-54362726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6690-46B0-47BC-9241-5414555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7DA0-476D-4B82-ABDB-E746D16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9E56-6A94-45B7-A72D-4841F09A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632-1CE8-415C-8FFB-B9AEA5A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3D87-CC8C-418B-B689-6C51BAB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7C4D-EC27-4B34-810E-D2BF218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A59-AD85-4F92-98A6-8FC2D057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5469-3923-449D-800D-77B00765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3A9E-2534-4BC5-BB17-6EFC518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40A7-5DE5-4CB0-81CB-D5BBC69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893-49A7-4F38-8A73-4A92B6E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34EF-3CAF-4DD7-8E8F-6D011EE4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56CC-C8C1-4413-AD79-078057DF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25D9-1B40-446A-9090-D0331A5C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E140-3556-4C84-9D95-4D63CC70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4B17-A847-423B-ABD7-4D9322AD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0052-AB97-4D4C-8487-B871631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3AE-4677-4728-9561-E60DBD9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434F-092D-411F-953D-863DD07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7E1F-F6E6-4350-A86F-841536F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F3D1-E0BC-47B4-A2DD-13FA135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1154-97CA-4C92-BF56-A5EA0B7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6031-31E8-439D-AECD-FC20172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0FFB-56A8-419B-AFF8-D4D54B05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7CD0-5010-4555-8A2D-77522A3E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FFA8-34F2-4866-A109-7118259D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A7CE-4A58-46E7-965B-37144AB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BBBD-201B-408D-BC40-775159E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70F-5EE9-4442-AD7C-4AAFC3C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9989-C8D4-415D-A387-F5634BBB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3DF9-F38B-4495-B95A-C16F38B1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634C-D32E-4880-BFD4-0F74E645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63DE-0C11-44C4-AD47-8FC6C66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5B614-7A3B-4A5E-99B5-114DB19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1BFC-3966-4E11-84D2-0779DE6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7AE1-D17B-443F-83AA-C086F4D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F963-0DD4-4F42-8BB6-B91D34EA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6AAE-1E7A-4D38-B92F-09BA8F81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894-FE2F-40E4-9B0D-1B1D428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548-52EA-4831-93C2-F402010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B7E-486A-48AF-A866-D01DFDD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7A3-D7C9-45D4-B76F-2AA02DD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0B7-9E10-4082-980E-86CCF658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1DC-376D-4140-9C99-43455A13AE5C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419-819D-46B8-A641-ADC8EDFB90F6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6D0-A1FB-4BEE-9138-4B6FD175AB99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103-33E0-4382-9B80-09833AC7EB5C}" type="slidenum">
              <a:rPr b="1" lang="en-US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324000" y="1371600"/>
            <a:ext cx="5181480" cy="343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index"/>
          <p:cNvPicPr/>
          <p:nvPr/>
        </p:nvPicPr>
        <p:blipFill>
          <a:blip r:embed="rId3"/>
          <a:stretch/>
        </p:blipFill>
        <p:spPr>
          <a:xfrm>
            <a:off x="5292720" y="170964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10920" y="1557000"/>
            <a:ext cx="834372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en-US" sz="33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Разбить на логические част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Определить главную мысль частей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Записать ключевые слова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Слова – подсказки можно заменить схематическими рисункам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3399"/>
                </a:solidFill>
                <a:latin typeface="Times New Roman"/>
              </a:rPr>
              <a:t>Содержание частей, а потом и всего текста выразить несколькими предложениям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WordArt 5" descr=""/>
          <p:cNvPicPr/>
          <p:nvPr/>
        </p:nvPicPr>
        <p:blipFill>
          <a:blip r:embed="rId2"/>
          <a:stretch/>
        </p:blipFill>
        <p:spPr>
          <a:xfrm>
            <a:off x="974880" y="401760"/>
            <a:ext cx="7261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3640" y="1268280"/>
            <a:ext cx="8631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Об этом говорит и народная пословица «Повторение – мать 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Установлено, что 40% новой информации забывается уже через 30 минут, ещё 35- на следующий день и 20 % - через месяц. Остается в памяти 5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Поэтому повторять надо неоднократно: первый раз сразу после прочтения, второй – через час, третий – через день, а четвёртый - через месяц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Но если ученик не вникает в содержание материала, многократное повторение превращается в бессмысленную зубрёжку. Поэтому повторение надо разнообразить, привлекая иллюстрации или пример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979640" y="17136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. Необходимо повторить информацию в течение 20 секунд сразу после ее восприятия (имена, телефоны, даты и т. п.), так как самая большая потеря информации приходится на первые стадии запоминания, следующие непосредственно за восприятием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. Промежутки времени между повторениями информации нужно по возможности удлинять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3. Количество повторений должно выбираться с некоторым запасом. Следует придерживаться простого правила: число повторений должно быть таким, чтобы в течение необходимого промежутка времени информация не пропадала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469800" y="165240"/>
            <a:ext cx="8528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7985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. повтори про себя или вслух то, что нужно запомнить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. повтори через 1 секунду, через 2 секунды, через 4 секунды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3. повтори, выждав 10 минут (для запечатления)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4. для перевода материала в долговременную память повтори его через 2-3 часа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5. повтори через 2 дня, через 5 дней (для закрепления в долговременной памяти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2054160" y="285840"/>
            <a:ext cx="46753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6520" y="1311120"/>
            <a:ext cx="842508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абота с тестом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П – Посмотри текс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 П – Придумай к нему вопрос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П – Пометь карандашом самые важные мест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 П – Перескажи текс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 П – Просмотри текст повторно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1979640" y="620640"/>
            <a:ext cx="511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 5 «П»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Рекомендации для успешного усвоения материала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. Поставить задачу быстро и прочно запомнить учебный материал на длительное врем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. Сосредоточить все внимание на том, что надо усвои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3. Хорошо понять учебный материал, связав его с тем, что уже известно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4. Составить план запоминаемого текста, выделив в нем основные мысли, разбить текст на част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5. Если материал большой, последовательно усваивать одну часть за другой, а затем уже излагать все в цело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6. После прочтения материала надо его воспроизводить (рассказывать прочитанное). В случае забывания не надо спешить заглядывать в учебник, следует стараться припомнить забыто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7. Повторять материал, пока он еще не забыт</a:t>
            </a:r>
            <a:r>
              <a:rPr b="0" lang="ru-RU" sz="26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8. Распределять повторения на более продолжительное время (не повторять "залпом", например, только перед самым экзаменом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9. Использовать при запоминании разные виды памяти (прежде всего смысловую) и некоторые индивидуальные особенности своей памяти (зрительную, слуховую или двигательную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10. В зависимости от формы и стиля усваиваемой информации использовать различные мнемические приёмы, мнемотехнику и любые другие эффективные средства быстрого и прочного запоми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9640" y="731880"/>
            <a:ext cx="8353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. Трудный материал следует повторять перед сном, а затем утром, "на свежую память"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. Стараться применять полученные знания на деле. Это лучший способ их сохранения в памя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3. Надо увеличивать объём приобретаемых знаний, связывая новое с тем, что уже известно, что усвоено. Чем больше запас сведений, тем легче прибавлять к ним новые зн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95280" y="189000"/>
            <a:ext cx="82090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Times New Roman"/>
              </a:rPr>
              <a:t>Память</a:t>
            </a: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 – это способность запоминать то, что мы видим, слышим, говорим и делаем, сохранять все это и в нужный момент воспроизводить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4" descr="images"/>
          <p:cNvPicPr/>
          <p:nvPr/>
        </p:nvPicPr>
        <p:blipFill>
          <a:blip r:embed="rId2"/>
          <a:stretch/>
        </p:blipFill>
        <p:spPr>
          <a:xfrm>
            <a:off x="3014640" y="36957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000" y="549360"/>
            <a:ext cx="8064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пециальное дыхательное упражнение для активизации работы мозга перед запоминанием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делайте энергичный выдох, зажмите правую ноздрю большим пальцем и вдохните воздух через левую ноздрю за 4 секунд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Задержите дыхание на 10-16 секун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Зажмите левую ноздрю, освободив правую, и выдохните воздух за 8 секун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Так делайте от трех до семи раз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476280"/>
            <a:ext cx="86310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7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Группировк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</a:rPr>
              <a:t>разбивка материала на группы по каким-либо основаниям (смыслу, ассоциациям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39640" y="3213000"/>
            <a:ext cx="8064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167760" algn="ctr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1. анализ имеющегося материала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2. выделение признака или признаков, по которым будет осуществляться группировка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21306a"/>
                </a:solidFill>
                <a:latin typeface="Times New Roman"/>
              </a:rPr>
              <a:t>3. разнесение по группам необходимой информации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240" indent="-1677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26560" y="1844640"/>
            <a:ext cx="7705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Запомните слова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Альпы, Волга, сосна, Кавказ, Байкал, тополь, Иссык - Куль, Обь, Карпаты, Дунай, берёза, Ладожское, дуб, Гималаи, ясень, Енисей, Балхаш, Днепр, Алтай, липа, Балатон, Рейн, Саяны, лиственница, Онежское, Амур, Памир, Чудск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2843280" y="549360"/>
            <a:ext cx="374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ировка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539640" y="1700280"/>
          <a:ext cx="7920000" cy="4495680"/>
        </p:xfrm>
        <a:graphic>
          <a:graphicData uri="http://schemas.openxmlformats.org/drawingml/2006/table">
            <a:tbl>
              <a:tblPr/>
              <a:tblGrid>
                <a:gridCol w="1870200"/>
                <a:gridCol w="1870200"/>
                <a:gridCol w="1869840"/>
                <a:gridCol w="230976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е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зё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ль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ун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Кав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ссык-К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адож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ерё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ая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й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лх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Карп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не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Бала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яс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Па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Ени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Чуд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л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WordArt 79"/>
          <p:cNvSpPr txBox="1"/>
          <p:nvPr/>
        </p:nvSpPr>
        <p:spPr>
          <a:xfrm>
            <a:off x="2843280" y="69228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уппировка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4360" y="1989000"/>
            <a:ext cx="74880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распределение каких-либо предметов, явлений, понятий по классам, группам, разрядам на основе определенных общих признаков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979640" y="765000"/>
            <a:ext cx="42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ификация -</a:t>
            </a:r>
            <a:endParaRPr b="1" i="1" lang="en-US" sz="40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971640" y="2133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Принципом данного приема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является выделение из какого-либо содержания главной мысли, запомнив которую можно было бы восстановить исходное содержание (тезисы, заглавие, вопросы и др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1547640" y="72864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еление опорных пунктов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39280" y="166536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</a:rPr>
              <a:t>Алгоритм действ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1. анализ материала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2. поиск ключевых слов, понятий, предложений, закономерностей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3. фиксация опорного пункта (слово, понятие, предложение и т.д.) в словесном или графическом виде</a:t>
            </a:r>
            <a:r>
              <a:rPr b="1" i="1" lang="ru-RU" sz="36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1763640" y="72864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еление опорных пунктов</a:t>
            </a:r>
            <a:endParaRPr b="1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5:16:47Z</dcterms:created>
  <dc:creator>user</dc:creator>
  <dc:description/>
  <dc:language>en-US</dc:language>
  <cp:lastModifiedBy>Your User Name</cp:lastModifiedBy>
  <cp:lastPrinted>2014-03-16T09:44:57Z</cp:lastPrinted>
  <dcterms:modified xsi:type="dcterms:W3CDTF">2014-11-05T04:37:28Z</dcterms:modified>
  <cp:revision>54</cp:revision>
  <dc:subject/>
  <dc:title>МАСТЕР-КЛАСС учителя географии МОУ Зиминский лицей</dc:title>
</cp:coreProperties>
</file>