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57D-A93B-42AA-A78B-B567D877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146-F95D-4D4B-BBD2-9FA3334D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D29-DDCD-49D1-A683-72E1062A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A73-47CA-455E-A531-91912D59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F390-525E-421C-BCF5-B2635809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391A-5B18-47DB-A005-944CCDA4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7177-143C-4F89-8CBA-EFB26047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FF2C-133E-4CF9-A80F-3B4EA088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2A4F-2DC0-4BC0-8627-1D2876C7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65AA-B948-4ABF-8714-3DD924A6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B4F9-7F7A-455A-8BFC-A09E8F70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0F0-6BFD-40B2-B5B9-D722AC98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BF07-9614-44C9-9A25-C3EBDB36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B697-6B48-46CF-80AE-D758196B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3773-F5AF-4401-8D50-073F0DEB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B36F-C054-4671-8E3D-EAF84C69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32D1-C891-4BF6-901C-B390F8DE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C796-AA8E-4C50-9A1C-215ADD0D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D4046-18F8-499E-880D-25995651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3FB9-B602-48E2-90F8-A6358FD9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D039-8EBB-40BA-8741-28CA0652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1D04-C68F-43AE-94C9-AFDEB1C7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52C-C7E1-4067-AA57-92522348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74F44-9E9A-4D01-AED2-96CFA534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C225-67E1-4A2F-8D30-A4459B3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861D-7263-42ED-97B4-7381E4C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86F9-96DE-47DD-BC43-DE9A66B9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06002-C24F-4EC9-B152-23005A76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2E6DB-5074-499E-9373-2407EB51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3DE7-C486-4C47-93AB-D7F7BE91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8D92-4CD3-4F60-9EF3-C7755F8C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98D01-BA65-437E-8AA6-6F276D63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A84D-2C59-43D6-872F-50713BB5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A19-74F9-4006-A10B-38B1303A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C991-45E9-44DF-B5F6-D968E612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BDEA-02FF-485C-9815-9BE12A2C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6909-A3F9-445B-8C42-1414BDB2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FAFBF-F4FB-499A-9050-7D5D3B7C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F969B-46D4-4FBC-B745-93E9DA5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F221-E63D-4135-BC7A-F3CD3F06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B705A-225A-4C51-BB32-F45024BD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5DF0-8F9C-4085-9DB8-1D6D0759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7CAE-C3E5-46C6-925D-858AD720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E3D-1320-487A-BACE-B1A8DAEB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693-9245-4896-AE17-DABF88E8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539-BD74-4DDF-8D67-DBCEBB5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A39-B4B2-4846-91BF-0924928E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DD9-E570-4122-A68D-70E55A7B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69AD-EFE4-4606-A044-CE9C64137727}" type="slidenum">
              <a:rPr b="1" lang="en-US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7309-2796-4114-A48C-D3DDBE8B1E49}" type="slidenum">
              <a:rPr b="1" lang="en-US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47C9-3380-435B-A470-7DFC6D7DC419}" type="slidenum">
              <a:rPr b="1" lang="en-US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8356-C6CC-4586-8324-DF60C56F0C14}" type="slidenum">
              <a:rPr b="1" lang="en-US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2"/>
          <a:stretch/>
        </p:blipFill>
        <p:spPr>
          <a:xfrm>
            <a:off x="324000" y="1371600"/>
            <a:ext cx="5181480" cy="343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index"/>
          <p:cNvPicPr/>
          <p:nvPr/>
        </p:nvPicPr>
        <p:blipFill>
          <a:blip r:embed="rId3"/>
          <a:stretch/>
        </p:blipFill>
        <p:spPr>
          <a:xfrm>
            <a:off x="5292720" y="170964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10920" y="1557000"/>
            <a:ext cx="834372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i="1" lang="en-US" sz="3300" spc="-1" strike="noStrike">
                <a:solidFill>
                  <a:srgbClr val="0000cc"/>
                </a:solidFill>
                <a:latin typeface="Times New Roman"/>
              </a:rPr>
              <a:t>Алгоритм действий: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99"/>
                </a:solidFill>
                <a:latin typeface="Times New Roman"/>
              </a:rPr>
              <a:t>Разбить на логические части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99"/>
                </a:solidFill>
                <a:latin typeface="Times New Roman"/>
              </a:rPr>
              <a:t>Определить главную мысль частей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99"/>
                </a:solidFill>
                <a:latin typeface="Times New Roman"/>
              </a:rPr>
              <a:t>Записать ключевые слова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99"/>
                </a:solidFill>
                <a:latin typeface="Times New Roman"/>
              </a:rPr>
              <a:t>Слова – подсказки можно заменить схематическими рисунками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99"/>
                </a:solidFill>
                <a:latin typeface="Times New Roman"/>
              </a:rPr>
              <a:t>Содержание частей, а потом и всего текста выразить несколькими предложениями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WordArt 5" descr=""/>
          <p:cNvPicPr/>
          <p:nvPr/>
        </p:nvPicPr>
        <p:blipFill>
          <a:blip r:embed="rId2"/>
          <a:stretch/>
        </p:blipFill>
        <p:spPr>
          <a:xfrm>
            <a:off x="974880" y="401760"/>
            <a:ext cx="7261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3640" y="1268280"/>
            <a:ext cx="8631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Об этом говорит и народная пословица «Повторение – мать уч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Установлено, что 40% новой информации забывается уже через 30 минут, ещё 35- на следующий день и 20 % - через месяц. Остается в памяти 5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Поэтому повторять надо неоднократно: первый раз сразу после прочтения, второй – через час, третий – через день, а четвёртый - через месяц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Но если ученик не вникает в содержание материала, многократное повторение превращается в бессмысленную зубрёжку. Поэтому повторение надо разнообразить, привлекая иллюстрации или пример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979640" y="171360"/>
            <a:ext cx="489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торение</a:t>
            </a:r>
            <a:endParaRPr b="1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79280" y="169992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1. Необходимо повторить информацию в течение 20 секунд сразу после ее восприятия (имена, телефоны, даты и т. п.), так как самая большая потеря информации приходится на первые стадии запоминания, следующие непосредственно за восприятием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2. Промежутки времени между повторениями информации нужно по возможности удлинять.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3. Количество повторений должно выбираться с некоторым запасом. Следует придерживаться простого правила: число повторений должно быть таким, чтобы в течение необходимого промежутка времени информация не пропадала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Заголовок 1" descr=""/>
          <p:cNvPicPr/>
          <p:nvPr/>
        </p:nvPicPr>
        <p:blipFill>
          <a:blip r:embed="rId2"/>
          <a:stretch/>
        </p:blipFill>
        <p:spPr>
          <a:xfrm>
            <a:off x="469800" y="165240"/>
            <a:ext cx="85280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7985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1. повтори про себя или вслух то, что нужно запомнить;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2. повтори через 1 секунду, через 2 секунды, через 4 секунды;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3. повтори, выждав 10 минут (для запечатления);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4. для перевода материала в долговременную память повтори его через 2-3 часа;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5. повтори через 2 дня, через 5 дней (для закрепления в долговременной памяти)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Заголовок 1" descr=""/>
          <p:cNvPicPr/>
          <p:nvPr/>
        </p:nvPicPr>
        <p:blipFill>
          <a:blip r:embed="rId2"/>
          <a:stretch/>
        </p:blipFill>
        <p:spPr>
          <a:xfrm>
            <a:off x="2054160" y="285840"/>
            <a:ext cx="46753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26520" y="1311120"/>
            <a:ext cx="842508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Работа с тестом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 П – Посмотри текст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 П – Придумай к нему вопросы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П – Пометь карандашом самые важные мест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 П – Перескажи текс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 П – Просмотри текст повторно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1979640" y="620640"/>
            <a:ext cx="511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 5 «П»</a:t>
            </a:r>
            <a:endParaRPr b="1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Рекомендации для успешного усвоения материала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1. Поставить задачу быстро и прочно запомнить учебный материал на длительное врем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2. Сосредоточить все внимание на том, что надо усвоить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3. Хорошо понять учебный материал, связав его с тем, что уже известно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4. Составить план запоминаемого текста, выделив в нем основные мысли, разбить текст на част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5. Если материал большой, последовательно усваивать одну часть за другой, а затем уже излагать все в целом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6. После прочтения материала надо его воспроизводить (рассказывать прочитанное). В случае забывания не надо спешить заглядывать в учебник, следует стараться припомнить забытое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7. Повторять материал, пока он еще не забыт</a:t>
            </a:r>
            <a:r>
              <a:rPr b="0" lang="ru-RU" sz="26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2364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8. Распределять повторения на более продолжительное время (не повторять "залпом", например, только перед самым экзаменом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9. Использовать при запоминании разные виды памяти (прежде всего смысловую) и некоторые индивидуальные особенности своей памяти (зрительную, слуховую или двигательную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10. В зависимости от формы и стиля усваиваемой информации использовать различные мнемические приёмы, мнемотехнику и любые другие эффективные средства быстрого и прочного запомина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9640" y="731880"/>
            <a:ext cx="8353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. Трудный материал следует повторять перед сном, а затем утром, "на свежую память"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2. Стараться применять полученные знания на деле. Это лучший способ их сохранения в памят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3. Надо увеличивать объём приобретаемых знаний, связывая новое с тем, что уже известно, что усвоено. Чем больше запас сведений, тем легче прибавлять к ним новые зна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95280" y="189000"/>
            <a:ext cx="820908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Times New Roman"/>
              </a:rPr>
              <a:t>Память</a:t>
            </a: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 – это способность запоминать то, что мы видим, слышим, говорим и делаем, сохранять все это и в нужный момент воспроизводить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4" descr="images"/>
          <p:cNvPicPr/>
          <p:nvPr/>
        </p:nvPicPr>
        <p:blipFill>
          <a:blip r:embed="rId2"/>
          <a:stretch/>
        </p:blipFill>
        <p:spPr>
          <a:xfrm>
            <a:off x="3014640" y="369576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4000" y="549360"/>
            <a:ext cx="80643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Специальное дыхательное упражнение для активизации работы мозга перед запоминанием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Сделайте энергичный выдох, зажмите правую ноздрю большим пальцем и вдохните воздух через левую ноздрю за 4 секунд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Задержите дыхание на 10-16 секун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Зажмите левую ноздрю, освободив правую, и выдохните воздух за 8 секун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Так делайте от трех до семи раз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476280"/>
            <a:ext cx="863100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7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</a:rPr>
              <a:t>Группировк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22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306a"/>
                </a:solidFill>
                <a:latin typeface="Times New Roman"/>
              </a:rPr>
              <a:t>разбивка материала на группы по каким-либо основаниям (смыслу, ассоциациям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39640" y="3213000"/>
            <a:ext cx="8064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167760" algn="ctr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cc"/>
                </a:solidFill>
                <a:latin typeface="Times New Roman"/>
              </a:rPr>
              <a:t>Алгоритм действий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210240" indent="-1677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21306a"/>
                </a:solidFill>
                <a:latin typeface="Times New Roman"/>
              </a:rPr>
              <a:t>1. анализ имеющегося материала;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210240" indent="-1677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21306a"/>
                </a:solidFill>
                <a:latin typeface="Times New Roman"/>
              </a:rPr>
              <a:t>2. выделение признака или признаков, по которым будет осуществляться группировка;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210240" indent="-1677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21306a"/>
                </a:solidFill>
                <a:latin typeface="Times New Roman"/>
              </a:rPr>
              <a:t>3. разнесение по группам необходимой информации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210240" indent="-1677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240" indent="-1677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26560" y="1844640"/>
            <a:ext cx="7705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Запомните слова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Альпы, Волга, сосна, Кавказ, Байкал, тополь, Иссык - Куль, Обь, Карпаты, Дунай, берёза, Ладожское, дуб, Гималаи, ясень, Енисей, Балхаш, Днепр, Алтай, липа, Балатон, Рейн, Саяны, лиственница, Онежское, Амур, Памир, Чудск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2843280" y="549360"/>
            <a:ext cx="374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ировка</a:t>
            </a:r>
            <a:endParaRPr b="1" i="1" lang="en-US" sz="40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539640" y="1700280"/>
          <a:ext cx="7920000" cy="4495680"/>
        </p:xfrm>
        <a:graphic>
          <a:graphicData uri="http://schemas.openxmlformats.org/drawingml/2006/table">
            <a:tbl>
              <a:tblPr/>
              <a:tblGrid>
                <a:gridCol w="1870200"/>
                <a:gridCol w="1870200"/>
                <a:gridCol w="1869840"/>
                <a:gridCol w="2309760"/>
              </a:tblGrid>
              <a:tr h="63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о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е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зё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Аль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ун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Байк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Кавк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ол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Иссык-К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топ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Гимала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Ладож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берё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Сая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ей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Балх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Карп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неп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Балат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яс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Пами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Енис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Чуд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ли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Ал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Аму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Онеж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WordArt 79"/>
          <p:cNvSpPr txBox="1"/>
          <p:nvPr/>
        </p:nvSpPr>
        <p:spPr>
          <a:xfrm>
            <a:off x="2843280" y="692280"/>
            <a:ext cx="338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ировка</a:t>
            </a:r>
            <a:endParaRPr b="1" i="1" lang="en-US" sz="40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84360" y="1989000"/>
            <a:ext cx="748800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распределение каких-либо предметов, явлений, понятий по классам, группам, разрядам на основе определенных общих признаков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1979640" y="765000"/>
            <a:ext cx="424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ификация -</a:t>
            </a:r>
            <a:endParaRPr b="1" i="1" lang="en-US" sz="40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971640" y="213372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Принципом данного приема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является выделение из какого-либо содержания главной мысли, запомнив которую можно было бы восстановить исходное содержание (тезисы, заглавие, вопросы и др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WordArt 8"/>
          <p:cNvSpPr txBox="1"/>
          <p:nvPr/>
        </p:nvSpPr>
        <p:spPr>
          <a:xfrm>
            <a:off x="1547640" y="728640"/>
            <a:ext cx="62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деление опорных пунктов</a:t>
            </a:r>
            <a:endParaRPr b="1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39280" y="166536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Алгоритм действи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1. анализ материала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2. поиск ключевых слов, понятий, предложений, закономерностей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3. фиксация опорного пункта (слово, понятие, предложение и т.д.) в словесном или графическом виде</a:t>
            </a:r>
            <a:r>
              <a:rPr b="1" i="1" lang="ru-RU" sz="3600" spc="-1" strike="noStrike">
                <a:solidFill>
                  <a:srgbClr val="40404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1763640" y="728640"/>
            <a:ext cx="62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деление опорных пунктов</a:t>
            </a:r>
            <a:endParaRPr b="1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5:16:47Z</dcterms:created>
  <dc:creator>user</dc:creator>
  <dc:description/>
  <dc:language>en-US</dc:language>
  <cp:lastModifiedBy>Your User Name</cp:lastModifiedBy>
  <cp:lastPrinted>2014-03-16T09:44:57Z</cp:lastPrinted>
  <dcterms:modified xsi:type="dcterms:W3CDTF">2014-11-05T04:37:28Z</dcterms:modified>
  <cp:revision>54</cp:revision>
  <dc:subject/>
  <dc:title>МАСТЕР-КЛАСС учителя географии МОУ Зиминский лицей</dc:title>
</cp:coreProperties>
</file>