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BEE-7537-4277-93D0-02DC8201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719-8D7B-4CA1-8D02-30BEF3E2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89A-9FDA-494E-BF05-EF4F0931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836-EF5A-4225-85A4-A8BB8ED3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5C4-AABB-42EB-A195-56651E2E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D05-70AB-4D95-B6DB-926489D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900-41A6-4DBE-83AD-429D9011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A00-75C6-4F83-8759-CD77331D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DFF-819F-4C8E-8AF8-6930BECE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975-0B49-4A31-968A-A0284133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B89-CE7C-4382-833B-7E929D3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E76-5E95-46AD-8D90-5A7385D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FA99-A51A-40D3-978D-EA5CEB047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ab06"/>
            </a:gs>
            <a:gs pos="100000">
              <a:srgbClr val="b4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1835280" y="2205000"/>
            <a:ext cx="56498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ОЛОКОСТ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9a00"/>
            </a:gs>
            <a:gs pos="50000">
              <a:srgbClr val="00cc99"/>
            </a:gs>
            <a:gs pos="100000">
              <a:srgbClr val="4d9a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жение евреев в Германии в 1933—1939 годах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Несмотря на явно дискриминационную политику по отношению к евреям, геноцид начался далеко не сразу после прихода нацистов к власти. Начало преследованиям положил бойкот евреев с 1 апреля 1933 года и последующая волна расовых законов, нацеленных на евреев, работавших в государственных учреждениях или по определённым профессиям. «Нюрнбергский закон» от 15 сентября 1935 года положил конец равноправию евреев в Германии и определял еврейство в расовых терминах. В начале 1939 года Гитлер поручил «ответственному за 4-летний план» Герману Герингу подготовить меры по выселению евреев Германии. Начало Второй мировой войны не только увеличило их количество, но и осложнило пути для легальной эмиг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4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2a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жение евреев во время войн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Гет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В крупных городах создавались еврейские гетто, куда сгонялось всё еврейское население города и окрестностей. Крупнейшее гетто было создано в Варшаве, в нём содержалось до 480 000 евре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Массовые расстр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«Окончательное решение еврейского вопроса»</a:t>
            </a:r>
            <a:r>
              <a:rPr b="0" lang="ru-RU" sz="2400" spc="-1" strike="noStrike">
                <a:solidFill>
                  <a:srgbClr val="000000"/>
                </a:solidFill>
                <a:latin typeface="Perpetua Titling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Евреев Германии, Франции, Голландии, Бельгии посылали на восток, в лагеря и гетто Польши и Белоруссии, рассказывая им о временности такого переселения. В Польше создавались лагеря смерти, которые вообще не были рассчитаны на проживание большого количества людей — только на быстрое уничтожение новоприбыв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4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Холокост в Северной Афр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С 1940 по 1942 годы французская Северная Африка (Алжир и Тунис) находилась под контролем коллаборационистского правительства Виши. В Алжире и Тунисе евреев сразу же начали преследовать в точности так, как это происходило в оккупированной нацистами Европе — лишили гражданских прав и возможностей заработка, заставили прикрепить к одежде жёлтые звезды, создали юденраты, погнали на принудительные работы, загнали в концентрационные лагеря и гетто, наложили контрибуции, начали готовить к депортации в лагеря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Конец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Когда неизбежность поражения Германии уже не вызывала сомнений, некоторые нацистские руководители пытались использовать евреев для установления связи с союзниками, в то время как другие (прежде всего Гитлер) продолжали требовать тотального уничтожения тех, кто ещё оставался в жи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9a4e"/>
            </a:gs>
            <a:gs pos="50000">
              <a:srgbClr val="c4b600"/>
            </a:gs>
            <a:gs pos="100000">
              <a:srgbClr val="a09a4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противление и Праведники ми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Отсутствие чёткой информации о планах нацистов по тотальному уничтожению еврейского народа привело к тому, что жители гетто пытались выполнять требования оккупантов, стремясь выжить. Печальную известность получила речь главы Лодзинского гетто Х. Румковского с требованием отдать нацистам еврейских детей в надежде спасти остальных обитателей. Лишь после того, как исход стал окончательно ясен, в лагерях и гетто начались восстания; наиболее известно восстание в Варшавском гетто в январе 1943 года. Активным центром сопротивления было Минское гетто. Гетто в Белостоке, содержавшее в начале 50 000 евреев, было ликвидировано 16 августа 1943 года после пяти дней боев с еврейским подполь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da00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erpetua Titling MT"/>
              </a:rPr>
              <a:t>Последствия Шо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Из польских евреев выжило около 300 тысяч: 25 тысяч спаслись в Польше, 30 тысяч вернулись из лагерей принудительного труда, а остальные — это те, кто вернулся из СССР. Уничтожение еврейской жизни, разруха и взрыв антисемитизма, пик которого пришелся на погром в Кельце в июле 1946 года, вынудили большинство польских евреев оставить страну, отправившись в Центральную Европу. После 1946 года в Польше осталось только 50 тысяч евре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Были уничтожены не только люди — была уничтожена уникальная местная еврейская культура, уничтожена память о том, что она веками была неотъемлемой частью культуры Восточной Европы. Свидетельств этому практически не сохранилось. Евреи на этих землях, некогда бывших центром мирового еврейства, превратились в маргинальное меньшинство. В некотором смысле, нацисты со своими задачами по окончательному решению еврейского вопроса справились успеш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народы и группы — жертвы нацистской политик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а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ыг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рнокожие жители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мосексуал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00009820"/>
          <p:cNvPicPr/>
          <p:nvPr/>
        </p:nvPicPr>
        <p:blipFill>
          <a:blip r:embed="rId2"/>
          <a:stretch/>
        </p:blipFill>
        <p:spPr>
          <a:xfrm>
            <a:off x="4648320" y="1773360"/>
            <a:ext cx="4038480" cy="3960720"/>
          </a:xfrm>
          <a:prstGeom prst="rect">
            <a:avLst/>
          </a:prstGeom>
          <a:ln w="0">
            <a:noFill/>
          </a:ln>
        </p:spPr>
      </p:pic>
    </p:spTree>
  </p:cSld>
  <p:transition advTm="19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718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erpetua Titling MT"/>
              </a:rPr>
              <a:t>Отрицание холокос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Существует точка зрения, согласно которой холокост как явление не существовал в том виде, в каком его описывает общепринятая историография. Генеральная Ассамблея ООН без голосования в резолюции № 60/7 от 21 ноября 2005 г. отвергает любое полное или частичное отрицание холокоста как исторического события. А 26 января 2007 года накануне Международного дня памяти жертв Холокоста Генеральная ассамблея ООН приняла резолюцию № 61/255 «Отрицание Холокоста», осуждающую отрицание холокоста как исторического ф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339"/>
            </a:gs>
            <a:gs pos="50000">
              <a:srgbClr val="d5d000"/>
            </a:gs>
            <a:gs pos="100000">
              <a:srgbClr val="ad733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erpetua Titling MT"/>
              </a:rPr>
              <a:t>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До и во время Второй Мировой войны было множество трагических, жестоких и ужасающих событий для всего человечества! Одно из таких– это геноцид или холокост – истребление отдельных групп населения по расовым, национальным, этническим или религиозным признак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Сегодня знает каждый, что делалось по отношению к славянским народам и, особенно, к евреям нацистской Германией. Преследования, жестокие издевательства, пытки и убийства – все это применялось к неповинным людям. Еврейское население Европы уничтожалось десятками тысяч и ,даже, миллионами! Жестокость, ненависть и безжалостность нацистов поражает своими масштабами! Уничтожение целых рас людей – была главной задачей гитлеров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По поводу холокоста во времена Второй Мировой войны существует множество мнений, догадок и фактов. Его последствия – огромный отпечаток в жизни всего человечества! Эту тему невозможно оставить без внимания, и поэтому мы хотим рассказать о событиях того периода, и возможно развеять ваши сом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3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erpetua Titling MT"/>
              </a:rPr>
              <a:t>Память о холоко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Генеральная Ассамблея ООН, провозгласила 27 января, день освобождения Освенцима, Международным днём памяти жертв Холок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В день 60-й годовщины холокоста Европарламент принял резолюцию, осуждающую холок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Лидеры и представители более 40 государств, присутствовавших на памятной церемонии в Освенциме, среди которых был Владимир Путин, решительно осудили холокост, антисемитизм и ксенофоб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7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erpetua Titling MT"/>
              </a:rPr>
              <a:t>Холокост в искусств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Важным моментом в сохранении памяти людей холокоста и необходимости недопущения подобной трагедии впредь является художественное осмысление холокоста в литературе, кинематографе, музыке, изобразительном искусстве. Наиболее эмоционально эта тема раскрыта в кино. Первым из фильмов, рассказавших об ужасе Освенцима и холокоста был польский фильм «Последний этап» (1946). Среди наиболее ярких лент, посвящённых этой теме: «Пианист», «Список Шиндлера», «Ночь и туман», «Выбор Софи», «Жизнь прекрас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Finkel_07"/>
          <p:cNvPicPr/>
          <p:nvPr/>
        </p:nvPicPr>
        <p:blipFill>
          <a:blip r:embed="rId2"/>
          <a:stretch/>
        </p:blipFill>
        <p:spPr>
          <a:xfrm>
            <a:off x="1332000" y="1052640"/>
            <a:ext cx="2520720" cy="230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Finkel_06"/>
          <p:cNvPicPr/>
          <p:nvPr/>
        </p:nvPicPr>
        <p:blipFill>
          <a:blip r:embed="rId3"/>
          <a:stretch/>
        </p:blipFill>
        <p:spPr>
          <a:xfrm>
            <a:off x="5364000" y="1052640"/>
            <a:ext cx="2664000" cy="2330280"/>
          </a:xfrm>
          <a:prstGeom prst="rect">
            <a:avLst/>
          </a:prstGeom>
          <a:ln w="0">
            <a:noFill/>
          </a:ln>
        </p:spPr>
      </p:pic>
    </p:spTree>
  </p:cSld>
  <p:transition advTm="37000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здник Холок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4825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и из нас брили бо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ругие предавались размеренному забв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ближался учрежденный ООН праздник Холокост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нь Международного Взаимо-Уничт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ас настал, люди выплеснулись на у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оворы и праздничные песнопени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одят в гости, пьют, целуютс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р агонизирует веселие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 колючей проволокой волки скал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 взгляды устремились к не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рть придет сегодня отту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рыв жарким пледом огня планету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часах - обратный отсчет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нопки на пультах уже наж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олокост! - вопит очередной теле-спас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олокост!!! - вторит мир, безумьем объятый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ощ"/>
          <p:cNvPicPr/>
          <p:nvPr/>
        </p:nvPicPr>
        <p:blipFill>
          <a:blip r:embed="rId2"/>
          <a:stretch/>
        </p:blipFill>
        <p:spPr>
          <a:xfrm>
            <a:off x="5219640" y="1916280"/>
            <a:ext cx="3524400" cy="2466720"/>
          </a:xfrm>
          <a:prstGeom prst="rect">
            <a:avLst/>
          </a:prstGeom>
          <a:ln w="0">
            <a:noFill/>
          </a:ln>
        </p:spPr>
      </p:pic>
    </p:spTree>
  </p:cSld>
  <p:transition advTm="42000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 Titling MT"/>
              </a:rPr>
              <a:t>Утренний д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бо пл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ждем погреба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ень... Зим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но г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ется и во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грызая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гниющее мясо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на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рачи констатиров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ильную потерю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 тысячи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нес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е родными детьм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новные соверш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с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сож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чем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 этом теп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кому будет спросить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атолий Финк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Finkel_02"/>
          <p:cNvPicPr/>
          <p:nvPr/>
        </p:nvPicPr>
        <p:blipFill>
          <a:blip r:embed="rId2"/>
          <a:stretch/>
        </p:blipFill>
        <p:spPr>
          <a:xfrm>
            <a:off x="4859280" y="1125360"/>
            <a:ext cx="3133800" cy="4302360"/>
          </a:xfrm>
          <a:prstGeom prst="rect">
            <a:avLst/>
          </a:prstGeom>
          <a:ln w="0">
            <a:noFill/>
          </a:ln>
        </p:spPr>
      </p:pic>
    </p:spTree>
  </p:cSld>
  <p:transition advTm="46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erpetua Titling MT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…Пусть навсегд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онут цепи Смерти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 звон их, погребальный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морозил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смех детей восславит счастье -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знь, которую Свобода согревае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, проснувшись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через решётку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видеть небо и деревьев кроны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, не боясь, ладони матере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ржали жизн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частицы Солнц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ив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oudy Stout"/>
              </a:rPr>
              <a:t>ХОЛОК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a291c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a291c"/>
                </a:solidFill>
                <a:latin typeface="Perpetua Titling MT"/>
              </a:rPr>
              <a:t>Холоко́ст (от англ. holocaust,  — «всесожжение») — систематическое преследование и истребление немецкими нацистами и коллаборационистами из других стран евреев на основании нацистской расовой теории в 1933—1945 гг. Среди историков нет согласия по вопросу, относить ли к жертвам холокоста, помимо евреев, ещё какие-либо группы, пострадавшие от нацистского террора, например, цыган и сексуальные меньшинства</a:t>
            </a:r>
            <a:r>
              <a:rPr b="1" i="1" lang="ru-RU" sz="2000" spc="-1" strike="noStrike">
                <a:solidFill>
                  <a:srgbClr val="000000"/>
                </a:solidFill>
                <a:latin typeface="Perpetua Titling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Finkel_04"/>
          <p:cNvPicPr/>
          <p:nvPr/>
        </p:nvPicPr>
        <p:blipFill>
          <a:blip r:embed="rId1"/>
          <a:stretch/>
        </p:blipFill>
        <p:spPr>
          <a:xfrm>
            <a:off x="4932360" y="1413000"/>
            <a:ext cx="3527280" cy="4713120"/>
          </a:xfrm>
          <a:prstGeom prst="rect">
            <a:avLst/>
          </a:prstGeom>
          <a:ln w="0">
            <a:noFill/>
          </a:ln>
        </p:spPr>
      </p:pic>
    </p:spTree>
  </p:cSld>
  <p:transition advTm="28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личительные черты холок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Преднамеренная попытка полного истребления целой нации, включая мужчин, женщин и детей, приведшая к уничтожению 60 % евреев Европы и примерно 35 % еврейского населения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00009826"/>
          <p:cNvPicPr/>
          <p:nvPr/>
        </p:nvPicPr>
        <p:blipFill>
          <a:blip r:embed="rId2"/>
          <a:stretch/>
        </p:blipFill>
        <p:spPr>
          <a:xfrm>
            <a:off x="755640" y="1628640"/>
            <a:ext cx="3740040" cy="3849840"/>
          </a:xfrm>
          <a:prstGeom prst="rect">
            <a:avLst/>
          </a:prstGeom>
          <a:ln w="0">
            <a:noFill/>
          </a:ln>
        </p:spPr>
      </p:pic>
    </p:spTree>
  </p:cSld>
  <p:transition advTm="18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9"/>
          <p:cNvSpPr/>
          <p:nvPr/>
        </p:nvSpPr>
        <p:spPr>
          <a:xfrm>
            <a:off x="539640" y="971640"/>
            <a:ext cx="37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Система, предназначенная для массового уничтожения людей: были построены лагеря смерти, предназначенные для убийства миллионов людей; при этом технология уничтожения</a:t>
            </a:r>
            <a:r>
              <a:rPr b="0" lang="ru-RU" sz="24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совершенствова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osvenzim09"/>
          <p:cNvPicPr/>
          <p:nvPr/>
        </p:nvPicPr>
        <p:blipFill>
          <a:blip r:embed="rId2"/>
          <a:stretch/>
        </p:blipFill>
        <p:spPr>
          <a:xfrm>
            <a:off x="4643280" y="1341360"/>
            <a:ext cx="3961080" cy="4032360"/>
          </a:xfrm>
          <a:prstGeom prst="rect">
            <a:avLst/>
          </a:prstGeom>
          <a:ln w="0">
            <a:noFill/>
          </a:ln>
        </p:spPr>
      </p:pic>
    </p:spTree>
  </p:cSld>
  <p:transition advTm="9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Грандиозные, межнациональные масштабы истребления: на всей оккупированной Германией территории Европы жертвы преследовались и отсылались в концентрационные лагеря и лагеря уничт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pic-8"/>
          <p:cNvPicPr/>
          <p:nvPr/>
        </p:nvPicPr>
        <p:blipFill>
          <a:blip r:embed="rId1"/>
          <a:stretch/>
        </p:blipFill>
        <p:spPr>
          <a:xfrm>
            <a:off x="900000" y="1484280"/>
            <a:ext cx="3311640" cy="4205160"/>
          </a:xfrm>
          <a:prstGeom prst="rect">
            <a:avLst/>
          </a:prstGeom>
          <a:ln w="0">
            <a:noFill/>
          </a:ln>
        </p:spPr>
      </p:pic>
    </p:spTree>
  </p:cSld>
  <p:transition advTm="29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2af"/>
            </a:gs>
            <a:gs pos="100000">
              <a:srgbClr val="c0c0c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Жестокие и часто приводящие к смерти антигуманные медицинские эксперименты, которые проводили нацисты над жертвами холокост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osvenzim12"/>
          <p:cNvPicPr/>
          <p:nvPr/>
        </p:nvPicPr>
        <p:blipFill>
          <a:blip r:embed="rId1"/>
          <a:stretch/>
        </p:blipFill>
        <p:spPr>
          <a:xfrm>
            <a:off x="4788000" y="1125360"/>
            <a:ext cx="3887640" cy="431964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holokost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00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56944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ноцид еврейского народа</a:t>
            </a:r>
            <a:br>
              <a:rPr sz="36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оа — Катастрофа европейского еврей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Шоа́́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 (ивр. </a:t>
            </a:r>
            <a:r>
              <a:rPr b="0" i="1" lang="he-IL" sz="2400" spc="-1" strike="noStrike">
                <a:solidFill>
                  <a:srgbClr val="000000"/>
                </a:solidFill>
                <a:latin typeface="Perpetua Titling MT"/>
              </a:rPr>
              <a:t>שׁוֹאָה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‎ — 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бедствие, катастрофа) — термин, употребляемый евреями на иврите для обозначения политики немецких нацистов по планомерному уничтожению еврейского этноса. Традиционно жертвами Шоа считаются 6 миллионов евреев Европы. Тем не менее, полного поимённого списка жертв не существует. К концу войны нацисты уничтожали даже следы от лагерей смерти; сохранились свидетельства о вывозе либо уничтожении уже захороненных останков людей перед приходом советских войск. В Национальном Мемориале Катастрофы (Шоа) и Героизма «Яд ва-Шем» в Иерусалиме хранятся персональные документы, свидетельствующие о приблизительно 3 миллионах жер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3000"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3:58:29Z</dcterms:created>
  <dc:creator>НАТАША</dc:creator>
  <dc:description/>
  <dc:language>en-US</dc:language>
  <cp:lastModifiedBy>on</cp:lastModifiedBy>
  <dcterms:modified xsi:type="dcterms:W3CDTF">2019-01-11T02:37:29Z</dcterms:modified>
  <cp:revision>7</cp:revision>
  <dc:subject/>
  <dc:title>ХОЛОКО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60000000000010243100207f6000400038000</vt:lpwstr>
  </property>
</Properties>
</file>