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469-6D6D-49C9-BF45-9DDD1AB8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96D-9818-4E8C-AD26-F44890B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192-03C0-4319-9FA8-DEEE52F5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55B-0CB7-4DA6-809A-B10BBC93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80B-0BA6-48EC-964F-4A415463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D8D-7DC6-4AAA-8E59-5D93409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451-3D94-468C-90E3-5C1CF7E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EE6-04F9-478F-A2C8-0AB475AD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7B6-525C-48AD-94F6-DE019C8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261-292C-409C-AB9B-D72DB91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35E-6D82-4365-AA62-1EA81CF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9A3-8B53-4F5B-882F-5C916F3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535-3C0E-447C-8655-EAA5EEE34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b06"/>
            </a:gs>
            <a:gs pos="100000">
              <a:srgbClr val="b4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1835280" y="2205000"/>
            <a:ext cx="56498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ОЛОКОСТ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9a00"/>
            </a:gs>
            <a:gs pos="50000">
              <a:srgbClr val="00cc99"/>
            </a:gs>
            <a:gs pos="100000">
              <a:srgbClr val="4d9a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евреев в Германии в 1933—1939 года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Несмотря на явно дискриминационную политику по отношению к евреям, геноцид начался далеко не сразу после прихода нацистов к власти. Начало преследованиям положил бойкот евреев с 1 апреля 1933 года и последующая волна расовых законов, нацеленных на евреев, работавших в государственных учреждениях или по определённым профессиям. «Нюрнбергский закон» от 15 сентября 1935 года положил конец равноправию евреев в Германии и определял еврейство в расовых терминах. В начале 1939 года Гитлер поручил «ответственному за 4-летний план» Герману Герингу подготовить меры по выселению евреев Германии. Начало Второй мировой войны не только увеличило их количество, но и осложнило пути для легальной эмиг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2a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евреев во время войн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Гет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 крупных городах создавались еврейские гетто, куда сгонялось всё еврейское население города и окрестностей. Крупнейшее гетто было создано в Варшаве, в нём содержалось до 480 000 евре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Массовые расстр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«Окончательное решение еврейского вопроса»</a:t>
            </a:r>
            <a:r>
              <a:rPr b="0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Евреев Германии, Франции, Голландии, Бельгии посылали на восток, в лагеря и гетто Польши и Белоруссии, рассказывая им о временности такого переселения. В Польше создавались лагеря смерти, которые вообще не были рассчитаны на проживание большого количества людей — только на быстрое уничтожение новоприбыв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4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Холокост в Северной Аф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 1940 по 1942 годы французская Северная Африка (Алжир и Тунис) находилась под контролем коллаборационистского правительства Виши. В Алжире и Тунисе евреев сразу же начали преследовать в точности так, как это происходило в оккупированной нацистами Европе — лишили гражданских прав и возможностей заработка, заставили прикрепить к одежде жёлтые звезды, создали юденраты, погнали на принудительные работы, загнали в концентрационные лагеря и гетто, наложили контрибуции, начали готовить к депортации в лагеря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Конец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Когда неизбежность поражения Германии уже не вызывала сомнений, некоторые нацистские руководители пытались использовать евреев для установления связи с союзниками, в то время как другие (прежде всего Гитлер) продолжали требовать тотального уничтожения тех, кто ещё оставал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9a4e"/>
            </a:gs>
            <a:gs pos="50000">
              <a:srgbClr val="c4b600"/>
            </a:gs>
            <a:gs pos="100000">
              <a:srgbClr val="a09a4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противление и Праведники ми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Отсутствие чёткой информации о планах нацистов по тотальному уничтожению еврейского народа привело к тому, что жители гетто пытались выполнять требования оккупантов, стремясь выжить. Печальную известность получила речь главы Лодзинского гетто Х. Румковского с требованием отдать нацистам еврейских детей в надежде спасти остальных обитателей. Лишь после того, как исход стал окончательно ясен, в лагерях и гетто начались восстания; наиболее известно восстание в Варшавском гетто в январе 1943 года. Активным центром сопротивления было Минское гетто. Гетто в Белостоке, содержавшее в начале 50 000 евреев, было ликвидировано 16 августа 1943 года после пяти дней боев с еврейским подполь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da00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Последствия Шо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Из польских евреев выжило около 300 тысяч: 25 тысяч спаслись в Польше, 30 тысяч вернулись из лагерей принудительного труда, а остальные — это те, кто вернулся из СССР. Уничтожение еврейской жизни, разруха и взрыв антисемитизма, пик которого пришелся на погром в Кельце в июле 1946 года, вынудили большинство польских евреев оставить страну, отправившись в Центральную Европу. После 1946 года в Польше осталось только 50 тысяч евре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Были уничтожены не только люди — была уничтожена уникальная местная еврейская культура, уничтожена память о том, что она веками была неотъемлемой частью культуры Восточной Европы. Свидетельств этому практически не сохранилось. Евреи на этих землях, некогда бывших центром мирового еврейства, превратились в маргинальное меньшинство. В некотором смысле, нацисты со своими задачами по окончательному решению еврейского вопроса справились успе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народы и группы — жертвы нацистской политик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ы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нокожие жители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мосексуал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00009820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3960720"/>
          </a:xfrm>
          <a:prstGeom prst="rect">
            <a:avLst/>
          </a:prstGeom>
          <a:ln w="0">
            <a:noFill/>
          </a:ln>
        </p:spPr>
      </p:pic>
    </p:spTree>
  </p:cSld>
  <p:transition advTm="19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718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Отрицание холоко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уществует точка зрения, согласно которой холокост как явление не существовал в том виде, в каком его описывает общепринятая историография. Генеральная Ассамблея ООН без голосования в резолюции № 60/7 от 21 ноября 2005 г. отвергает любое полное или частичное отрицание холокоста как исторического события. А 26 января 2007 года накануне Международного дня памяти жертв Холокоста Генеральная ассамблея ООН приняла резолюцию № 61/255 «Отрицание Холокоста», осуждающую отрицание холокоста как исторического ф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339"/>
            </a:gs>
            <a:gs pos="50000">
              <a:srgbClr val="d5d000"/>
            </a:gs>
            <a:gs pos="100000">
              <a:srgbClr val="ad733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erpetua Titling MT"/>
              </a:rPr>
              <a:t>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До и во время Второй Мировой войны было множество трагических, жестоких и ужасающих событий для всего человечества! Одно из таких– это геноцид или холокост – истребление отдельных групп населения по расовым, национальным, этническим или религиозным призна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Сегодня знает каждый, что делалось по отношению к славянским народам и, особенно, к евреям нацистской Германией. Преследования, жестокие издевательства, пытки и убийства – все это применялось к неповинным людям. Еврейское население Европы уничтожалось десятками тысяч и ,даже, миллионами! Жестокость, ненависть и безжалостность нацистов поражает своими масштабами! Уничтожение целых рас людей – была главной задачей гитлеров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Perpetua Titling MT"/>
              </a:rPr>
              <a:t>По поводу холокоста во времена Второй Мировой войны существует множество мнений, догадок и фактов. Его последствия – огромный отпечаток в жизни всего человечества! Эту тему невозможно оставить без внимания, и поэтому мы хотим рассказать о событиях того периода, и возможно развеять ваши сом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Память о холоко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Генеральная Ассамблея ООН, провозгласила 27 января, день освобождения Освенцима, Международным днём памяти жертв Холок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 день 60-й годовщины холокоста Европарламент принял резолюцию, осуждающую холок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Лидеры и представители более 40 государств, присутствовавших на памятной церемонии в Освенциме, среди которых был Владимир Путин, решительно осудили холокост, антисемитизм и ксенофоб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7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erpetua Titling MT"/>
              </a:rPr>
              <a:t>Холокост в искусств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Важным моментом в сохранении памяти людей холокоста и необходимости недопущения подобной трагедии впредь является художественное осмысление холокоста в литературе, кинематографе, музыке, изобразительном искусстве. Наиболее эмоционально эта тема раскрыта в кино. Первым из фильмов, рассказавших об ужасе Освенцима и холокоста был польский фильм «Последний этап» (1946). Среди наиболее ярких лент, посвящённых этой теме: «Пианист», «Список Шиндлера», «Ночь и туман», «Выбор Софи», «Жизнь прекрас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Finkel_07"/>
          <p:cNvPicPr/>
          <p:nvPr/>
        </p:nvPicPr>
        <p:blipFill>
          <a:blip r:embed="rId2"/>
          <a:stretch/>
        </p:blipFill>
        <p:spPr>
          <a:xfrm>
            <a:off x="1332000" y="1052640"/>
            <a:ext cx="2520720" cy="23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Finkel_06"/>
          <p:cNvPicPr/>
          <p:nvPr/>
        </p:nvPicPr>
        <p:blipFill>
          <a:blip r:embed="rId3"/>
          <a:stretch/>
        </p:blipFill>
        <p:spPr>
          <a:xfrm>
            <a:off x="5364000" y="1052640"/>
            <a:ext cx="2664000" cy="2330280"/>
          </a:xfrm>
          <a:prstGeom prst="rect">
            <a:avLst/>
          </a:prstGeom>
          <a:ln w="0">
            <a:noFill/>
          </a:ln>
        </p:spPr>
      </p:pic>
    </p:spTree>
  </p:cSld>
  <p:transition advTm="37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здник Холок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825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и из нас брили бо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угие предавались размеренному забв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ближался учрежденный ООН праздник Холокост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нь Международного Взаимо-Уничт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с настал, люди выплеснулись на у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оворы и праздничные песнопени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дят в гости, пьют, целуютс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р агонизирует веселие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колючей проволокой волки скал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 взгляды устремились к не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рть придет сегодня отт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рыв жарким пледом огня планету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часах - обратный отсче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нопки на пультах уже наж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локост! - вопит очередной теле-спа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локост!!! - вторит мир, безумьем объятый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ощ"/>
          <p:cNvPicPr/>
          <p:nvPr/>
        </p:nvPicPr>
        <p:blipFill>
          <a:blip r:embed="rId2"/>
          <a:stretch/>
        </p:blipFill>
        <p:spPr>
          <a:xfrm>
            <a:off x="5219640" y="1916280"/>
            <a:ext cx="3524400" cy="2466720"/>
          </a:xfrm>
          <a:prstGeom prst="rect">
            <a:avLst/>
          </a:prstGeom>
          <a:ln w="0">
            <a:noFill/>
          </a:ln>
        </p:spPr>
      </p:pic>
    </p:spTree>
  </p:cSld>
  <p:transition advTm="42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 Titling MT"/>
              </a:rPr>
              <a:t>Утренни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бо пл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ждем погреб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ень... Зим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но 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ется и во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грыза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ниющее мясо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на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рачи констатир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ильную потерю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 тысячи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нес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е родными детьм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новные соверш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с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ож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чем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 этом теп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кому будет спросить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атолий Финк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Finkel_02"/>
          <p:cNvPicPr/>
          <p:nvPr/>
        </p:nvPicPr>
        <p:blipFill>
          <a:blip r:embed="rId2"/>
          <a:stretch/>
        </p:blipFill>
        <p:spPr>
          <a:xfrm>
            <a:off x="4859280" y="1125360"/>
            <a:ext cx="3133800" cy="4302360"/>
          </a:xfrm>
          <a:prstGeom prst="rect">
            <a:avLst/>
          </a:prstGeom>
          <a:ln w="0">
            <a:noFill/>
          </a:ln>
        </p:spPr>
      </p:pic>
    </p:spTree>
  </p:cSld>
  <p:transition advTm="46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erpetua Titling MT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…Пусть навсегд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онут цепи Смерт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 звон их, погребальный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морозил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смех детей восславит счастье -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знь, которую Свобода согревае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ы, проснувшис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через решётку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идеть небо и деревьев кроны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б, не боясь, ладони матере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ржали жизн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частицы Солнц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ив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oudy Stout"/>
              </a:rPr>
              <a:t>ХОЛОК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a291c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a291c"/>
                </a:solidFill>
                <a:latin typeface="Perpetua Titling MT"/>
              </a:rPr>
              <a:t>Холоко́ст (от англ. holocaust,  — «всесожжение») — систематическое преследование и истребление немецкими нацистами и коллаборационистами из других стран евреев на основании нацистской расовой теории в 1933—1945 гг. Среди историков нет согласия по вопросу, относить ли к жертвам холокоста, помимо евреев, ещё какие-либо группы, пострадавшие от нацистского террора, например, цыган и сексуальные меньшинства</a:t>
            </a:r>
            <a:r>
              <a:rPr b="1" i="1" lang="ru-RU" sz="2000" spc="-1" strike="noStrike">
                <a:solidFill>
                  <a:srgbClr val="000000"/>
                </a:solidFill>
                <a:latin typeface="Perpetua Titling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Finkel_04"/>
          <p:cNvPicPr/>
          <p:nvPr/>
        </p:nvPicPr>
        <p:blipFill>
          <a:blip r:embed="rId1"/>
          <a:stretch/>
        </p:blipFill>
        <p:spPr>
          <a:xfrm>
            <a:off x="4932360" y="1413000"/>
            <a:ext cx="3527280" cy="4713120"/>
          </a:xfrm>
          <a:prstGeom prst="rect">
            <a:avLst/>
          </a:prstGeom>
          <a:ln w="0">
            <a:noFill/>
          </a:ln>
        </p:spPr>
      </p:pic>
    </p:spTree>
  </p:cSld>
  <p:transition advTm="28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личительные черты холок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Преднамеренная попытка полного истребления целой нации, включая мужчин, женщин и детей, приведшая к уничтожению 60 % евреев Европы и примерно 35 % еврейского населения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0009826"/>
          <p:cNvPicPr/>
          <p:nvPr/>
        </p:nvPicPr>
        <p:blipFill>
          <a:blip r:embed="rId2"/>
          <a:stretch/>
        </p:blipFill>
        <p:spPr>
          <a:xfrm>
            <a:off x="755640" y="1628640"/>
            <a:ext cx="3740040" cy="3849840"/>
          </a:xfrm>
          <a:prstGeom prst="rect">
            <a:avLst/>
          </a:prstGeom>
          <a:ln w="0">
            <a:noFill/>
          </a:ln>
        </p:spPr>
      </p:pic>
    </p:spTree>
  </p:cSld>
  <p:transition advTm="18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9"/>
          <p:cNvSpPr/>
          <p:nvPr/>
        </p:nvSpPr>
        <p:spPr>
          <a:xfrm>
            <a:off x="539640" y="97164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истема, предназначенная для массового уничтожения людей: были построены лагеря смерти, предназначенные для убийства миллионов людей; при этом технология уничтожения</a:t>
            </a:r>
            <a:r>
              <a:rPr b="0" lang="ru-RU" sz="2400" spc="-1" strike="noStrike">
                <a:solidFill>
                  <a:srgbClr val="000000"/>
                </a:solidFill>
                <a:latin typeface="Perpetua Titling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совершенствова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osvenzim09"/>
          <p:cNvPicPr/>
          <p:nvPr/>
        </p:nvPicPr>
        <p:blipFill>
          <a:blip r:embed="rId2"/>
          <a:stretch/>
        </p:blipFill>
        <p:spPr>
          <a:xfrm>
            <a:off x="4643280" y="1341360"/>
            <a:ext cx="3961080" cy="40323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Грандиозные, межнациональные масштабы истребления: на всей оккупированной Германией территории Европы жертвы преследовались и отсылались в концентрационные лагеря и лагеря уничт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pic-8"/>
          <p:cNvPicPr/>
          <p:nvPr/>
        </p:nvPicPr>
        <p:blipFill>
          <a:blip r:embed="rId1"/>
          <a:stretch/>
        </p:blipFill>
        <p:spPr>
          <a:xfrm>
            <a:off x="900000" y="1484280"/>
            <a:ext cx="3311640" cy="4205160"/>
          </a:xfrm>
          <a:prstGeom prst="rect">
            <a:avLst/>
          </a:prstGeom>
          <a:ln w="0">
            <a:noFill/>
          </a:ln>
        </p:spPr>
      </p:pic>
    </p:spTree>
  </p:cSld>
  <p:transition advTm="29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82af"/>
            </a:gs>
            <a:gs pos="100000">
              <a:srgbClr val="c0c0c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Жестокие и часто приводящие к смерти антигуманные медицинские эксперименты, которые проводили нацисты над жертвами холокост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osvenzim12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holokost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0000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569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ноцид еврейского народа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оа — Катастрофа европейского еврей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erpetua Titling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 Titling MT"/>
              </a:rPr>
              <a:t>Шоа́́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 (ивр. </a:t>
            </a:r>
            <a:r>
              <a:rPr b="0" i="1" lang="he-IL" sz="2400" spc="-1" strike="noStrike">
                <a:solidFill>
                  <a:srgbClr val="000000"/>
                </a:solidFill>
                <a:latin typeface="Perpetua Titling MT"/>
              </a:rPr>
              <a:t>שׁוֹאָה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‎ — </a:t>
            </a:r>
            <a:r>
              <a:rPr b="0" i="1" lang="ru-RU" sz="2400" spc="-1" strike="noStrike">
                <a:solidFill>
                  <a:srgbClr val="000000"/>
                </a:solidFill>
                <a:latin typeface="Perpetua Titling MT"/>
              </a:rPr>
              <a:t>бедствие, катастрофа) — термин, употребляемый евреями на иврите для обозначения политики немецких нацистов по планомерному уничтожению еврейского этноса. Традиционно жертвами Шоа считаются 6 миллионов евреев Европы. Тем не менее, полного поимённого списка жертв не существует. К концу войны нацисты уничтожали даже следы от лагерей смерти; сохранились свидетельства о вывозе либо уничтожении уже захороненных останков людей перед приходом советских войск. В Национальном Мемориале Катастрофы (Шоа) и Героизма «Яд ва-Шем» в Иерусалиме хранятся персональные документы, свидетельствующие о приблизительно 3 миллионах жер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3:58:29Z</dcterms:created>
  <dc:creator>НАТАША</dc:creator>
  <dc:description/>
  <dc:language>en-US</dc:language>
  <cp:lastModifiedBy>on</cp:lastModifiedBy>
  <dcterms:modified xsi:type="dcterms:W3CDTF">2019-01-11T02:37:29Z</dcterms:modified>
  <cp:revision>7</cp:revision>
  <dc:subject/>
  <dc:title>ХОЛОКО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60000000000010243100207f6000400038000</vt:lpwstr>
  </property>
</Properties>
</file>