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8CD-A57D-41BC-939A-1E77207B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906-151C-448A-A6FC-4DCD999C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FE894-8E7C-4709-93DE-E0B5B03B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7D099-F865-472E-A920-C9BCAFB7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C5260-003C-44F5-A3B9-EFA74B84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03E18-2947-4744-864E-E6229F35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AB755-BF65-4EC0-B361-49685414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76C43-D6D7-42DA-B591-C3D4B951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A7B88-111D-479D-ADFF-6C68AE9A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166BA-7E17-41BF-BF32-3E6FB0FE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E1277-2DBD-4E9B-B4C8-DC2CCDB3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0C45D-E99A-4111-8584-4C256459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784-A8EF-4397-B8B3-E8FFB2C2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6F25E-4A3B-4EFE-8DFA-8D34837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6D07A-77C2-4483-9B7A-50A424E0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4FF7C-6B95-406E-9C4B-8DA9FC76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17563-B770-4F0B-A498-1AC547AC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E37C6-2801-457C-BDD5-205BE3A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3BF10-4235-4205-8BDE-D8234A3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63624-D893-4E55-9861-D5EE5F4F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0DAF7-C9ED-4B12-A350-9E4C8E7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F8C27-7D00-43FA-916A-510BE5DF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C167D-631B-451B-BACE-B6180DE5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C40-33C1-4C62-8AF1-AEC2AA71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B5712-8C78-4B2F-B144-84CE4F7D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36A5B-C7CB-404F-8339-A12620E5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19D3C-C1CF-455B-949B-AC0B25F7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79C8B-2273-4D52-A47F-C9301FC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5F625-1096-4D76-A8D3-29CEC846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612CE-3667-4681-8564-9E355588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2E5A4-5D96-4781-BF80-DF489F26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4800B-2AA2-4EE1-9682-82C4191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DD97D-0C4F-4CA4-BFE4-65055EE6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7557B-BC66-4480-BBC9-7C0B5567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DE38-244A-4E51-80CF-C7663BBB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DFC11-5DFA-44AD-9446-51027EAB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D8F8E-11BA-492B-860D-49246D89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B08F0-508D-437B-A6B7-7981A725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B210F-83B5-4671-8093-14D71751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D97AB-0ED3-466C-BB26-2D3E3D68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C80C2-D6C1-4AF0-BE9B-195880E1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5C047-4B47-46EB-99CE-0AD8652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CA488-1123-41AB-8E98-FF3A2372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55953-5735-415A-9276-D61FA5C2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30A78-4F3C-4BAB-924A-841EE37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3B76-F554-40E6-9024-29DCC320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AEAA6-C97F-441D-9065-2FA5F2B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59220-1C56-4E57-A4D0-95E63E3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F02E9-5995-4180-A13B-D1F65984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85167-8C6B-4998-A3EB-1E9D7A59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1B15A-00A6-4D89-9606-FCA51E5D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3774-89D8-440A-93FD-9180062C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484C-68E1-4267-BF92-80DB3B0F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A8C4-EE02-44D4-A6F1-88F739A5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0D5C-028E-47A9-AB65-00177C66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48BA-0FB5-44DE-BEF2-EEDB4231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BC8-9CF4-44ED-9FE8-8471DD3F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AAC2-AD2D-4712-8F1E-9FC0914C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4D04-9EFF-4004-9C1B-064DA5F7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ACD9-264C-41A8-A9B0-C5DEC56C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FF10-B7E9-4EF3-A830-018084A1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C269-C229-40B9-ADB8-7FE0E4F2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6CBA-D4F5-4395-9458-23327424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A38E-BD33-4349-985E-C7560AE9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1CE8-0373-4FB5-8950-228A8836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29AF-E8AA-4BF4-A514-102ABF39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7E1F-B93C-4E24-A357-423A4B8F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87C-4B2E-4426-BDA7-63FAB7CA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D516-F1E0-4400-95DA-505E244C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5C9F-0C25-4267-BE5A-2DF440EA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D5BC-88F8-4FD9-9C9C-26DB705B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A3E57-F59D-459C-917F-6AFFCD7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A446-8A72-4CBC-89DC-C674CABC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B55E-DC9E-404F-8BE4-87D6463E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19B0-688E-4567-9938-6BF00BBD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CCB7-3322-4EE2-98F2-7C89176C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81EA-AAF6-4A7F-8F0B-984A8EB7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BA6A6-82C0-4534-9C29-640B2F05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5AF-6A22-4E81-8F00-BB7ADD39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FFAD6-EF40-4F3B-9AD7-5293D421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99164-B899-4D49-94F3-FDE71A6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3E76-25E6-4E6B-ADFD-AF43C55A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7231-775E-440A-8465-B6491D5B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9115B-A522-4BB5-9595-0AD3302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4FFBD-DDE8-4B37-8EA6-95A836DA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7D16-26E6-406A-A505-D44E0D0E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8946-CA48-44D7-9EB1-15412FCD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BA3C-60F3-45C2-B8BE-7EDA9AB8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817FA-907E-49B6-BF2D-D1080D57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59F-A545-422B-9638-03DA79F6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62DB-7370-4734-A4AB-DF0716B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CD778-AFAA-4C51-BF12-FF3A07F7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07B12-E6BD-46F6-8476-7E6073AC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FF0DD-0914-4C06-B091-B4416310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A6C1B-E393-4115-B698-CF2DEA1B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DCAB-93F5-4BBC-82E6-A856BA0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701D-D46E-45C4-A623-78A65E3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085FA-D89C-4398-96D0-8D616E98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6764-08B6-4675-B95D-47AC800D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9856D-DFC6-4666-96A9-6D192182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A3D-0BE0-41F2-BEAF-8639F00E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2A160-D3BC-4087-B391-1E059B17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E899-DA5A-4F3C-9F7C-0CD4348E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DFB86-35CF-4399-9713-5A208827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9304-3908-4F39-84A9-0DAB8278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5B581-24EE-4700-AE62-B23952A8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86DC3-6C0A-4A1A-9A73-123472B5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2DE58-D5A4-466F-9742-C731445B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B78C0-816B-4F89-A7D6-DDB2429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4983C-29F6-4904-A182-608BEB1A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F328-7469-4023-B284-EDE41E0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328-FEA2-4442-8A1E-66C3131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436C-90A2-4818-9311-AD0E9619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A15CF-6797-49D8-9E24-8CBF95B1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1968-98CF-46DE-BDD4-3667BD14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0A3A-CFC9-4441-B252-AFF7BFED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699D9-FE37-4023-BD22-0D2B441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4642C-6D81-4568-810B-69139C5D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BB0B0-DEA2-4447-A3B2-DC00698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4C7EE-BD97-47AC-B948-855299B7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DE94-D061-4EE1-AC57-BE08A3AE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63B9-549B-4485-BA73-F821BF3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F12-CB60-4703-B47D-72BB3D07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E29F8-E73B-45D3-B06E-619431E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207C-75BA-48C4-9F7B-85418953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3D5BD-9225-4673-B931-D641F196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96374-3BB5-4F3E-B6F4-DA948F35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5AFA5-B0C8-4856-9B38-6065D4DF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060B0-BFCE-4444-A206-3A6A9AE5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B91D8-291D-498A-97EC-FCF75A96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5FF3F-13E0-4131-9218-2796756D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08812-33A9-4260-B832-5D834D7A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03AEC-8027-462E-A2EA-23F9DD0E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C1F-443C-4128-8677-9B9D2C1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28DB9-B96D-4997-B965-183FD46B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74826-1124-4604-BD01-AC613D4B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8D14-6C2F-445C-BC1C-8111155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6EA24-CCF4-4677-8823-508AD7CD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519FB-2DBE-4A1F-AC84-7D4F8111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B1EFA-26D6-429C-B727-AC535977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C96FB-62F4-497E-B2C8-5AE40EC8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C8279-DBFE-4FE8-B766-549E287D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A8F2F-1D9D-43BB-A50E-7E1D3DD9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1E165-5CCF-45D0-9C4B-F7EFC542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A0A6-4ECB-4417-BDB8-74AFE48D60A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7A14-94D5-42B2-BB61-B2D96A69F2E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3AAB-127D-4D5A-9935-E5FB95D0546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F6BB-012B-4F8D-9427-735E12A687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062B-4FC2-488C-8B89-EA34352D261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AEB5-1C77-4505-9520-BCF7FA86E68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F5BD-6108-462B-901F-59E3DEFE59C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751A-15BB-49C8-BAEC-0223911ABD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C728-099A-4BDA-846E-4426623C7E3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519A-A4B0-41B0-8DB1-71D2FD1815D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AA86-2E18-4D90-B9F5-1D0FCE98378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304E-4B09-4F3E-BE59-51106C0A8F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Обучающее изложение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2960" y="1773360"/>
            <a:ext cx="8321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        </a:t>
            </a:r>
            <a:r>
              <a:rPr b="1" lang="ru-RU" sz="36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Над наличником окна было гнездо ласточек. Однажды из гнезда выпал птенчик. Ласточки кружились над ним и звучно пищали.</a:t>
            </a:r>
            <a:br>
              <a:rPr sz="3600"/>
            </a:br>
            <a:r>
              <a:rPr b="1" lang="ru-RU" sz="36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        Это увидел Петя. Он поднял птичку и посадил в гнездо. Ласточки весело защебетали.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C:\Users\chibrovama\Desktop\48921.jpg"/>
          <p:cNvPicPr/>
          <p:nvPr/>
        </p:nvPicPr>
        <p:blipFill>
          <a:blip r:embed="rId1"/>
          <a:stretch/>
        </p:blipFill>
        <p:spPr>
          <a:xfrm>
            <a:off x="3995640" y="136440"/>
            <a:ext cx="49690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Прямоугольник 1" descr=""/>
          <p:cNvPicPr/>
          <p:nvPr/>
        </p:nvPicPr>
        <p:blipFill>
          <a:blip r:embed="rId1"/>
          <a:stretch/>
        </p:blipFill>
        <p:spPr>
          <a:xfrm>
            <a:off x="1000080" y="5462640"/>
            <a:ext cx="6431040" cy="1071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C:\Users\chibrovama\Desktop\s1200.jpg"/>
          <p:cNvPicPr/>
          <p:nvPr/>
        </p:nvPicPr>
        <p:blipFill>
          <a:blip r:embed="rId2"/>
          <a:stretch/>
        </p:blipFill>
        <p:spPr>
          <a:xfrm>
            <a:off x="2298600" y="190440"/>
            <a:ext cx="4962600" cy="37213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http://www.xn--80afaf5asbr.xn--p1ai/disk_ornaments_narodov_mira/domovaya_reziba/001_rasha/okna/page_0004/okna_domovaya_reziba_0033_orig.jpg"/>
          <p:cNvPicPr/>
          <p:nvPr/>
        </p:nvPicPr>
        <p:blipFill>
          <a:blip r:embed="rId3"/>
          <a:stretch/>
        </p:blipFill>
        <p:spPr>
          <a:xfrm>
            <a:off x="6296040" y="2565360"/>
            <a:ext cx="2459160" cy="3714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http://www.xn--80afaf5asbr.xn--p1ai/disk_ornaments_narodov_mira/domovaya_reziba/001_rasha/okna/page_0005/okna_domovaya_reziba_0050_orig.jpg"/>
          <p:cNvPicPr/>
          <p:nvPr/>
        </p:nvPicPr>
        <p:blipFill>
          <a:blip r:embed="rId4"/>
          <a:stretch/>
        </p:blipFill>
        <p:spPr>
          <a:xfrm>
            <a:off x="108000" y="1125360"/>
            <a:ext cx="30178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Объект 3" descr=""/>
          <p:cNvPicPr/>
          <p:nvPr/>
        </p:nvPicPr>
        <p:blipFill>
          <a:blip r:embed="rId1"/>
          <a:stretch/>
        </p:blipFill>
        <p:spPr>
          <a:xfrm>
            <a:off x="108000" y="22320"/>
            <a:ext cx="6335640" cy="4163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http://www.pokescope.com/contest/Objects1/Category2_48_350.jpg"/>
          <p:cNvPicPr/>
          <p:nvPr/>
        </p:nvPicPr>
        <p:blipFill>
          <a:blip r:embed="rId1"/>
          <a:stretch/>
        </p:blipFill>
        <p:spPr>
          <a:xfrm>
            <a:off x="285840" y="285840"/>
            <a:ext cx="4476600" cy="2857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http://img-fotki.yandex.ru/get/4609/28965519.2c/0_59950_ee637400_XL"/>
          <p:cNvPicPr/>
          <p:nvPr/>
        </p:nvPicPr>
        <p:blipFill>
          <a:blip r:embed="rId2"/>
          <a:stretch/>
        </p:blipFill>
        <p:spPr>
          <a:xfrm>
            <a:off x="4000680" y="3286080"/>
            <a:ext cx="4262400" cy="3197160"/>
          </a:xfrm>
          <a:prstGeom prst="rect">
            <a:avLst/>
          </a:prstGeom>
          <a:ln w="0">
            <a:noFill/>
          </a:ln>
        </p:spPr>
      </p:pic>
      <p:pic>
        <p:nvPicPr>
          <p:cNvPr id="618" name="Прямоугольник 3" descr=""/>
          <p:cNvPicPr/>
          <p:nvPr/>
        </p:nvPicPr>
        <p:blipFill>
          <a:blip r:embed="rId3"/>
          <a:stretch/>
        </p:blipFill>
        <p:spPr>
          <a:xfrm>
            <a:off x="487440" y="3846600"/>
            <a:ext cx="3292560" cy="1347840"/>
          </a:xfrm>
          <a:prstGeom prst="rect">
            <a:avLst/>
          </a:prstGeom>
          <a:ln w="0">
            <a:noFill/>
          </a:ln>
        </p:spPr>
      </p:pic>
      <p:pic>
        <p:nvPicPr>
          <p:cNvPr id="619" name="Прямоугольник 4" descr=""/>
          <p:cNvPicPr/>
          <p:nvPr/>
        </p:nvPicPr>
        <p:blipFill>
          <a:blip r:embed="rId4"/>
          <a:stretch/>
        </p:blipFill>
        <p:spPr>
          <a:xfrm>
            <a:off x="4925880" y="493560"/>
            <a:ext cx="31640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285840" y="357120"/>
          <a:ext cx="8358120" cy="58579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Где было гнездо ласточек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16349"/>
                      </a:solidFill>
                    </a:lnT>
                    <a:lnB w="5760">
                      <a:solidFill>
                        <a:srgbClr val="d1634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 наличником окн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16349"/>
                      </a:solidFill>
                    </a:lnT>
                    <a:lnB w="5760">
                      <a:solidFill>
                        <a:srgbClr val="d16349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Что случилось однажды с птенчик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16349"/>
                      </a:solidFill>
                    </a:lnT>
                    <a:lnB>
                      <a:noFill/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ал из гнезд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16349"/>
                      </a:solidFill>
                    </a:lnT>
                    <a:lnB>
                      <a:noFill/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ак вели себя ласточк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ились, пищал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то это увидел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Что сделал мальчик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ял птичку, посадил в гнезд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ак теперь вели себя птицы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16349"/>
                      </a:solidFill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о щебет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16349"/>
                      </a:solidFill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1" name="Прямая соединительная линия 7"/>
          <p:cNvSpPr/>
          <p:nvPr/>
        </p:nvSpPr>
        <p:spPr>
          <a:xfrm flipH="1">
            <a:off x="4284720" y="357120"/>
            <a:ext cx="1440" cy="628812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                 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0" y="2487600"/>
            <a:ext cx="89647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де было гнездо ласточек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случилось однажды с птенчиком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вели себя ласточки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то это увидел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сделал мальчик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 теперь вели себя птицы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C:\Users\chibrovama\Desktop\48921.jpg"/>
          <p:cNvPicPr/>
          <p:nvPr/>
        </p:nvPicPr>
        <p:blipFill>
          <a:blip r:embed="rId1"/>
          <a:stretch/>
        </p:blipFill>
        <p:spPr>
          <a:xfrm>
            <a:off x="3635280" y="115920"/>
            <a:ext cx="4969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20:58Z</dcterms:created>
  <dc:creator>Бакшаевы</dc:creator>
  <dc:description/>
  <dc:language>en-US</dc:language>
  <cp:lastModifiedBy>Чиброва Марина Александровна</cp:lastModifiedBy>
  <dcterms:modified xsi:type="dcterms:W3CDTF">2019-01-11T11:53:35Z</dcterms:modified>
  <cp:revision>9</cp:revision>
  <dc:subject/>
  <dc:title>Обучающее изложение</dc:title>
</cp:coreProperties>
</file>