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9C7-C8CD-4C57-BFD6-7B03438A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A5F-DBE0-45C4-9422-9329D753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508F1-A036-4BE5-BE32-5AFD8F45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9E85C-F442-4D0E-ACF1-151E2F4F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B7057-1D6C-421A-8371-C21BB4E3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2CFC1-1300-4BE2-9BD7-82A6481C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FC94D-EB08-429B-81DC-1EF537CE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A940C-7EBA-42AF-B70C-BBC7547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3A388-8DB1-41AC-95B9-A4CD1293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D4813-8B74-40A0-9AA7-EF01A1DD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25304-D002-4ADA-B128-DAF76BC5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2E260-3445-4626-BE38-97B2188A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687-B2E6-4D30-9FEE-2DC6DDAC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17A6D-F548-4CCF-9B6C-3E464AD5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803BF-0CE1-4BDA-928A-4CC16A64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7F40A-9C42-4C8F-BE39-FDFC9CB5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DFBCC-DD15-48CB-AAD4-C745ABB1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5FE5D-4B5F-4590-8EC4-F7152CF7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8E2F7-5288-41D3-803F-DCF58C0D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04307-14B6-420B-A988-8F53B8E6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11DFB-3AB5-4E88-89A5-16FB5984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3BC5A-466E-4EDB-ACC1-32DF219E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5FC66-BC99-4C27-8E1E-D43B2A6C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EAE-2D65-4A45-8EE1-C7E2739B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C4F1E-9534-486C-956F-415984D8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920EC-A436-446F-800B-5BFB475C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09C0B-1531-4A1C-AAB3-C4DD2040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3C3A6-0998-4368-9D4A-3DA18E9C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FF55B-C0D6-498F-914D-7890C295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E3A75-F6CA-4519-A00D-8AE89AA2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A0296-068A-48AB-BB54-835E27E6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F74AE-414C-4BBB-A1F1-81A4EAD2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D7F55-2106-4B40-B6CF-A0AA56C7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B67D4-D8BE-4796-96A0-D357CCDA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4A3C-5F15-4495-8821-D3E2BF4B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CE737-A328-4445-9467-14E608DE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482AD-5A6A-4F82-92EC-0D51E9E7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795F2-7AF4-485C-8817-3B842EBF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C2C11-7299-47AD-B809-6CB7E912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4BCB9-69D5-4B62-A05F-17AC67E6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B1AC2-0C2E-446C-BA33-90DC9928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EEF20-D4AE-4566-80A5-EB5CC29C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AF082-E73D-438F-AD31-1998DFAB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7B27E-0E3D-465F-8A07-ED36CF7D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7944E-EAF9-4BC1-B6CE-2E7FD725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87C4-600F-42CF-AC62-B9C31152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B0949-1132-48E2-8070-EF5A5887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7ABAB-478E-45B1-A6D2-1167A573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C4F3B-1BE2-43FE-BC74-AEC2EB84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96BD2-84F9-42FB-BE35-D1C8AB6F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872C3-283E-437E-9F66-3BC50A23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769D-DF28-4833-8D31-7ABBBDBB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8594-DC55-4630-8188-64487E56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7774-FBE2-4832-82A7-6C9BAF44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4C07-7274-43FC-8D12-3FC9F239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5D93-B8D3-4995-8266-D58A4293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237-C057-4FB1-A155-B1C849BA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11E5-5773-410C-83C7-E1DEDE45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AD18-7E40-4A23-B83E-E350EE94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DAB0-FD0E-451F-AABA-03F01324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2827-264C-4496-9854-C53F61D4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F4E1-2181-4031-B79D-9E80C47C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A226-D08D-488E-BDFB-EBFE6985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B250-AAFC-46C3-BCA5-C6041869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8A86-F134-42B0-B4D6-5E3B6264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BEFF-0CC7-4699-9E30-80DAC4DE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1DDE-272D-4E36-92A5-DFD63FFB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D32-5C67-4990-BFA5-E348749A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6EDB0-47D1-4E5A-8C6B-131762BF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BBE0-D66E-41DE-A795-2B7D6025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59AC5-72F3-4180-BE58-50D5F11D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345D-4D60-4D6E-893E-93FC72C4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3F14-F5EC-4E1F-89CE-7EB4CC9F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096E-3500-4415-A708-00BCEB11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5EF0-CC5F-452A-8010-074C1EC0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5828-51C8-4294-B4AB-5F77908A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F31BD-D3B4-4A19-ADA6-C2C4E068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E84A-D0FD-4B5F-B7E8-537499BF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74E-6ED1-47AB-B35C-0D30A01C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05F5-18BC-4031-95B9-2EB8C1FF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082DC-5717-4609-BFC8-02F410D9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17194-C0D7-450B-85B0-EE2FD877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01EA-E48E-44C1-816B-4F270FB2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82FE4-905B-40AE-93AC-69975F3E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98ED1-85EB-4788-AC53-D9B538AA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7F2F9-16CF-41EC-9EA6-1820E34E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B507E-F713-4800-876F-61EB8618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04F14-BEF4-4098-8C6B-35779878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72039-99E1-4C8B-8C99-F984E41C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DFC-E849-4ACE-A35B-7942BF5C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0F226-EBFF-4594-81BA-7DD5FC4F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DE40B-2AC6-4691-8EB9-CE94F83B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D6146-63E6-4DE8-AD89-D008B28E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4F93B-B799-4AC2-862A-6C5B2C59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D633E-6090-4A55-BDDE-642997CC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0665A-6F4D-435D-B52B-6D961C1C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3CC1E-111C-488D-A2AD-E4B911EA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5AAB4-017A-46FF-86E8-57DD39B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23FC1-2C29-43EF-8206-150AC71D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8968C-9638-4508-96D3-0F56B486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792-B90A-4453-934C-AACFF326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46D94-2631-44B4-A05A-6FB8F432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44297-6A71-4CB1-AD22-914FD50B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D876F-9BF0-4073-B0B7-0466A00E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6C021-8794-4407-8200-DB791087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0FD55-6F05-4209-873E-CA64CB95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7B9F6-DBDD-4DAF-8006-C0FF1DCA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8E9C6-E8EC-467B-81BF-08A19518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E249D-8163-4B1B-A4DD-AC84A012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8B309-7610-43D4-9BEB-D92337B8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26AB7-5AB8-4768-8EA9-B83AF754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65D-746F-4338-BC1D-B331844E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CD749-5537-4C3D-9540-32808F04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F79F5-D869-4E84-ACE5-FC5E19D0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B212A-BA53-496D-8420-A20FFBC3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1F3D6-7AC2-4093-A59E-EED7A5F9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11991-E2E8-45DF-B0C8-94AD22F5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34097-B352-4885-93A6-FA2BD525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CD0E9-F5B4-4E86-B6E3-69E180D8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F31AD-C4A8-483D-9310-44230E3F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F92F4-EF46-4A91-91A7-794AD928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ED310-703C-45CF-B02E-EAD54406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CAE-3FBA-4D4D-813A-4E18FE4B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2D3E0-F54A-46DA-9810-8A4951B4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8C131-E606-46D2-981D-26464798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8E674-C2E6-48E2-A83B-980F4BFD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12132-6ED6-4DA9-8F26-7CD4F964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A540F-28FC-472A-BC37-5A6D9289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8F6D2-DBA8-4893-A7F3-BDFE3520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F5B4E-1F62-4CCD-85A9-B7020BC1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E4CDB-ED9B-483F-B66F-C8008BA7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F9EF8-40F6-4AD9-954C-A50C1846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44988-A2D4-4C27-A1C9-0EFA6A3A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59A-0850-4E8D-A6E0-8E7ED658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F793D-572D-442F-91D9-FB02AB83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67A86-719C-4114-A8D6-4A4E3BAC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3030F-FA4C-41B3-86A0-5BD0F564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FAFA7-AA30-481C-9E4C-CBD31100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C09EF-4C21-49F6-A468-26B1703B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4E194-8513-4CA8-98B5-B5698711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25765-C4B8-4F69-BEF3-257065EC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84D2D-B0C3-4E2E-ACB2-D4096FB0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B96A2-450B-4D60-988D-7DE47B48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A27C5-9CE3-43C9-ABE1-790F3B80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1B88-5058-4133-9C0B-1C93AB53C15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6293-4A4D-44ED-B0AA-1C6CD734F21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AF31-F76B-4AE6-B451-E1A73B5AE29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E95C-386A-4A5E-83AD-04553214407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6D4F-7E1E-4D31-B006-6186DC43E20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7E00-B8F3-48DE-B7BF-77392D06DD2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9AD8-5B47-4D05-AFF3-7E994C5CCC6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C63C-901C-4C39-9FE6-3F25EA3D50C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C7F7-4ED2-4535-87C4-37E4314C883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BA9E-7F17-484C-AF3F-3B0AF8FA7DE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EB1D-F085-44FF-9BB7-410D7D3D757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A309-705C-427C-BB6E-C6676473E93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Обучающее изложение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42960" y="1773360"/>
            <a:ext cx="8321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        </a:t>
            </a:r>
            <a:r>
              <a:rPr b="1" lang="ru-RU" sz="36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Над наличником окна было гнездо ласточек. Однажды из гнезда выпал птенчик. Ласточки кружились над ним и звучно пищали.</a:t>
            </a:r>
            <a:br>
              <a:rPr sz="3600"/>
            </a:br>
            <a:r>
              <a:rPr b="1" lang="ru-RU" sz="3600" spc="-1" strike="noStrike">
                <a:solidFill>
                  <a:srgbClr val="415b5c"/>
                </a:solidFill>
                <a:latin typeface="Times New Roman"/>
                <a:ea typeface="Times New Roman"/>
              </a:rPr>
              <a:t>        Это увидел Петя. Он поднял птичку и посадил в гнездо. Ласточки весело защебетали.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C:\Users\chibrovama\Desktop\48921.jpg"/>
          <p:cNvPicPr/>
          <p:nvPr/>
        </p:nvPicPr>
        <p:blipFill>
          <a:blip r:embed="rId1"/>
          <a:stretch/>
        </p:blipFill>
        <p:spPr>
          <a:xfrm>
            <a:off x="3995640" y="136440"/>
            <a:ext cx="49690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Прямоугольник 1" descr=""/>
          <p:cNvPicPr/>
          <p:nvPr/>
        </p:nvPicPr>
        <p:blipFill>
          <a:blip r:embed="rId1"/>
          <a:stretch/>
        </p:blipFill>
        <p:spPr>
          <a:xfrm>
            <a:off x="1000080" y="5462640"/>
            <a:ext cx="6431040" cy="1071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C:\Users\chibrovama\Desktop\s1200.jpg"/>
          <p:cNvPicPr/>
          <p:nvPr/>
        </p:nvPicPr>
        <p:blipFill>
          <a:blip r:embed="rId2"/>
          <a:stretch/>
        </p:blipFill>
        <p:spPr>
          <a:xfrm>
            <a:off x="2298600" y="190440"/>
            <a:ext cx="4962600" cy="37213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http://www.xn--80afaf5asbr.xn--p1ai/disk_ornaments_narodov_mira/domovaya_reziba/001_rasha/okna/page_0004/okna_domovaya_reziba_0033_orig.jpg"/>
          <p:cNvPicPr/>
          <p:nvPr/>
        </p:nvPicPr>
        <p:blipFill>
          <a:blip r:embed="rId3"/>
          <a:stretch/>
        </p:blipFill>
        <p:spPr>
          <a:xfrm>
            <a:off x="6296040" y="2565360"/>
            <a:ext cx="2459160" cy="3714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http://www.xn--80afaf5asbr.xn--p1ai/disk_ornaments_narodov_mira/domovaya_reziba/001_rasha/okna/page_0005/okna_domovaya_reziba_0050_orig.jpg"/>
          <p:cNvPicPr/>
          <p:nvPr/>
        </p:nvPicPr>
        <p:blipFill>
          <a:blip r:embed="rId4"/>
          <a:stretch/>
        </p:blipFill>
        <p:spPr>
          <a:xfrm>
            <a:off x="108000" y="1125360"/>
            <a:ext cx="30178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Объект 3" descr=""/>
          <p:cNvPicPr/>
          <p:nvPr/>
        </p:nvPicPr>
        <p:blipFill>
          <a:blip r:embed="rId1"/>
          <a:stretch/>
        </p:blipFill>
        <p:spPr>
          <a:xfrm>
            <a:off x="108000" y="22320"/>
            <a:ext cx="6335640" cy="41637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http://www.pokescope.com/contest/Objects1/Category2_48_350.jpg"/>
          <p:cNvPicPr/>
          <p:nvPr/>
        </p:nvPicPr>
        <p:blipFill>
          <a:blip r:embed="rId1"/>
          <a:stretch/>
        </p:blipFill>
        <p:spPr>
          <a:xfrm>
            <a:off x="285840" y="285840"/>
            <a:ext cx="4476600" cy="2857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http://img-fotki.yandex.ru/get/4609/28965519.2c/0_59950_ee637400_XL"/>
          <p:cNvPicPr/>
          <p:nvPr/>
        </p:nvPicPr>
        <p:blipFill>
          <a:blip r:embed="rId2"/>
          <a:stretch/>
        </p:blipFill>
        <p:spPr>
          <a:xfrm>
            <a:off x="4000680" y="3286080"/>
            <a:ext cx="4262400" cy="3197160"/>
          </a:xfrm>
          <a:prstGeom prst="rect">
            <a:avLst/>
          </a:prstGeom>
          <a:ln w="0">
            <a:noFill/>
          </a:ln>
        </p:spPr>
      </p:pic>
      <p:pic>
        <p:nvPicPr>
          <p:cNvPr id="618" name="Прямоугольник 3" descr=""/>
          <p:cNvPicPr/>
          <p:nvPr/>
        </p:nvPicPr>
        <p:blipFill>
          <a:blip r:embed="rId3"/>
          <a:stretch/>
        </p:blipFill>
        <p:spPr>
          <a:xfrm>
            <a:off x="487440" y="3846600"/>
            <a:ext cx="3292560" cy="1347840"/>
          </a:xfrm>
          <a:prstGeom prst="rect">
            <a:avLst/>
          </a:prstGeom>
          <a:ln w="0">
            <a:noFill/>
          </a:ln>
        </p:spPr>
      </p:pic>
      <p:pic>
        <p:nvPicPr>
          <p:cNvPr id="619" name="Прямоугольник 4" descr=""/>
          <p:cNvPicPr/>
          <p:nvPr/>
        </p:nvPicPr>
        <p:blipFill>
          <a:blip r:embed="rId4"/>
          <a:stretch/>
        </p:blipFill>
        <p:spPr>
          <a:xfrm>
            <a:off x="4925880" y="493560"/>
            <a:ext cx="31640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285840" y="357120"/>
          <a:ext cx="8358120" cy="585792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97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Где было гнездо ласточек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16349"/>
                      </a:solidFill>
                    </a:lnT>
                    <a:lnB w="5760">
                      <a:solidFill>
                        <a:srgbClr val="d1634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 наличником окн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16349"/>
                      </a:solidFill>
                    </a:lnT>
                    <a:lnB w="5760">
                      <a:solidFill>
                        <a:srgbClr val="d16349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Что случилось однажды с птенчико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16349"/>
                      </a:solidFill>
                    </a:lnT>
                    <a:lnB>
                      <a:noFill/>
                    </a:lnB>
                    <a:solidFill>
                      <a:srgbClr val="d16349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ал из гнезд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16349"/>
                      </a:solidFill>
                    </a:lnT>
                    <a:lnB>
                      <a:noFill/>
                    </a:lnB>
                    <a:solidFill>
                      <a:srgbClr val="d16349">
                        <a:alpha val="20000"/>
                      </a:srgbClr>
                    </a:solidFill>
                  </a:tcPr>
                </a:tc>
              </a:tr>
              <a:tr h="97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ак вели себя ласточк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ились, пищал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то это увидел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6349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6349">
                        <a:alpha val="20000"/>
                      </a:srgbClr>
                    </a:solidFill>
                  </a:tcPr>
                </a:tc>
              </a:tr>
              <a:tr h="97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Что сделал мальчик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нял птичку, посадил в гнезд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ак теперь вели себя птицы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16349"/>
                      </a:solidFill>
                    </a:lnB>
                    <a:solidFill>
                      <a:srgbClr val="d16349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ло щебета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16349"/>
                      </a:solidFill>
                    </a:lnB>
                    <a:solidFill>
                      <a:srgbClr val="d1634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1" name="Прямая соединительная линия 7"/>
          <p:cNvSpPr/>
          <p:nvPr/>
        </p:nvSpPr>
        <p:spPr>
          <a:xfrm flipH="1">
            <a:off x="4284720" y="357120"/>
            <a:ext cx="1440" cy="628812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                 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0" y="2487600"/>
            <a:ext cx="89647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де было гнездо ласточек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случилось однажды с птенчиком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вели себя ласточки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то это увидел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то сделал мальчик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к теперь вели себя птицы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2" descr="C:\Users\chibrovama\Desktop\48921.jpg"/>
          <p:cNvPicPr/>
          <p:nvPr/>
        </p:nvPicPr>
        <p:blipFill>
          <a:blip r:embed="rId1"/>
          <a:stretch/>
        </p:blipFill>
        <p:spPr>
          <a:xfrm>
            <a:off x="3635280" y="115920"/>
            <a:ext cx="49690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4:20:58Z</dcterms:created>
  <dc:creator>Бакшаевы</dc:creator>
  <dc:description/>
  <dc:language>en-US</dc:language>
  <cp:lastModifiedBy>Чиброва Марина Александровна</cp:lastModifiedBy>
  <dcterms:modified xsi:type="dcterms:W3CDTF">2019-01-11T11:53:35Z</dcterms:modified>
  <cp:revision>9</cp:revision>
  <dc:subject/>
  <dc:title>Обучающее изложение</dc:title>
</cp:coreProperties>
</file>