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28.jpeg" ContentType="image/jpeg"/>
  <Override PartName="/ppt/media/image3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1.png" ContentType="image/pn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92CF-8791-4856-B141-77566C73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D19-60C2-45A6-93FB-A14F86EC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077-15C5-4B77-80B8-A9C7FAAF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A5E2-E0AE-4A2C-A402-7DB3C228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1BCE-B75E-417D-AECE-59BB2251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18FD-698D-4B0A-9422-42FDF2A8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A0AF-F30C-417E-9DA5-047C5EEE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EA13-BEBE-484E-9707-EDB73E0B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72EA-C3DD-465D-ABF8-2E03D747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A41A-A9E5-49E8-B620-ED7FDC6B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30CF-2A78-4E11-B2FD-768BE229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625A-893E-4903-A3A2-6E417F91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8917-18E1-4379-A5DC-36A99150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3362-FAFC-4C3E-ADDC-6A7BC4FA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0F9C-39A0-452B-BFE9-18827586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6B1E-62DE-4D28-A8BF-22AC5140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AFD3-2742-4BB5-9E6F-8926AE46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188-4F13-4CD8-A0DC-622E1878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4561-8126-4068-9B8B-F335AC4C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5DC-7507-4CBE-BF60-4E1EA990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14AD-2170-4EF5-BFD6-5B87AEDF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A5B-FAEF-4422-A47F-78DF0362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1409-85B6-4CC3-ABA0-0F4A2CF7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ECE6-4BAF-4670-925B-5615EFAC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3A31-D069-4FF3-BD54-1EB95B73DDA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5B23-9589-4CE6-B4DC-62B8E1008F6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одержимое 3" descr="DSC03367.JPG"/>
          <p:cNvPicPr/>
          <p:nvPr/>
        </p:nvPicPr>
        <p:blipFill>
          <a:blip r:embed="rId1"/>
          <a:stretch/>
        </p:blipFill>
        <p:spPr>
          <a:xfrm>
            <a:off x="179280" y="2133720"/>
            <a:ext cx="8821800" cy="4554360"/>
          </a:xfrm>
          <a:prstGeom prst="rect">
            <a:avLst/>
          </a:prstGeom>
          <a:ln w="63360">
            <a:solidFill>
              <a:srgbClr val="ffff00"/>
            </a:solidFill>
            <a:miter/>
          </a:ln>
        </p:spPr>
      </p:pic>
      <p:sp>
        <p:nvSpPr>
          <p:cNvPr id="110" name="Rectangle 3"/>
          <p:cNvSpPr/>
          <p:nvPr/>
        </p:nvSpPr>
        <p:spPr>
          <a:xfrm>
            <a:off x="360360" y="81000"/>
            <a:ext cx="88200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ОРГАНИЗАЦИОННО-ПЕДАГОГИЧЕСКИЕ УСЛОВИ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ПОСОБСТВУЮЩИЕ РАЗВИТИ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ОЦИАЛЬНО-КОММУНИКАТИВНЫХ НАВЫК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ЕТЕЙ МЛАДШЕГО ДОШКОЛЬНОГО ВОЗРА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759920" y="6027840"/>
            <a:ext cx="40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ромова Е.В., воспитате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079640" y="151560"/>
            <a:ext cx="76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ЦЕНТР БЕЗОПАС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542520" y="1068480"/>
            <a:ext cx="70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ГРОВЫЕ ПОСОБИЯ ДЛЯ СЮЖЕТНО-РОЛЕВЫХ ИГР ПО ПД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7" descr="0000013311"/>
          <p:cNvPicPr/>
          <p:nvPr/>
        </p:nvPicPr>
        <p:blipFill>
          <a:blip r:embed="rId1"/>
          <a:stretch/>
        </p:blipFill>
        <p:spPr>
          <a:xfrm>
            <a:off x="395280" y="1881360"/>
            <a:ext cx="3035160" cy="453528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pic>
        <p:nvPicPr>
          <p:cNvPr id="150" name="Picture 10" descr="0000013313"/>
          <p:cNvPicPr/>
          <p:nvPr/>
        </p:nvPicPr>
        <p:blipFill>
          <a:blip r:embed="rId2"/>
          <a:stretch/>
        </p:blipFill>
        <p:spPr>
          <a:xfrm>
            <a:off x="3781440" y="3068640"/>
            <a:ext cx="5003640" cy="334800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079640" y="188280"/>
            <a:ext cx="76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ЦЕНТР БЕЗОПАС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33200" y="981000"/>
            <a:ext cx="32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НИЖНЫЙ УГОЛ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5" descr="978-5-506-00280-2"/>
          <p:cNvPicPr/>
          <p:nvPr/>
        </p:nvPicPr>
        <p:blipFill>
          <a:blip r:embed="rId1"/>
          <a:stretch/>
        </p:blipFill>
        <p:spPr>
          <a:xfrm>
            <a:off x="719280" y="1557360"/>
            <a:ext cx="2396880" cy="3024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uk118902"/>
          <p:cNvPicPr/>
          <p:nvPr/>
        </p:nvPicPr>
        <p:blipFill>
          <a:blip r:embed="rId2"/>
          <a:stretch/>
        </p:blipFill>
        <p:spPr>
          <a:xfrm>
            <a:off x="3711600" y="1557360"/>
            <a:ext cx="2336760" cy="2986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http://j.livelib.ru/boocover/1000222831/l/013e/Sharl_Perro__Krasnaya_Shapochka.jpg"/>
          <p:cNvPicPr/>
          <p:nvPr/>
        </p:nvPicPr>
        <p:blipFill>
          <a:blip r:embed="rId3"/>
          <a:stretch/>
        </p:blipFill>
        <p:spPr>
          <a:xfrm>
            <a:off x="6588000" y="1521000"/>
            <a:ext cx="2205000" cy="2987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b42985"/>
          <p:cNvPicPr/>
          <p:nvPr/>
        </p:nvPicPr>
        <p:blipFill>
          <a:blip r:embed="rId4"/>
          <a:stretch/>
        </p:blipFill>
        <p:spPr>
          <a:xfrm>
            <a:off x="1943280" y="3357720"/>
            <a:ext cx="2442960" cy="3357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071001"/>
          <p:cNvPicPr/>
          <p:nvPr/>
        </p:nvPicPr>
        <p:blipFill>
          <a:blip r:embed="rId5"/>
          <a:stretch/>
        </p:blipFill>
        <p:spPr>
          <a:xfrm>
            <a:off x="4925880" y="3357720"/>
            <a:ext cx="24177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1079640" y="259560"/>
            <a:ext cx="76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ЦЕНТР «ОБРАЗ Я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078200" y="1150920"/>
            <a:ext cx="675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СОБИЯ ДЛЯ ФОРМИРОВАНИЯ УМЕН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АВИЛЬНО ВЕСТИ СЕБЯ В ОБЩЕСТВЕ И ПРИР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7" descr="0000013426"/>
          <p:cNvPicPr/>
          <p:nvPr/>
        </p:nvPicPr>
        <p:blipFill>
          <a:blip r:embed="rId1"/>
          <a:stretch/>
        </p:blipFill>
        <p:spPr>
          <a:xfrm>
            <a:off x="1403280" y="2133720"/>
            <a:ext cx="6523200" cy="43653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1079640" y="188280"/>
            <a:ext cx="76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ЦЕНТР «ОБРАЗ Я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78200" y="907920"/>
            <a:ext cx="675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СОБИЯ ДЛЯ ФОРМИРОВАНИЯ УМЕН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АВИЛЬНО ВЕСТИ СЕБЯ В ОБЩЕСТВЕ И ПРИР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6" descr="0000013331"/>
          <p:cNvPicPr/>
          <p:nvPr/>
        </p:nvPicPr>
        <p:blipFill>
          <a:blip r:embed="rId1"/>
          <a:stretch/>
        </p:blipFill>
        <p:spPr>
          <a:xfrm>
            <a:off x="3384720" y="2924280"/>
            <a:ext cx="5630760" cy="3768480"/>
          </a:xfrm>
          <a:prstGeom prst="rect">
            <a:avLst/>
          </a:prstGeom>
          <a:ln w="47520">
            <a:solidFill>
              <a:srgbClr val="33cc33"/>
            </a:solidFill>
            <a:miter/>
          </a:ln>
        </p:spPr>
      </p:pic>
      <p:pic>
        <p:nvPicPr>
          <p:cNvPr id="164" name="Picture 5" descr="0000013328"/>
          <p:cNvPicPr/>
          <p:nvPr/>
        </p:nvPicPr>
        <p:blipFill>
          <a:blip r:embed="rId2"/>
          <a:stretch/>
        </p:blipFill>
        <p:spPr>
          <a:xfrm>
            <a:off x="287280" y="1881360"/>
            <a:ext cx="4572000" cy="3058920"/>
          </a:xfrm>
          <a:prstGeom prst="rect">
            <a:avLst/>
          </a:prstGeom>
          <a:ln w="4428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079640" y="188280"/>
            <a:ext cx="76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ЦЕНТР «ОБРАЗ Я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23840" y="1087560"/>
            <a:ext cx="36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ГОЛОК РЯЖ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9" descr="3c3aa9d5b402045267787b9d609c036c"/>
          <p:cNvPicPr/>
          <p:nvPr/>
        </p:nvPicPr>
        <p:blipFill>
          <a:blip r:embed="rId1"/>
          <a:stretch/>
        </p:blipFill>
        <p:spPr>
          <a:xfrm>
            <a:off x="250920" y="1844640"/>
            <a:ext cx="2000160" cy="4905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0000013286"/>
          <p:cNvPicPr/>
          <p:nvPr/>
        </p:nvPicPr>
        <p:blipFill>
          <a:blip r:embed="rId2"/>
          <a:stretch/>
        </p:blipFill>
        <p:spPr>
          <a:xfrm>
            <a:off x="2484360" y="1881360"/>
            <a:ext cx="3238560" cy="483840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pic>
        <p:nvPicPr>
          <p:cNvPr id="169" name="Picture 11" descr="0000013291"/>
          <p:cNvPicPr/>
          <p:nvPr/>
        </p:nvPicPr>
        <p:blipFill>
          <a:blip r:embed="rId3"/>
          <a:stretch/>
        </p:blipFill>
        <p:spPr>
          <a:xfrm>
            <a:off x="5904000" y="1881360"/>
            <a:ext cx="3189240" cy="476568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079640" y="188280"/>
            <a:ext cx="76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ЦЕНТР «ОБРАЗ Я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23840" y="1087560"/>
            <a:ext cx="36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ГОЛОК РЯЖ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5" descr="181aab9aaeb1"/>
          <p:cNvPicPr/>
          <p:nvPr/>
        </p:nvPicPr>
        <p:blipFill>
          <a:blip r:embed="rId1"/>
          <a:stretch/>
        </p:blipFill>
        <p:spPr>
          <a:xfrm>
            <a:off x="0" y="2629080"/>
            <a:ext cx="2494080" cy="4221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0000013282"/>
          <p:cNvPicPr/>
          <p:nvPr/>
        </p:nvPicPr>
        <p:blipFill>
          <a:blip r:embed="rId2"/>
          <a:stretch/>
        </p:blipFill>
        <p:spPr>
          <a:xfrm>
            <a:off x="2484360" y="1976400"/>
            <a:ext cx="3092400" cy="462132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pic>
        <p:nvPicPr>
          <p:cNvPr id="174" name="Picture 7" descr="0000013303"/>
          <p:cNvPicPr/>
          <p:nvPr/>
        </p:nvPicPr>
        <p:blipFill>
          <a:blip r:embed="rId3"/>
          <a:stretch/>
        </p:blipFill>
        <p:spPr>
          <a:xfrm>
            <a:off x="5769000" y="1954080"/>
            <a:ext cx="3058920" cy="464364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ЦЕНТР ФОРМИРОВАНИЯ КУЛЬТУРНО-ГИГИЕНИЧЕСКИХ НАВЫКОВ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2680" y="1628640"/>
            <a:ext cx="557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НЕМОТАБЛИЦЫ ДЛЯ ФОРМИРОВА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ВЫКОВ САМООБСЛУЖИВ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10" descr="DSCN4713"/>
          <p:cNvPicPr/>
          <p:nvPr/>
        </p:nvPicPr>
        <p:blipFill>
          <a:blip r:embed="rId1"/>
          <a:stretch/>
        </p:blipFill>
        <p:spPr>
          <a:xfrm>
            <a:off x="179280" y="2340000"/>
            <a:ext cx="5800680" cy="4351320"/>
          </a:xfrm>
          <a:prstGeom prst="rect">
            <a:avLst/>
          </a:prstGeom>
          <a:ln w="41400">
            <a:solidFill>
              <a:srgbClr val="ff0000"/>
            </a:solidFill>
            <a:miter/>
          </a:ln>
        </p:spPr>
      </p:pic>
      <p:pic>
        <p:nvPicPr>
          <p:cNvPr id="182" name="Picture 13" descr="ffae4c12dc8da3a286bea66033bd2438"/>
          <p:cNvPicPr/>
          <p:nvPr/>
        </p:nvPicPr>
        <p:blipFill>
          <a:blip r:embed="rId2"/>
          <a:stretch/>
        </p:blipFill>
        <p:spPr>
          <a:xfrm>
            <a:off x="5580000" y="1700280"/>
            <a:ext cx="3514680" cy="4968720"/>
          </a:xfrm>
          <a:prstGeom prst="rect">
            <a:avLst/>
          </a:prstGeom>
          <a:ln w="414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189000"/>
            <a:ext cx="7543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ЦЕНТР ФОРМИРОВАНИЯ КУЛЬТУРНО-ГИГИЕНИЧЕСКИХ НАВЫКОВ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11" descr="0000013238"/>
          <p:cNvPicPr/>
          <p:nvPr/>
        </p:nvPicPr>
        <p:blipFill>
          <a:blip r:embed="rId1"/>
          <a:stretch/>
        </p:blipFill>
        <p:spPr>
          <a:xfrm>
            <a:off x="3600360" y="2990880"/>
            <a:ext cx="5335560" cy="35701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89" name="Picture 12" descr="0000013230"/>
          <p:cNvPicPr/>
          <p:nvPr/>
        </p:nvPicPr>
        <p:blipFill>
          <a:blip r:embed="rId2"/>
          <a:stretch/>
        </p:blipFill>
        <p:spPr>
          <a:xfrm>
            <a:off x="142920" y="1568520"/>
            <a:ext cx="5041800" cy="3373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90" name="Text Box 13"/>
          <p:cNvSpPr/>
          <p:nvPr/>
        </p:nvSpPr>
        <p:spPr>
          <a:xfrm>
            <a:off x="5441760" y="1851120"/>
            <a:ext cx="34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ОРМИРОВАНИЕ НАВЫ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АМООБСЛУЖИ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ЦЕНТР ФОРМИРОВАНИЯ КУЛЬТУРНО-ГИГИЕНИЧЕСКИХ НАВЫКОВ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6985080" y="200016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ОРМИРОВ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ИЕ НАВЫ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АМООБСЛУ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ЖИ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13" descr="0000013366_1"/>
          <p:cNvPicPr/>
          <p:nvPr/>
        </p:nvPicPr>
        <p:blipFill>
          <a:blip r:embed="rId1"/>
          <a:stretch/>
        </p:blipFill>
        <p:spPr>
          <a:xfrm>
            <a:off x="142920" y="1592280"/>
            <a:ext cx="6613560" cy="5137200"/>
          </a:xfrm>
          <a:prstGeom prst="rect">
            <a:avLst/>
          </a:prstGeom>
          <a:ln w="475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189000"/>
            <a:ext cx="7543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ЦЕНТР ФОРМИРОВАНИЯ КУЛЬТУРНО-ГИГИЕНИЧЕСКИХ НАВЫКОВ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4886640" y="159228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ХУДОЖЕСТВЕННАЯ ЛИТЕРАТУ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10" descr="799360"/>
          <p:cNvPicPr/>
          <p:nvPr/>
        </p:nvPicPr>
        <p:blipFill>
          <a:blip r:embed="rId1"/>
          <a:stretch/>
        </p:blipFill>
        <p:spPr>
          <a:xfrm>
            <a:off x="1130400" y="2241720"/>
            <a:ext cx="3297240" cy="4298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uk1038844"/>
          <p:cNvPicPr/>
          <p:nvPr/>
        </p:nvPicPr>
        <p:blipFill>
          <a:blip r:embed="rId2"/>
          <a:stretch/>
        </p:blipFill>
        <p:spPr>
          <a:xfrm>
            <a:off x="4932360" y="2241720"/>
            <a:ext cx="33098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9" descr="1366192997_1336798704_img2012021511505361"/>
          <p:cNvPicPr/>
          <p:nvPr/>
        </p:nvPicPr>
        <p:blipFill>
          <a:blip r:embed="rId1"/>
          <a:stretch/>
        </p:blipFill>
        <p:spPr>
          <a:xfrm>
            <a:off x="3332160" y="2933640"/>
            <a:ext cx="5560920" cy="3699000"/>
          </a:xfrm>
          <a:prstGeom prst="rect">
            <a:avLst/>
          </a:prstGeom>
          <a:ln w="54000">
            <a:solidFill>
              <a:srgbClr val="ffff00"/>
            </a:solidFill>
            <a:miter/>
          </a:ln>
        </p:spPr>
      </p:pic>
      <p:sp>
        <p:nvSpPr>
          <p:cNvPr id="113" name="Text Box 10"/>
          <p:cNvSpPr/>
          <p:nvPr/>
        </p:nvSpPr>
        <p:spPr>
          <a:xfrm>
            <a:off x="-360360" y="168120"/>
            <a:ext cx="997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сестороннее развитие личности ребенка невозможно без своевременного формирования его социально-коммуникативных ум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12" descr="prosto-klass-obscenie"/>
          <p:cNvPicPr/>
          <p:nvPr/>
        </p:nvPicPr>
        <p:blipFill>
          <a:blip r:embed="rId2"/>
          <a:stretch/>
        </p:blipFill>
        <p:spPr>
          <a:xfrm>
            <a:off x="468360" y="1808280"/>
            <a:ext cx="417672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189000"/>
            <a:ext cx="7543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ЦЕНТР ТЕАТРАЛИЗОВАННОЙ ДЕЯТЕЛЬ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8" descr="0000013359"/>
          <p:cNvPicPr/>
          <p:nvPr/>
        </p:nvPicPr>
        <p:blipFill>
          <a:blip r:embed="rId1"/>
          <a:stretch/>
        </p:blipFill>
        <p:spPr>
          <a:xfrm>
            <a:off x="3456000" y="2924280"/>
            <a:ext cx="5443560" cy="364320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pic>
        <p:nvPicPr>
          <p:cNvPr id="212" name="Picture 9" descr="0000013432"/>
          <p:cNvPicPr/>
          <p:nvPr/>
        </p:nvPicPr>
        <p:blipFill>
          <a:blip r:embed="rId2"/>
          <a:stretch/>
        </p:blipFill>
        <p:spPr>
          <a:xfrm>
            <a:off x="216000" y="1484280"/>
            <a:ext cx="5329080" cy="3567240"/>
          </a:xfrm>
          <a:prstGeom prst="rect">
            <a:avLst/>
          </a:prstGeom>
          <a:ln w="475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ЦЕНТР СЮЖЕТНО-РОЛЕВОЙ ИГРЫ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1368360" y="1052640"/>
            <a:ext cx="10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11" descr="0000013243"/>
          <p:cNvPicPr/>
          <p:nvPr/>
        </p:nvPicPr>
        <p:blipFill>
          <a:blip r:embed="rId1"/>
          <a:stretch/>
        </p:blipFill>
        <p:spPr>
          <a:xfrm>
            <a:off x="3816360" y="3141720"/>
            <a:ext cx="5018040" cy="335736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220" name="Picture 10" descr="0000013234"/>
          <p:cNvPicPr/>
          <p:nvPr/>
        </p:nvPicPr>
        <p:blipFill>
          <a:blip r:embed="rId2"/>
          <a:stretch/>
        </p:blipFill>
        <p:spPr>
          <a:xfrm>
            <a:off x="142920" y="2071800"/>
            <a:ext cx="4500360" cy="3012840"/>
          </a:xfrm>
          <a:prstGeom prst="rect">
            <a:avLst/>
          </a:prstGeom>
          <a:ln w="7308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ЦЕНТР СЮЖЕТНО-РОЛЕВОЙ ИГРЫ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058400" y="83664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ОЛЬНИ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9" descr="0000013244"/>
          <p:cNvPicPr/>
          <p:nvPr/>
        </p:nvPicPr>
        <p:blipFill>
          <a:blip r:embed="rId1"/>
          <a:stretch/>
        </p:blipFill>
        <p:spPr>
          <a:xfrm>
            <a:off x="358920" y="1484280"/>
            <a:ext cx="3902040" cy="26114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28" name="Picture 10" descr="0000013251"/>
          <p:cNvPicPr/>
          <p:nvPr/>
        </p:nvPicPr>
        <p:blipFill>
          <a:blip r:embed="rId2"/>
          <a:stretch/>
        </p:blipFill>
        <p:spPr>
          <a:xfrm>
            <a:off x="4572000" y="1484280"/>
            <a:ext cx="3902040" cy="26114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29" name="Picture 11" descr="0000013247"/>
          <p:cNvPicPr/>
          <p:nvPr/>
        </p:nvPicPr>
        <p:blipFill>
          <a:blip r:embed="rId3"/>
          <a:stretch/>
        </p:blipFill>
        <p:spPr>
          <a:xfrm>
            <a:off x="2411280" y="4246560"/>
            <a:ext cx="3902040" cy="26114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539640" y="151200"/>
            <a:ext cx="885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РЕДМЕТНО-ПРОСТРАНСТВЕННАЯ СРЕДА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ТКРЫТАЯ, НЕЗАМКНУТАЯ СИСТЕМ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ПОСОБНАЯ К ПОСТОЯННОМУ ИЗМЕНЕНИЮ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И ОБНОВЛЕН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3" descr="DSC_7518_"/>
          <p:cNvPicPr/>
          <p:nvPr/>
        </p:nvPicPr>
        <p:blipFill>
          <a:blip r:embed="rId1"/>
          <a:stretch/>
        </p:blipFill>
        <p:spPr>
          <a:xfrm>
            <a:off x="863640" y="1592280"/>
            <a:ext cx="7659720" cy="5127480"/>
          </a:xfrm>
          <a:prstGeom prst="rect">
            <a:avLst/>
          </a:prstGeom>
          <a:ln w="666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10" descr=""/>
          <p:cNvPicPr/>
          <p:nvPr/>
        </p:nvPicPr>
        <p:blipFill>
          <a:blip r:embed="rId1"/>
          <a:stretch/>
        </p:blipFill>
        <p:spPr>
          <a:xfrm>
            <a:off x="0" y="-8100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480960" y="225360"/>
            <a:ext cx="596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Приоритетным направлением деятельности нашего дошкольного учреждения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(в соответствии с ФГОС ДО) является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социально - коммуникативное развитие воспитаннико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7" descr="yemblemyua"/>
          <p:cNvPicPr/>
          <p:nvPr/>
        </p:nvPicPr>
        <p:blipFill>
          <a:blip r:embed="rId1"/>
          <a:stretch/>
        </p:blipFill>
        <p:spPr>
          <a:xfrm>
            <a:off x="6624720" y="152280"/>
            <a:ext cx="2411280" cy="2411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5811840" y="2992320"/>
            <a:ext cx="3297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Tahoma"/>
              </a:rPr>
              <a:t>Основной целью этого направления является позитивная социализация детей дошкольного возраст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Tahoma"/>
              </a:rPr>
              <a:t>приобщение 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Tahoma"/>
              </a:rPr>
              <a:t>к социокультурным нормам, традициям семь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Tahoma"/>
              </a:rPr>
              <a:t>общества и государ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11" descr="DSC_0374"/>
          <p:cNvPicPr/>
          <p:nvPr/>
        </p:nvPicPr>
        <p:blipFill>
          <a:blip r:embed="rId2"/>
          <a:stretch/>
        </p:blipFill>
        <p:spPr>
          <a:xfrm>
            <a:off x="108000" y="2924280"/>
            <a:ext cx="5653080" cy="3768480"/>
          </a:xfrm>
          <a:prstGeom prst="rect">
            <a:avLst/>
          </a:prstGeom>
          <a:ln w="6336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0" y="15228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971640" y="201600"/>
            <a:ext cx="74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ЗАДАЧИ СОЦИАЛЬНО-КОММУНИКАТИВНОГО РАЗВИТИ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907920" y="1305000"/>
            <a:ext cx="794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1. Создать условия для усвоения детьми дошкольного возраста норм и ценностей, принятых в обществе, включая моральные и нравственные цен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914400" y="2349360"/>
            <a:ext cx="858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Tahoma"/>
              </a:rPr>
              <a:t>2. Развивать социальный и эмоциональный интеллект детей, их эмоциональную отзывчивость, сопереживание, навыки доброжелательного общения и взаимодействия со взрослыми и сверстни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901800" y="3645000"/>
            <a:ext cx="788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3. Способствовать становлению самостоятельности, целенаправленности и саморегуляции собственных действий де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900000" y="45813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Tahoma"/>
              </a:rPr>
              <a:t>4. Формировать уважительное отношение и чувство принадлежности к своей семье и к сообществу детей и взрослых в коллективе, позитивные установки к различным видам труда и творче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900000" y="5775480"/>
            <a:ext cx="808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5. Формировать у детей основы безопасного поведения в быту, социуме, природе; готовность к совместной деятельности со сверстни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5"/>
          <p:cNvSpPr/>
          <p:nvPr/>
        </p:nvSpPr>
        <p:spPr>
          <a:xfrm>
            <a:off x="431640" y="519120"/>
            <a:ext cx="932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СЛОВИЯМИ РЕАЛИЗАЦИИ ПОСТАВЛЕННЫХ ЗАДАЧ ЯВЛЯЮ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942840" y="1887480"/>
            <a:ext cx="827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Tahoma"/>
              </a:rPr>
              <a:t>ПРИМЕНЕНИЕ В ПРАКТИКЕ РАБОТЫ ДОУ ИННОВАЦИОННЫХ ПЕДАГОГИЧЕСКИХ ТЕХНОЛОГ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31640" y="314172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ОРГАНИЗАЦИЯ ЭФФЕКТИВНОГО ПЕДАГОГИЧЕСКОГО СОТРУДНИЧ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ВСЕХ УЧАСТНИКОВ ОБРАЗОВАТЕЛЬНОГО ПРОЦЕ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116000" y="4732200"/>
            <a:ext cx="67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Tahoma"/>
              </a:rPr>
              <a:t>ОБОГАЩЕНИЕ ПРЕДМЕТНО-ПРОСТАНСТВЕННОЙ СРЕД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Tahoma"/>
              </a:rPr>
              <a:t>ОБРАЗОВАТЕЛЬНОГО УЧРЕЖД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095480" y="276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-324000" y="189000"/>
            <a:ext cx="96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РИНЦИПЫ ПОСТРОЕНИЯ ПРЕДМЕТНО-ПРОСТРАНСТВЕННОЙ СРЕДЫ В НАШЕМ УЧРЕЖД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(В СООТВЕТСТВИИ С ФГОС Д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03280" y="1521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Tahoma"/>
              </a:rPr>
              <a:t>ПРИНЦИП НАСЫЩЕННОСТИ ПРЕДМЕТНО-ПРОСТРАНСТВЕННОЙ СРЕДЫ: УЧЕТ ВОЗРАСТНЫХ ОСОБЕННОСТЕЙ И СЕНЗИТИВНЫХ ПЕРИОДОВ РАЗВИТИЯ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7" descr="0000013225"/>
          <p:cNvPicPr/>
          <p:nvPr/>
        </p:nvPicPr>
        <p:blipFill>
          <a:blip r:embed="rId1"/>
          <a:stretch/>
        </p:blipFill>
        <p:spPr>
          <a:xfrm>
            <a:off x="1871640" y="2581200"/>
            <a:ext cx="5946840" cy="3979800"/>
          </a:xfrm>
          <a:prstGeom prst="rect">
            <a:avLst/>
          </a:prstGeom>
          <a:ln w="5076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079640" y="548280"/>
            <a:ext cx="761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ЦЕНТРЫ ДЕТСКОЙ АКТИВНОСТИ, СПОСОБСТВУЮЩИЕ СОЦИАЛЬНО-КОММУНИКАТИВНОМУ РАЗВИТИЮ, В ПРОСТРАНСТВЕ ГРУППЫ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97520" y="1762200"/>
            <a:ext cx="32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d45ed"/>
                </a:solidFill>
                <a:latin typeface="Tahoma"/>
              </a:rPr>
              <a:t>ЦЕНТР БЕЗОПАС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378160" y="3247920"/>
            <a:ext cx="43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ЦЕНТР СЮЖЕТНО-РОЛЕВЫХ ИГ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094400" y="4003560"/>
            <a:ext cx="60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ЦЕНТР ТЕАТРАЛИЗОВАННОЙ ДЕЯТЕЛЬ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448000" y="4780080"/>
            <a:ext cx="52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Tahoma"/>
              </a:rPr>
              <a:t>ЦЕНТР ФОРМИРОВАНИЯ ГЕНДЕР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Tahoma"/>
              </a:rPr>
              <a:t>ПРИНАДЛЕЖНОСТИ «ОБРАЗ 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193400" y="5751360"/>
            <a:ext cx="74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ЦЕНТР ФОРМИРОВАНИЯ КУЛЬТУРНО-ГИГИЕНИЧЕСК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ВЫ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160640" y="2492280"/>
            <a:ext cx="32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Tahoma"/>
              </a:rPr>
              <a:t>МУЗЫКАЛЬНЫЙ ЦЕНТ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79640" y="115200"/>
            <a:ext cx="76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ЦЕНТР БЕЗОПАС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83880" y="907920"/>
            <a:ext cx="755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ФИЛАКТИКА ДОРОЖНО-ТРАНСПОРТНЫХ ПРОИСШЕСТВ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ИЗУЧЕНИЕ ПРАВИЛ ДОРОЖНОГО ДВИ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2" descr="D:\для презентации\CIMG1457.JPG"/>
          <p:cNvPicPr/>
          <p:nvPr/>
        </p:nvPicPr>
        <p:blipFill>
          <a:blip r:embed="rId1"/>
          <a:stretch/>
        </p:blipFill>
        <p:spPr>
          <a:xfrm>
            <a:off x="468360" y="1844640"/>
            <a:ext cx="3138480" cy="470844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pic>
        <p:nvPicPr>
          <p:cNvPr id="144" name="Picture 5" descr="3%28600%29"/>
          <p:cNvPicPr/>
          <p:nvPr/>
        </p:nvPicPr>
        <p:blipFill>
          <a:blip r:embed="rId2"/>
          <a:stretch/>
        </p:blipFill>
        <p:spPr>
          <a:xfrm>
            <a:off x="3924360" y="2725560"/>
            <a:ext cx="5003640" cy="375300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079640" y="115200"/>
            <a:ext cx="76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ЦЕНТР БЕЗОПАС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6" descr="DSC_0363"/>
          <p:cNvPicPr/>
          <p:nvPr/>
        </p:nvPicPr>
        <p:blipFill>
          <a:blip r:embed="rId1"/>
          <a:stretch/>
        </p:blipFill>
        <p:spPr>
          <a:xfrm>
            <a:off x="179280" y="812880"/>
            <a:ext cx="8831520" cy="588780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7:57:20Z</dcterms:created>
  <dc:creator>й</dc:creator>
  <dc:description/>
  <dc:language>en-US</dc:language>
  <cp:lastModifiedBy>Admin</cp:lastModifiedBy>
  <dcterms:modified xsi:type="dcterms:W3CDTF">2019-01-11T08:20:13Z</dcterms:modified>
  <cp:revision>651</cp:revision>
  <dc:subject/>
  <dc:title>       МИНИСТЕРСТВО ОБРАЗОВАНИЯ И НАУКИ                                            Р                           ОССИЙСКОЙ ФЕФДЕРАЦИИ             МОСКОВСКИЙ    ГОСУДАРСТВЕННЫЙ      ГУМАНИТАРНЫЙ  УНИВЕРСИТЕТ     им. М.А.Шолохова </dc:title>
</cp:coreProperties>
</file>