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AB20-572E-41AB-B1C9-BE8C5C40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068-D8B8-4540-816C-3AA6E779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EFA-A7E3-4099-BF35-5565CCF3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90B-BE7D-49EE-A50C-6BA4C921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6739-87B0-4C25-A61D-FE962CF7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E27E-605D-424C-9DB3-83753D73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AD20-B253-4643-B508-CB7C6E7C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E983-976C-4475-A523-B616C112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BE36-A65E-459B-B2CF-23E490D5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D8F1-65A1-4F3D-BF16-73C5B3DD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6C65-31D1-46B9-AAEA-018AFE7E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648-ECF2-4DCB-8894-D8784CC0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68A5-22F2-4788-8A1D-978C7622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F8D9-FEF9-4718-B90E-671563E1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40B3-BCD9-48A8-96ED-DA1CAC1C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FF15-20A6-4995-A010-1CC95179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CF50-0F1D-43B6-9D4F-F571C889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788-2766-487A-BDEE-F2885888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43F-6E65-48E1-B7DD-58DD8511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F9A-3D38-45FF-837B-EA77DF00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9ED-582E-4AF2-ABFF-88F2E7F6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941-91DF-43CF-817F-DD742F62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BBF-F2E4-44B2-8E6D-89443973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1D9-373A-4918-A0F4-3F2D0C39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D3CF-6279-4FF9-9B13-133BC1A1A0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4337-9E67-4DD8-B3B1-A55939A7B410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1341360"/>
            <a:ext cx="8785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«Профилактика суицидального поведения школьников»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методист Румянцева Евгения Владимировна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БНОУ «Школа здоровья и индивидуального развития»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Рисунок 2" descr=""/>
          <p:cNvPicPr/>
          <p:nvPr/>
        </p:nvPicPr>
        <p:blipFill>
          <a:blip r:embed="rId1"/>
          <a:stretch/>
        </p:blipFill>
        <p:spPr>
          <a:xfrm>
            <a:off x="2044800" y="3429000"/>
            <a:ext cx="541980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Педагогическое упреждение суицидальных попыток подростков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редполагает создание эффективной целостной системы педагогической профилактики при условии комплексного подхода всех специалистов (педагогов, социального педагога, психолога, медицинского работник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Times New Roman"/>
              </a:rPr>
              <a:t>Что можно сделать для того, чтобы</a:t>
            </a:r>
            <a:r>
              <a:rPr b="1" lang="ru-RU" sz="3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000" spc="-1" strike="noStrike">
                <a:solidFill>
                  <a:srgbClr val="333399"/>
                </a:solidFill>
                <a:latin typeface="Times New Roman"/>
              </a:rPr>
              <a:t>помочь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3920" y="1773000"/>
            <a:ext cx="8559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бирайте ключи к разгадке суицид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щите признаки возможной опас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ите суицидента как личность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овите заботливы взаимоотношен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удьте внимательным слушателе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спорьт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вайте вопрос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предлагайте неоправданных утешен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ляйте надежду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цените степень риска самоубийств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оставляйте человека одного в ситуации высокого суицидального рис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титесь за помощью к специалиста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ажность сохранения заботы и поддерж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остучаться до каждого сердца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627280" y="1268280"/>
            <a:ext cx="367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чаться до каждого сердц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, кого ты решился учи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кроется тайная дверц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душам тех, кого смог полюбить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кой-то проспавший мальчишк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здает на первый уро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казница в прошлом девчонк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ласит на последний звонок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йдут еще многие год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-разному может сложиться судьб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счезнут и боль, и невзгод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ратится повсюду вражда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ка будут будни учеб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веты звучат у дос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насилия мир и без злоб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аренных роз лепестки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 Львовс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033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атистические данные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по России)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убийство является 13-й по счету причиной смерти во всем мир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, согласно данным Госкомстата, самоубийство как причина смерти находится на пятом месте в ряду других причин (после болезней сердечно-сосудистой системы, несчастных случаев, других заболеваний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Российская Федерация занимает 2-е место,  по уровню завершенных самоубийств, 1- по числу самоубийств среди подростков и пожилых люде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следнее десятилетие в России частота суицидов среди подростков возросла почти в 3 раза. Самоубийства являются второй по частоте причиной смерти в молодости. По словам Павла Астахова, в России ежегодно происходит более 4 тыс. попыток самоубийств среди подростков. Около полутора тысяч из них – завершенны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каждый день совершают самоубийство с летальным исходом 17 детей от 5 до 19 лет, и эти страшные цифры не учитывают случаев попыток к самоубийств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30% лиц в возрасте 14 – 24 лет бывают суицидальные мысл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атистика по возрастам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дного подростка, который преуспеет в своем желании свести счеты с жизнью, приходятся 100 его сверстников, предпринявших неудачные аналогичные попытки (по мнению специалистов, единожды решивший расстаться с жизнью попробует предпринять эту попытку еще раз, скорее всего это произойдет в течение следующего года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0% суицидальное поведение имеет цель покончить собой, и в 90% суицидальное поведение подростка – это привлечение к себе внима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каждый день совершают самоубийство с летальным исходом 17 дете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-10 лет больше суицидов совершают мальчики, с 16 до 18 лет — девочки, возраст 13-14 лет одинаково опасен как для тех, так и для други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% детских суицидов — отравления, самые маленькие выбирают наиболее травматичные способы ухода их жизни — прыжки с большой высоты и повешени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вляющее большинство самоубийств в возрасте до 10 лет дети совершают из-за жестокого обращения с ребенком в семье, игнорирования его как личности. При этом 70% суицидов совершают дети из внешне благополучных семе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из 10 попыток самоубийства дети предпринимают дом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699920"/>
            <a:ext cx="7793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уицид 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в узком, медико-биологическом смысле)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 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мышленное самоповреждение со смертельным исходом (лишение себя жизни)</a:t>
            </a:r>
            <a:br>
              <a:rPr sz="2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989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й смысл суицида чаще всего заключается в отреагировании аффекта, снятии эмоционального напряжения, ухода от той ситуации, в которой волей неволей  оказывается человек.   Люди, совершающие суицид, обычно страдают от сильной душевной боли и находятся в состоянии стресса, а также чувствуют невозможность справиться со своими проблемам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мом широком смысле, самоубийство — вид саморазрушительного, аутодеструктивного поведения, включающий злоупотребление алкоголем, наркотиками, перееданием  и «спорт высокого риска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очки зрения G. Zilboorg (1937), каждый суицидальный акт выражает не только бессознательную враждебность, но также необычайный дефицит способности любить други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. Пезешкиану (1996), любая попытка суицида — в меньшей степени стремление к смерти, в большей мере вызов окружающему мир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нятием суицид связаны  следующие понят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ицидальное повед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это проявление суицидальной активности: мысли, намерения, высказывания, угрозы, попытки, покуш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ицидент –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, совершивший попытку суицида, либо демонстрирующий суицидальные наклон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личают следующие типы суицидального поведения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2017800"/>
            <a:ext cx="90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монстративное поведе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 основе лежит стремление подростка обратить внимание на себя и свои проблемы, показать, как ему трудно справляться с жизненными ситуациями. Это своего рода просьба о помощи. Как правило, демонстративные суицидальные действия совершаются не с целью причинить себе реальный вред или лишить себя жизни, а с целью напугать окружающих, заставить их задуматься над проблемами подростка, «осознать» свое несправедливое отношение к нем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ффективное суицидальное поведение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ких случаях подросток действует импульсивно, не имея четкого плана своих действий. Как правило, сильные негативные эмоции — обида, гнев, -  затмевают собой реальное восприятие действительности и подросток, руководствуясь ими,  совершает суицидальные действ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инное суицидальное поведение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Характеризуется продуманным планом действий. Подросток готовится к совершению суицидального действия. При таком типе суицидального поведения подростки чаще оставляют записки, адресованные родственникам и друзьям, в которых они прощаются со всеми и объясняют причины своих действий.  Поскольку действия являются продуманными, такие суицидальные попытки чаще заканчиваются смерть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чинами суицидов в детском и подростковом возрасте может быть следующее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8000" y="1916280"/>
            <a:ext cx="90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я о желании умереть появляются без всякой внешней провокации, обычно носят характер угрозы близким. В этих случаях попытки самоубийства предпринимаются в отсутствии взрослых, втайне от них и в дошкольном, и в младшем школьном возрасте носят в основном по-детски наивный характер. Дети пытаются голодать, подолгу сидят в ванне с холодной водой, дышат через форточку морозным воздухом, едят снег или мороженое, чтобы простудиться и умерет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сформированное понимание смерти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 понимании ребенка смерть не означает бесповоротное прекращение жизни. Ребёнок думает, что всё можно будет вернуть назад. У подростков понимание и осознание страха смерти формируется не раньше 18 лет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сутствие идеологии в обществе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дросток в обществе «без родины и флага» чаще испытывает ощущения ненужности, депресс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нняя половая жизнь, приводящая к ранним разочарования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этом  возникает ситуация, по мнению подростка, не совместимая с представлением «как жить дальше» (потеря любимого, наступление нежеланной беременности и т.д.), т.е. происходит утрата цел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гармония в семь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а дисгармония носит не внешний, а содержательный характер: в первую очередь нарушены родительско-детские отношения. Роль «последней капли» играют школьные ситуа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разрушаемое поведе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пристрастие к алкоголю, наркотикам, криминализация общества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акция протес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чиной которого становятся нарушенные внутрисемейные, внутришкольные или внутригрупповые взаимоотноше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пресс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е основным симптомом является потеря возможности получать удовольствие и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спытывать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аждение от тех вещей в жизни, которые раньше приносили счасть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инамика развития суицидального поведения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вая стадия — стадия вопросов о смерти и смысле жизн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адаптационных способностей (это может проявляться в снижении успеваемости, уровня интересов, ограничении общения, повышенной раздражительности, эмоциональной неустойчивости и т.д.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ассивных суицидальных мыслей («надоела такая жизнь», «вот бы уснуть и не проснуться», возникновением интереса к проблемам жизни и смерти и т.д.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торая стадия — это суицидальные замысл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плана реализации суицидальных замыслов, продумываются способы, время и место совершения самоубийств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я о своих намерения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етья стадия — суицидальные намерения и собственно суицидальная попыт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сть развития суицидального поведения может исчисляться как минутами, так и месяцами.  При острых формах возможно моментальное проявление суицидальных замыслов и намерений сразу, без предшествующих ступене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8560" y="9810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четание признаков, сообщающих о готовящемся суициде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ние своих дел в порядок — раздача ценных вещей, упаковывание. Человек мог быть неряшливым, и вдруг начинает приводить все в порядок. Делает последние приготовл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щание. Может принять форму выражения благодарности различным людям за помощь в разное время жизн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удовлетворенность — прилив энергии. Если  решение покончить с собой принято, а план составлен, то мысли на эту тему перестают мучить, появляется избыток энергии. Внешне расслабляется — может показаться, что отказался от мысли о самоубийстве. Состояние прилива сил может быть опаснее, чем глубокая депресс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ые указания (в письмах, записках, дневнике) или словесные указания или угроз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ышки гнева у импульсивных подростк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сонниц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акторы, препятствующие возникновению суицидального поведения у подростков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1844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ая привязанность к значимым родным и близким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я внимания на состоянии собственного здоровья, боязнь причинения себе физического ущерб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общественного мнения и избегание осуждения со стороны окружающих, представления о позорности самоубийства и неприятие (осуждение) суицидальных моделей поведе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ждения о неиспользованных жизненных возможностях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жизненных, творческих, семейных и других планов, замысл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гибкость и адаптированность, умение компенсировать негативные личные переживания, использовать методы снятия психической напряженнос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ение интереса к жизн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язанность к родственникам, близким людям, степень значимости отношений с ни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религиозности и боязнь греха самоубийств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своего ближайшего будущего и перспектив жизн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ая проекция своего внешнего вида после самоубийств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7:27:38Z</dcterms:created>
  <dc:creator>Ярцева Татьяна Михайловна</dc:creator>
  <dc:description/>
  <dc:language>en-US</dc:language>
  <cp:lastModifiedBy>Работник</cp:lastModifiedBy>
  <cp:lastPrinted>2014-06-18T08:57:19Z</cp:lastPrinted>
  <dcterms:modified xsi:type="dcterms:W3CDTF">2019-01-11T12:39:55Z</dcterms:modified>
  <cp:revision>39</cp:revision>
  <dc:subject/>
  <dc:title>Профилактика суицидального поведения подростков</dc:title>
</cp:coreProperties>
</file>