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2712-14FE-481A-BFEA-2748C2040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7743-C94D-4FB6-A550-61C8A471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66E0-E559-4E02-983D-39F67FFA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18E1-8389-463C-A6BC-8E2F5455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FAC5-8CD3-48B4-BD97-184E386C3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C4C8-E910-4F9E-852A-2F765A00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1FE3-439F-4E6E-A123-D0816F73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A77A-D358-43D8-8993-589ADCFD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40CF-E4EE-4FC2-9EA1-7ACDD5C7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D7B2-CEAF-4EFC-8ED1-8ACDC715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F811-8975-4A44-B8B6-61CDE622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E0D8-01B1-4739-AF2A-2F3593CF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4681-C26B-47B5-A41D-10A17657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881F-2C8F-47FA-8695-8CC7674C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E409-A3BE-466F-A8F4-ED488652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2BA0-D3BE-480E-B905-A516BC6A7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C4A1-B75E-4DF8-A68F-CB0AC8A4C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6887-95E8-4AD0-A94E-AF80E900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A6F2-B3A3-4242-B7EC-741AAAC6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58D4-988C-4D8C-A059-7CC08082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8403-6CE5-4188-88C3-475DBB1D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B8D3-2989-45C8-B736-CDCCE3F6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F0CA-224B-43A9-A7C2-4B5D916C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923C-6CFB-40BF-A29B-F460422D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E9BC-BC34-4CAE-BAD9-CD20E38F2C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64A6-DBAF-4FF2-A8BC-47FDB157D9FA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1341360"/>
            <a:ext cx="87850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«Профилактика суицидального поведения школьников»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методист Румянцева Евгения Владимировна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ГБНОУ «Школа здоровья и индивидуального развития»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Рисунок 2" descr=""/>
          <p:cNvPicPr/>
          <p:nvPr/>
        </p:nvPicPr>
        <p:blipFill>
          <a:blip r:embed="rId1"/>
          <a:stretch/>
        </p:blipFill>
        <p:spPr>
          <a:xfrm>
            <a:off x="2044800" y="3429000"/>
            <a:ext cx="5419800" cy="32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Педагогическое упреждение суицидальных попыток подростков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Предполагает создание эффективной целостной системы педагогической профилактики при условии комплексного подхода всех специалистов (педагогов, социального педагога, психолога, медицинского работника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99"/>
                </a:solidFill>
                <a:latin typeface="Times New Roman"/>
              </a:rPr>
              <a:t>Что можно сделать для того, чтобы</a:t>
            </a:r>
            <a:r>
              <a:rPr b="1" lang="ru-RU" sz="3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3000" spc="-1" strike="noStrike">
                <a:solidFill>
                  <a:srgbClr val="333399"/>
                </a:solidFill>
                <a:latin typeface="Times New Roman"/>
              </a:rPr>
              <a:t>помочь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83920" y="1773000"/>
            <a:ext cx="8559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бирайте ключи к разгадке суицид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щите признаки возможной опас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ите суицидента как личность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тановите заботливы взаимоотношени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удьте внимательным слушателе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 спорьт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вайте вопросы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 предлагайте неоправданных утешени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селяйте надежду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цените степень риска самоубийств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 оставляйте человека одного в ситуации высокого суицидального риск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ратитесь за помощью к специалистам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ажность сохранения заботы и поддержк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остучаться до каждого сердца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627280" y="1268280"/>
            <a:ext cx="367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чаться до каждого сердц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, кого ты решился учит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ткроется тайная дверц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душам тех, кого смог полюбить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акой-то проспавший мальчишк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здает на первый урок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оказница в прошлом девчонк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ласит на последний звонок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ойдут еще многие годы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-разному может сложиться судьб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исчезнут и боль, и невзгоды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ратится повсюду вражда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ка будут будни учебы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тветы звучат у доск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насилия мир и без злобы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даренных роз лепестки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к Львовск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Рисунок 3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0336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5640" y="6919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татистические данные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по России)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убийство является 13-й по счету причиной смерти во всем мир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и, согласно данным Госкомстата, самоубийство как причина смерти находится на пятом месте в ряду других причин (после болезней сердечно-сосудистой системы, несчастных случаев, других заболеваний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Российская Федерация занимает 2-е место,  по уровню завершенных самоубийств, 1- по числу самоубийств среди подростков и пожилых людей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оследнее десятилетие в России частота суицидов среди подростков возросла почти в 3 раза. Самоубийства являются второй по частоте причиной смерти в молодости. По словам Павла Астахова, в России ежегодно происходит более 4 тыс. попыток самоубийств среди подростков. Около полутора тысяч из них – завершенны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й стране каждый день совершают самоубийство с летальным исходом 17 детей от 5 до 19 лет, и эти страшные цифры не учитывают случаев попыток к самоубийству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30% лиц в возрасте 14 – 24 лет бывают суицидальные мысл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5640" y="9810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татистика по возрастам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дного подростка, который преуспеет в своем желании свести счеты с жизнью, приходятся 100 его сверстников, предпринявших неудачные аналогичные попытки (по мнению специалистов, единожды решивший расстаться с жизнью попробует предпринять эту попытку еще раз, скорее всего это произойдет в течение следующего года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0% суицидальное поведение имеет цель покончить собой, и в 90% суицидальное поведение подростка – это привлечение к себе вниман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й стране каждый день совершают самоубийство с летальным исходом 17 детей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9-10 лет больше суицидов совершают мальчики, с 16 до 18 лет — девочки, возраст 13-14 лет одинаково опасен как для тех, так и для других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% детских суицидов — отравления, самые маленькие выбирают наиболее травматичные способы ухода их жизни — прыжки с большой высоты и повешени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вляющее большинство самоубийств в возрасте до 10 лет дети совершают из-за жестокого обращения с ребенком в семье, игнорирования его как личности. При этом 70% суицидов совершают дети из внешне благополучных семей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из 10 попыток самоубийства дети предпринимают дом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1699920"/>
            <a:ext cx="77932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уицид 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в узком, медико-биологическом смысле)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– 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умышленное самоповреждение со смертельным исходом (лишение себя жизни)</a:t>
            </a:r>
            <a:br>
              <a:rPr sz="2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9280" y="198900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ий смысл суицида чаще всего заключается в отреагировании аффекта, снятии эмоционального напряжения, ухода от той ситуации, в которой волей неволей  оказывается человек.   Люди, совершающие суицид, обычно страдают от сильной душевной боли и находятся в состоянии стресса, а также чувствуют невозможность справиться со своими проблемам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амом широком смысле, самоубийство — вид саморазрушительного, аутодеструктивного поведения, включающий злоупотребление алкоголем, наркотиками, перееданием  и «спорт высокого риска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очки зрения G. Zilboorg (1937), каждый суицидальный акт выражает не только бессознательную враждебность, но также необычайный дефицит способности любить других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. Пезешкиану (1996), любая попытка суицида — в меньшей степени стремление к смерти, в большей мере вызов окружающему миру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нятием суицид связаны  следующие понят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ицидальное поведени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это проявление суицидальной активности: мысли, намерения, высказывания, угрозы, попытки, покушен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ицидент –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, совершивший попытку суицида, либо демонстрирующий суицидальные наклоннос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83628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азличают следующие типы суицидального поведения: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8000" y="2017800"/>
            <a:ext cx="903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монстративное поведение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 основе лежит стремление подростка обратить внимание на себя и свои проблемы, показать, как ему трудно справляться с жизненными ситуациями. Это своего рода просьба о помощи. Как правило, демонстративные суицидальные действия совершаются не с целью причинить себе реальный вред или лишить себя жизни, а с целью напугать окружающих, заставить их задуматься над проблемами подростка, «осознать» свое несправедливое отношение к нему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ффективное суицидальное поведение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ких случаях подросток действует импульсивно, не имея четкого плана своих действий. Как правило, сильные негативные эмоции — обида, гнев, -  затмевают собой реальное восприятие действительности и подросток, руководствуясь ими,  совершает суицидальные действ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тинное суицидальное поведение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Характеризуется продуманным планом действий. Подросток готовится к совершению суицидального действия. При таком типе суицидального поведения подростки чаще оставляют записки, адресованные родственникам и друзьям, в которых они прощаются со всеми и объясняют причины своих действий.  Поскольку действия являются продуманными, такие суицидальные попытки чаще заканчиваются смертью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чинами суицидов в детском и подростковом возрасте может быть следующее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8000" y="1916280"/>
            <a:ext cx="903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ения о желании умереть появляются без всякой внешней провокации, обычно носят характер угрозы близким. В этих случаях попытки самоубийства предпринимаются в отсутствии взрослых, втайне от них и в дошкольном, и в младшем школьном возрасте носят в основном по-детски наивный характер. Дети пытаются голодать, подолгу сидят в ванне с холодной водой, дышат через форточку морозным воздухом, едят снег или мороженое, чтобы простудиться и умереть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сформированное понимание смерти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 понимании ребенка смерть не означает бесповоротное прекращение жизни. Ребёнок думает, что всё можно будет вернуть назад. У подростков понимание и осознание страха смерти формируется не раньше 18 лет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сутствие идеологии в обществе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одросток в обществе «без родины и флага» чаще испытывает ощущения ненужности, депресси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нняя половая жизнь, приводящая к ранним разочарования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и этом  возникает ситуация, по мнению подростка, не совместимая с представлением «как жить дальше» (потеря любимого, наступление нежеланной беременности и т.д.), т.е. происходит утрата цел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сгармония в семь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Эта дисгармония носит не внешний, а содержательный характер: в первую очередь нарушены родительско-детские отношения. Роль «последней капли» играют школьные ситуаци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моразрушаемое поведени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пристрастие к алкоголю, наркотикам, криминализация общества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акция протест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чиной которого становятся нарушенные внутрисемейные, внутришкольные или внутригрупповые взаимоотношени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пресс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Ее основным симптомом является потеря возможности получать удовольствие и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спытывать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лаждение от тех вещей в жизни, которые раньше приносили счасть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5640" y="9810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инамика развития суицидального поведения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рвая стадия — стадия вопросов о смерти и смысле жизн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ки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адаптационных способностей (это может проявляться в снижении успеваемости, уровня интересов, ограничении общения, повышенной раздражительности, эмоциональной неустойчивости и т.д.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ассивных суицидальных мыслей («надоела такая жизнь», «вот бы уснуть и не проснуться», возникновением интереса к проблемам жизни и смерти и т.д.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торая стадия — это суицидальные замысл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ки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плана реализации суицидальных замыслов, продумываются способы, время и место совершения самоубийства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казывания о своих намерениях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етья стадия — суицидальные намерения и собственно суицидальная попытк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тельность развития суицидального поведения может исчисляться как минутами, так и месяцами.  При острых формах возможно моментальное проявление суицидальных замыслов и намерений сразу, без предшествующих ступеней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8560" y="9810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четание признаков, сообщающих о готовящемся суициде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дение своих дел в порядок — раздача ценных вещей, упаковывание. Человек мог быть неряшливым, и вдруг начинает приводить все в порядок. Делает последние приготовлен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щание. Может принять форму выражения благодарности различным людям за помощь в разное время жизн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яя удовлетворенность — прилив энергии. Если  решение покончить с собой принято, а план составлен, то мысли на эту тему перестают мучить, появляется избыток энергии. Внешне расслабляется — может показаться, что отказался от мысли о самоубийстве. Состояние прилива сил может быть опаснее, чем глубокая депресс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енные указания (в письмах, записках, дневнике) или словесные указания или угроз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ышки гнева у импульсивных подростков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сонниц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акторы, препятствующие возникновению суицидального поведения у подростков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18446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ая привязанность к значимым родным и близким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я внимания на состоянии собственного здоровья, боязнь причинения себе физического ущерб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общественного мнения и избегание осуждения со стороны окружающих, представления о позорности самоубийства и неприятие (осуждение) суицидальных моделей поведени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еждения о неиспользованных жизненных возможностях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жизненных, творческих, семейных и других планов, замыслов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ая гибкость и адаптированность, умение компенсировать негативные личные переживания, использовать методы снятия психической напряженност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ление интереса к жизн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язанность к родственникам, близким людям, степень значимости отношений с ним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религиозности и боязнь греха самоубийств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своего ближайшего будущего и перспектив жизн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ивная проекция своего внешнего вида после самоубийств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07:27:38Z</dcterms:created>
  <dc:creator>Ярцева Татьяна Михайловна</dc:creator>
  <dc:description/>
  <dc:language>en-US</dc:language>
  <cp:lastModifiedBy>Работник</cp:lastModifiedBy>
  <cp:lastPrinted>2014-06-18T08:57:19Z</cp:lastPrinted>
  <dcterms:modified xsi:type="dcterms:W3CDTF">2019-01-11T12:39:55Z</dcterms:modified>
  <cp:revision>39</cp:revision>
  <dc:subject/>
  <dc:title>Профилактика суицидального поведения подростков</dc:title>
</cp:coreProperties>
</file>