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D223-18EF-47AD-B7C3-812D943DA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2CEC-C1F5-4598-87DE-F35D3B6E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FCC6-2AA9-47A5-9A57-97438A84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1AB1-DF56-4CFA-BBDC-666A4D1B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3CED-1FBE-45C7-B52C-F17C48A8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2E2A-081A-45B3-85C9-625301F7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264A-E1AC-4152-B4FF-5498E878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78FA-9855-48BE-8ED7-6E5090EB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2254-E8D9-4E14-A112-63300F64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5E38-FD77-4666-86FB-AAAB312E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B5C7-16D7-495F-90F7-204BE7F8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294E-9E99-4866-8BC8-2A30C28A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9130-AC0F-4E88-B895-DB431548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4468-F8F1-4E09-8EEB-81E29D28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1CD8-6D26-4497-A5D9-6CE02692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B967-CC19-4078-8B84-1B0905DC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6467-9D12-4C1D-ABC5-450D6173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DC86B-C78F-41A3-BA22-5E3C3F1D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E76AE-5B5D-4CC4-8476-7A4A25F5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BB56F-A808-4B02-99AF-D18F041B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9BE2F-8A01-416D-A439-7E0043AE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E0BF6-FA10-496D-BF47-B00404E9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792E-88ED-44C2-9845-C28D242C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F99C6-10D1-4EDA-B9FE-0B9BAF97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E0817-7021-40BB-824D-63E2FC19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D3F72-BF53-40A5-913B-4CA3C0A5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91A21-CF97-478F-8CB4-D9B95C14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7AC64-F86B-4F15-A93E-7095DEB3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87AE9-78A8-447E-B005-E8B577EDD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D7663-68FC-49A6-8224-29ABFB08E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F0499-54CC-461B-94A9-A363F9FB3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521D4-81D0-46CB-813B-6ECF1FFA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D7F36-B48D-4000-BD85-08B46944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4DC8-BA00-4075-9DC3-A933D1EA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B8A7F-B947-4E05-9DA4-F4B1FA7C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360EE-B46E-4B06-B28F-E955F9BC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50590-911C-4573-8A69-F7E43EEF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DEE77-A488-4524-8B56-F2FC2FCB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7CA6D-4B75-4E8A-A1C4-AB2D41B5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84881-273B-4418-BF97-ADCF9246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7E47A-0165-4C8F-8019-361FF71D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F7B9A-ADEE-4D9B-B272-96F0A1D4F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9D6AA-C3AE-4B4E-8628-05F7D0EB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F7F8-99EA-4970-B06C-8DA8253A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83CD-6839-4906-9210-46174606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1F14-01BD-471B-994B-F2F8734C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CC3C-F30B-44B2-9125-BD12ADE5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7F50-0BD7-4FC2-8B48-94254749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4E38-BD91-450D-83C9-25A9F5D8E30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FB06-5A7A-4079-9967-CE4C9D662C1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D66C-64E2-47E9-A81C-AC3CABA6CE1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6C9E-B390-44D8-AF20-E8E5D2C89C7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249120" y="262080"/>
            <a:ext cx="8718840" cy="15858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8215200" cy="45352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d0d0d"/>
                </a:solidFill>
                <a:latin typeface="Constantia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ические рекомендации по использованию краеведческого материала при изучении Великой Отечественной войны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торы проекта: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руллина Л.К. учитель истории и обществознания МБОУ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таро-Казеевская СОШ»  Камско-Устьинского района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влетшина М.М учитель истории и обществознания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ОУ «Балтасинская СОШ» пгт Балтаси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акова Г.Т учитель истории и обществознания МБОУ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 Уруссинская гимназия»  Ютазинского района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атор: И.П. Багаутдинова,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рший преподаватель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деления экономики и управления ОУ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МЦ ПК и ППРО КФУ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" spc="-1" strike="noStrike">
                <a:solidFill>
                  <a:srgbClr val="f2f2f2"/>
                </a:solidFill>
                <a:latin typeface="Constantia"/>
              </a:rPr>
              <a:t>  </a:t>
            </a:r>
            <a:endParaRPr b="0" lang="en-US" sz="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методических рекомендаций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ить педагогам современные подходы к изучению Великой Отечественной войны на основе краеведческого материал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just">
              <a:lnSpc>
                <a:spcPct val="13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воспитанию у учащихся гражданских чувств, чувства любви к Родине, земле, гордость за своих земляков и историю села и город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just">
              <a:lnSpc>
                <a:spcPct val="13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овать развитию исследовательских способностей учащих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</a:t>
            </a:r>
            <a:r>
              <a:rPr b="0" lang="ru-RU" sz="5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Актуальность проекта</a:t>
            </a:r>
            <a:r>
              <a:rPr b="0" lang="ru-RU" sz="4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44928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современного образования в воспитании и развитии будущего патриота, гражданина страны ;  создание культурной среды развития личности ребенка и оказание ей помощи в нахождении своего места в культуре родного края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4492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</a:t>
            </a:r>
            <a:r>
              <a:rPr b="0" lang="ru-RU" sz="5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тоговый результат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24000" y="1125360"/>
            <a:ext cx="83628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ести поисковую и исследовательскую работу, работу по отбору материал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 algn="just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е доступных знаний об истории родного   кра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 algn="just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уровня профессиональной компетентности педагогов образовательного учреждения по проблеме приобщения школьников к ценностям истории, культуры родного края;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 algn="just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ymbol"/>
              </a:rPr>
              <a:t>    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модели взаимодействия школьного учреждения и семьи, различными социальными институтами в процессе развития у школьников ценностного отношения к истории, культуре родного края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Проектная деятельность при изучении Великой Отечественной войны</a:t>
            </a:r>
            <a:br>
              <a:rPr sz="43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algn="just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а 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>
              <a:lnSpc>
                <a:spcPct val="95000"/>
              </a:lnSpc>
              <a:spcBef>
                <a:spcPts val="649"/>
              </a:spcBef>
              <a:spcAft>
                <a:spcPts val="1001"/>
              </a:spcAft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исково-исследовательская работу: организоват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>
              <a:lnSpc>
                <a:spcPct val="95000"/>
              </a:lnSpc>
              <a:spcBef>
                <a:spcPts val="649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тречи  с ветеранами, или родственник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algn="just">
              <a:lnSpc>
                <a:spcPct val="13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, как сложилась жизнь участников военных действий послевоенное врем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algn="just">
              <a:lnSpc>
                <a:spcPct val="13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полученные данные и создать  баннер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54936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  </a:t>
            </a:r>
            <a:r>
              <a:rPr b="1" i="1" lang="ru-RU" sz="6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6:43:50Z</dcterms:created>
  <dc:creator>Ранис</dc:creator>
  <dc:description/>
  <dc:language>en-US</dc:language>
  <cp:lastModifiedBy>Лилия</cp:lastModifiedBy>
  <dcterms:modified xsi:type="dcterms:W3CDTF">2017-10-27T02:29:28Z</dcterms:modified>
  <cp:revision>20</cp:revision>
  <dc:subject/>
  <dc:title>Технологиядән проет эше</dc:title>
</cp:coreProperties>
</file>