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198-E207-4BC0-A96A-B22B02B6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72D-6828-44AB-8E9C-16E7D340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2B1-C3D4-4D48-A071-CC4CE5FE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072-CE6D-40F0-9E38-E5C18B1F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75BD-BBDC-4E02-9959-1FEBE5E3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8C10-9BD7-408C-A8F5-67D4DE85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6F41-68AC-4442-877F-5E835296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EF5F-EDA6-4CB8-9701-D2ACDDB8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FF9C-841E-48E4-819D-2AAA37DA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E36A-33D2-4F46-81D0-4E712F64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D20F-830D-4C07-A8D8-B62DD3C7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5F1-FCB2-4853-BFB8-88DFEA13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86CF-59F1-4F8C-AB3F-682D4A93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FF27-9320-4D3C-B327-3BE57504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8325-F440-4EB5-AC43-8DB25F9F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E49B-AD70-44D6-B254-A5968C19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A0D2-2FFE-4A27-B6BA-D28B4246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AF10-A9D2-42F0-8329-3700D2EC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31BA2-90A2-4C87-AAC0-0376A188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06AF-09DB-4797-8DC8-9C2255FB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69333-30D2-4E84-88EA-3EE76972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C9A1-A4B4-40D5-A40A-D2BE8197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D1C-A32E-4062-A460-E664E3F8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C605D-D1DB-4F0E-89D6-496CAAFD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9A478-4959-4D76-BEC9-25B1CB98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65F1C-F1DE-4095-8B1D-C2EB0239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E41A6-F4A7-4F43-89D0-E788B885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E168-5881-4D83-B754-33FBD544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0C23-3B46-4C9B-9631-9BD175D1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67805-FDD7-4690-ADB5-1458951A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0C285-94B3-4B15-892F-DDFEBA9D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00AB-048D-4BE9-A2CA-D6122223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7A69D-9D88-47CB-9770-53265E97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1D0-738C-46DB-AA4E-F9F3EDA9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14B6F-7D56-4FE7-97DB-07D28551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058DB-3338-4C7C-A762-93E99232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53EBA-52F1-4904-B0A7-8D94FF9A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0156F-C2CB-4D68-A58B-BAD19D65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2A541-94EA-4796-93B2-7E0E9B73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16F3F-05B3-4129-A5AF-84CF1FDC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F12A1-018E-44FB-8239-D23B7CA8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9DEC2-66B7-4CA0-9FC2-280B9CC0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440E8-1BE8-4B1C-A001-14B878ED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27C-43F2-4DF8-A9D4-CC3AEE0F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7DE-A593-4BF4-B1A4-01F2547C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308-7A9B-4A63-9737-3D156147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DEF-5730-4038-8A69-DE8DE987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E20-89A7-40CB-B706-AF3D2B7A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092B-D60E-4145-8D2B-F313163BB89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D158-3E0B-4499-B22A-B2260BCAED2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01E3-B696-43BD-895B-654566AF141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D68C-9A66-482A-86A6-5B4237D8A88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49120" y="262080"/>
            <a:ext cx="8718840" cy="1585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8215200" cy="4535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d0d0d"/>
                </a:solidFill>
                <a:latin typeface="Constantia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ческие рекомендации по использованию краеведческого материала при изучении Великой Отечественной войны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оры проекта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руллина Л.К. учитель истории и обществознания МБОУ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таро-Казеевская СОШ»  Камско-Устьинского района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летшина М.М учитель истории и обществознан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«Балтасинская СОШ» пгт Балтаси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акова Г.Т учитель истории и обществознания МБОУ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Уруссинская гимназия»  Ютазинского района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атор: И.П. Багаутдинова,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ий преподаватель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ения экономики и управления ОУ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МЦ ПК и ППРО КФУ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" spc="-1" strike="noStrike">
                <a:solidFill>
                  <a:srgbClr val="f2f2f2"/>
                </a:solidFill>
                <a:latin typeface="Constantia"/>
              </a:rPr>
              <a:t>  </a:t>
            </a: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етодических рекомендаций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ь педагогам современные подходы к изучению Великой Отечественной войны на основе краеведческого материал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воспитанию у учащихся гражданских чувств, чувства любви к Родине, земле, гордость за своих земляков и историю села и город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овать развитию исследовательских способностей учащих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</a:t>
            </a: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ктуальность проекта</a:t>
            </a:r>
            <a:r>
              <a:rPr b="0" lang="ru-RU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44928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современного образования в воспитании и развитии будущего патриота, гражданина страны ;  создание культурной среды развития личности ребенка и оказание ей помощи в нахождении своего места в культуре родного кра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4492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</a:t>
            </a: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тоговый результат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4000" y="1125360"/>
            <a:ext cx="8362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ести поисковую и исследовательскую работу, работу по отбору материал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 algn="just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доступных знаний об истории родного   кра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 algn="just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профессиональной компетентности педагогов образовательного учреждения по проблеме приобщения школьников к ценностям истории, культуры родного края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 algn="just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Symbol"/>
              </a:rPr>
              <a:t>    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модели взаимодействия школьного учреждения и семьи, различными социальными институтами в процессе развития у школьников ценностного отношения к истории, культуре родного кра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роектная деятельность при изучении Великой Отечественной войны</a:t>
            </a:r>
            <a:br>
              <a:rPr sz="43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algn="just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 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>
              <a:lnSpc>
                <a:spcPct val="95000"/>
              </a:lnSpc>
              <a:spcBef>
                <a:spcPts val="649"/>
              </a:spcBef>
              <a:spcAft>
                <a:spcPts val="1001"/>
              </a:spcAft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исково-исследовательская работу: организова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>
              <a:lnSpc>
                <a:spcPct val="95000"/>
              </a:lnSpc>
              <a:spcBef>
                <a:spcPts val="649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тречи  с ветеранами, или родственник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algn="just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, как сложилась жизнь участников военных действий послевоенное врем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algn="just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полученные данные и создать  баннер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</a:t>
            </a:r>
            <a:r>
              <a:rPr b="1" i="1" lang="ru-RU" sz="6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6:43:50Z</dcterms:created>
  <dc:creator>Ранис</dc:creator>
  <dc:description/>
  <dc:language>en-US</dc:language>
  <cp:lastModifiedBy>Лилия</cp:lastModifiedBy>
  <dcterms:modified xsi:type="dcterms:W3CDTF">2017-10-27T02:29:28Z</dcterms:modified>
  <cp:revision>20</cp:revision>
  <dc:subject/>
  <dc:title>Технологиядән проет эше</dc:title>
</cp:coreProperties>
</file>