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D006-9944-476A-8F2F-8D17E57F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4CB4-856E-466B-9F06-10B0AF09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59E-3403-47E7-A170-06C05A708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1DC9-22E6-4E77-AF7A-03C27ACD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9FF5-A7F2-491B-AD80-BB20D104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5BF7-3436-4762-AB30-3C6EF407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F625-2106-4A3D-A693-E4F8DCD2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55F-3219-4FC9-80CC-9FA5C7BD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97F8-AA5C-4164-8AB0-F6A5020F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05D6-5A45-4CF1-84CA-2075BE59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240-2FE8-47DC-8797-FC04D6C4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61B8-B490-47B3-893F-87D0CE61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9BB4-9A28-4055-BFFF-428576AF91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2560" y="438120"/>
            <a:ext cx="7785000" cy="3170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785680" y="3886200"/>
            <a:ext cx="600084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МБОУ «Лицей №3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результаты выполнения комплексн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14200" y="1714680"/>
          <a:ext cx="8715600" cy="3857400"/>
        </p:xfrm>
        <a:graphic>
          <a:graphicData uri="http://schemas.openxmlformats.org/drawingml/2006/table">
            <a:tbl>
              <a:tblPr/>
              <a:tblGrid>
                <a:gridCol w="1244880"/>
                <a:gridCol w="1245960"/>
                <a:gridCol w="1244520"/>
                <a:gridCol w="1244880"/>
                <a:gridCol w="1244520"/>
                <a:gridCol w="1245960"/>
                <a:gridCol w="1244880"/>
              </a:tblGrid>
              <a:tr h="531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нтролируемый эле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-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-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-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-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-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-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1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исали рабо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ный уровень подгото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8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зовый уровень подгото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р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стоятельность вы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результатов входной и итоговой диагностики учащихс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3-х классов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00040" y="1857240"/>
          <a:ext cx="8115480" cy="3583080"/>
        </p:xfrm>
        <a:graphic>
          <a:graphicData uri="http://schemas.openxmlformats.org/drawingml/2006/table">
            <a:tbl>
              <a:tblPr/>
              <a:tblGrid>
                <a:gridCol w="1014480"/>
                <a:gridCol w="1014480"/>
                <a:gridCol w="1014480"/>
                <a:gridCol w="1014120"/>
                <a:gridCol w="1014480"/>
                <a:gridCol w="1014480"/>
                <a:gridCol w="1014480"/>
                <a:gridCol w="1014480"/>
              </a:tblGrid>
              <a:tr h="5572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Lucida Sans Unicode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Lucida Sans Unicode"/>
                        </a:rPr>
                        <a:t>Результат стартовой диагнос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Lucida Sans Unicode"/>
                        </a:rPr>
                        <a:t>Результат итоговой диагнос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Lucida Sans Unicode"/>
                        </a:rPr>
                        <a:t>Динам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низ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низ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-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Положи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26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-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6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8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Положи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44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-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Положи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2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3-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Положи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4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3-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4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4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Отрица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3-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3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6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Положи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4" descr=""/>
          <p:cNvPicPr/>
          <p:nvPr/>
        </p:nvPicPr>
        <p:blipFill>
          <a:blip r:embed="rId1"/>
          <a:stretch/>
        </p:blipFill>
        <p:spPr>
          <a:xfrm>
            <a:off x="4316400" y="2962440"/>
            <a:ext cx="511200" cy="933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4459680" y="748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Franklin Gothic Boo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6" descr=""/>
          <p:cNvPicPr/>
          <p:nvPr/>
        </p:nvPicPr>
        <p:blipFill>
          <a:blip r:embed="rId2"/>
          <a:stretch/>
        </p:blipFill>
        <p:spPr>
          <a:xfrm>
            <a:off x="749160" y="-6480"/>
            <a:ext cx="7791480" cy="112248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7" descr=""/>
          <p:cNvPicPr/>
          <p:nvPr/>
        </p:nvPicPr>
        <p:blipFill>
          <a:blip r:embed="rId3"/>
          <a:stretch/>
        </p:blipFill>
        <p:spPr>
          <a:xfrm>
            <a:off x="4413240" y="1262160"/>
            <a:ext cx="334800" cy="841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6215040" y="1000080"/>
            <a:ext cx="2089080" cy="358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Не справ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6143760" y="2714760"/>
            <a:ext cx="2089080" cy="358560"/>
          </a:xfrm>
          <a:prstGeom prst="rect">
            <a:avLst/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Справ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6000840" y="1714680"/>
            <a:ext cx="2714400" cy="78552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Испытывает тру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53080" y="569520"/>
            <a:ext cx="2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15" descr=""/>
          <p:cNvPicPr/>
          <p:nvPr/>
        </p:nvPicPr>
        <p:blipFill>
          <a:blip r:embed="rId4"/>
          <a:stretch/>
        </p:blipFill>
        <p:spPr>
          <a:xfrm>
            <a:off x="493560" y="60480"/>
            <a:ext cx="8394840" cy="78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428760" y="642960"/>
          <a:ext cx="5214960" cy="5851440"/>
        </p:xfrm>
        <a:graphic>
          <a:graphicData uri="http://schemas.openxmlformats.org/drawingml/2006/table">
            <a:tbl>
              <a:tblPr/>
              <a:tblGrid>
                <a:gridCol w="357120"/>
                <a:gridCol w="1785960"/>
                <a:gridCol w="849240"/>
                <a:gridCol w="555480"/>
                <a:gridCol w="555840"/>
                <a:gridCol w="555480"/>
                <a:gridCol w="555840"/>
              </a:tblGrid>
              <a:tr h="2102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милия имя уче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142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160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142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160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142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160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142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160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142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160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142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682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160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145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156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145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156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145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156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145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156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145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109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142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1528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000840" y="3571920"/>
          <a:ext cx="2714400" cy="1962000"/>
        </p:xfrm>
        <a:graphic>
          <a:graphicData uri="http://schemas.openxmlformats.org/drawingml/2006/table">
            <a:tbl>
              <a:tblPr/>
              <a:tblGrid>
                <a:gridCol w="179280"/>
                <a:gridCol w="2535120"/>
              </a:tblGrid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чи на нахождение неизвестного слагаем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чи на нахождение неизвестного уменьшаем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чи на нахождение неизвестного вычитаем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шение обратных зад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огические 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00040" y="785880"/>
          <a:ext cx="4357800" cy="5342040"/>
        </p:xfrm>
        <a:graphic>
          <a:graphicData uri="http://schemas.openxmlformats.org/drawingml/2006/table">
            <a:tbl>
              <a:tblPr/>
              <a:tblGrid>
                <a:gridCol w="419040"/>
                <a:gridCol w="2595600"/>
                <a:gridCol w="542880"/>
                <a:gridCol w="366840"/>
                <a:gridCol w="433440"/>
              </a:tblGrid>
              <a:tr h="24300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, имя/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030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0340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048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030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0340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030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048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030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0340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030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0340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048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1240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048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0340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030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0340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030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048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030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0340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030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0484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03400">
                <a:tc>
                  <a:txBody>
                    <a:bodyPr lIns="46440" rIns="46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pic>
        <p:nvPicPr>
          <p:cNvPr id="59" name="Прямоугольник 7" descr=""/>
          <p:cNvPicPr/>
          <p:nvPr/>
        </p:nvPicPr>
        <p:blipFill>
          <a:blip r:embed="rId1"/>
          <a:stretch/>
        </p:blipFill>
        <p:spPr>
          <a:xfrm>
            <a:off x="609480" y="237960"/>
            <a:ext cx="811368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Таблица 8" descr=""/>
          <p:cNvPicPr/>
          <p:nvPr/>
        </p:nvPicPr>
        <p:blipFill>
          <a:blip r:embed="rId2"/>
          <a:stretch/>
        </p:blipFill>
        <p:spPr>
          <a:xfrm>
            <a:off x="5499000" y="927000"/>
            <a:ext cx="3218040" cy="1322640"/>
          </a:xfrm>
          <a:prstGeom prst="rect">
            <a:avLst/>
          </a:prstGeom>
          <a:ln w="0">
            <a:noFill/>
          </a:ln>
        </p:spPr>
      </p:pic>
      <p:pic>
        <p:nvPicPr>
          <p:cNvPr id="61" name="Таблица 9" descr=""/>
          <p:cNvPicPr/>
          <p:nvPr/>
        </p:nvPicPr>
        <p:blipFill>
          <a:blip r:embed="rId3"/>
          <a:stretch/>
        </p:blipFill>
        <p:spPr>
          <a:xfrm>
            <a:off x="5499000" y="2425680"/>
            <a:ext cx="3267000" cy="1440000"/>
          </a:xfrm>
          <a:prstGeom prst="rect">
            <a:avLst/>
          </a:prstGeom>
          <a:ln w="0">
            <a:noFill/>
          </a:ln>
        </p:spPr>
      </p:pic>
      <p:pic>
        <p:nvPicPr>
          <p:cNvPr id="62" name="Таблица 10" descr=""/>
          <p:cNvPicPr/>
          <p:nvPr/>
        </p:nvPicPr>
        <p:blipFill>
          <a:blip r:embed="rId4"/>
          <a:stretch/>
        </p:blipFill>
        <p:spPr>
          <a:xfrm>
            <a:off x="5499000" y="4359240"/>
            <a:ext cx="325440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ы мониторинга сформированности УУ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2T20:46:08Z</dcterms:created>
  <dc:creator>Yka_30 </dc:creator>
  <dc:description/>
  <dc:language>en-US</dc:language>
  <cp:lastModifiedBy>Yka_30 </cp:lastModifiedBy>
  <dcterms:modified xsi:type="dcterms:W3CDTF">2016-03-22T21:44:44Z</dcterms:modified>
  <cp:revision>16</cp:revision>
  <dc:subject/>
  <dc:title> Мониторинг Качества образования в  Условиях реализации ФГОС НОО </dc:title>
</cp:coreProperties>
</file>