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018-5FC0-48CB-A0DB-84CAC6CF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2EDC-B3EB-4A3A-A867-62156AF8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443-0B18-4C65-B993-771D0DB1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B9A5-D336-47FB-BEC7-FAC15A47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E8D-401B-4357-8BA6-4288A8BE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84F-0900-4A53-A98D-ACC84452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B7C-8480-4034-8552-6BFBCD4F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C6C2-2143-4A7B-AE46-5ED766D7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B92-2D63-49B0-B0EF-3C1319D3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CBD7-AD4B-468B-A92D-08230978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13D-C3E4-424A-9D52-EAE82179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F41D-AE59-4C87-BE46-7EADB386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CB52-D0DA-405C-862E-3F8B8E59A9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2560" y="438120"/>
            <a:ext cx="7785000" cy="3170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85680" y="3886200"/>
            <a:ext cx="600084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БОУ «Лицей №3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результаты выполнения комплекс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4200" y="1714680"/>
          <a:ext cx="8715600" cy="3857400"/>
        </p:xfrm>
        <a:graphic>
          <a:graphicData uri="http://schemas.openxmlformats.org/drawingml/2006/table">
            <a:tbl>
              <a:tblPr/>
              <a:tblGrid>
                <a:gridCol w="1244880"/>
                <a:gridCol w="1245960"/>
                <a:gridCol w="1244520"/>
                <a:gridCol w="1244880"/>
                <a:gridCol w="1244520"/>
                <a:gridCol w="1245960"/>
                <a:gridCol w="1244880"/>
              </a:tblGrid>
              <a:tr h="53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нтролируемый эл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-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-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-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-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-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-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1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исали рабо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 уровень подгото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8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зовый уровень подгото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р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стоятельность 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результатов входной и итоговой диагностики учащихс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3-х классов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00040" y="1857240"/>
          <a:ext cx="8115480" cy="3583080"/>
        </p:xfrm>
        <a:graphic>
          <a:graphicData uri="http://schemas.openxmlformats.org/drawingml/2006/table">
            <a:tbl>
              <a:tblPr/>
              <a:tblGrid>
                <a:gridCol w="1014480"/>
                <a:gridCol w="1014480"/>
                <a:gridCol w="1014480"/>
                <a:gridCol w="1014120"/>
                <a:gridCol w="1014480"/>
                <a:gridCol w="1014480"/>
                <a:gridCol w="1014480"/>
                <a:gridCol w="1014480"/>
              </a:tblGrid>
              <a:tr h="5572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Lucida Sans Unicode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Lucida Sans Unicode"/>
                        </a:rPr>
                        <a:t>Результат стартовой диагнос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Lucida Sans Unicode"/>
                        </a:rPr>
                        <a:t>Результат итоговой диагнос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Lucida Sans Unicode"/>
                        </a:rPr>
                        <a:t>Динам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-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Положи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6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-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8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Положи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4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-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Положи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3-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Положи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4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3-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Отрица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3-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Положи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4" descr=""/>
          <p:cNvPicPr/>
          <p:nvPr/>
        </p:nvPicPr>
        <p:blipFill>
          <a:blip r:embed="rId1"/>
          <a:stretch/>
        </p:blipFill>
        <p:spPr>
          <a:xfrm>
            <a:off x="4316400" y="2962440"/>
            <a:ext cx="511200" cy="933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4459680" y="748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Franklin Gothic Boo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6" descr=""/>
          <p:cNvPicPr/>
          <p:nvPr/>
        </p:nvPicPr>
        <p:blipFill>
          <a:blip r:embed="rId2"/>
          <a:stretch/>
        </p:blipFill>
        <p:spPr>
          <a:xfrm>
            <a:off x="749160" y="-6480"/>
            <a:ext cx="7791480" cy="112248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7" descr=""/>
          <p:cNvPicPr/>
          <p:nvPr/>
        </p:nvPicPr>
        <p:blipFill>
          <a:blip r:embed="rId3"/>
          <a:stretch/>
        </p:blipFill>
        <p:spPr>
          <a:xfrm>
            <a:off x="4413240" y="1262160"/>
            <a:ext cx="334800" cy="841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6215040" y="1000080"/>
            <a:ext cx="2089080" cy="358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Не справ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6143760" y="2714760"/>
            <a:ext cx="2089080" cy="358560"/>
          </a:xfrm>
          <a:prstGeom prst="rect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Справ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6000840" y="1714680"/>
            <a:ext cx="2714400" cy="78552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спытывает тру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53080" y="569520"/>
            <a:ext cx="2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15" descr=""/>
          <p:cNvPicPr/>
          <p:nvPr/>
        </p:nvPicPr>
        <p:blipFill>
          <a:blip r:embed="rId4"/>
          <a:stretch/>
        </p:blipFill>
        <p:spPr>
          <a:xfrm>
            <a:off x="493560" y="60480"/>
            <a:ext cx="8394840" cy="78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428760" y="642960"/>
          <a:ext cx="5214960" cy="5851440"/>
        </p:xfrm>
        <a:graphic>
          <a:graphicData uri="http://schemas.openxmlformats.org/drawingml/2006/table">
            <a:tbl>
              <a:tblPr/>
              <a:tblGrid>
                <a:gridCol w="357120"/>
                <a:gridCol w="1785960"/>
                <a:gridCol w="849240"/>
                <a:gridCol w="555480"/>
                <a:gridCol w="555840"/>
                <a:gridCol w="555480"/>
                <a:gridCol w="555840"/>
              </a:tblGrid>
              <a:tr h="2102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милия имя уче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42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60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42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60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42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60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42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60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42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60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42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682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60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45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56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45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56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45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56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45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56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45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09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42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52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000840" y="3571920"/>
          <a:ext cx="2714400" cy="1962000"/>
        </p:xfrm>
        <a:graphic>
          <a:graphicData uri="http://schemas.openxmlformats.org/drawingml/2006/table">
            <a:tbl>
              <a:tblPr/>
              <a:tblGrid>
                <a:gridCol w="179280"/>
                <a:gridCol w="2535120"/>
              </a:tblGrid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чи на нахождение неизвестного слагаем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чи на нахождение неизвестного уменьшаем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чи на нахождение неизвестного вычитаем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шение обратных за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огические 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00040" y="785880"/>
          <a:ext cx="4357800" cy="5342040"/>
        </p:xfrm>
        <a:graphic>
          <a:graphicData uri="http://schemas.openxmlformats.org/drawingml/2006/table">
            <a:tbl>
              <a:tblPr/>
              <a:tblGrid>
                <a:gridCol w="419040"/>
                <a:gridCol w="2595600"/>
                <a:gridCol w="542880"/>
                <a:gridCol w="366840"/>
                <a:gridCol w="433440"/>
              </a:tblGrid>
              <a:tr h="24300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, имя/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030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0340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048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030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0340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030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048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030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0340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030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0340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048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240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048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0340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030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0340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030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048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030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0340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030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048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0340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pic>
        <p:nvPicPr>
          <p:cNvPr id="59" name="Прямоугольник 7" descr=""/>
          <p:cNvPicPr/>
          <p:nvPr/>
        </p:nvPicPr>
        <p:blipFill>
          <a:blip r:embed="rId1"/>
          <a:stretch/>
        </p:blipFill>
        <p:spPr>
          <a:xfrm>
            <a:off x="609480" y="237960"/>
            <a:ext cx="811368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Таблица 8" descr=""/>
          <p:cNvPicPr/>
          <p:nvPr/>
        </p:nvPicPr>
        <p:blipFill>
          <a:blip r:embed="rId2"/>
          <a:stretch/>
        </p:blipFill>
        <p:spPr>
          <a:xfrm>
            <a:off x="5499000" y="927000"/>
            <a:ext cx="3218040" cy="1322640"/>
          </a:xfrm>
          <a:prstGeom prst="rect">
            <a:avLst/>
          </a:prstGeom>
          <a:ln w="0">
            <a:noFill/>
          </a:ln>
        </p:spPr>
      </p:pic>
      <p:pic>
        <p:nvPicPr>
          <p:cNvPr id="61" name="Таблица 9" descr=""/>
          <p:cNvPicPr/>
          <p:nvPr/>
        </p:nvPicPr>
        <p:blipFill>
          <a:blip r:embed="rId3"/>
          <a:stretch/>
        </p:blipFill>
        <p:spPr>
          <a:xfrm>
            <a:off x="5499000" y="2425680"/>
            <a:ext cx="3267000" cy="1440000"/>
          </a:xfrm>
          <a:prstGeom prst="rect">
            <a:avLst/>
          </a:prstGeom>
          <a:ln w="0">
            <a:noFill/>
          </a:ln>
        </p:spPr>
      </p:pic>
      <p:pic>
        <p:nvPicPr>
          <p:cNvPr id="62" name="Таблица 10" descr=""/>
          <p:cNvPicPr/>
          <p:nvPr/>
        </p:nvPicPr>
        <p:blipFill>
          <a:blip r:embed="rId4"/>
          <a:stretch/>
        </p:blipFill>
        <p:spPr>
          <a:xfrm>
            <a:off x="5499000" y="4359240"/>
            <a:ext cx="325440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мониторинга сформированности УУ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2T20:46:08Z</dcterms:created>
  <dc:creator>Yka_30 </dc:creator>
  <dc:description/>
  <dc:language>en-US</dc:language>
  <cp:lastModifiedBy>Yka_30 </cp:lastModifiedBy>
  <dcterms:modified xsi:type="dcterms:W3CDTF">2016-03-22T21:44:44Z</dcterms:modified>
  <cp:revision>16</cp:revision>
  <dc:subject/>
  <dc:title> Мониторинг Качества образования в  Условиях реализации ФГОС НОО </dc:title>
</cp:coreProperties>
</file>