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8.gif" ContentType="image/gif"/>
  <Override PartName="/ppt/media/image18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0.jpeg" ContentType="image/jpeg"/>
  <Override PartName="/ppt/media/image5.jpeg" ContentType="image/jpeg"/>
  <Override PartName="/ppt/media/image6.jpeg" ContentType="image/jpeg"/>
  <Override PartName="/ppt/media/image25.jpeg" ContentType="image/jpeg"/>
  <Override PartName="/ppt/media/image2.jpeg" ContentType="image/jpeg"/>
  <Override PartName="/ppt/media/image24.jpeg" ContentType="image/jpeg"/>
  <Override PartName="/ppt/media/image19.gif" ContentType="image/gif"/>
  <Override PartName="/ppt/media/image2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png" ContentType="image/png"/>
  <Override PartName="/ppt/media/image26.png" ContentType="image/png"/>
  <Override PartName="/ppt/media/image17.jpeg" ContentType="image/jpeg"/>
  <Override PartName="/ppt/media/image4.gif" ContentType="image/gif"/>
  <Override PartName="/ppt/media/image1.jpeg" ContentType="image/jpeg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BE4F9-BCF9-41C0-B28A-6F39C4253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A253E-FDD3-42DB-9D42-43234A700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A216-88E8-409C-BA67-09131A42F5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18984-B77D-4039-AB6B-A52F30A436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77106-AF2D-455A-927B-B76852006C7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47319-DCB0-4F1F-848A-CBF73DFB710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DBCE8-8375-410C-A15B-8BD1E357313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17198-DB95-4FE8-AE59-71A55EEE36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32F5C6-2F75-44ED-B452-04C8906BA4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EC2DF-0665-403B-91C1-74EA7D8D0B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FE901-98FC-489A-B9D1-9045777C97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D5738-7AA6-430B-94D6-96EA04A095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C2C3-93CE-47A1-9371-1E616B1F833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1E608-BBC9-4AD7-8176-8FF625887BE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859F4-EB60-4887-9757-21B39B8C091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325F-7BD9-4822-B4B8-A406EEF668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D3E5-D17C-44F9-873C-4BB642DE02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F0AFD-2EED-4CB6-A0F4-8C83D9727A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98B6E-6525-4EB1-B4A1-312A481673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D49EA-F108-4B37-9551-14EB165EA4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FA655-BED1-4028-9645-7DEE499D9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6D79D-1E1C-4CA6-9C38-1E43EC8918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AA63F-81CE-49BF-9203-159C09808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F3736-7C65-4EC8-B635-6B6893C95F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99E54B1-B49C-4D95-8274-343D261134A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2E1FC6B-514F-47A2-9284-51FDEB555AF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74;&#1086;&#1076;&#1072;%20&#1052;&#1054;&#1056;&#1057;&#1050;&#1040;&#1071;%20&#1082;&#1072;&#1088;&#1090;&#1080;&#1085;&#1082;&#1072;&amp;noreask=1&amp;pos=9&amp;rpt=simage&amp;lr=213&amp;uinfo=sw-1124-sh-516-fw-899-fh-448-pd-1&amp;img_url=http%3A%2F%2Fi071.radikal.ru%2F0907%2Ffc%2F542d4a85a920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images.yandex.ru/yandsearch?source=wiz&amp;text=&#1074;&#1086;&#1076;&#1072;%20&#1088;&#1077;&#1095;&#1085;&#1072;&#1103;%20&#1082;&#1072;&#1088;&#1090;&#1080;&#1085;&#1082;&#1072;&amp;noreask=1&amp;pos=0&amp;rpt=simage&amp;lr=213&amp;uinfo=sw-1124-sh-516-fw-899-fh-448-pd-1&amp;img_url=http%3A%2F%2Fimg.kiev.pravda.com.ua%2Fimages%2Fdoc%2F1%2F2%2F123-5f200.jpg" TargetMode="External"/><Relationship Id="rId4" Type="http://schemas.openxmlformats.org/officeDocument/2006/relationships/image" Target="../media/image10.jpeg"/><Relationship Id="rId5" Type="http://schemas.openxmlformats.org/officeDocument/2006/relationships/hyperlink" Target="http://images.yandex.ru/yandsearch?source=wiz&amp;text=&#1074;&#1086;&#1076;&#1072;%20&#1086;&#1079;&#1077;&#1088;&#1086;%20&#1082;&#1072;&#1088;&#1090;&#1080;&#1085;&#1082;&#1072;&amp;noreask=1&amp;pos=10&amp;rpt=simage&amp;lr=213&amp;uinfo=sw-1124-sh-516-fw-899-fh-448-pd-1&amp;img_url=http%3A%2F%2Fst.gdefon.ru%2Fwallpapers_preview%2Fwallpapers%2F4063_ozero_trava_otrazhenie_voda_derevya_oblaka_svet_small_%28www.GdeFon.ru%29.jpg" TargetMode="External"/><Relationship Id="rId6" Type="http://schemas.openxmlformats.org/officeDocument/2006/relationships/image" Target="../media/image11.jpeg"/><Relationship Id="rId7" Type="http://schemas.openxmlformats.org/officeDocument/2006/relationships/hyperlink" Target="http://images.yandex.ru/yandsearch?source=wiz&amp;text=&#1074;&#1086;&#1076;&#1072;%20&#1082;&#1083;&#1102;&#1095;&#1077;&#1074;&#1072;&#1103;%20&#1082;&#1072;&#1088;&#1090;&#1080;&#1085;&#1082;&#1072;&amp;noreask=1&amp;pos=5&amp;rpt=simage&amp;lr=213&amp;uinfo=sw-1124-sh-516-fw-899-fh-448-pd-1&amp;img_url=http%3A%2F%2Fturizm.lib.ru%2Fimg%2Fc%2Fchuksin_n%2Fstream_3t%2Fru_17.jpg" TargetMode="External"/><Relationship Id="rId8" Type="http://schemas.openxmlformats.org/officeDocument/2006/relationships/image" Target="../media/image12.jpeg"/><Relationship Id="rId9" Type="http://schemas.openxmlformats.org/officeDocument/2006/relationships/hyperlink" Target="http://images.yandex.ru/yandsearch?source=wiz&amp;text=&#1074;&#1086;&#1076;&#1072;%20&#1082;&#1083;&#1102;&#1095;&#1077;&#1074;&#1072;&#1103;%20&#1082;&#1072;&#1088;&#1090;&#1080;&#1085;&#1082;&#1072;&amp;noreask=1&amp;pos=24&amp;rpt=simage&amp;lr=213&amp;uinfo=sw-1124-sh-516-fw-899-fh-448-pd-1&amp;img_url=http%3A%2F%2Fwww.novostimira.com.ua%2Fimages%2Fnews%2F1344247728_405.jpg" TargetMode="External"/><Relationship Id="rId10" Type="http://schemas.openxmlformats.org/officeDocument/2006/relationships/image" Target="../media/image13.jpeg"/><Relationship Id="rId11" Type="http://schemas.openxmlformats.org/officeDocument/2006/relationships/hyperlink" Target="http://images.yandex.ru/yandsearch?source=wiz&amp;text=&#1074;&#1086;&#1076;&#1072;%20&#1074;&#1086;&#1076;&#1086;&#1087;&#1088;&#1086;&#1074;&#1086;&#1076;&#1085;&#1072;&#1103;%20&#1082;&#1072;&#1088;&#1090;&#1080;&#1085;&#1082;&#1072;&amp;noreask=1&amp;pos=7&amp;rpt=simage&amp;lr=213&amp;uinfo=sw-1124-sh-516-fw-899-fh-448-pd-1&amp;img_url=http%3A%2F%2Ftest2-img.ehowcdn.com%2Fog-image-tag%2Fds-photo%2Fgetty%2Farticle%2F41%2F234%2F78155993_XS.jpg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yandex.ru/yandsearch?source=wiz&amp;uinfo=sw-1124-sh-516-fw-899-fh-448-pd-1&amp;p=4&amp;text=&#1074;&#1086;&#1076;&#1072;%20&#1088;&#1072;&#1079;&#1085;&#1072;&#1103;%20&#1082;&#1072;&#1088;&#1090;&#1080;&#1085;&#1082;&#1072;&amp;noreask=1&amp;pos=128&amp;rpt=simage&amp;lr=213&amp;img_url=http%3A%2F%2Ff2.foto.rambler.ru%2Fpreview%2Fc%2F190x160%2F45b8de07-91b5-4eb7-d42c-f07645810e4d%2Fkaplya_1024.jpg" TargetMode="External"/><Relationship Id="rId14" Type="http://schemas.openxmlformats.org/officeDocument/2006/relationships/image" Target="../media/image15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yandex.ru/yandsearch?source=wiz&amp;text=&#1074;&#1086;&#1076;&#1072;%20&#1078;&#1080;&#1076;&#1082;&#1072;&#1103;%20&#1082;&#1072;&#1088;&#1090;&#1080;&#1085;&#1082;&#1072;&amp;noreask=1&amp;pos=17&amp;rpt=simage&amp;lr=213&amp;uinfo=sw-1124-sh-516-fw-899-fh-448-pd-1&amp;img_url=http%3A%2F%2Fos1.i.ua%2F3%2F1%2F7598612_8e559ecf.jpg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yandex.ru/yandsearch?source=wiz&amp;uinfo=sw-1124-sh-516-fw-899-fh-448-pd-1&amp;p=2&amp;text=&#1074;&#1086;&#1076;&#1072;%20&#1090;&#1074;&#1077;&#1088;&#1076;&#1072;&#1103;%20&#1082;&#1072;&#1088;&#1090;&#1080;&#1085;&#1082;&#1072;&amp;noreask=1&amp;pos=70&amp;rpt=simage&amp;lr=213&amp;img_url=http%3A%2F%2Fimg1.liveinternet.ru%2Fimages%2Fattach%2Fc%2F0%2F35%2F666%2F35666683_5436601.jpg" TargetMode="External"/><Relationship Id="rId4" Type="http://schemas.openxmlformats.org/officeDocument/2006/relationships/image" Target="../media/image17.jpeg"/><Relationship Id="rId5" Type="http://schemas.openxmlformats.org/officeDocument/2006/relationships/hyperlink" Target="http://images.yandex.ru/yandsearch?source=wiz&amp;text=&#1074;&#1086;&#1076;&#1072;%20&#1075;&#1072;&#1079;&#1086;&#1086;&#1073;&#1088;&#1072;&#1079;&#1085;&#1072;&#1103;%20&#1082;&#1072;&#1088;&#1090;&#1080;&#1085;&#1082;&#1072;&amp;noreask=1&amp;pos=20&amp;rpt=simage&amp;lr=213&amp;uinfo=sw-1124-sh-516-fw-899-fh-448-pd-1&amp;img_url=http%3A%2F%2Fppt4web.ru%2Fimages%2F115%2F19084%2F310%2Fimg25.jpg" TargetMode="External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9236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Окружающий мир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79280" y="3716280"/>
            <a:ext cx="2705040" cy="314172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2"/>
          <p:cNvSpPr/>
          <p:nvPr/>
        </p:nvSpPr>
        <p:spPr>
          <a:xfrm>
            <a:off x="3851280" y="981000"/>
            <a:ext cx="4968720" cy="2737080"/>
          </a:xfrm>
          <a:prstGeom prst="cloudCallout">
            <a:avLst>
              <a:gd name="adj1" fmla="val -83708"/>
              <a:gd name="adj2" fmla="val 87703"/>
            </a:avLst>
          </a:prstGeom>
          <a:solidFill>
            <a:srgbClr val="33cc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акими свойствами обладает вод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актическая работ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1619280" y="1989000"/>
            <a:ext cx="568944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ойства 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457200" y="1905120"/>
            <a:ext cx="3322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есцветна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4716360" y="692280"/>
            <a:ext cx="4083120" cy="4824360"/>
          </a:xfrm>
          <a:prstGeom prst="rect">
            <a:avLst/>
          </a:prstGeom>
          <a:ln w="0">
            <a:noFill/>
          </a:ln>
        </p:spPr>
      </p:pic>
      <p:sp>
        <p:nvSpPr>
          <p:cNvPr id="127" name="Line 4"/>
          <p:cNvSpPr/>
          <p:nvPr/>
        </p:nvSpPr>
        <p:spPr>
          <a:xfrm>
            <a:off x="5148360" y="1341360"/>
            <a:ext cx="1440" cy="3600360"/>
          </a:xfrm>
          <a:prstGeom prst="line">
            <a:avLst/>
          </a:prstGeom>
          <a:ln cap="sq" w="1620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5"/>
          <p:cNvSpPr/>
          <p:nvPr/>
        </p:nvSpPr>
        <p:spPr>
          <a:xfrm>
            <a:off x="5364000" y="1341360"/>
            <a:ext cx="1800" cy="3600360"/>
          </a:xfrm>
          <a:prstGeom prst="line">
            <a:avLst/>
          </a:prstGeom>
          <a:ln cap="sq" w="1620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2"/>
          <a:stretch/>
        </p:blipFill>
        <p:spPr>
          <a:xfrm>
            <a:off x="2556000" y="3645000"/>
            <a:ext cx="216036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"/>
          <p:cNvSpPr/>
          <p:nvPr/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ойства 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468360" y="1916280"/>
            <a:ext cx="367200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зрачная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7" descr="http://www.moillusions.com/wp-content/uploads/2010/11/cm_103.jpg"/>
          <p:cNvPicPr/>
          <p:nvPr/>
        </p:nvPicPr>
        <p:blipFill>
          <a:blip r:embed="rId1"/>
          <a:stretch/>
        </p:blipFill>
        <p:spPr>
          <a:xfrm>
            <a:off x="4788000" y="1916280"/>
            <a:ext cx="3057480" cy="388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войства вод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457200" y="1905120"/>
            <a:ext cx="36831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Без запаха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5435640" y="1197000"/>
            <a:ext cx="3321000" cy="3924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7020000" y="622440"/>
            <a:ext cx="1218960" cy="9046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"/>
          <p:cNvPicPr/>
          <p:nvPr/>
        </p:nvPicPr>
        <p:blipFill>
          <a:blip r:embed="rId3"/>
          <a:stretch/>
        </p:blipFill>
        <p:spPr>
          <a:xfrm>
            <a:off x="900000" y="32846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"/>
          <p:cNvPicPr/>
          <p:nvPr/>
        </p:nvPicPr>
        <p:blipFill>
          <a:blip r:embed="rId4"/>
          <a:stretch/>
        </p:blipFill>
        <p:spPr>
          <a:xfrm>
            <a:off x="3240000" y="4149720"/>
            <a:ext cx="2055960" cy="24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9600" spc="-1" strike="noStrike">
                <a:solidFill>
                  <a:srgbClr val="ffff00"/>
                </a:solidFill>
                <a:latin typeface="Century Gothic"/>
              </a:rPr>
              <a:t>Итог урока 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1" name="Picture 4" descr="http://krivoshin.lyahovichi.edu.by/sm_full.aspx?guid=4483"/>
          <p:cNvPicPr/>
          <p:nvPr/>
        </p:nvPicPr>
        <p:blipFill>
          <a:blip r:embed="rId1"/>
          <a:stretch/>
        </p:blipFill>
        <p:spPr>
          <a:xfrm>
            <a:off x="1979640" y="1700280"/>
            <a:ext cx="4894200" cy="489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festival.1september.ru/articles/616407/img1.jpg"/>
          <p:cNvPicPr/>
          <p:nvPr/>
        </p:nvPicPr>
        <p:blipFill>
          <a:blip r:embed="rId1"/>
          <a:stretch/>
        </p:blipFill>
        <p:spPr>
          <a:xfrm>
            <a:off x="0" y="0"/>
            <a:ext cx="9217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1"/>
          <p:cNvSpPr/>
          <p:nvPr/>
        </p:nvSpPr>
        <p:spPr>
          <a:xfrm>
            <a:off x="1187280" y="1557360"/>
            <a:ext cx="6912000" cy="26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Очень добродушная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Я мягкая, послушная,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Но когда я захочу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Даже камень источу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WordArt 2"/>
          <p:cNvSpPr txBox="1"/>
          <p:nvPr/>
        </p:nvSpPr>
        <p:spPr>
          <a:xfrm>
            <a:off x="826920" y="4797360"/>
            <a:ext cx="763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cc00cc"/>
                    </a:gs>
                    <a:gs pos="100000">
                      <a:srgbClr val="66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ДА</a:t>
            </a:r>
            <a:endParaRPr b="0" lang="en-US" sz="1800" spc="1" strike="noStrike">
              <a:ln cap="sq"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cc00cc"/>
                  </a:gs>
                  <a:gs pos="100000">
                    <a:srgbClr val="66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108000" y="476280"/>
            <a:ext cx="8567640" cy="428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1"/>
          <p:cNvSpPr/>
          <p:nvPr/>
        </p:nvSpPr>
        <p:spPr>
          <a:xfrm>
            <a:off x="53964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чему воду назвали водой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Где мы ее встречаем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ая бывает вод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Какими свойствами она обладает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WordArt 2"/>
          <p:cNvSpPr txBox="1"/>
          <p:nvPr/>
        </p:nvSpPr>
        <p:spPr>
          <a:xfrm>
            <a:off x="324000" y="476280"/>
            <a:ext cx="853272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ода и её свойства </a:t>
            </a:r>
            <a:endParaRPr b="0" lang="en-US" sz="1800" spc="1" strike="noStrike">
              <a:ln cap="sq"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9080">
                  <a:solidFill>
                    <a:srgbClr val="ccffff"/>
                  </a:solidFill>
                  <a:miter/>
                </a:ln>
                <a:solidFill>
                  <a:srgbClr val="8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жидком состоянии</a:t>
            </a:r>
            <a:endParaRPr b="0" lang="en-US" sz="1800" spc="1" strike="noStrike">
              <a:ln cap="sq" w="19080">
                <a:solidFill>
                  <a:srgbClr val="ccffff"/>
                </a:solidFill>
                <a:miter/>
              </a:ln>
              <a:solidFill>
                <a:srgbClr val="8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"/>
          <p:cNvSpPr/>
          <p:nvPr/>
        </p:nvSpPr>
        <p:spPr>
          <a:xfrm>
            <a:off x="755640" y="333360"/>
            <a:ext cx="89647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Где мы ее встречаем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457200" y="1905120"/>
            <a:ext cx="8218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WordArt 3"/>
          <p:cNvSpPr txBox="1"/>
          <p:nvPr/>
        </p:nvSpPr>
        <p:spPr>
          <a:xfrm>
            <a:off x="900000" y="2276640"/>
            <a:ext cx="14414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99ff99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МОРЯ</a:t>
            </a:r>
            <a:endParaRPr b="0" lang="en-US" sz="1800" spc="1" strike="noStrike">
              <a:ln cap="sq" w="12600">
                <a:solidFill>
                  <a:srgbClr val="99ff99"/>
                </a:solidFill>
                <a:miter/>
              </a:ln>
              <a:solidFill>
                <a:srgbClr val="ffff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4" name="WordArt 4"/>
          <p:cNvSpPr txBox="1"/>
          <p:nvPr/>
        </p:nvSpPr>
        <p:spPr>
          <a:xfrm>
            <a:off x="3851280" y="2133720"/>
            <a:ext cx="156384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99ff99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ОЗЁРА</a:t>
            </a:r>
            <a:endParaRPr b="0" lang="en-US" sz="1800" spc="1" strike="noStrike">
              <a:ln cap="sq" w="12600">
                <a:solidFill>
                  <a:srgbClr val="99ff99"/>
                </a:solidFill>
                <a:miter/>
              </a:ln>
              <a:solidFill>
                <a:srgbClr val="ffff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sp>
        <p:nvSpPr>
          <p:cNvPr id="95" name="WordArt 5"/>
          <p:cNvSpPr txBox="1"/>
          <p:nvPr/>
        </p:nvSpPr>
        <p:spPr>
          <a:xfrm>
            <a:off x="6659640" y="2205000"/>
            <a:ext cx="13683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12600">
                  <a:solidFill>
                    <a:srgbClr val="99ff99"/>
                  </a:solidFill>
                  <a:miter/>
                </a:ln>
                <a:solidFill>
                  <a:srgbClr val="ffff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omic Sans MS"/>
              </a:rPr>
              <a:t>РЕКИ</a:t>
            </a:r>
            <a:endParaRPr b="0" lang="en-US" sz="1800" spc="1" strike="noStrike">
              <a:ln cap="sq" w="12600">
                <a:solidFill>
                  <a:srgbClr val="99ff99"/>
                </a:solidFill>
                <a:miter/>
              </a:ln>
              <a:solidFill>
                <a:srgbClr val="ffff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omic Sans MS"/>
              <a:ea typeface="Comic Sans MS"/>
            </a:endParaRPr>
          </a:p>
        </p:txBody>
      </p:sp>
      <p:pic>
        <p:nvPicPr>
          <p:cNvPr id="96" name="Picture 6" descr=""/>
          <p:cNvPicPr/>
          <p:nvPr/>
        </p:nvPicPr>
        <p:blipFill>
          <a:blip r:embed="rId1"/>
          <a:stretch/>
        </p:blipFill>
        <p:spPr>
          <a:xfrm>
            <a:off x="6156360" y="3068640"/>
            <a:ext cx="2625840" cy="1969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"/>
          <p:cNvPicPr/>
          <p:nvPr/>
        </p:nvPicPr>
        <p:blipFill>
          <a:blip r:embed="rId2"/>
          <a:stretch/>
        </p:blipFill>
        <p:spPr>
          <a:xfrm>
            <a:off x="324000" y="3057480"/>
            <a:ext cx="2592360" cy="1943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3203640" y="3068640"/>
            <a:ext cx="2736720" cy="19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0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120,0)"/>
                                          </p:val>
                                        </p:tav>
                                        <p:tav tm="100000">
                                          <p:val>
                                            <p:strVal val="rgb(0,-1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2705040" cy="314172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2"/>
          <p:cNvSpPr/>
          <p:nvPr/>
        </p:nvSpPr>
        <p:spPr>
          <a:xfrm>
            <a:off x="3780000" y="836640"/>
            <a:ext cx="4968720" cy="2736720"/>
          </a:xfrm>
          <a:prstGeom prst="cloudCallout">
            <a:avLst>
              <a:gd name="adj1" fmla="val -83708"/>
              <a:gd name="adj2" fmla="val 87703"/>
            </a:avLst>
          </a:prstGeom>
          <a:solidFill>
            <a:srgbClr val="33cccc"/>
          </a:solidFill>
          <a:ln cap="sq"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кой может быть вода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ttp://pirates-life.ru/_ph/22/2/53762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3360"/>
            <a:ext cx="3990960" cy="299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http://i.obozrevatel.ua/8/692214/gallery/210262_image_larg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333360"/>
            <a:ext cx="3990960" cy="2990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ru-admin.net/uploads/posts/2012-05/1337422696_196-600x480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50920" y="3573360"/>
            <a:ext cx="3990960" cy="29908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8" descr="http://www.kavicom.ru/uploads/images/fda1a35e29ad399b33826335cf7cfc31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3500280"/>
            <a:ext cx="3990960" cy="29908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http://img.stolbik.net/a/5299040/wmua/1-chistka_vashego_kolodtsa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826920" y="260280"/>
            <a:ext cx="7051680" cy="7472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2" descr="http://i.wp.pl/a/f/jpeg/12624/kran_woda_jup_450.jpe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-316080"/>
            <a:ext cx="9144000" cy="1012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4" descr="http://img1i.spoki.tvnet.lv/upload/articles/85/85235/images/udens-nomierina--28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-828720" y="-316080"/>
            <a:ext cx="10399680" cy="779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1"/>
          <p:cNvSpPr/>
          <p:nvPr/>
        </p:nvSpPr>
        <p:spPr>
          <a:xfrm>
            <a:off x="1126800" y="1647000"/>
            <a:ext cx="722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Работа с учебником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             </a:t>
            </a:r>
            <a:r>
              <a:rPr b="1" lang="ru-RU" sz="5400" spc="-1" strike="noStrike">
                <a:solidFill>
                  <a:srgbClr val="ffff00"/>
                </a:solidFill>
                <a:latin typeface="Arial"/>
                <a:ea typeface="Times New Roman"/>
              </a:rPr>
              <a:t>стр.26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1" descr=""/>
          <p:cNvPicPr/>
          <p:nvPr/>
        </p:nvPicPr>
        <p:blipFill>
          <a:blip r:embed="rId1"/>
          <a:stretch/>
        </p:blipFill>
        <p:spPr>
          <a:xfrm>
            <a:off x="250920" y="3716280"/>
            <a:ext cx="2705040" cy="31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http://im0-tub-ru.yandex.net/i?id=115085299-29-72&amp;n=2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404640"/>
            <a:ext cx="3990960" cy="26575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im6-tub-ru.yandex.net/i?id=34006277-04-72&amp;n=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3280" y="404640"/>
            <a:ext cx="4206960" cy="273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http://im7-tub-ru.yandex.net/i?id=205033883-23-72&amp;n=21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908000" y="4221000"/>
            <a:ext cx="2953080" cy="221004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000" y="162864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ОДА В ЖИДКОМ СОСТОЯНИ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ru-RU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716000" y="1773000"/>
            <a:ext cx="4041720" cy="39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ВОДА В ТВЕРДОМ СОСТОЯНИИ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Прямоугольник 9"/>
          <p:cNvSpPr/>
          <p:nvPr/>
        </p:nvSpPr>
        <p:spPr>
          <a:xfrm>
            <a:off x="4932360" y="544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ДА  В  ГАЗООБРАЗНОМ СОСТОЯ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8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500"/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6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8:49:31Z</dcterms:created>
  <dc:creator>учитель</dc:creator>
  <dc:description/>
  <dc:language>en-US</dc:language>
  <cp:lastModifiedBy>Иван</cp:lastModifiedBy>
  <dcterms:modified xsi:type="dcterms:W3CDTF">2016-10-17T16:48:25Z</dcterms:modified>
  <cp:revision>63</cp:revision>
  <dc:subject/>
  <dc:title>Слайд 1</dc:title>
</cp:coreProperties>
</file>