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0.jpeg" ContentType="image/jpeg"/>
  <Override PartName="/ppt/media/image5.jpeg" ContentType="image/jpeg"/>
  <Override PartName="/ppt/media/image6.jpeg" ContentType="image/jpeg"/>
  <Override PartName="/ppt/media/image25.jpeg" ContentType="image/jpeg"/>
  <Override PartName="/ppt/media/image2.jpeg" ContentType="image/jpeg"/>
  <Override PartName="/ppt/media/image24.jpeg" ContentType="image/jpeg"/>
  <Override PartName="/ppt/media/image19.gif" ContentType="image/gif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CFCA-151F-462C-89B2-96171436B6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D3B5A-4D22-4723-BA1B-FEB44FA307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67FA-2D67-4462-B6B5-A33B2DD14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AAC7D-63BF-44C5-9C0C-9F6AC972B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F0513-A7B0-45B3-8F16-E35902E4B8F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EA02-B2FC-45E0-959E-4BF7883ED0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D120A-8717-4F68-A142-FC16D59168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EE34D-099B-4AC5-B15C-BF130989D1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F1A9-F29A-4034-BB47-A788A8CB0B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43719-9941-4D8E-91E3-A1DA8BAF47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83458-50F9-4B78-82BF-E5EEF5833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76E3-9240-43FA-AB68-A7793A1054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C73D9-AD96-49D6-BDC9-5E59486857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96C08-92FA-4FE9-B43A-EF16A0CD19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27244-C887-4EC0-B94A-0D44EE1F2E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1423B-977A-4425-B92D-52472227D01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63F99-B030-4AD7-9CBE-7644639931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7233-B23C-4ECC-8F47-E2FE0132F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EBBDA-68C7-4AC2-95A5-99226D3D1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1E5FC-8956-47B8-9254-999DDD3F0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00DEC-B4E6-4D8F-BF27-1CD0E8C87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59C9F-3F86-448D-8BE8-D60DEBD0A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0B8E5-584D-4711-B730-9E6FC141D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DA3A-D3FD-412C-93F7-C47A539F1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18C6DB7-AD8F-45E8-BA13-430AEB80BFC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7BA53BB3-DB61-42FD-9BCE-085A9AE2469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74;&#1086;&#1076;&#1072;%20&#1052;&#1054;&#1056;&#1057;&#1050;&#1040;&#1071;%20&#1082;&#1072;&#1088;&#1090;&#1080;&#1085;&#1082;&#1072;&amp;noreask=1&amp;pos=9&amp;rpt=simage&amp;lr=213&amp;uinfo=sw-1124-sh-516-fw-899-fh-448-pd-1&amp;img_url=http%3A%2F%2Fi071.radikal.ru%2F0907%2Ffc%2F542d4a85a92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source=wiz&amp;text=&#1074;&#1086;&#1076;&#1072;%20&#1088;&#1077;&#1095;&#1085;&#1072;&#1103;%20&#1082;&#1072;&#1088;&#1090;&#1080;&#1085;&#1082;&#1072;&amp;noreask=1&amp;pos=0&amp;rpt=simage&amp;lr=213&amp;uinfo=sw-1124-sh-516-fw-899-fh-448-pd-1&amp;img_url=http%3A%2F%2Fimg.kiev.pravda.com.ua%2Fimages%2Fdoc%2F1%2F2%2F123-5f200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yandex.ru/yandsearch?source=wiz&amp;text=&#1074;&#1086;&#1076;&#1072;%20&#1086;&#1079;&#1077;&#1088;&#1086;%20&#1082;&#1072;&#1088;&#1090;&#1080;&#1085;&#1082;&#1072;&amp;noreask=1&amp;pos=10&amp;rpt=simage&amp;lr=213&amp;uinfo=sw-1124-sh-516-fw-899-fh-448-pd-1&amp;img_url=http%3A%2F%2Fst.gdefon.ru%2Fwallpapers_preview%2Fwallpapers%2F4063_ozero_trava_otrazhenie_voda_derevya_oblaka_svet_small_%28www.GdeFon.ru%29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yandex.ru/yandsearch?source=wiz&amp;text=&#1074;&#1086;&#1076;&#1072;%20&#1082;&#1083;&#1102;&#1095;&#1077;&#1074;&#1072;&#1103;%20&#1082;&#1072;&#1088;&#1090;&#1080;&#1085;&#1082;&#1072;&amp;noreask=1&amp;pos=5&amp;rpt=simage&amp;lr=213&amp;uinfo=sw-1124-sh-516-fw-899-fh-448-pd-1&amp;img_url=http%3A%2F%2Fturizm.lib.ru%2Fimg%2Fc%2Fchuksin_n%2Fstream_3t%2Fru_17.jp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yandex.ru/yandsearch?source=wiz&amp;text=&#1074;&#1086;&#1076;&#1072;%20&#1082;&#1083;&#1102;&#1095;&#1077;&#1074;&#1072;&#1103;%20&#1082;&#1072;&#1088;&#1090;&#1080;&#1085;&#1082;&#1072;&amp;noreask=1&amp;pos=24&amp;rpt=simage&amp;lr=213&amp;uinfo=sw-1124-sh-516-fw-899-fh-448-pd-1&amp;img_url=http%3A%2F%2Fwww.novostimira.com.ua%2Fimages%2Fnews%2F1344247728_405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yandex.ru/yandsearch?source=wiz&amp;text=&#1074;&#1086;&#1076;&#1072;%20&#1074;&#1086;&#1076;&#1086;&#1087;&#1088;&#1086;&#1074;&#1086;&#1076;&#1085;&#1072;&#1103;%20&#1082;&#1072;&#1088;&#1090;&#1080;&#1085;&#1082;&#1072;&amp;noreask=1&amp;pos=7&amp;rpt=simage&amp;lr=213&amp;uinfo=sw-1124-sh-516-fw-899-fh-448-pd-1&amp;img_url=http%3A%2F%2Ftest2-img.ehowcdn.com%2Fog-image-tag%2Fds-photo%2Fgetty%2Farticle%2F41%2F234%2F78155993_XS.jpg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yandex.ru/yandsearch?source=wiz&amp;uinfo=sw-1124-sh-516-fw-899-fh-448-pd-1&amp;p=4&amp;text=&#1074;&#1086;&#1076;&#1072;%20&#1088;&#1072;&#1079;&#1085;&#1072;&#1103;%20&#1082;&#1072;&#1088;&#1090;&#1080;&#1085;&#1082;&#1072;&amp;noreask=1&amp;pos=128&amp;rpt=simage&amp;lr=213&amp;img_url=http%3A%2F%2Ff2.foto.rambler.ru%2Fpreview%2Fc%2F190x160%2F45b8de07-91b5-4eb7-d42c-f07645810e4d%2Fkaplya_1024.jpg" TargetMode="External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74;&#1086;&#1076;&#1072;%20&#1078;&#1080;&#1076;&#1082;&#1072;&#1103;%20&#1082;&#1072;&#1088;&#1090;&#1080;&#1085;&#1082;&#1072;&amp;noreask=1&amp;pos=17&amp;rpt=simage&amp;lr=213&amp;uinfo=sw-1124-sh-516-fw-899-fh-448-pd-1&amp;img_url=http%3A%2F%2Fos1.i.ua%2F3%2F1%2F7598612_8e559ecf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source=wiz&amp;uinfo=sw-1124-sh-516-fw-899-fh-448-pd-1&amp;p=2&amp;text=&#1074;&#1086;&#1076;&#1072;%20&#1090;&#1074;&#1077;&#1088;&#1076;&#1072;&#1103;%20&#1082;&#1072;&#1088;&#1090;&#1080;&#1085;&#1082;&#1072;&amp;noreask=1&amp;pos=70&amp;rpt=simage&amp;lr=213&amp;img_url=http%3A%2F%2Fimg1.liveinternet.ru%2Fimages%2Fattach%2Fc%2F0%2F35%2F666%2F35666683_5436601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ru/yandsearch?source=wiz&amp;text=&#1074;&#1086;&#1076;&#1072;%20&#1075;&#1072;&#1079;&#1086;&#1086;&#1073;&#1088;&#1072;&#1079;&#1085;&#1072;&#1103;%20&#1082;&#1072;&#1088;&#1090;&#1080;&#1085;&#1082;&#1072;&amp;noreask=1&amp;pos=20&amp;rpt=simage&amp;lr=213&amp;uinfo=sw-1124-sh-516-fw-899-fh-448-pd-1&amp;img_url=http%3A%2F%2Fppt4web.ru%2Fimages%2F115%2F19084%2F310%2Fimg25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кружающий ми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705040" cy="31417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3851280" y="981000"/>
            <a:ext cx="4968720" cy="2737080"/>
          </a:xfrm>
          <a:prstGeom prst="cloudCallout">
            <a:avLst>
              <a:gd name="adj1" fmla="val -83708"/>
              <a:gd name="adj2" fmla="val 87703"/>
            </a:avLst>
          </a:prstGeom>
          <a:solidFill>
            <a:srgbClr val="33cc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ми свойствами обладает в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6894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905120"/>
            <a:ext cx="3322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сцветна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83120" cy="4824360"/>
          </a:xfrm>
          <a:prstGeom prst="rect">
            <a:avLst/>
          </a:prstGeom>
          <a:ln w="0">
            <a:noFill/>
          </a:ln>
        </p:spPr>
      </p:pic>
      <p:sp>
        <p:nvSpPr>
          <p:cNvPr id="127" name="Line 4"/>
          <p:cNvSpPr/>
          <p:nvPr/>
        </p:nvSpPr>
        <p:spPr>
          <a:xfrm>
            <a:off x="5148360" y="1341360"/>
            <a:ext cx="1440" cy="3600360"/>
          </a:xfrm>
          <a:prstGeom prst="line">
            <a:avLst/>
          </a:prstGeom>
          <a:ln cap="sq" w="1620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5364000" y="1341360"/>
            <a:ext cx="1800" cy="3600360"/>
          </a:xfrm>
          <a:prstGeom prst="line">
            <a:avLst/>
          </a:prstGeom>
          <a:ln cap="sq"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2556000" y="3645000"/>
            <a:ext cx="216036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8360" y="1916280"/>
            <a:ext cx="3672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зрачна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http://www.moillusions.com/wp-content/uploads/2010/11/cm_103.jpg"/>
          <p:cNvPicPr/>
          <p:nvPr/>
        </p:nvPicPr>
        <p:blipFill>
          <a:blip r:embed="rId1"/>
          <a:stretch/>
        </p:blipFill>
        <p:spPr>
          <a:xfrm>
            <a:off x="4788000" y="1916280"/>
            <a:ext cx="30574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905120"/>
            <a:ext cx="3683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з запах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3321000" cy="39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7020000" y="622440"/>
            <a:ext cx="1218960" cy="90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3240000" y="4149720"/>
            <a:ext cx="2055960" cy="24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Century Gothic"/>
              </a:rPr>
              <a:t>Итог урока 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1" name="Picture 4" descr="http://krivoshin.lyahovichi.edu.by/sm_full.aspx?guid=4483"/>
          <p:cNvPicPr/>
          <p:nvPr/>
        </p:nvPicPr>
        <p:blipFill>
          <a:blip r:embed="rId1"/>
          <a:stretch/>
        </p:blipFill>
        <p:spPr>
          <a:xfrm>
            <a:off x="1979640" y="1700280"/>
            <a:ext cx="489420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festival.1september.ru/articles/616407/img1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87280" y="1557360"/>
            <a:ext cx="69120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чень добродушная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мягкая, послушная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о когда я захоч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же камень источ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2"/>
          <p:cNvSpPr txBox="1"/>
          <p:nvPr/>
        </p:nvSpPr>
        <p:spPr>
          <a:xfrm>
            <a:off x="826920" y="479736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856764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3964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чему воду назвали водо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де мы ее встречае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ая бывает вод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ими свойствами она облада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WordArt 2"/>
          <p:cNvSpPr txBox="1"/>
          <p:nvPr/>
        </p:nvSpPr>
        <p:spPr>
          <a:xfrm>
            <a:off x="324000" y="476280"/>
            <a:ext cx="853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 и её свойства </a:t>
            </a:r>
            <a:endParaRPr b="0" lang="en-US" sz="1800" spc="1" strike="noStrike">
              <a:ln cap="sq"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жидком состоянии</a:t>
            </a:r>
            <a:endParaRPr b="0" lang="en-US" sz="1800" spc="1" strike="noStrike">
              <a:ln cap="sq"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755640" y="333360"/>
            <a:ext cx="8964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де мы ее встречаем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905120"/>
            <a:ext cx="821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900000" y="2276640"/>
            <a:ext cx="14414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99ff99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МОРЯ</a:t>
            </a:r>
            <a:endParaRPr b="0" lang="en-US" sz="1800" spc="1" strike="noStrike">
              <a:ln cap="sq" w="12600">
                <a:solidFill>
                  <a:srgbClr val="99ff99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3851280" y="2133720"/>
            <a:ext cx="15638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99ff99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ОЗЁРА</a:t>
            </a:r>
            <a:endParaRPr b="0" lang="en-US" sz="1800" spc="1" strike="noStrike">
              <a:ln cap="sq" w="12600">
                <a:solidFill>
                  <a:srgbClr val="99ff99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6659640" y="2205000"/>
            <a:ext cx="136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99ff99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ЕКИ</a:t>
            </a:r>
            <a:endParaRPr b="0" lang="en-US" sz="1800" spc="1" strike="noStrike">
              <a:ln cap="sq" w="12600">
                <a:solidFill>
                  <a:srgbClr val="99ff99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324000" y="30574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73672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0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0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705040" cy="3141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3780000" y="836640"/>
            <a:ext cx="4968720" cy="2736720"/>
          </a:xfrm>
          <a:prstGeom prst="cloudCallout">
            <a:avLst>
              <a:gd name="adj1" fmla="val -83708"/>
              <a:gd name="adj2" fmla="val 87703"/>
            </a:avLst>
          </a:prstGeom>
          <a:solidFill>
            <a:srgbClr val="33cc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может быть в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pirates-life.ru/_ph/22/2/53762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i.obozrevatel.ua/8/692214/gallery/210262_image_lar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3336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ru-admin.net/uploads/posts/2012-05/1337422696_196-600x48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57336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kavicom.ru/uploads/images/fda1a35e29ad399b33826335cf7cfc3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50028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img.stolbik.net/a/5299040/wmua/1-chistka_vashego_kolodtsa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26920" y="260280"/>
            <a:ext cx="7051680" cy="747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://i.wp.pl/a/f/jpeg/12624/kran_woda_jup_450.jpe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-316080"/>
            <a:ext cx="9144000" cy="1012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img1i.spoki.tvnet.lv/upload/articles/85/85235/images/udens-nomierina--28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-828720" y="-316080"/>
            <a:ext cx="10399680" cy="779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126800" y="1647000"/>
            <a:ext cx="722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Работа с учебник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стр.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705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im0-tub-ru.yandex.net/i?id=115085299-2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990960" cy="2657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6-tub-ru.yandex.net/i?id=34006277-0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04640"/>
            <a:ext cx="4206960" cy="27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im7-tub-ru.yandex.net/i?id=205033883-23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8000" y="4221000"/>
            <a:ext cx="2953080" cy="2210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6286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ДА В ЖИДКОМ СОСТОЯН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16000" y="177300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ДА В ТВЕРДОМ СОСТОЯН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493236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  В  ГАЗООБРАЗНОМ СОСТОЯ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8:49:31Z</dcterms:created>
  <dc:creator>учитель</dc:creator>
  <dc:description/>
  <dc:language>en-US</dc:language>
  <cp:lastModifiedBy>Иван</cp:lastModifiedBy>
  <dcterms:modified xsi:type="dcterms:W3CDTF">2016-10-17T16:48:25Z</dcterms:modified>
  <cp:revision>63</cp:revision>
  <dc:subject/>
  <dc:title>Слайд 1</dc:title>
</cp:coreProperties>
</file>