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44402-E12D-499A-9C1C-675DB65EA4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521BB-AE37-46DF-A02F-EA1FDCEE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5826F-64C5-4D30-A8B5-E9BD20DC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48521-3DCC-4EFF-84E6-70F3F2AB60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4F3B7-7F4D-42A2-A020-EA9C2074A7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7BDCA-7B15-4B57-A966-8B393444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C147D-3471-4026-8903-12A18CDE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AA77E-2898-48DA-824A-831C292D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BE4FB-4871-4CDF-8CC2-E83C3202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38941-FA3D-4D28-A8E4-9F9FCB6E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FAAC1-69B1-411F-B158-B353387F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80DD5-99B9-48B5-9ED5-6AED6650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C0965-C4B5-471D-8E03-BC2C996A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05012-EE1F-416B-A4BF-BD118E6B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EEE6D-F7C2-4BC5-8F1B-8CD095FB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EBB25-AAAF-4A21-B3E0-5DB0EC01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CE81F-C585-431C-9045-83694BA351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B78F-87C7-47D3-8EF6-C8A74B01C3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0CA7-E878-47CB-AC36-9A0FA6D2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17B3-C79E-4828-A977-82194629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0CC2-93D4-4F8E-9D31-E92DCCA7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FF3D-F375-4E8C-9EE8-2B107208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2828D-A3F9-4CE4-ABD5-4D5C5054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CC4A-B1F7-410C-8F03-1F90CF2D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B584-4C49-40F7-ADFD-8CAD7B36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6402-03B7-468C-A7A1-3DE8EAE3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DEC6-FE5E-4157-B7C5-108EF029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B7B9-2E55-4CBE-8477-0D413793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5333-8947-4E90-B328-585E12D1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4D12-F4DB-4D63-A99F-1C3488CB70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F0070-95EE-49E2-B423-24EEF95E5C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38F720-36F6-4AEF-97EA-8C711C1E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96A08-3848-40A6-B5C9-839FE11E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F265C-49F8-49DE-A1A4-CA29BBCC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875CC3-2956-4E73-B5FC-3D588962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9C190E-F7B9-4C85-B0A5-264AAC6D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87620F-33AA-49B7-B941-BD82C273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AB1AE-9912-4E2F-920D-7E17556D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808E9D-4444-4BB4-A2B9-AE1ADBAB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C7739D-5EE6-48A4-AF41-1276864A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013A5A-49C8-4474-BD06-FB5090BC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5EFDEA-5DA7-41AA-8F6C-DC139242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2D60F3-54DF-4E45-B99E-092353CFF1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E1209B-1DAD-46E9-90E8-4660D20006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59526-BFFC-45FF-84A8-991301AC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9124C0-30B8-4C5A-BEA0-45512194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CDD46A-11E6-4EE6-AB7E-5B063373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43A480-8F08-4249-B594-C86DB6AA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D3BC84-4B34-4FB6-9720-F9C0ACB4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F8A8A1-858B-4C9C-AA50-5A00C189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A1F5C1-CD32-4049-9437-E404E152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C67245-CED0-439F-9CD2-4B519ADC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BAA6BF-C41E-4533-BFA6-6BE25BAD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A877DF-B545-40D9-9B60-292306DC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8937FA-0BCE-47A3-846D-6D13A49B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62A96-53C5-42E4-9543-491BFD08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04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69320" y="14475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04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69320" y="38347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B9FC21-7293-4097-8755-8ADB245416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48A2F-BA4B-4641-8E77-F1DDC27A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6360" y="38347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BD866-A03E-47B5-81FA-DC72F1B8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6360" y="14475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47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7E28D-C5A3-45B5-88E5-6ECF53A0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212400" y="627660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A5B98E-0097-49E3-811D-C0C8B04ED54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212400" y="627660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EF76CC-11DA-4B18-9CC0-1C899CE8E2F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90" name="Group 2"/>
          <p:cNvGrpSpPr/>
          <p:nvPr/>
        </p:nvGrpSpPr>
        <p:grpSpPr>
          <a:xfrm>
            <a:off x="60480" y="60480"/>
            <a:ext cx="9026280" cy="6710040"/>
            <a:chOff x="60480" y="60480"/>
            <a:chExt cx="9026280" cy="6710040"/>
          </a:xfrm>
        </p:grpSpPr>
        <p:pic>
          <p:nvPicPr>
            <p:cNvPr id="91" name="Picture 3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6280" cy="67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162000" y="166680"/>
              <a:ext cx="8818560" cy="64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3" name="Rectangle 5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5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6"/>
          </p:nvPr>
        </p:nvSpPr>
        <p:spPr>
          <a:xfrm>
            <a:off x="212400" y="627516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913171-A39A-4E69-9219-3F188574BC4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212400" y="627660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3F21F9-C851-4E4B-AE5B-E56AE7594CC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Rectangle 3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5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9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91440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0"/>
          </p:nvPr>
        </p:nvSpPr>
        <p:spPr>
          <a:xfrm>
            <a:off x="212400" y="6275160"/>
            <a:ext cx="322200" cy="3222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E5D0D89-5907-40CF-9A52-185D99881DF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1368360" y="3857760"/>
            <a:ext cx="69199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Times New Roman"/>
              </a:rPr>
              <a:t>Учитель начальных классов, учитель-логопед , руководитель ГМО «Ответственных по работе с детьми с инвалидностью и ОВЗ»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Times New Roman"/>
              </a:rPr>
              <a:t>Горячева Ю.Н. МБОУ «Лицей №3» им.Главного маршала авиации А.Е.Голованов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457200" y="1506600"/>
            <a:ext cx="8229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еемственность в инклюзии: от ранней помощи до школы.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1008000" y="1008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5000b"/>
                </a:solidFill>
                <a:latin typeface="Times New Roman"/>
              </a:rPr>
              <a:t>Преемственность решает следующие </a:t>
            </a:r>
            <a:r>
              <a:rPr b="0" i="1" lang="ru-RU" sz="4000" spc="-1" strike="noStrike">
                <a:solidFill>
                  <a:srgbClr val="c5000b"/>
                </a:solidFill>
                <a:latin typeface="Times New Roman"/>
              </a:rPr>
              <a:t>задачи:</a:t>
            </a:r>
            <a:br>
              <a:rPr sz="4000"/>
            </a:br>
            <a:r>
              <a:rPr b="0" lang="ru-RU" sz="2600" spc="-1" strike="noStrike">
                <a:solidFill>
                  <a:srgbClr val="696464"/>
                </a:solidFill>
                <a:latin typeface="Times New Roman"/>
              </a:rPr>
              <a:t> -осуществление выполнения непрерывности образовательных программ.;</a:t>
            </a:r>
            <a:br>
              <a:rPr sz="2600"/>
            </a:br>
            <a:r>
              <a:rPr b="0" lang="ru-RU" sz="2600" spc="-1" strike="noStrike">
                <a:solidFill>
                  <a:srgbClr val="696464"/>
                </a:solidFill>
                <a:latin typeface="Times New Roman"/>
              </a:rPr>
              <a:t>- формирования структуры учебного процесса в условиях непрерывного образования;</a:t>
            </a:r>
            <a:br>
              <a:rPr sz="2600"/>
            </a:br>
            <a:r>
              <a:rPr b="0" lang="ru-RU" sz="2600" spc="-1" strike="noStrike">
                <a:solidFill>
                  <a:srgbClr val="696464"/>
                </a:solidFill>
                <a:latin typeface="Times New Roman"/>
              </a:rPr>
              <a:t>-осуществление единых требований к структуре обучения;</a:t>
            </a:r>
            <a:br>
              <a:rPr sz="2600"/>
            </a:br>
            <a:r>
              <a:rPr b="0" lang="ru-RU" sz="2600" spc="-1" strike="noStrike">
                <a:solidFill>
                  <a:srgbClr val="696464"/>
                </a:solidFill>
                <a:latin typeface="Times New Roman"/>
              </a:rPr>
              <a:t>- организации преемственности между педагогами ранней помощи, детского сада и школы;</a:t>
            </a:r>
            <a:br>
              <a:rPr sz="2600"/>
            </a:br>
            <a:r>
              <a:rPr b="0" lang="ru-RU" sz="2600" spc="-1" strike="noStrike">
                <a:solidFill>
                  <a:srgbClr val="696464"/>
                </a:solidFill>
                <a:latin typeface="Times New Roman"/>
              </a:rPr>
              <a:t>- организации работы с родителями. 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1584360" y="857160"/>
            <a:ext cx="62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5000b"/>
                </a:solidFill>
                <a:latin typeface="Times New Roman"/>
              </a:rPr>
              <a:t>РЕСУРСЫ ПРЕЕМСТВЕННОСТ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1584360" y="2379600"/>
            <a:ext cx="648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МА ВЗАИМОДЕЙСТВИ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питателей, логопедов, дефектологов , психологов, работающих в службе ранней помощи сада и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дагогов-психологов,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елей начальных классов, логопедов, работающих в школе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дителей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"/>
          <p:cNvSpPr/>
          <p:nvPr/>
        </p:nvSpPr>
        <p:spPr>
          <a:xfrm>
            <a:off x="1870200" y="593640"/>
            <a:ext cx="56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a5e6d"/>
                </a:solidFill>
                <a:latin typeface="Times New Roman"/>
              </a:rPr>
              <a:t>Ранняя помощь-детский сад - школа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863640" y="1295280"/>
            <a:ext cx="7429320" cy="47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Работу по преемственности «от детского сада до школы» целесообразно осуществлять по трем  направлениям: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spcBef>
                <a:spcPts val="451"/>
              </a:spcBef>
              <a:buClr>
                <a:srgbClr val="d34817"/>
              </a:buClr>
              <a:buFont typeface="Wingdings 2" charset="2"/>
              <a:buChar char=""/>
              <a:tabLst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методическая работа с педагогами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(ознакомление с требованиями ФГОС к выпускнику, обсуждение критериев “портрета выпускника”, поиск путей их разрешения, изучение и обмен образовательных технологий, используемых педагогами ДОУ и школы и др.)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spcBef>
                <a:spcPts val="451"/>
              </a:spcBef>
              <a:buClr>
                <a:srgbClr val="d34817"/>
              </a:buClr>
              <a:buFont typeface="Wingdings 2" charset="2"/>
              <a:buChar char=""/>
              <a:tabLst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работа с детьми, как  с воспитанниками детских садов, так и с учениками школ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(знакомство дошколят со школой, учителями, организация совместных мероприятий с учениками близлежащих школ)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spcBef>
                <a:spcPts val="451"/>
              </a:spcBef>
              <a:buClr>
                <a:srgbClr val="d34817"/>
              </a:buClr>
              <a:buFont typeface="Wingdings 2" charset="2"/>
              <a:buChar char=""/>
              <a:tabLst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работа с родителями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(получение информации, необходимой для подготовки детей к школе; консультирование родителей по вопросам своевременного развития детей для успешного обучения в школе, обучающие семинары с родителями).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"/>
          <p:cNvSpPr/>
          <p:nvPr/>
        </p:nvSpPr>
        <p:spPr>
          <a:xfrm>
            <a:off x="2643120" y="5000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a5e6d"/>
                </a:solidFill>
                <a:latin typeface="Times New Roman"/>
              </a:rPr>
              <a:t>Программа « Дружить домами»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1285920" y="1285920"/>
            <a:ext cx="70009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 общего количества первоклассников, поступивших в Лицей № 3 на обучение в сентябре  2017 года,  42 ребенка поступил  из детского сада № 9 « Созвездие», с которым был заключен договор Сотрудничества по реализации Проекта «Дружить домами»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иод адаптации младших школьников сократился  до 3 месяцев и проходил без особых проблем. Мониторинг готовности к обучению в школе, проводимый педагогом-психологом в конце сентября – начале октября  2017 г., показал отличные результаты, особенно проявившиеся в формировании  личностных и предметных результатов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питанники  подготовительной группы и групп компенсирующего обучения  д/с«Созвездие», принимающие участие в Программе на протяжении 6 месяцев (ноябрь 2016 – апрель 2017) , отлично справлялись с заданиями, предполагающими выполнение правил, заданных взрослыми (учителем, психологом), демонстрировали умение сотрудничать, учитывать мнение товарищей, поддерживать товарища и принимать поддержку и др.и пр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тоговый срез знаний показал значительное отличие результатов учебной деятельности первоклассников, участников Проекта «Дружить домами», что подтверждает необходимость   сотрудничества  между детскими садами и образовательными учреждениями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"/>
          <p:cNvSpPr/>
          <p:nvPr/>
        </p:nvSpPr>
        <p:spPr>
          <a:xfrm>
            <a:off x="3073320" y="571680"/>
            <a:ext cx="43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a5e6d"/>
                </a:solidFill>
                <a:latin typeface="Times New Roman"/>
              </a:rPr>
              <a:t>Программа  «Дружить домами»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1643040" y="1071720"/>
            <a:ext cx="6143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ещение школьного музея, библиотеки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комство и взаимодействие дошкольников с учителями и учениками начальной школы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астие в совместной образовательной деятельности, игровых программах, проектной деятельности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тавки рисунков и поделок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тречи и беседы с бывшими воспитанниками детского сада (ученики начальной школы, 4 А и 4 Б)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местные праздники (День Лицеиста, Новый год, Рождество, Масленица, Книжкина Неделя, Пасха ) и спортивные соревнования дошкольников и первоклассников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астие в театрализованной деятельности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ещение дошкольниками адаптационного курса занятий, организованных при школе (занятия с психологом, логопедом, музыкальным руководителем и др. специалистами школы)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скурсии в школу 1 раз в месяц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"/>
          <p:cNvSpPr/>
          <p:nvPr/>
        </p:nvSpPr>
        <p:spPr>
          <a:xfrm>
            <a:off x="3143160" y="500040"/>
            <a:ext cx="41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a5e6d"/>
                </a:solidFill>
                <a:latin typeface="Times New Roman"/>
              </a:rPr>
              <a:t>Взаимодействие с родителями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1714680" y="857160"/>
            <a:ext cx="6072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местные родительские собрания с  учителями школы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углые столы, дискуссионные встречи,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ьские конференции, вечера вопросов и ответов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сультации с педагогами  школы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тречи родителей с будущими учителями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ни открытых дверей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кетирование родителей для изучения самочувствия семьи в преддверии школьной жизни ребенка и в период адаптации к школе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овательно-игровые тренинги и практикумы для родителей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зуальные средства общения (стендовый материал, выставки, почтовый ящик вопросов и ответов и др.)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АНИРУЮТСЯ: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седания родительских клубов (занятия для родителей и для детско-родительских пар)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мейные вечера, тематические досуги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 rot="21540000">
            <a:off x="1396800" y="718920"/>
            <a:ext cx="6984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5000b"/>
                </a:solidFill>
                <a:latin typeface="Times New Roman"/>
              </a:rPr>
              <a:t>Не дети должны быть подготовлены к школе, а  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5000b"/>
                </a:solidFill>
                <a:latin typeface="Times New Roman"/>
              </a:rPr>
              <a:t>школа должна быть готова учить, развивать  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5000b"/>
                </a:solidFill>
                <a:latin typeface="Times New Roman"/>
              </a:rPr>
              <a:t>и любить самых разных детей и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5000b"/>
                </a:solidFill>
                <a:latin typeface="Times New Roman"/>
              </a:rPr>
              <a:t>помогать их личностному росту.  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914400" y="274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Преемственность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914400" y="14176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заимосвязь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14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ежду предыдущим и последующим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14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разовательными этапами и 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14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охранение определенных черт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14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едшествующего  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14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пыта в последующем.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928800" y="285840"/>
            <a:ext cx="77724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Times New Roman"/>
              </a:rPr>
              <a:t>Инклюзивное образование: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928800" y="1428840"/>
            <a:ext cx="735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.Образование , при котором все дет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Инклюзивное образование старается разработать подход к преподаванию и обучению, который будет более гибким для удовлетворения различных потребностей в обучении. Если преподавание и обучение станут более эффективными в результате изменений, которые внедряет инклюзивное образование, тогда выиграют все дети (не только дети с особыми потребностями)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914400" y="274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Основания для осуществления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преемственности: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785880" y="1444680"/>
            <a:ext cx="757224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чет состояния здоровья и физического развития детей с ограниченными возможностями здоровья;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ровень развития их познавательной активности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ак необходимого компонента учебной деятельности; 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ровень развития умственных и нравственных способностей детей с ограниченными возможностями здоровья ;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звитие коммуникативных умений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умение общаться с взрослыми и сверстниками).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914400" y="274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5000b"/>
                </a:solidFill>
                <a:latin typeface="Times New Roman"/>
              </a:rPr>
              <a:t>Современные требования к обеспечению</a:t>
            </a:r>
            <a:br>
              <a:rPr sz="2800"/>
            </a:br>
            <a:r>
              <a:rPr b="1" lang="ru-RU" sz="2800" spc="-1" strike="noStrike">
                <a:solidFill>
                  <a:srgbClr val="c5000b"/>
                </a:solidFill>
                <a:latin typeface="Times New Roman"/>
              </a:rPr>
              <a:t>преемственности по подготовке  </a:t>
            </a:r>
            <a:br>
              <a:rPr sz="2800"/>
            </a:br>
            <a:r>
              <a:rPr b="1" lang="ru-RU" sz="2800" spc="-1" strike="noStrike">
                <a:solidFill>
                  <a:srgbClr val="c5000b"/>
                </a:solidFill>
                <a:latin typeface="Times New Roman"/>
              </a:rPr>
              <a:t>детей к школе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1071720" y="1714680"/>
            <a:ext cx="6715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чезло требование к преемственности – какие ЗУН должны дать в ДОУ, а с какими школа должна получить детей. 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местился  акцент  готовности  к  обучению  в  школе  с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теллектуальной на личностную – («внутренняя позиция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кольника»). 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 первый  план  выводятся  познавательные  мотивы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учения  –  сознательное  желание  ребенка  учиться,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знавать  что-то  новое,  опираясь  на  уже  полученные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ния. 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 современного  первоклассника  важно  не  столько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дать  инструментом  познания,  сколько  уметь  им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знанно пользоваться.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914400" y="274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5000b"/>
                </a:solidFill>
                <a:latin typeface="Times New Roman"/>
              </a:rPr>
              <a:t>Основные задачи преемственности </a:t>
            </a:r>
            <a:br>
              <a:rPr sz="3600"/>
            </a:br>
            <a:r>
              <a:rPr b="0" lang="ru-RU" sz="3600" spc="-1" strike="noStrike">
                <a:solidFill>
                  <a:srgbClr val="c5000b"/>
                </a:solidFill>
                <a:latin typeface="Times New Roman"/>
              </a:rPr>
              <a:t>детского сада и школы: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1065240" y="1871640"/>
            <a:ext cx="728676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еспечить безболезненный переход  детей к школе;   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еспечить должный уровень готовности детей к обучению в школе;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оспитывать у дошкольника эмоционально-положительное отношение к школе;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еспечить непрерывность в развитии способностей, компетентности, возможности ребенка.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914400" y="714240"/>
            <a:ext cx="77724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696464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696464"/>
                </a:solidFill>
                <a:latin typeface="Times New Roman"/>
              </a:rPr>
              <a:t>Дети, которые  поступают  в  школу  из групп  компенсирующей направленности - это особая  группа  детей.  </a:t>
            </a:r>
            <a:br>
              <a:rPr sz="2400"/>
            </a:br>
            <a:r>
              <a:rPr b="1" lang="ru-RU" sz="2400" spc="-1" strike="noStrike">
                <a:solidFill>
                  <a:srgbClr val="696464"/>
                </a:solidFill>
                <a:latin typeface="Times New Roman"/>
              </a:rPr>
              <a:t>Неформальной  подход к осуществлению  преемственности в работе специалистов детского  сада и школы, создание условий  для предшкольной подготовки детей с ОВЗ, поддержка их семей,  являются одной из ступеней реализации индивидуального маршрута развития  ребёнка с особыми образовательными потребностями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1079640" y="647640"/>
            <a:ext cx="77724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96464"/>
                </a:solidFill>
                <a:latin typeface="Times New Roman"/>
              </a:rPr>
              <a:t>В коллективе ДОУ работают квалифицированные специалисты: </a:t>
            </a:r>
            <a:r>
              <a:rPr b="0" lang="ru-RU" sz="2600" spc="-1" strike="noStrike">
                <a:solidFill>
                  <a:srgbClr val="696464"/>
                </a:solidFill>
                <a:latin typeface="Times New Roman"/>
              </a:rPr>
              <a:t>педагоги, психологи, логопеды, обеспечивающие базисное развитие способностей  ребенка с ОВЗ,  и все равно поступление дошкольника с ОВЗ в школу является большим стрессом для ребенка. </a:t>
            </a:r>
            <a:br>
              <a:rPr sz="2600"/>
            </a:br>
            <a:r>
              <a:rPr b="0" lang="ru-RU" sz="2600" spc="-1" strike="noStrike">
                <a:solidFill>
                  <a:srgbClr val="696464"/>
                </a:solidFill>
                <a:latin typeface="Times New Roman"/>
              </a:rPr>
              <a:t>Начальная школа, используя опыт детского сада способствует дальнейшему его обучению и воспитанию. Школа – преемник дошкольной ступени, не строит свою работу с нуля, а подхватывает умение дошкольника, организуя его обучение и воспитание.</a:t>
            </a:r>
            <a:br>
              <a:rPr sz="1300"/>
            </a:b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868320" y="1460520"/>
            <a:ext cx="77724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5000b"/>
                </a:solidFill>
                <a:latin typeface="Times New Roman"/>
              </a:rPr>
              <a:t>Цель преемственности:</a:t>
            </a:r>
            <a:br>
              <a:rPr sz="2600"/>
            </a:br>
            <a:r>
              <a:rPr b="0" lang="ru-RU" sz="2800" spc="-1" strike="noStrike">
                <a:solidFill>
                  <a:srgbClr val="696464"/>
                </a:solidFill>
                <a:latin typeface="Times New Roman"/>
              </a:rPr>
              <a:t>-объединение усилий педагогического коллектива для снижения дезадаптации</a:t>
            </a:r>
            <a:br>
              <a:rPr sz="2800"/>
            </a:br>
            <a:r>
              <a:rPr b="0" lang="ru-RU" sz="2800" spc="-1" strike="noStrike">
                <a:solidFill>
                  <a:srgbClr val="696464"/>
                </a:solidFill>
                <a:latin typeface="Times New Roman"/>
              </a:rPr>
              <a:t>у школьников с ОВЗ;</a:t>
            </a:r>
            <a:br>
              <a:rPr sz="2800"/>
            </a:br>
            <a:r>
              <a:rPr b="0" lang="ru-RU" sz="2800" spc="-1" strike="noStrike">
                <a:solidFill>
                  <a:srgbClr val="696464"/>
                </a:solidFill>
                <a:latin typeface="Times New Roman"/>
              </a:rPr>
              <a:t>-повышение их эмоционального благополучия;</a:t>
            </a:r>
            <a:br>
              <a:rPr sz="2800"/>
            </a:br>
            <a:r>
              <a:rPr b="0" lang="ru-RU" sz="2800" spc="-1" strike="noStrike">
                <a:solidFill>
                  <a:srgbClr val="696464"/>
                </a:solidFill>
                <a:latin typeface="Times New Roman"/>
              </a:rPr>
              <a:t>-сохранения здоровья;</a:t>
            </a:r>
            <a:br>
              <a:rPr sz="2800"/>
            </a:br>
            <a:r>
              <a:rPr b="0" lang="ru-RU" sz="2800" spc="-1" strike="noStrike">
                <a:solidFill>
                  <a:srgbClr val="696464"/>
                </a:solidFill>
                <a:latin typeface="Times New Roman"/>
              </a:rPr>
              <a:t>- дальнейшая коррекция недостатков развития.</a:t>
            </a:r>
            <a:br>
              <a:rPr sz="1600"/>
            </a:b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2T18:35:41Z</dcterms:created>
  <dc:creator>Dimmi</dc:creator>
  <dc:description/>
  <dc:language>en-US</dc:language>
  <cp:lastModifiedBy>Dimmi</cp:lastModifiedBy>
  <dcterms:modified xsi:type="dcterms:W3CDTF">2018-07-06T21:08:19Z</dcterms:modified>
  <cp:revision>20</cp:revision>
  <dc:subject/>
  <dc:title>Преемственность в инклюзии: от ранней помощи до школы.</dc:title>
</cp:coreProperties>
</file>