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5512-238B-49CC-AFC5-3139D1159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41D2-520A-49A0-AAA8-F7F19CC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8980-8E6C-4A1B-8092-AD27D16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C2D3-3849-49AB-9B93-5A5E0089D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3CA25-CF1F-45DD-A8D1-5CF793C1F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92C1F-05B7-4503-860C-644C3EBC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FC50-4A98-43A4-A6A7-5522B15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5DE52-8919-45CA-B9CE-454F5E79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E29F6-51C8-4CC5-AF81-C27A7238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A411-DDC5-479F-9633-82388B8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A722D-F4E6-4C0D-92A9-9B182499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9E95-B75E-46A8-AA6F-1D1ECB2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06934-0765-40E1-9B80-AE3320D7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12B3-BB63-4D4C-B2F7-3060FDA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456DC-1A6F-41BC-A138-59A502C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95D6E-7AF5-4F5D-BE75-839BF6C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E4D31-E365-43DB-A439-9094E336A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40A6-5FD5-45B7-961C-77F200D65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EA6A-532B-4083-AAFC-4C88F709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F22D-0449-4FE4-B5F1-E15773C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90E8-01E9-45B8-BB61-F29C959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41A-0EE5-47F9-8C34-5375826D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6001-8441-4667-83AE-A4B73C2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7AC9-5B1D-4913-A5EB-F0294BA5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D990-3384-4901-A0E2-52A0CB0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E1FB-B273-4252-96E7-324B4985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75F-80DE-496B-A9C0-D45F255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1F40-4A92-4416-B972-CE5FF451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BCD-7FC4-4C7A-A05E-BBC7944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BDEA-338E-42A6-9B68-BBDFE47C5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33330-CD74-48BD-A3BC-A58BE4D89D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13A74-F227-4206-8FE7-16A78277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6FC3-068A-46BF-A484-EDA4379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F3A6-87D9-4B0A-A5B8-D61304EF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980EF-C98C-4A77-8084-C5BB41C5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4B17F-3241-44B3-8156-55C25464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4BA26-39C2-4E9E-8D97-9A62AE95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E77A2-A510-47F2-8A64-8ACEF62C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E0E14-0A84-405E-86C1-49DB5D7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DBBB0-0DB0-40C0-B717-805F85DA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93B07-931F-4DAE-9AF3-96AB354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57347-1395-4422-B5BF-B0922755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6003-A450-4F70-AA51-507958A8D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CC487-F562-4F0C-AAE6-1472DCB35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78E7-F2F8-474C-909C-40CFBEA1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B4EB9-4A58-4799-84A1-6642DB6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C889E-17C7-4AE2-8CCF-A374DC8E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D5F8B-1B5E-475A-A30B-70945700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99D6A-5FE5-493A-8140-517967ED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16925-9661-42DE-9E26-7C0777A4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8B401-64CA-42F8-BC49-3CFA4A2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3014A-BDBE-4EA8-8BC8-22C98D6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F9907-11D9-46BF-86ED-300FC383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38C8C-458D-4441-B2BD-79385DA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524C3-408D-4BE0-A8CF-AABF0EE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FEC2-9853-4D7C-BFB0-75F7A1BC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BACC5-2FB4-436E-8248-93F41D387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FCFF-CC27-4B4C-A8A2-02BFECA5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4D5B-3DB8-48E6-9E0C-8D283BE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D016-F796-4245-9EDD-AE4FB0D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22CD88-6612-4BBA-BCE8-88DAFEBC41D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5023E2-D7ED-4311-A630-342AE2A948A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60480" y="60480"/>
            <a:ext cx="9026280" cy="6710040"/>
            <a:chOff x="60480" y="60480"/>
            <a:chExt cx="9026280" cy="671004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6280" cy="67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3" name="Rectangle 5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C1E41A-ECBC-4560-A975-6C5286EFD8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4B6D01-0431-418D-A443-208C02FBF3D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Rectangle 3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4B9E33-746E-4DDB-808A-FAEAFC9580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1368360" y="3857760"/>
            <a:ext cx="6919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Учитель начальных классов, учитель-логопед , руководитель ГМО «Ответственных по работе с детьми с инвалидностью и ОВЗ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Горячева Ю.Н. МБОУ «Лицей №3» им.Главного маршала авиации А.Е.Голованов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емственность в инклюзии: от ранней помощи до школы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008000" y="1008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Преемственность решает следующие </a:t>
            </a:r>
            <a:r>
              <a:rPr b="0" i="1" lang="ru-RU" sz="4000" spc="-1" strike="noStrike">
                <a:solidFill>
                  <a:srgbClr val="c5000b"/>
                </a:solidFill>
                <a:latin typeface="Times New Roman"/>
              </a:rPr>
              <a:t>задачи:</a:t>
            </a:r>
            <a:br>
              <a:rPr sz="40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 -осуществление выполнения непрерывности образовательных программ.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формирования структуры учебного процесса в условиях непрерывного образования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осуществление единых требований к структуре обучения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организации преемственности между педагогами ранней помощи, детского сада и школы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организации работы с родителями.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84360" y="85716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РЕСУРСЫ ПРЕЕМСТВЕН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584360" y="2379600"/>
            <a:ext cx="64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ВЗАИМОДЕЙСТВ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ей, логопедов, дефектологов , психологов, работающих в службе ранней помощи сада и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ов-психологов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ей начальных классов, логопедов, работающих в школ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е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870200" y="593640"/>
            <a:ext cx="56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a5e6d"/>
                </a:solidFill>
                <a:latin typeface="Times New Roman"/>
              </a:rPr>
              <a:t>Ранняя помощь-детский сад - школ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63640" y="1295280"/>
            <a:ext cx="7429320" cy="4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Работу по преемственности «от детского сада до школы» целесообразно осуществлять по трем  направлениям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етодическая работа с педагогам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ознакомление с требованиями ФГОС к выпускнику, обсуждение критериев “портрета выпускника”, поиск путей их разрешения, изучение и обмен образовательных технологий, используемых педагогами ДОУ и школы и др.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бота с детьми, как  с воспитанниками детских садов, так и с учениками школ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знакомство дошколят со школой, учителями, организация совместных мероприятий с учениками близлежащих школ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бота с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получение информации, необходимой для подготовки детей к школе; консультирование родителей по вопросам своевременного развития детей для успешного обучения в школе, обучающие семинары с родителями)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264312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Программа « Дружить домами»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85920" y="1285920"/>
            <a:ext cx="7000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общего количества первоклассников, поступивших в Лицей № 3 на обучение в сентябре  2017 года,  42 ребенка поступил  из детского сада № 9 « Созвездие», с которым был заключен договор Сотрудничества по реализации Проекта «Дружить домами»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иод адаптации младших школьников сократился  до 3 месяцев и проходил без особых проблем. Мониторинг готовности к обучению в школе, проводимый педагогом-психологом в конце сентября – начале октября  2017 г., показал отличные результаты, особенно проявившиеся в формировании  личностных и предметных результатов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нники  подготовительной группы и групп компенсирующего обучения  д/с«Созвездие», принимающие участие в Программе на протяжении 6 месяцев (ноябрь 2016 – апрель 2017) , отлично справлялись с заданиями, предполагающими выполнение правил, заданных взрослыми (учителем, психологом), демонстрировали умение сотрудничать, учитывать мнение товарищей, поддерживать товарища и принимать поддержку и др.и пр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оговый срез знаний показал значительное отличие результатов учебной деятельности первоклассников, участников Проекта «Дружить домами», что подтверждает необходимость   сотрудничества  между детскими садами и образовательными учреждениям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73320" y="57168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Программа  «Дружить домами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643040" y="1071720"/>
            <a:ext cx="614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школьного музея, библиотек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и взаимодействие дошкольников с учителями и учениками начальной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совместной образовательной деятельности, игровых программах, проектной деятельност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авки рисунков и поделок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и и беседы с бывшими воспитанниками детского сада (ученики начальной школы, 4 А и 4 Б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ые праздники (День Лицеиста, Новый год, Рождество, Масленица, Книжкина Неделя, Пасха ) и спортивные соревнования дошкольников и первоклассников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театрализованной деятельност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дошкольниками адаптационного курса занятий, организованных при школе (занятия с психологом, логопедом, музыкальным руководителем и др. специалистами школы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курсии в школу 1 раз в месяц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3143160" y="50004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Взаимодействие с родителям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714680" y="857160"/>
            <a:ext cx="6072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ые родительские собрания с  учителями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е столы, дискуссионные встречи,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ьские конференции, вечера вопросов и ответов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ации с педагогами 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и родителей с будущими учителям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и открытых дверей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кетирование родителей для изучения самочувствия семьи в преддверии школьной жизни ребенка и в период адаптации к школе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-игровые тренинги и практикумы для родителей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уальные средства общения (стендовый материал, выставки, почтовый ящик вопросов и ответов и др.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УЮТСЯ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я родительских клубов (занятия для родителей и для детско-родительских пар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йные вечера, тематические досуг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 rot="21540000">
            <a:off x="1396800" y="718920"/>
            <a:ext cx="698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Не дети должны быть подготовлены к школе, а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школа должна быть готова учить, развивать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и любить самых разных детей и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помогать их личностному росту.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реемственность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914400" y="14176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жду предыдущим и последующим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зовательными этапами 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хранение определенных черт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шествующего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ыта в последующем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928800" y="285840"/>
            <a:ext cx="77724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Times New Roman"/>
              </a:rPr>
              <a:t>Инклюзивное образование: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928800" y="142884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.Образование , при котором все де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нклюзивное образование старается разработать подход к преподаванию и обучению, который будет более гибким для удовлетворения различных потребностей в обучении. Если преподавание и обучение станут более эффективными в результате изменений, которые внедряет инклюзивное образование, тогда выиграют все дети (не только дети с особыми потребностями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Основания для осуществления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реемственности: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785880" y="1444680"/>
            <a:ext cx="75722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ет состояния здоровья и физического развития детей с ограниченными возможностями здоровья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азвития их познавательной активности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необходимого компонента учебной деятельности;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азвития умственных и нравственных способностей детей с ограниченными возможностями здоровья 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оммуникативных умений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умение общаться с взрослыми и сверстниками)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Современные требования к обеспечению</a:t>
            </a:r>
            <a:br>
              <a:rPr sz="2800"/>
            </a:b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преемственности по подготовке  </a:t>
            </a:r>
            <a:br>
              <a:rPr sz="2800"/>
            </a:b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детей к школ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071720" y="1714680"/>
            <a:ext cx="671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чезло требование к преемственности – какие ЗУН должны дать в ДОУ, а с какими школа должна получить детей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стился  акцент  готовности  к  обучению  в  школе  с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ллектуальной на личностную – («внутренняя позиция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ика»)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 первый  план  выводятся  познавательные  мотивы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я  –  сознательное  желание  ребенка  учиться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вать  что-то  новое,  опираясь  на  уже  полученные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 современного  первоклассника  важно  не  столько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ть  инструментом  познания,  сколько  уметь  им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знанно пользоваться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5000b"/>
                </a:solidFill>
                <a:latin typeface="Times New Roman"/>
              </a:rPr>
              <a:t>Основные задачи преемственности </a:t>
            </a:r>
            <a:br>
              <a:rPr sz="3600"/>
            </a:br>
            <a:r>
              <a:rPr b="0" lang="ru-RU" sz="3600" spc="-1" strike="noStrike">
                <a:solidFill>
                  <a:srgbClr val="c5000b"/>
                </a:solidFill>
                <a:latin typeface="Times New Roman"/>
              </a:rPr>
              <a:t>детского сада и школы: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1065240" y="1871640"/>
            <a:ext cx="72867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безболезненный переход  детей к школе;  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должный уровень готовности детей к обучению в школе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питывать у дошкольника эмоционально-положительное отношение к школе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непрерывность в развитии способностей, компетентности, возможности ребенка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914400" y="714240"/>
            <a:ext cx="77724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Дети, которые  поступают  в  школу  из групп  компенсирующей направленности - это особая  группа  детей.  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Неформальной  подход к осуществлению  преемственности в работе специалистов детского  сада и школы, создание условий  для предшкольной подготовки детей с ОВЗ, поддержка их семей,  являются одной из ступеней реализации индивидуального маршрута развития  ребёнка с особыми образовательными потребностям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079640" y="64764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</a:rPr>
              <a:t>В коллективе ДОУ работают квалифицированные специалисты: 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педагоги, психологи, логопеды, обеспечивающие базисное развитие способностей  ребенка с ОВЗ,  и все равно поступление дошкольника с ОВЗ в школу является большим стрессом для ребенка. 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Начальная школа, используя опыт детского сада способствует дальнейшему его обучению и воспитанию. Школа – преемник дошкольной ступени, не строит свою работу с нуля, а подхватывает умение дошкольника, организуя его обучение и воспитание.</a:t>
            </a:r>
            <a:br>
              <a:rPr sz="1300"/>
            </a:b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68320" y="146052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5000b"/>
                </a:solidFill>
                <a:latin typeface="Times New Roman"/>
              </a:rPr>
              <a:t>Цель преемственности:</a:t>
            </a:r>
            <a:br>
              <a:rPr sz="26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объединение усилий педагогического коллектива для снижения дезадаптации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у школьников с ОВЗ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повышение их эмоционального благополучия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сохранения здоровья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 дальнейшая коррекция недостатков развития.</a:t>
            </a:r>
            <a:br>
              <a:rPr sz="1600"/>
            </a:b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18:35:41Z</dcterms:created>
  <dc:creator>Dimmi</dc:creator>
  <dc:description/>
  <dc:language>en-US</dc:language>
  <cp:lastModifiedBy>Dimmi</cp:lastModifiedBy>
  <dcterms:modified xsi:type="dcterms:W3CDTF">2018-07-06T21:08:19Z</dcterms:modified>
  <cp:revision>20</cp:revision>
  <dc:subject/>
  <dc:title>Преемственность в инклюзии: от ранней помощи до школы.</dc:title>
</cp:coreProperties>
</file>