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7B5A-0F81-41ED-ABBE-B88A5200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3373-117F-46B3-970F-3E4CF8EB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A67-A9C0-4C49-9580-A5B18F96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040D-5359-471C-B851-1DA5FF95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34C3-FF1B-4649-ACBA-0B6317ED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7206-36A2-4BAC-BA1A-46E04598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12D7-D729-4294-9504-ABCA3F67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234D-7B3D-4738-8982-8E27765B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0DCA-0161-48B8-8970-32544517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64F9-57A2-4401-8841-393A66F2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2311-4045-4426-A3F6-1094888B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D9E1-E1D6-43D2-AE9C-B2B1D21F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3FB4-E46E-4666-BE2D-7EA21DB34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 Велижская СОШ №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 Black"/>
              </a:rPr>
              <a:t>Решение задач на нахождение четвёртого пропорциональ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 Black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ла:Платонова Л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.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4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I:\маша с сачком.png"/>
          <p:cNvPicPr/>
          <p:nvPr/>
        </p:nvPicPr>
        <p:blipFill>
          <a:blip r:embed="rId1"/>
          <a:stretch/>
        </p:blipFill>
        <p:spPr>
          <a:xfrm>
            <a:off x="0" y="0"/>
            <a:ext cx="3645000" cy="3571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http://www.lenagold.ru/fon/clipart/tc/tcvet/kras/tcvet40.jpg"/>
          <p:cNvPicPr/>
          <p:nvPr/>
        </p:nvPicPr>
        <p:blipFill>
          <a:blip r:embed="rId2"/>
          <a:stretch/>
        </p:blipFill>
        <p:spPr>
          <a:xfrm>
            <a:off x="338040" y="4286160"/>
            <a:ext cx="2427480" cy="2571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http://www.lenagold.ru/fon/clipart/tc/tcvet/kras/tcvet40.jpg"/>
          <p:cNvPicPr/>
          <p:nvPr/>
        </p:nvPicPr>
        <p:blipFill>
          <a:blip r:embed="rId3"/>
          <a:stretch/>
        </p:blipFill>
        <p:spPr>
          <a:xfrm>
            <a:off x="1928880" y="3929040"/>
            <a:ext cx="2765520" cy="2928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http://www.lenagold.ru/fon/clipart/tc/tcvet/kras/tcvet40.jpg"/>
          <p:cNvPicPr/>
          <p:nvPr/>
        </p:nvPicPr>
        <p:blipFill>
          <a:blip r:embed="rId4"/>
          <a:stretch/>
        </p:blipFill>
        <p:spPr>
          <a:xfrm>
            <a:off x="4071960" y="3929040"/>
            <a:ext cx="2765520" cy="2928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http://www.lenagold.ru/fon/clipart/tc/tcvet/kras/tcvet40.jpg"/>
          <p:cNvPicPr/>
          <p:nvPr/>
        </p:nvPicPr>
        <p:blipFill>
          <a:blip r:embed="rId5"/>
          <a:stretch/>
        </p:blipFill>
        <p:spPr>
          <a:xfrm>
            <a:off x="6643800" y="4210200"/>
            <a:ext cx="2500200" cy="2647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http://www.lenagold.ru/fon/clipart/tc/tcvet/kras/tcvet48.jpg"/>
          <p:cNvPicPr/>
          <p:nvPr/>
        </p:nvPicPr>
        <p:blipFill>
          <a:blip r:embed="rId6"/>
          <a:stretch/>
        </p:blipFill>
        <p:spPr>
          <a:xfrm>
            <a:off x="1357200" y="4446720"/>
            <a:ext cx="2278080" cy="2411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http://www.lenagold.ru/fon/clipart/tc/tcvet/kras/tcvet48.jpg"/>
          <p:cNvPicPr/>
          <p:nvPr/>
        </p:nvPicPr>
        <p:blipFill>
          <a:blip r:embed="rId7"/>
          <a:stretch/>
        </p:blipFill>
        <p:spPr>
          <a:xfrm>
            <a:off x="5418000" y="4357800"/>
            <a:ext cx="2360880" cy="2500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http://www.lenagold.ru/fon/clipart/tc/tcvet/kras/tcvet48.jpg"/>
          <p:cNvPicPr/>
          <p:nvPr/>
        </p:nvPicPr>
        <p:blipFill>
          <a:blip r:embed="rId8"/>
          <a:stretch/>
        </p:blipFill>
        <p:spPr>
          <a:xfrm>
            <a:off x="3203640" y="4357800"/>
            <a:ext cx="2360520" cy="2500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http://www.lenagold.ru/fon/clipart/b/bab/babochka187.jpg"/>
          <p:cNvPicPr/>
          <p:nvPr/>
        </p:nvPicPr>
        <p:blipFill>
          <a:blip r:embed="rId9"/>
          <a:stretch/>
        </p:blipFill>
        <p:spPr>
          <a:xfrm>
            <a:off x="4214880" y="3214800"/>
            <a:ext cx="1190520" cy="1071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http://www.lenagold.ru/fon/clipart/b/bab/babochka159.jpg"/>
          <p:cNvPicPr/>
          <p:nvPr/>
        </p:nvPicPr>
        <p:blipFill>
          <a:blip r:embed="rId10"/>
          <a:stretch/>
        </p:blipFill>
        <p:spPr>
          <a:xfrm rot="2950800">
            <a:off x="569160" y="3211560"/>
            <a:ext cx="1270080" cy="1143000"/>
          </a:xfrm>
          <a:prstGeom prst="rect">
            <a:avLst/>
          </a:prstGeom>
          <a:ln w="0">
            <a:noFill/>
          </a:ln>
        </p:spPr>
      </p:pic>
      <p:sp>
        <p:nvSpPr>
          <p:cNvPr id="194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7572240" y="628668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9" h="21600">
                <a:moveTo>
                  <a:pt x="9198" y="3794"/>
                </a:moveTo>
                <a:lnTo>
                  <a:pt x="23211" y="10800"/>
                </a:lnTo>
                <a:lnTo>
                  <a:pt x="9198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Блок-схема: процесс 14"/>
          <p:cNvSpPr/>
          <p:nvPr/>
        </p:nvSpPr>
        <p:spPr>
          <a:xfrm>
            <a:off x="2928960" y="1143000"/>
            <a:ext cx="1566720" cy="6094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900 : 3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Блок-схема: узел 18"/>
          <p:cNvSpPr/>
          <p:nvPr/>
        </p:nvSpPr>
        <p:spPr>
          <a:xfrm>
            <a:off x="1928880" y="3581280"/>
            <a:ext cx="890640" cy="63360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Блок-схема: узел 19"/>
          <p:cNvSpPr/>
          <p:nvPr/>
        </p:nvSpPr>
        <p:spPr>
          <a:xfrm>
            <a:off x="4572000" y="2743200"/>
            <a:ext cx="838080" cy="57168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Блок-схема: узел 20"/>
          <p:cNvSpPr/>
          <p:nvPr/>
        </p:nvSpPr>
        <p:spPr>
          <a:xfrm>
            <a:off x="7572240" y="3124080"/>
            <a:ext cx="885960" cy="66204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Управляющая кнопка: справка 21">
            <a:hlinkClick r:id="" action="ppaction://hlinkshowjump?jump=lastslide"/>
          </p:cNvPr>
          <p:cNvSpPr/>
          <p:nvPr/>
        </p:nvSpPr>
        <p:spPr>
          <a:xfrm>
            <a:off x="8215200" y="628668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126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9" h="21600">
                <a:moveTo>
                  <a:pt x="13710" y="14281"/>
                </a:moveTo>
                <a:lnTo>
                  <a:pt x="13710" y="12323"/>
                </a:lnTo>
                <a:cubicBezTo>
                  <a:pt x="13710" y="11496"/>
                  <a:pt x="14041" y="10800"/>
                  <a:pt x="14641" y="10800"/>
                </a:cubicBezTo>
                <a:cubicBezTo>
                  <a:pt x="15773" y="10800"/>
                  <a:pt x="16669" y="9434"/>
                  <a:pt x="16669" y="7849"/>
                </a:cubicBezTo>
                <a:cubicBezTo>
                  <a:pt x="16669" y="5534"/>
                  <a:pt x="14815" y="3794"/>
                  <a:pt x="12605" y="3794"/>
                </a:cubicBezTo>
                <a:cubicBezTo>
                  <a:pt x="10394" y="3794"/>
                  <a:pt x="8723" y="5534"/>
                  <a:pt x="8723" y="7849"/>
                </a:cubicBezTo>
                <a:lnTo>
                  <a:pt x="10577" y="7849"/>
                </a:lnTo>
                <a:cubicBezTo>
                  <a:pt x="10577" y="6709"/>
                  <a:pt x="11499" y="5821"/>
                  <a:pt x="12605" y="5821"/>
                </a:cubicBezTo>
                <a:cubicBezTo>
                  <a:pt x="13710" y="5821"/>
                  <a:pt x="14641" y="6709"/>
                  <a:pt x="14641" y="7849"/>
                </a:cubicBezTo>
                <a:cubicBezTo>
                  <a:pt x="14641" y="8589"/>
                  <a:pt x="14171" y="9320"/>
                  <a:pt x="13710" y="9320"/>
                </a:cubicBezTo>
                <a:cubicBezTo>
                  <a:pt x="12605" y="9320"/>
                  <a:pt x="11499" y="10800"/>
                  <a:pt x="11499" y="12323"/>
                </a:cubicBezTo>
                <a:lnTo>
                  <a:pt x="11499" y="1428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http://www.lenagold.ru/fon/clipart/b/bab/babochka179.jpg"/>
          <p:cNvPicPr/>
          <p:nvPr/>
        </p:nvPicPr>
        <p:blipFill>
          <a:blip r:embed="rId11"/>
          <a:stretch/>
        </p:blipFill>
        <p:spPr>
          <a:xfrm rot="15825000">
            <a:off x="6572880" y="3107520"/>
            <a:ext cx="1548000" cy="1393920"/>
          </a:xfrm>
          <a:prstGeom prst="rect">
            <a:avLst/>
          </a:prstGeom>
          <a:ln w="0">
            <a:noFill/>
          </a:ln>
        </p:spPr>
      </p:pic>
      <p:sp>
        <p:nvSpPr>
          <p:cNvPr id="201" name="Нижний колонтитул 2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edsovet.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7037E-007 C -0.00208 -0.01319 0.00069 -0.00139 -0.00469 -0.01111 C -0.00573 -0.01296 -0.0059 -0.0162 -0.00712 -0.01782 C -0.01719 -0.03171 -0.02344 -0.03218 -0.03368 -0.0419 C -0.03941 -0.04745 -0.04358 -0.05278 -0.05 -0.05532 C -0.07136 -0.07222 -0.09202 -0.09306 -0.11424 -0.10579 C -0.1217 -0.11551 -0.12986 -0.12847 -0.13872 -0.13264 C -0.14601 -0.14051 -0.15365 -0.14676 -0.16198 -0.15 C -0.17934 -0.16667 -0.19809 -0.18102 -0.21667 -0.19213 C -0.22292 -0.1956 -0.22934 -0.1956 -0.23542 -0.19838 C -0.24531 -0.21782 -0.2566 -0.20579 -0.26927 -0.21389 C -0.29653 -0.21319 -0.32361 -0.21296 -0.35087 -0.21157 C -0.36146 -0.21111 -0.37379 -0.20301 -0.38438 -0.20069 C -0.39479 -0.19583 -0.40365 -0.1956 -0.41493 -0.19421 C -0.43038 -0.18819 -0.44445 -0.1831 -0.46024 -0.18079 C -0.48767 -0.17176 -0.49271 -0.17732 -0.5349 -0.17894 C -0.53611 -0.17917 -0.5467 -0.18102 -0.54757 -0.1831 C -0.54913 -0.18657 -0.54844 -0.19236 -0.55 -0.1963 C -0.5507 -0.19815 -0.55243 -0.19815 -0.55347 -0.19838 C -0.55972 -0.20069 -0.56597 -0.20301 -0.57205 -0.20532 C -0.58056 -0.2169 -0.59149 -0.2162 -0.60122 -0.22292 C -0.62066 -0.23634 -0.64132 -0.24931 -0.66181 -0.25602 C -0.66632 -0.25764 -0.67726 -0.26458 -0.68056 -0.26458 C -0.68872 -0.26458 -0.69688 -0.26458 -0.70486 -0.26458 E">
                                      <p:cBhvr>
                                        <p:cTn id="193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.00023 C -0.00173 -0.01896 -0.00451 -0.03445 -0.01441 -0.04624 C -0.01597 -0.0511 -0.01631 -0.05757 -0.01909 -0.06081 C -0.02222 -0.06428 -0.02847 -0.07168 -0.02847 -0.07145 C -0.02934 -0.07445 -0.02968 -0.07746 -0.0309 -0.07908 C -0.03177 -0.08069 -0.03333 -0.08023 -0.03437 -0.08116 C -0.03871 -0.08578 -0.04201 -0.09341 -0.04635 -0.09757 C -0.04843 -0.09989 -0.05104 -0.09989 -0.05329 -0.10127 C -0.05711 -0.10728 -0.06006 -0.11006 -0.06527 -0.1126 C -0.07239 -0.12023 -0.07847 -0.12231 -0.08645 -0.1274 C -0.09184 -0.13064 -0.09444 -0.13457 -0.10052 -0.13619 C -0.10711 -0.14266 -0.11562 -0.14659 -0.12309 -0.1496 C -0.12777 -0.15399 -0.13177 -0.15399 -0.13715 -0.15653 C -0.15711 -0.16601 -0.17691 -0.17364 -0.19739 -0.1785 C -0.20295 -0.1815 -0.20972 -0.1815 -0.21493 -0.1859 C -0.22621 -0.19561 -0.21788 -0.19145 -0.22673 -0.19515 C -0.23437 -0.20278 -0.24548 -0.20463 -0.25399 -0.20786 C -0.2592 -0.20994 -0.26267 -0.21364 -0.26822 -0.21503 C -0.27378 -0.2185 -0.27899 -0.22035 -0.28472 -0.22289 C -0.29409 -0.2326 -0.30555 -0.23607 -0.31527 -0.24463 C -0.3276 -0.25572 -0.33958 -0.26752 -0.35208 -0.27769 C -0.35555 -0.28093 -0.35833 -0.28624 -0.36267 -0.28694 C -0.37187 -0.28833 -0.37291 -0.28833 -0.37899 -0.28833 E">
                                      <p:cBhvr>
                                        <p:cTn id="195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Содержимое 4" descr="img4.jpg (9138 bytes)"/>
          <p:cNvPicPr/>
          <p:nvPr/>
        </p:nvPicPr>
        <p:blipFill>
          <a:blip r:embed="rId1"/>
          <a:stretch/>
        </p:blipFill>
        <p:spPr>
          <a:xfrm>
            <a:off x="1042920" y="2421000"/>
            <a:ext cx="2521080" cy="302400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3635280" y="765000"/>
            <a:ext cx="4753080" cy="2265480"/>
          </a:xfrm>
          <a:prstGeom prst="cloudCallout">
            <a:avLst>
              <a:gd name="adj1" fmla="val -63694"/>
              <a:gd name="adj2" fmla="val 8805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Arial"/>
              </a:rPr>
              <a:t>Реши задач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дну столовую привез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одинаковых ящиков фрукт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в другую – 2 таких же ящ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го привезли 56 кг фру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килограммов фруктов        привезли в каждую столову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Не поня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Понял, могу реш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Понял, могу решить и могу объясн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Содержимое 4" descr="img4.jpg (9138 bytes)"/>
          <p:cNvPicPr/>
          <p:nvPr/>
        </p:nvPicPr>
        <p:blipFill>
          <a:blip r:embed="rId1"/>
          <a:stretch/>
        </p:blipFill>
        <p:spPr>
          <a:xfrm>
            <a:off x="6622920" y="3833640"/>
            <a:ext cx="2521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лен своей раб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волен своей раб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лся, но не всё получи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Улыбающееся лицо 5"/>
          <p:cNvSpPr/>
          <p:nvPr/>
        </p:nvSpPr>
        <p:spPr>
          <a:xfrm>
            <a:off x="1258920" y="177336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Улыбающееся лицо 6"/>
          <p:cNvSpPr/>
          <p:nvPr/>
        </p:nvSpPr>
        <p:spPr>
          <a:xfrm>
            <a:off x="1187280" y="3357720"/>
            <a:ext cx="914400" cy="914400"/>
          </a:xfrm>
          <a:prstGeom prst="smileyFace">
            <a:avLst>
              <a:gd name="adj" fmla="val -4652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Улыбающееся лицо 7"/>
          <p:cNvSpPr/>
          <p:nvPr/>
        </p:nvSpPr>
        <p:spPr>
          <a:xfrm>
            <a:off x="1258920" y="4797360"/>
            <a:ext cx="914400" cy="914400"/>
          </a:xfrm>
          <a:prstGeom prst="smileyFace">
            <a:avLst>
              <a:gd name="adj" fmla="val -1300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3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3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3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9000"/>
                            </p:stCondLst>
                            <p:childTnLst>
                              <p:par>
                                <p:cTn id="2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30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C:\Documents and Settings\Admin\Рабочий стол\Безымянный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49291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омоги Маше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оймать бабоч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42960" y="2642760"/>
            <a:ext cx="4286160" cy="19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7572240" y="628668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9" h="21600">
                <a:moveTo>
                  <a:pt x="9198" y="3794"/>
                </a:moveTo>
                <a:lnTo>
                  <a:pt x="23211" y="10800"/>
                </a:lnTo>
                <a:lnTo>
                  <a:pt x="919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Управляющая кнопка: справка 7">
            <a:hlinkClick r:id="" action="ppaction://hlinkshowjump?jump=lastslide"/>
          </p:cNvPr>
          <p:cNvSpPr/>
          <p:nvPr/>
        </p:nvSpPr>
        <p:spPr>
          <a:xfrm>
            <a:off x="8215200" y="628668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126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9" h="21600">
                <a:moveTo>
                  <a:pt x="13710" y="14281"/>
                </a:moveTo>
                <a:lnTo>
                  <a:pt x="13710" y="12323"/>
                </a:lnTo>
                <a:cubicBezTo>
                  <a:pt x="13710" y="11496"/>
                  <a:pt x="14041" y="10800"/>
                  <a:pt x="14641" y="10800"/>
                </a:cubicBezTo>
                <a:cubicBezTo>
                  <a:pt x="15773" y="10800"/>
                  <a:pt x="16669" y="9434"/>
                  <a:pt x="16669" y="7849"/>
                </a:cubicBezTo>
                <a:cubicBezTo>
                  <a:pt x="16669" y="5534"/>
                  <a:pt x="14815" y="3794"/>
                  <a:pt x="12605" y="3794"/>
                </a:cubicBezTo>
                <a:cubicBezTo>
                  <a:pt x="10394" y="3794"/>
                  <a:pt x="8723" y="5534"/>
                  <a:pt x="8723" y="7849"/>
                </a:cubicBezTo>
                <a:lnTo>
                  <a:pt x="10577" y="7849"/>
                </a:lnTo>
                <a:cubicBezTo>
                  <a:pt x="10577" y="6709"/>
                  <a:pt x="11499" y="5821"/>
                  <a:pt x="12605" y="5821"/>
                </a:cubicBezTo>
                <a:cubicBezTo>
                  <a:pt x="13710" y="5821"/>
                  <a:pt x="14641" y="6709"/>
                  <a:pt x="14641" y="7849"/>
                </a:cubicBezTo>
                <a:cubicBezTo>
                  <a:pt x="14641" y="8589"/>
                  <a:pt x="14171" y="9320"/>
                  <a:pt x="13710" y="9320"/>
                </a:cubicBezTo>
                <a:cubicBezTo>
                  <a:pt x="12605" y="9320"/>
                  <a:pt x="11499" y="10800"/>
                  <a:pt x="11499" y="12323"/>
                </a:cubicBezTo>
                <a:lnTo>
                  <a:pt x="11499" y="1428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Группа 15"/>
          <p:cNvGrpSpPr/>
          <p:nvPr/>
        </p:nvGrpSpPr>
        <p:grpSpPr>
          <a:xfrm>
            <a:off x="228600" y="228600"/>
            <a:ext cx="3714840" cy="3000240"/>
            <a:chOff x="228600" y="228600"/>
            <a:chExt cx="3714840" cy="3000240"/>
          </a:xfrm>
        </p:grpSpPr>
        <p:pic>
          <p:nvPicPr>
            <p:cNvPr id="50" name="Picture 2" descr="I:\маша с сачком.png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3062160" cy="30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Блок-схема: процесс 14"/>
            <p:cNvSpPr/>
            <p:nvPr/>
          </p:nvSpPr>
          <p:spPr>
            <a:xfrm>
              <a:off x="2943360" y="1157040"/>
              <a:ext cx="1000080" cy="642960"/>
            </a:xfrm>
            <a:prstGeom prst="flowChartProcess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6 Х 50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857480" y="571320"/>
            <a:ext cx="4143240" cy="20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http://www.lenagold.ru/fon/clipart/tc/tcvet/kras/tcvet40.jpg"/>
          <p:cNvPicPr/>
          <p:nvPr/>
        </p:nvPicPr>
        <p:blipFill>
          <a:blip r:embed="rId2"/>
          <a:stretch/>
        </p:blipFill>
        <p:spPr>
          <a:xfrm>
            <a:off x="285840" y="4232160"/>
            <a:ext cx="2479680" cy="2625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http://www.lenagold.ru/fon/clipart/tc/tcvet/kras/tcvet40.jpg"/>
          <p:cNvPicPr/>
          <p:nvPr/>
        </p:nvPicPr>
        <p:blipFill>
          <a:blip r:embed="rId3"/>
          <a:stretch/>
        </p:blipFill>
        <p:spPr>
          <a:xfrm>
            <a:off x="1928880" y="3929040"/>
            <a:ext cx="2765520" cy="2928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http://www.lenagold.ru/fon/clipart/tc/tcvet/kras/tcvet40.jpg"/>
          <p:cNvPicPr/>
          <p:nvPr/>
        </p:nvPicPr>
        <p:blipFill>
          <a:blip r:embed="rId4"/>
          <a:stretch/>
        </p:blipFill>
        <p:spPr>
          <a:xfrm>
            <a:off x="4429080" y="4307040"/>
            <a:ext cx="2408400" cy="2550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http://www.lenagold.ru/fon/clipart/tc/tcvet/kras/tcvet40.jpg"/>
          <p:cNvPicPr/>
          <p:nvPr/>
        </p:nvPicPr>
        <p:blipFill>
          <a:blip r:embed="rId5"/>
          <a:stretch/>
        </p:blipFill>
        <p:spPr>
          <a:xfrm>
            <a:off x="6643800" y="4210200"/>
            <a:ext cx="2500200" cy="2647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http://www.lenagold.ru/fon/clipart/tc/tcvet/kras/tcvet48.jpg"/>
          <p:cNvPicPr/>
          <p:nvPr/>
        </p:nvPicPr>
        <p:blipFill>
          <a:blip r:embed="rId6"/>
          <a:stretch/>
        </p:blipFill>
        <p:spPr>
          <a:xfrm>
            <a:off x="1071720" y="4143240"/>
            <a:ext cx="2563560" cy="2714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http://www.lenagold.ru/fon/clipart/tc/tcvet/kras/tcvet48.jpg"/>
          <p:cNvPicPr/>
          <p:nvPr/>
        </p:nvPicPr>
        <p:blipFill>
          <a:blip r:embed="rId7"/>
          <a:stretch/>
        </p:blipFill>
        <p:spPr>
          <a:xfrm>
            <a:off x="5418000" y="4357800"/>
            <a:ext cx="2360880" cy="250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http://www.lenagold.ru/fon/clipart/tc/tcvet/kras/tcvet48.jpg"/>
          <p:cNvPicPr/>
          <p:nvPr/>
        </p:nvPicPr>
        <p:blipFill>
          <a:blip r:embed="rId8"/>
          <a:stretch/>
        </p:blipFill>
        <p:spPr>
          <a:xfrm>
            <a:off x="3286080" y="4446720"/>
            <a:ext cx="2278080" cy="2411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www.lenagold.ru/fon/clipart/b/bab/babochka146.jpg"/>
          <p:cNvPicPr/>
          <p:nvPr/>
        </p:nvPicPr>
        <p:blipFill>
          <a:blip r:embed="rId9"/>
          <a:stretch/>
        </p:blipFill>
        <p:spPr>
          <a:xfrm rot="20761200">
            <a:off x="770040" y="3639600"/>
            <a:ext cx="1326960" cy="119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http://www.lenagold.ru/fon/clipart/b/bab/babochka105.jpg"/>
          <p:cNvPicPr/>
          <p:nvPr/>
        </p:nvPicPr>
        <p:blipFill>
          <a:blip r:embed="rId10"/>
          <a:stretch/>
        </p:blipFill>
        <p:spPr>
          <a:xfrm rot="4015800">
            <a:off x="3357360" y="3767040"/>
            <a:ext cx="1714320" cy="1114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www.lenagold.ru/fon/clipart/b/bab/babochka134.gif"/>
          <p:cNvPicPr/>
          <p:nvPr/>
        </p:nvPicPr>
        <p:blipFill>
          <a:blip r:embed="rId11"/>
          <a:stretch/>
        </p:blipFill>
        <p:spPr>
          <a:xfrm>
            <a:off x="7215120" y="3736800"/>
            <a:ext cx="1405080" cy="1082880"/>
          </a:xfrm>
          <a:prstGeom prst="rect">
            <a:avLst/>
          </a:prstGeom>
          <a:ln w="0">
            <a:noFill/>
          </a:ln>
        </p:spPr>
      </p:pic>
      <p:sp>
        <p:nvSpPr>
          <p:cNvPr id="63" name="Блок-схема: узел 16"/>
          <p:cNvSpPr/>
          <p:nvPr/>
        </p:nvSpPr>
        <p:spPr>
          <a:xfrm>
            <a:off x="2000160" y="3505320"/>
            <a:ext cx="895320" cy="56664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Блок-схема: узел 17"/>
          <p:cNvSpPr/>
          <p:nvPr/>
        </p:nvSpPr>
        <p:spPr>
          <a:xfrm>
            <a:off x="7500960" y="3048120"/>
            <a:ext cx="804960" cy="62388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Блок-схема: узел 18"/>
          <p:cNvSpPr/>
          <p:nvPr/>
        </p:nvSpPr>
        <p:spPr>
          <a:xfrm>
            <a:off x="4114800" y="3124080"/>
            <a:ext cx="762120" cy="57168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Управляющая кнопка: далее 19">
            <a:hlinkClick r:id="" action="ppaction://hlinkshowjump?jump=nextslide"/>
          </p:cNvPr>
          <p:cNvSpPr/>
          <p:nvPr/>
        </p:nvSpPr>
        <p:spPr>
          <a:xfrm>
            <a:off x="7572240" y="628668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9" h="21600">
                <a:moveTo>
                  <a:pt x="9198" y="3794"/>
                </a:moveTo>
                <a:lnTo>
                  <a:pt x="23211" y="10800"/>
                </a:lnTo>
                <a:lnTo>
                  <a:pt x="919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Управляющая кнопка: справка 20">
            <a:hlinkClick r:id="" action="ppaction://hlinkshowjump?jump=lastslide"/>
          </p:cNvPr>
          <p:cNvSpPr/>
          <p:nvPr/>
        </p:nvSpPr>
        <p:spPr>
          <a:xfrm>
            <a:off x="8215200" y="628668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126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9" h="21600">
                <a:moveTo>
                  <a:pt x="13710" y="14281"/>
                </a:moveTo>
                <a:lnTo>
                  <a:pt x="13710" y="12323"/>
                </a:lnTo>
                <a:cubicBezTo>
                  <a:pt x="13710" y="11496"/>
                  <a:pt x="14041" y="10800"/>
                  <a:pt x="14641" y="10800"/>
                </a:cubicBezTo>
                <a:cubicBezTo>
                  <a:pt x="15773" y="10800"/>
                  <a:pt x="16669" y="9434"/>
                  <a:pt x="16669" y="7849"/>
                </a:cubicBezTo>
                <a:cubicBezTo>
                  <a:pt x="16669" y="5534"/>
                  <a:pt x="14815" y="3794"/>
                  <a:pt x="12605" y="3794"/>
                </a:cubicBezTo>
                <a:cubicBezTo>
                  <a:pt x="10394" y="3794"/>
                  <a:pt x="8723" y="5534"/>
                  <a:pt x="8723" y="7849"/>
                </a:cubicBezTo>
                <a:lnTo>
                  <a:pt x="10577" y="7849"/>
                </a:lnTo>
                <a:cubicBezTo>
                  <a:pt x="10577" y="6709"/>
                  <a:pt x="11499" y="5821"/>
                  <a:pt x="12605" y="5821"/>
                </a:cubicBezTo>
                <a:cubicBezTo>
                  <a:pt x="13710" y="5821"/>
                  <a:pt x="14641" y="6709"/>
                  <a:pt x="14641" y="7849"/>
                </a:cubicBezTo>
                <a:cubicBezTo>
                  <a:pt x="14641" y="8589"/>
                  <a:pt x="14171" y="9320"/>
                  <a:pt x="13710" y="9320"/>
                </a:cubicBezTo>
                <a:cubicBezTo>
                  <a:pt x="12605" y="9320"/>
                  <a:pt x="11499" y="10800"/>
                  <a:pt x="11499" y="12323"/>
                </a:cubicBezTo>
                <a:lnTo>
                  <a:pt x="11499" y="1428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dsovet.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04046E-006 C -0.00712 -0.02913 -0.01458 -0.0578 -0.01979 -0.0874 C -0.025 -0.11769 -0.02882 -0.14867 -0.03698 -0.1778 C -0.03837 -0.22474 -0.0375 -0.23514 -0.04653 -0.27075 C -0.04826 -0.27722 -0.05 -0.28416 -0.05139 -0.29087 C -0.05312 -0.29965 -0.05608 -0.31722 -0.05608 -0.31653 C -0.05833 -0.34728 -0.05833 -0.33665 -0.05833 -0.34867 E">
                                      <p:cBhvr>
                                        <p:cTn id="1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49 -0.03102 C 0.04687 -0.03402 0.05243 -0.03495 0.05816 -0.03727 C 0.06944 -0.04166 0.06302 -0.04004 0.07361 -0.04699 C 0.07865 -0.05023 0.08507 -0.05231 0.09028 -0.05486 C 0.09653 -0.06088 0.10052 -0.0618 0.10746 -0.06435 C 0.12083 -0.07777 0.13681 -0.0868 0.15052 -0.09977 C 0.15903 -0.10764 0.16632 -0.11759 0.17361 -0.12685 C 0.17986 -0.13518 0.18524 -0.13958 0.19184 -0.14629 C 0.19531 -0.14977 0.20278 -0.15625 0.20278 -0.15602 C 0.20243 -0.15416 0.20121 -0.14861 0.20121 -0.15046 C 0.20121 -0.15301 0.20156 -0.15578 0.20278 -0.1581 C 0.20365 -0.15995 0.20573 -0.16041 0.20729 -0.16227 C 0.2092 -0.16574 0.2099 -0.1699 0.21198 -0.17361 C 0.21736 -0.18356 0.21875 -0.17592 0.22274 -0.19143 C 0.22552 -0.20208 0.2276 -0.21227 0.23038 -0.22268 C 0.2309 -0.22523 0.23125 -0.22754 0.23194 -0.23032 C 0.23281 -0.23426 0.23403 -0.23796 0.23507 -0.24166 C 0.23559 -0.24375 0.23663 -0.24768 0.23663 -0.24768 C 0.23472 -0.27129 0.23316 -0.29305 0.23507 -0.3162 C 0.23663 -0.33564 0.23142 -0.33541 0.23837 -0.33541 E">
                                      <p:cBhvr>
                                        <p:cTn id="1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:\маша с сачком.png"/>
          <p:cNvPicPr/>
          <p:nvPr/>
        </p:nvPicPr>
        <p:blipFill>
          <a:blip r:embed="rId1"/>
          <a:stretch/>
        </p:blipFill>
        <p:spPr>
          <a:xfrm>
            <a:off x="214200" y="214200"/>
            <a:ext cx="3500640" cy="3429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43280" y="213840"/>
            <a:ext cx="432936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http://www.lenagold.ru/fon/clipart/tc/tcvet/kras/tcvet40.jpg"/>
          <p:cNvPicPr/>
          <p:nvPr/>
        </p:nvPicPr>
        <p:blipFill>
          <a:blip r:embed="rId2"/>
          <a:stretch/>
        </p:blipFill>
        <p:spPr>
          <a:xfrm>
            <a:off x="0" y="4135320"/>
            <a:ext cx="2571840" cy="2722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www.lenagold.ru/fon/clipart/tc/tcvet/kras/tcvet40.jpg"/>
          <p:cNvPicPr/>
          <p:nvPr/>
        </p:nvPicPr>
        <p:blipFill>
          <a:blip r:embed="rId3"/>
          <a:stretch/>
        </p:blipFill>
        <p:spPr>
          <a:xfrm>
            <a:off x="1928880" y="4135320"/>
            <a:ext cx="2571840" cy="272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http://www.lenagold.ru/fon/clipart/tc/tcvet/kras/tcvet40.jpg"/>
          <p:cNvPicPr/>
          <p:nvPr/>
        </p:nvPicPr>
        <p:blipFill>
          <a:blip r:embed="rId4"/>
          <a:stretch/>
        </p:blipFill>
        <p:spPr>
          <a:xfrm>
            <a:off x="4071960" y="4135320"/>
            <a:ext cx="2571840" cy="2722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ttp://www.lenagold.ru/fon/clipart/tc/tcvet/kras/tcvet40.jpg"/>
          <p:cNvPicPr/>
          <p:nvPr/>
        </p:nvPicPr>
        <p:blipFill>
          <a:blip r:embed="rId5"/>
          <a:stretch/>
        </p:blipFill>
        <p:spPr>
          <a:xfrm>
            <a:off x="6378480" y="4143240"/>
            <a:ext cx="2562480" cy="271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http://www.lenagold.ru/fon/clipart/tc/tcvet/kras/tcvet48.jpg"/>
          <p:cNvPicPr/>
          <p:nvPr/>
        </p:nvPicPr>
        <p:blipFill>
          <a:blip r:embed="rId6"/>
          <a:stretch/>
        </p:blipFill>
        <p:spPr>
          <a:xfrm>
            <a:off x="1143000" y="4219560"/>
            <a:ext cx="2492280" cy="2638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http://www.lenagold.ru/fon/clipart/tc/tcvet/kras/tcvet48.jpg"/>
          <p:cNvPicPr/>
          <p:nvPr/>
        </p:nvPicPr>
        <p:blipFill>
          <a:blip r:embed="rId7"/>
          <a:stretch/>
        </p:blipFill>
        <p:spPr>
          <a:xfrm>
            <a:off x="5429160" y="4370400"/>
            <a:ext cx="2349720" cy="2487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http://www.lenagold.ru/fon/clipart/tc/tcvet/kras/tcvet48.jpg"/>
          <p:cNvPicPr/>
          <p:nvPr/>
        </p:nvPicPr>
        <p:blipFill>
          <a:blip r:embed="rId8"/>
          <a:stretch/>
        </p:blipFill>
        <p:spPr>
          <a:xfrm>
            <a:off x="3203640" y="4357800"/>
            <a:ext cx="2360520" cy="2500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http://www.lenagold.ru/fon/clipart/b/bab/babochka256.jpg"/>
          <p:cNvPicPr/>
          <p:nvPr/>
        </p:nvPicPr>
        <p:blipFill>
          <a:blip r:embed="rId9"/>
          <a:stretch/>
        </p:blipFill>
        <p:spPr>
          <a:xfrm rot="19134000">
            <a:off x="6835320" y="3241800"/>
            <a:ext cx="1111320" cy="1000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http://www.lenagold.ru/fon/clipart/b/bab/babochka82.jpg"/>
          <p:cNvPicPr/>
          <p:nvPr/>
        </p:nvPicPr>
        <p:blipFill>
          <a:blip r:embed="rId10"/>
          <a:stretch/>
        </p:blipFill>
        <p:spPr>
          <a:xfrm rot="17391000">
            <a:off x="4097520" y="3273120"/>
            <a:ext cx="1904760" cy="1238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www.lenagold.ru/fon/clipart/b/bab/babochka91.jpg"/>
          <p:cNvPicPr/>
          <p:nvPr/>
        </p:nvPicPr>
        <p:blipFill>
          <a:blip r:embed="rId11"/>
          <a:stretch/>
        </p:blipFill>
        <p:spPr>
          <a:xfrm rot="13285200">
            <a:off x="142920" y="3071880"/>
            <a:ext cx="1905120" cy="1714320"/>
          </a:xfrm>
          <a:prstGeom prst="rect">
            <a:avLst/>
          </a:prstGeom>
          <a:ln w="0">
            <a:noFill/>
          </a:ln>
        </p:spPr>
      </p:pic>
      <p:sp>
        <p:nvSpPr>
          <p:cNvPr id="81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7572240" y="628668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9" h="21600">
                <a:moveTo>
                  <a:pt x="9198" y="3794"/>
                </a:moveTo>
                <a:lnTo>
                  <a:pt x="23211" y="10800"/>
                </a:lnTo>
                <a:lnTo>
                  <a:pt x="9198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Управляющая кнопка: справка 18">
            <a:hlinkClick r:id="" action="ppaction://hlinkshowjump?jump=lastslide"/>
          </p:cNvPr>
          <p:cNvSpPr/>
          <p:nvPr/>
        </p:nvSpPr>
        <p:spPr>
          <a:xfrm>
            <a:off x="8215200" y="628668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126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9" h="21600">
                <a:moveTo>
                  <a:pt x="13710" y="14281"/>
                </a:moveTo>
                <a:lnTo>
                  <a:pt x="13710" y="12323"/>
                </a:lnTo>
                <a:cubicBezTo>
                  <a:pt x="13710" y="11496"/>
                  <a:pt x="14041" y="10800"/>
                  <a:pt x="14641" y="10800"/>
                </a:cubicBezTo>
                <a:cubicBezTo>
                  <a:pt x="15773" y="10800"/>
                  <a:pt x="16669" y="9434"/>
                  <a:pt x="16669" y="7849"/>
                </a:cubicBezTo>
                <a:cubicBezTo>
                  <a:pt x="16669" y="5534"/>
                  <a:pt x="14815" y="3794"/>
                  <a:pt x="12605" y="3794"/>
                </a:cubicBezTo>
                <a:cubicBezTo>
                  <a:pt x="10394" y="3794"/>
                  <a:pt x="8723" y="5534"/>
                  <a:pt x="8723" y="7849"/>
                </a:cubicBezTo>
                <a:lnTo>
                  <a:pt x="10577" y="7849"/>
                </a:lnTo>
                <a:cubicBezTo>
                  <a:pt x="10577" y="6709"/>
                  <a:pt x="11499" y="5821"/>
                  <a:pt x="12605" y="5821"/>
                </a:cubicBezTo>
                <a:cubicBezTo>
                  <a:pt x="13710" y="5821"/>
                  <a:pt x="14641" y="6709"/>
                  <a:pt x="14641" y="7849"/>
                </a:cubicBezTo>
                <a:cubicBezTo>
                  <a:pt x="14641" y="8589"/>
                  <a:pt x="14171" y="9320"/>
                  <a:pt x="13710" y="9320"/>
                </a:cubicBezTo>
                <a:cubicBezTo>
                  <a:pt x="12605" y="9320"/>
                  <a:pt x="11499" y="10800"/>
                  <a:pt x="11499" y="12323"/>
                </a:cubicBezTo>
                <a:lnTo>
                  <a:pt x="11499" y="1428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Блок-схема: процесс 19"/>
          <p:cNvSpPr/>
          <p:nvPr/>
        </p:nvSpPr>
        <p:spPr>
          <a:xfrm>
            <a:off x="2971800" y="1143000"/>
            <a:ext cx="1523880" cy="76212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 Х 12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Блок-схема: узел 23"/>
          <p:cNvSpPr/>
          <p:nvPr/>
        </p:nvSpPr>
        <p:spPr>
          <a:xfrm>
            <a:off x="2214720" y="3657600"/>
            <a:ext cx="985680" cy="62856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Блок-схема: узел 25"/>
          <p:cNvSpPr/>
          <p:nvPr/>
        </p:nvSpPr>
        <p:spPr>
          <a:xfrm>
            <a:off x="3733920" y="3357720"/>
            <a:ext cx="795240" cy="52848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Блок-схема: узел 26"/>
          <p:cNvSpPr/>
          <p:nvPr/>
        </p:nvSpPr>
        <p:spPr>
          <a:xfrm>
            <a:off x="6400800" y="2928960"/>
            <a:ext cx="885960" cy="65232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dsovet.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23 -0.02338 C -0.06961 -0.02824 -0.07621 -0.02893 -0.08211 -0.03287 C -0.09166 -0.03935 -0.10191 -0.04375 -0.11093 -0.05185 C -0.1184 -0.05856 -0.1276 -0.06643 -0.13455 -0.07407 C -0.14548 -0.08611 -0.1375 -0.08217 -0.14531 -0.08518 C -0.15086 -0.09097 -0.15729 -0.09467 -0.16423 -0.09629 C -0.16805 -0.09977 -0.17205 -0.10162 -0.17621 -0.1044 C -0.17882 -0.11389 -0.18906 -0.11296 -0.19531 -0.11713 C -0.20503 -0.12361 -0.21406 -0.12778 -0.22395 -0.13287 C -0.23472 -0.13842 -0.24461 -0.14606 -0.2559 -0.15046 C -0.26354 -0.15347 -0.27118 -0.15509 -0.27864 -0.15833 C -0.27986 -0.16157 -0.27951 -0.16713 -0.28211 -0.16782 C -0.28559 -0.16875 -0.28819 -0.16273 -0.29166 -0.16157 C -0.29496 -0.16041 -0.3026 -0.16504 -0.30607 -0.1662 C -0.31163 -0.17106 -0.3177 -0.17129 -0.32378 -0.17407 C -0.33055 -0.17708 -0.33593 -0.18264 -0.34288 -0.18518 C -0.35104 -0.18426 -0.35885 -0.18356 -0.36666 -0.18055 C -0.36961 -0.1794 -0.37205 -0.17592 -0.375 -0.17569 C -0.39809 -0.17407 -0.421 -0.17454 -0.44409 -0.17407 C -0.45486 -0.17153 -0.46545 -0.17083 -0.47621 -0.16782 C -0.48159 -0.16296 -0.48802 -0.16204 -0.49427 -0.15995 C -0.49895 -0.15648 -0.50347 -0.15416 -0.50833 -0.15046 C -0.52378 -0.15092 -0.53923 -0.15046 -0.55468 -0.15185 C -0.55607 -0.15208 -0.55694 -0.1544 -0.55833 -0.15509 C -0.56632 -0.15879 -0.57621 -0.16134 -0.58455 -0.16296 C -0.58889 -0.16504 -0.59236 -0.16829 -0.59635 -0.17106 C -0.60399 -0.17616 -0.59739 -0.1662 -0.60955 -0.17893 C -0.61562 -0.18518 -0.61232 -0.18333 -0.61909 -0.18518 C -0.62534 -0.19074 -0.63159 -0.19467 -0.63802 -0.19954 C -0.64323 -0.20347 -0.65364 -0.21666 -0.65955 -0.21852 C -0.66302 -0.21967 -0.66666 -0.21967 -0.67031 -0.22014 C -0.67847 -0.22384 -0.67569 -0.22083 -0.67968 -0.22662 E">
                                      <p:cBhvr>
                                        <p:cTn id="37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C -0.0118 -0.01273 -0.01996 -0.03426 -0.03316 -0.0419 C -0.03715 -0.04676 -0.04132 -0.05 -0.04462 -0.05555 C -0.04948 -0.06273 -0.05642 -0.07361 -0.0625 -0.07708 C -0.07014 -0.09028 -0.06632 -0.08727 -0.07291 -0.09097 C -0.07639 -0.10023 -0.08385 -0.1044 -0.09028 -0.10648 C -0.09149 -0.1081 -0.09288 -0.10879 -0.09392 -0.11065 C -0.09496 -0.1125 -0.09514 -0.11481 -0.09635 -0.11643 C -0.10312 -0.12453 -0.10712 -0.12384 -0.11389 -0.12824 C -0.11962 -0.13171 -0.12274 -0.13611 -0.12899 -0.13819 C -0.13524 -0.14514 -0.14618 -0.15254 -0.15364 -0.15578 C -0.15833 -0.16134 -0.16545 -0.16852 -0.17118 -0.17129 C -0.17621 -0.17708 -0.18142 -0.18148 -0.18628 -0.18727 C -0.18871 -0.19352 -0.19948 -0.20671 -0.20382 -0.20879 C -0.2092 -0.21828 -0.21788 -0.22083 -0.22482 -0.22639 C -0.22986 -0.23125 -0.23594 -0.23565 -0.24114 -0.24004 C -0.24357 -0.24259 -0.24531 -0.24699 -0.24809 -0.24838 C -0.26024 -0.2544 -0.27291 -0.2574 -0.28524 -0.2574 E">
                                      <p:cBhvr>
                                        <p:cTn id="39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14560" y="214200"/>
            <a:ext cx="43290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I:\маша с сачком.png"/>
          <p:cNvPicPr/>
          <p:nvPr/>
        </p:nvPicPr>
        <p:blipFill>
          <a:blip r:embed="rId1"/>
          <a:stretch/>
        </p:blipFill>
        <p:spPr>
          <a:xfrm>
            <a:off x="0" y="0"/>
            <a:ext cx="3790800" cy="3714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http://www.lenagold.ru/fon/clipart/tc/tcvet/kras/tcvet40.jpg"/>
          <p:cNvPicPr/>
          <p:nvPr/>
        </p:nvPicPr>
        <p:blipFill>
          <a:blip r:embed="rId2"/>
          <a:stretch/>
        </p:blipFill>
        <p:spPr>
          <a:xfrm>
            <a:off x="0" y="4059360"/>
            <a:ext cx="2643120" cy="2798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http://www.lenagold.ru/fon/clipart/tc/tcvet/kras/tcvet40.jpg"/>
          <p:cNvPicPr/>
          <p:nvPr/>
        </p:nvPicPr>
        <p:blipFill>
          <a:blip r:embed="rId3"/>
          <a:stretch/>
        </p:blipFill>
        <p:spPr>
          <a:xfrm>
            <a:off x="1928880" y="4135320"/>
            <a:ext cx="2571840" cy="2722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http://www.lenagold.ru/fon/clipart/tc/tcvet/kras/tcvet40.jpg"/>
          <p:cNvPicPr/>
          <p:nvPr/>
        </p:nvPicPr>
        <p:blipFill>
          <a:blip r:embed="rId4"/>
          <a:stretch/>
        </p:blipFill>
        <p:spPr>
          <a:xfrm>
            <a:off x="4071960" y="4059360"/>
            <a:ext cx="2643120" cy="2798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http://www.lenagold.ru/fon/clipart/tc/tcvet/kras/tcvet40.jpg"/>
          <p:cNvPicPr/>
          <p:nvPr/>
        </p:nvPicPr>
        <p:blipFill>
          <a:blip r:embed="rId5"/>
          <a:stretch/>
        </p:blipFill>
        <p:spPr>
          <a:xfrm>
            <a:off x="6378480" y="4079880"/>
            <a:ext cx="2622600" cy="2778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http://www.lenagold.ru/fon/clipart/tc/tcvet/kras/tcvet48.jpg"/>
          <p:cNvPicPr/>
          <p:nvPr/>
        </p:nvPicPr>
        <p:blipFill>
          <a:blip r:embed="rId6"/>
          <a:stretch/>
        </p:blipFill>
        <p:spPr>
          <a:xfrm>
            <a:off x="1071720" y="4362480"/>
            <a:ext cx="2357280" cy="2495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http://www.lenagold.ru/fon/clipart/tc/tcvet/kras/tcvet48.jpg"/>
          <p:cNvPicPr/>
          <p:nvPr/>
        </p:nvPicPr>
        <p:blipFill>
          <a:blip r:embed="rId7"/>
          <a:stretch/>
        </p:blipFill>
        <p:spPr>
          <a:xfrm>
            <a:off x="5214960" y="4362480"/>
            <a:ext cx="2357280" cy="2495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http://www.lenagold.ru/fon/clipart/tc/tcvet/kras/tcvet48.jpg"/>
          <p:cNvPicPr/>
          <p:nvPr/>
        </p:nvPicPr>
        <p:blipFill>
          <a:blip r:embed="rId8"/>
          <a:stretch/>
        </p:blipFill>
        <p:spPr>
          <a:xfrm>
            <a:off x="3000240" y="4362480"/>
            <a:ext cx="2357640" cy="2495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www.lenagold.ru/fon/clipart/b/bab/babochka161.jpg"/>
          <p:cNvPicPr/>
          <p:nvPr/>
        </p:nvPicPr>
        <p:blipFill>
          <a:blip r:embed="rId9"/>
          <a:stretch/>
        </p:blipFill>
        <p:spPr>
          <a:xfrm rot="14503200">
            <a:off x="3785760" y="3114360"/>
            <a:ext cx="1619280" cy="1457280"/>
          </a:xfrm>
          <a:prstGeom prst="rect">
            <a:avLst/>
          </a:prstGeom>
          <a:ln w="0">
            <a:noFill/>
          </a:ln>
        </p:spPr>
      </p:pic>
      <p:sp>
        <p:nvSpPr>
          <p:cNvPr id="98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7572240" y="628668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9" h="21600">
                <a:moveTo>
                  <a:pt x="9198" y="3794"/>
                </a:moveTo>
                <a:lnTo>
                  <a:pt x="23211" y="10800"/>
                </a:lnTo>
                <a:lnTo>
                  <a:pt x="9198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Управляющая кнопка: справка 18">
            <a:hlinkClick r:id="" action="ppaction://hlinkshowjump?jump=lastslide"/>
          </p:cNvPr>
          <p:cNvSpPr/>
          <p:nvPr/>
        </p:nvSpPr>
        <p:spPr>
          <a:xfrm>
            <a:off x="8215200" y="628668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126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9" h="21600">
                <a:moveTo>
                  <a:pt x="13710" y="14281"/>
                </a:moveTo>
                <a:lnTo>
                  <a:pt x="13710" y="12323"/>
                </a:lnTo>
                <a:cubicBezTo>
                  <a:pt x="13710" y="11496"/>
                  <a:pt x="14041" y="10800"/>
                  <a:pt x="14641" y="10800"/>
                </a:cubicBezTo>
                <a:cubicBezTo>
                  <a:pt x="15773" y="10800"/>
                  <a:pt x="16669" y="9434"/>
                  <a:pt x="16669" y="7849"/>
                </a:cubicBezTo>
                <a:cubicBezTo>
                  <a:pt x="16669" y="5534"/>
                  <a:pt x="14815" y="3794"/>
                  <a:pt x="12605" y="3794"/>
                </a:cubicBezTo>
                <a:cubicBezTo>
                  <a:pt x="10394" y="3794"/>
                  <a:pt x="8723" y="5534"/>
                  <a:pt x="8723" y="7849"/>
                </a:cubicBezTo>
                <a:lnTo>
                  <a:pt x="10577" y="7849"/>
                </a:lnTo>
                <a:cubicBezTo>
                  <a:pt x="10577" y="6709"/>
                  <a:pt x="11499" y="5821"/>
                  <a:pt x="12605" y="5821"/>
                </a:cubicBezTo>
                <a:cubicBezTo>
                  <a:pt x="13710" y="5821"/>
                  <a:pt x="14641" y="6709"/>
                  <a:pt x="14641" y="7849"/>
                </a:cubicBezTo>
                <a:cubicBezTo>
                  <a:pt x="14641" y="8589"/>
                  <a:pt x="14171" y="9320"/>
                  <a:pt x="13710" y="9320"/>
                </a:cubicBezTo>
                <a:cubicBezTo>
                  <a:pt x="12605" y="9320"/>
                  <a:pt x="11499" y="10800"/>
                  <a:pt x="11499" y="12323"/>
                </a:cubicBezTo>
                <a:lnTo>
                  <a:pt x="11499" y="1428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процесс 19"/>
          <p:cNvSpPr/>
          <p:nvPr/>
        </p:nvSpPr>
        <p:spPr>
          <a:xfrm>
            <a:off x="2928960" y="1143000"/>
            <a:ext cx="1000080" cy="6429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40 : 2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узел 20"/>
          <p:cNvSpPr/>
          <p:nvPr/>
        </p:nvSpPr>
        <p:spPr>
          <a:xfrm>
            <a:off x="1828800" y="3657600"/>
            <a:ext cx="809640" cy="62856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Блок-схема: узел 21"/>
          <p:cNvSpPr/>
          <p:nvPr/>
        </p:nvSpPr>
        <p:spPr>
          <a:xfrm>
            <a:off x="4857840" y="3124080"/>
            <a:ext cx="780840" cy="66204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Блок-схема: узел 22"/>
          <p:cNvSpPr/>
          <p:nvPr/>
        </p:nvSpPr>
        <p:spPr>
          <a:xfrm>
            <a:off x="6357960" y="2819520"/>
            <a:ext cx="880920" cy="68076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http://www.lenagold.ru/fon/clipart/b/bab/babochka57.gif"/>
          <p:cNvPicPr/>
          <p:nvPr/>
        </p:nvPicPr>
        <p:blipFill>
          <a:blip r:embed="rId10"/>
          <a:stretch/>
        </p:blipFill>
        <p:spPr>
          <a:xfrm rot="18445800">
            <a:off x="6775920" y="3196080"/>
            <a:ext cx="1400040" cy="1049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www.lenagold.ru/fon/clipart/b/bab/babochka96.jpg"/>
          <p:cNvPicPr/>
          <p:nvPr/>
        </p:nvPicPr>
        <p:blipFill>
          <a:blip r:embed="rId11"/>
          <a:stretch/>
        </p:blipFill>
        <p:spPr>
          <a:xfrm flipH="1" rot="1234200">
            <a:off x="215280" y="3411360"/>
            <a:ext cx="1587240" cy="140508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dsovet.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 C -0.01163 -0.01157 -0.02379 -0.03102 -0.03611 -0.03727 C -0.04306 -0.04468 -0.04965 -0.04977 -0.05781 -0.05278 C -0.06945 -0.06366 -0.08837 -0.06597 -0.10174 -0.06852 C -0.10764 -0.07153 -0.11406 -0.07037 -0.11962 -0.07431 C -0.12101 -0.07523 -0.11945 -0.07963 -0.12083 -0.08032 C -0.12778 -0.08287 -0.13542 -0.08171 -0.14271 -0.08218 C -0.15486 -0.08542 -0.16649 -0.09005 -0.17882 -0.0919 C -0.19462 -0.09815 -0.21129 -0.10278 -0.22761 -0.10556 C -0.23559 -0.1088 -0.24393 -0.11088 -0.25191 -0.11343 C -0.27136 -0.11227 -0.28507 -0.11019 -0.30313 -0.10764 C -0.31597 -0.10278 -0.32865 -0.10139 -0.34184 -0.09977 C -0.38663 -0.08194 -0.45 -0.09931 -0.49983 -0.10162 C -0.51059 -0.10394 -0.52101 -0.10856 -0.53195 -0.11134 C -0.54566 -0.11875 -0.56077 -0.12199 -0.57413 -0.12917 C -0.58316 -0.13356 -0.59063 -0.13843 -0.6 -0.14074 C -0.61024 -0.14769 -0.62222 -0.15509 -0.63333 -0.15833 C -0.63889 -0.16273 -0.64445 -0.16852 -0.65018 -0.17222 C -0.65747 -0.17708 -0.6658 -0.17894 -0.67327 -0.1838 C -0.69219 -0.19606 -0.67726 -0.18889 -0.68715 -0.19352 C -0.69271 -0.19884 -0.69653 -0.20463 -0.70278 -0.20718 C -0.71441 -0.21944 -0.69879 -0.20208 -0.7092 -0.21713 C -0.71233 -0.22176 -0.71615 -0.22616 -0.71927 -0.23079 E">
                                      <p:cBhvr>
                                        <p:cTn id="63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C -0.00503 -0.00949 -0.00764 -0.0169 -0.01441 -0.02292 C -0.01771 -0.02593 -0.02083 -0.02917 -0.02413 -0.03218 C -0.02569 -0.0338 -0.0283 -0.03612 -0.0283 -0.03588 C -0.03298 -0.04561 -0.03923 -0.04977 -0.04531 -0.05695 C -0.05486 -0.06806 -0.06458 -0.07593 -0.07482 -0.08542 C -0.08837 -0.09769 -0.09948 -0.11528 -0.11441 -0.125 C -0.12916 -0.14607 -0.10677 -0.11574 -0.12413 -0.13449 C -0.13785 -0.14908 -0.12725 -0.14399 -0.13663 -0.14769 C -0.14166 -0.15811 -0.14757 -0.16181 -0.15486 -0.16875 C -0.16198 -0.17524 -0.16753 -0.18519 -0.17465 -0.19144 C -0.17587 -0.19237 -0.17743 -0.19237 -0.17899 -0.19329 C -0.18055 -0.19445 -0.18194 -0.19584 -0.18316 -0.19723 C -0.18455 -0.19954 -0.18541 -0.20301 -0.18732 -0.20463 C -0.18889 -0.20625 -0.19132 -0.20556 -0.19305 -0.20649 C -0.20121 -0.21158 -0.2092 -0.21667 -0.21823 -0.21968 C -0.22864 -0.22917 -0.22812 -0.23264 -0.2408 -0.23519 C -0.2467 -0.23774 -0.24722 -0.24491 -0.25208 -0.24653 C -0.25538 -0.24699 -0.25868 -0.24653 -0.2618 -0.24653 E">
                                      <p:cBhvr>
                                        <p:cTn id="65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714560" y="285840"/>
            <a:ext cx="425772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I:\маша с сачком.png"/>
          <p:cNvPicPr/>
          <p:nvPr/>
        </p:nvPicPr>
        <p:blipFill>
          <a:blip r:embed="rId1"/>
          <a:stretch/>
        </p:blipFill>
        <p:spPr>
          <a:xfrm>
            <a:off x="0" y="0"/>
            <a:ext cx="3498840" cy="3429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http://www.lenagold.ru/fon/clipart/tc/tcvet/kras/tcvet40.jpg"/>
          <p:cNvPicPr/>
          <p:nvPr/>
        </p:nvPicPr>
        <p:blipFill>
          <a:blip r:embed="rId2"/>
          <a:stretch/>
        </p:blipFill>
        <p:spPr>
          <a:xfrm>
            <a:off x="338040" y="4286160"/>
            <a:ext cx="2427480" cy="2571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http://www.lenagold.ru/fon/clipart/tc/tcvet/kras/tcvet40.jpg"/>
          <p:cNvPicPr/>
          <p:nvPr/>
        </p:nvPicPr>
        <p:blipFill>
          <a:blip r:embed="rId3"/>
          <a:stretch/>
        </p:blipFill>
        <p:spPr>
          <a:xfrm>
            <a:off x="1928880" y="3929040"/>
            <a:ext cx="2765520" cy="2928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http://www.lenagold.ru/fon/clipart/tc/tcvet/kras/tcvet40.jpg"/>
          <p:cNvPicPr/>
          <p:nvPr/>
        </p:nvPicPr>
        <p:blipFill>
          <a:blip r:embed="rId4"/>
          <a:stretch/>
        </p:blipFill>
        <p:spPr>
          <a:xfrm>
            <a:off x="4071960" y="3929040"/>
            <a:ext cx="2765520" cy="2928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http://www.lenagold.ru/fon/clipart/tc/tcvet/kras/tcvet40.jpg"/>
          <p:cNvPicPr/>
          <p:nvPr/>
        </p:nvPicPr>
        <p:blipFill>
          <a:blip r:embed="rId5"/>
          <a:stretch/>
        </p:blipFill>
        <p:spPr>
          <a:xfrm>
            <a:off x="6643800" y="4210200"/>
            <a:ext cx="2500200" cy="2647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http://www.lenagold.ru/fon/clipart/tc/tcvet/kras/tcvet48.jpg"/>
          <p:cNvPicPr/>
          <p:nvPr/>
        </p:nvPicPr>
        <p:blipFill>
          <a:blip r:embed="rId6"/>
          <a:stretch/>
        </p:blipFill>
        <p:spPr>
          <a:xfrm>
            <a:off x="1357200" y="4446720"/>
            <a:ext cx="2278080" cy="2411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http://www.lenagold.ru/fon/clipart/tc/tcvet/kras/tcvet48.jpg"/>
          <p:cNvPicPr/>
          <p:nvPr/>
        </p:nvPicPr>
        <p:blipFill>
          <a:blip r:embed="rId7"/>
          <a:stretch/>
        </p:blipFill>
        <p:spPr>
          <a:xfrm>
            <a:off x="5418000" y="4357800"/>
            <a:ext cx="2360880" cy="2500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http://www.lenagold.ru/fon/clipart/tc/tcvet/kras/tcvet48.jpg"/>
          <p:cNvPicPr/>
          <p:nvPr/>
        </p:nvPicPr>
        <p:blipFill>
          <a:blip r:embed="rId8"/>
          <a:stretch/>
        </p:blipFill>
        <p:spPr>
          <a:xfrm>
            <a:off x="3203640" y="4357800"/>
            <a:ext cx="2360520" cy="250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ttp://www.lenagold.ru/fon/clipart/b/bab/babochka168.jpg"/>
          <p:cNvPicPr/>
          <p:nvPr/>
        </p:nvPicPr>
        <p:blipFill>
          <a:blip r:embed="rId9"/>
          <a:stretch/>
        </p:blipFill>
        <p:spPr>
          <a:xfrm rot="18685800">
            <a:off x="6350760" y="3239280"/>
            <a:ext cx="1714320" cy="1284120"/>
          </a:xfrm>
          <a:prstGeom prst="rect">
            <a:avLst/>
          </a:prstGeom>
          <a:ln w="0">
            <a:noFill/>
          </a:ln>
        </p:spPr>
      </p:pic>
      <p:sp>
        <p:nvSpPr>
          <p:cNvPr id="117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7572240" y="628668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9" h="21600">
                <a:moveTo>
                  <a:pt x="9198" y="3794"/>
                </a:moveTo>
                <a:lnTo>
                  <a:pt x="23211" y="10800"/>
                </a:lnTo>
                <a:lnTo>
                  <a:pt x="9198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Управляющая кнопка: справка 18">
            <a:hlinkClick r:id="" action="ppaction://hlinkshowjump?jump=lastslide"/>
          </p:cNvPr>
          <p:cNvSpPr/>
          <p:nvPr/>
        </p:nvSpPr>
        <p:spPr>
          <a:xfrm>
            <a:off x="8215200" y="628668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126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9" h="21600">
                <a:moveTo>
                  <a:pt x="13710" y="14281"/>
                </a:moveTo>
                <a:lnTo>
                  <a:pt x="13710" y="12323"/>
                </a:lnTo>
                <a:cubicBezTo>
                  <a:pt x="13710" y="11496"/>
                  <a:pt x="14041" y="10800"/>
                  <a:pt x="14641" y="10800"/>
                </a:cubicBezTo>
                <a:cubicBezTo>
                  <a:pt x="15773" y="10800"/>
                  <a:pt x="16669" y="9434"/>
                  <a:pt x="16669" y="7849"/>
                </a:cubicBezTo>
                <a:cubicBezTo>
                  <a:pt x="16669" y="5534"/>
                  <a:pt x="14815" y="3794"/>
                  <a:pt x="12605" y="3794"/>
                </a:cubicBezTo>
                <a:cubicBezTo>
                  <a:pt x="10394" y="3794"/>
                  <a:pt x="8723" y="5534"/>
                  <a:pt x="8723" y="7849"/>
                </a:cubicBezTo>
                <a:lnTo>
                  <a:pt x="10577" y="7849"/>
                </a:lnTo>
                <a:cubicBezTo>
                  <a:pt x="10577" y="6709"/>
                  <a:pt x="11499" y="5821"/>
                  <a:pt x="12605" y="5821"/>
                </a:cubicBezTo>
                <a:cubicBezTo>
                  <a:pt x="13710" y="5821"/>
                  <a:pt x="14641" y="6709"/>
                  <a:pt x="14641" y="7849"/>
                </a:cubicBezTo>
                <a:cubicBezTo>
                  <a:pt x="14641" y="8589"/>
                  <a:pt x="14171" y="9320"/>
                  <a:pt x="13710" y="9320"/>
                </a:cubicBezTo>
                <a:cubicBezTo>
                  <a:pt x="12605" y="9320"/>
                  <a:pt x="11499" y="10800"/>
                  <a:pt x="11499" y="12323"/>
                </a:cubicBezTo>
                <a:lnTo>
                  <a:pt x="11499" y="1428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Блок-схема: процесс 19"/>
          <p:cNvSpPr/>
          <p:nvPr/>
        </p:nvSpPr>
        <p:spPr>
          <a:xfrm>
            <a:off x="2971800" y="1066680"/>
            <a:ext cx="1371600" cy="719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80  : 2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Блок-схема: узел 20"/>
          <p:cNvSpPr/>
          <p:nvPr/>
        </p:nvSpPr>
        <p:spPr>
          <a:xfrm>
            <a:off x="1428840" y="3429000"/>
            <a:ext cx="857160" cy="64296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Блок-схема: узел 21"/>
          <p:cNvSpPr/>
          <p:nvPr/>
        </p:nvSpPr>
        <p:spPr>
          <a:xfrm>
            <a:off x="3352680" y="3276720"/>
            <a:ext cx="909720" cy="65232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Блок-схема: узел 22"/>
          <p:cNvSpPr/>
          <p:nvPr/>
        </p:nvSpPr>
        <p:spPr>
          <a:xfrm>
            <a:off x="7000920" y="2819520"/>
            <a:ext cx="923760" cy="68076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http://www.lenagold.ru/fon/clipart/b/bab/babochka258.jpg"/>
          <p:cNvPicPr/>
          <p:nvPr/>
        </p:nvPicPr>
        <p:blipFill>
          <a:blip r:embed="rId10"/>
          <a:stretch/>
        </p:blipFill>
        <p:spPr>
          <a:xfrm rot="18408000">
            <a:off x="4076640" y="3390480"/>
            <a:ext cx="1143000" cy="1219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http://www.lenagold.ru/fon/clipart/b/bab/babochka261.jpg"/>
          <p:cNvPicPr/>
          <p:nvPr/>
        </p:nvPicPr>
        <p:blipFill>
          <a:blip r:embed="rId11"/>
          <a:stretch/>
        </p:blipFill>
        <p:spPr>
          <a:xfrm rot="2266200">
            <a:off x="431640" y="3627000"/>
            <a:ext cx="1270080" cy="1143000"/>
          </a:xfrm>
          <a:prstGeom prst="rect">
            <a:avLst/>
          </a:prstGeom>
          <a:ln w="0">
            <a:noFill/>
          </a:ln>
        </p:spPr>
      </p:pic>
      <p:sp>
        <p:nvSpPr>
          <p:cNvPr id="125" name="Нижний колонтитул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edsovet.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17919E-006 C -0.00903 -0.0111 -0.01753 -0.01271 -0.02691 -0.01734 C -0.04062 -0.02381 -0.05434 -0.03167 -0.06823 -0.03699 C -0.07552 -0.04208 -0.08316 -0.043 -0.09062 -0.04508 C -0.12882 -0.06705 -0.18507 -0.05549 -0.21701 -0.05595 C -0.22587 -0.05988 -0.23351 -0.06705 -0.24219 -0.07306 C -0.24358 -0.07491 -0.24462 -0.07722 -0.24601 -0.07838 C -0.24792 -0.08 -0.25017 -0.07838 -0.25156 -0.08138 C -0.25295 -0.08485 -0.25174 -0.09086 -0.25278 -0.09503 C -0.25469 -0.10242 -0.26649 -0.11283 -0.26996 -0.11468 C -0.27378 -0.11977 -0.27795 -0.12485 -0.28212 -0.12832 C -0.28472 -0.13063 -0.2901 -0.13433 -0.2901 -0.13341 C -0.29427 -0.14011 -0.29705 -0.14682 -0.30191 -0.15121 C -0.30608 -0.15977 -0.31076 -0.16277 -0.3151 -0.17086 C -0.32118 -0.18104 -0.32726 -0.19237 -0.33385 -0.20115 C -0.33559 -0.21641 -0.34097 -0.2319 -0.34722 -0.24023 C -0.35399 -0.26312 -0.34462 -0.2363 -0.35365 -0.2511 C -0.35521 -0.25318 -0.35538 -0.25711 -0.35642 -0.25988 C -0.35764 -0.26242 -0.35903 -0.26358 -0.36042 -0.26497 C -0.36354 -0.27468 -0.36632 -0.27838 -0.37101 -0.28462 C -0.37552 -0.29849 -0.37795 -0.29202 -0.38264 -0.30057 E">
                                      <p:cBhvr>
                                        <p:cTn id="89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 C 0.00729 -0.0169 0.00417 -0.01019 0.0092 -0.0206 C 0.01059 -0.03194 0.01146 -0.03819 0.01458 -0.04838 C 0.01615 -0.06644 0.02014 -0.0794 0.02552 -0.09514 C 0.02917 -0.10556 0.03142 -0.11875 0.03646 -0.1287 C 0.0408 -0.1456 0.04201 -0.16944 0.05121 -0.18264 C 0.05278 -0.19398 0.05556 -0.20185 0.05833 -0.2125 C 0.0592 -0.23565 0.06076 -0.27593 0.07031 -0.2963 C 0.07257 -0.30741 0.07187 -0.30116 0.07187 -0.31481 E">
                                      <p:cBhvr>
                                        <p:cTn id="91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57840" y="3567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I:\маша с сачком.png"/>
          <p:cNvPicPr/>
          <p:nvPr/>
        </p:nvPicPr>
        <p:blipFill>
          <a:blip r:embed="rId1"/>
          <a:stretch/>
        </p:blipFill>
        <p:spPr>
          <a:xfrm>
            <a:off x="0" y="0"/>
            <a:ext cx="3790800" cy="3714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http://www.lenagold.ru/fon/clipart/tc/tcvet/kras/tcvet40.jpg"/>
          <p:cNvPicPr/>
          <p:nvPr/>
        </p:nvPicPr>
        <p:blipFill>
          <a:blip r:embed="rId2"/>
          <a:stretch/>
        </p:blipFill>
        <p:spPr>
          <a:xfrm>
            <a:off x="338040" y="4286160"/>
            <a:ext cx="2427480" cy="2571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http://www.lenagold.ru/fon/clipart/tc/tcvet/kras/tcvet40.jpg"/>
          <p:cNvPicPr/>
          <p:nvPr/>
        </p:nvPicPr>
        <p:blipFill>
          <a:blip r:embed="rId3"/>
          <a:stretch/>
        </p:blipFill>
        <p:spPr>
          <a:xfrm>
            <a:off x="1928880" y="3929040"/>
            <a:ext cx="2765520" cy="2928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http://www.lenagold.ru/fon/clipart/tc/tcvet/kras/tcvet40.jpg"/>
          <p:cNvPicPr/>
          <p:nvPr/>
        </p:nvPicPr>
        <p:blipFill>
          <a:blip r:embed="rId4"/>
          <a:stretch/>
        </p:blipFill>
        <p:spPr>
          <a:xfrm>
            <a:off x="4071960" y="3929040"/>
            <a:ext cx="2765520" cy="2928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http://www.lenagold.ru/fon/clipart/tc/tcvet/kras/tcvet40.jpg"/>
          <p:cNvPicPr/>
          <p:nvPr/>
        </p:nvPicPr>
        <p:blipFill>
          <a:blip r:embed="rId5"/>
          <a:stretch/>
        </p:blipFill>
        <p:spPr>
          <a:xfrm>
            <a:off x="6643800" y="4210200"/>
            <a:ext cx="2500200" cy="2647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http://www.lenagold.ru/fon/clipart/tc/tcvet/kras/tcvet48.jpg"/>
          <p:cNvPicPr/>
          <p:nvPr/>
        </p:nvPicPr>
        <p:blipFill>
          <a:blip r:embed="rId6"/>
          <a:stretch/>
        </p:blipFill>
        <p:spPr>
          <a:xfrm>
            <a:off x="1357200" y="4446720"/>
            <a:ext cx="2278080" cy="2411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http://www.lenagold.ru/fon/clipart/tc/tcvet/kras/tcvet48.jpg"/>
          <p:cNvPicPr/>
          <p:nvPr/>
        </p:nvPicPr>
        <p:blipFill>
          <a:blip r:embed="rId7"/>
          <a:stretch/>
        </p:blipFill>
        <p:spPr>
          <a:xfrm>
            <a:off x="5418000" y="4357800"/>
            <a:ext cx="2360880" cy="2500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http://www.lenagold.ru/fon/clipart/tc/tcvet/kras/tcvet48.jpg"/>
          <p:cNvPicPr/>
          <p:nvPr/>
        </p:nvPicPr>
        <p:blipFill>
          <a:blip r:embed="rId8"/>
          <a:stretch/>
        </p:blipFill>
        <p:spPr>
          <a:xfrm>
            <a:off x="3203640" y="4357800"/>
            <a:ext cx="2360520" cy="2500200"/>
          </a:xfrm>
          <a:prstGeom prst="rect">
            <a:avLst/>
          </a:prstGeom>
          <a:ln w="0">
            <a:noFill/>
          </a:ln>
        </p:spPr>
      </p:pic>
      <p:sp>
        <p:nvSpPr>
          <p:cNvPr id="135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7572240" y="628668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9" h="21600">
                <a:moveTo>
                  <a:pt x="9198" y="3794"/>
                </a:moveTo>
                <a:lnTo>
                  <a:pt x="23211" y="10800"/>
                </a:lnTo>
                <a:lnTo>
                  <a:pt x="9198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Управляющая кнопка: справка 18">
            <a:hlinkClick r:id="" action="ppaction://hlinkshowjump?jump=lastslide"/>
          </p:cNvPr>
          <p:cNvSpPr/>
          <p:nvPr/>
        </p:nvSpPr>
        <p:spPr>
          <a:xfrm>
            <a:off x="8215200" y="628668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126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9" h="21600">
                <a:moveTo>
                  <a:pt x="13710" y="14281"/>
                </a:moveTo>
                <a:lnTo>
                  <a:pt x="13710" y="12323"/>
                </a:lnTo>
                <a:cubicBezTo>
                  <a:pt x="13710" y="11496"/>
                  <a:pt x="14041" y="10800"/>
                  <a:pt x="14641" y="10800"/>
                </a:cubicBezTo>
                <a:cubicBezTo>
                  <a:pt x="15773" y="10800"/>
                  <a:pt x="16669" y="9434"/>
                  <a:pt x="16669" y="7849"/>
                </a:cubicBezTo>
                <a:cubicBezTo>
                  <a:pt x="16669" y="5534"/>
                  <a:pt x="14815" y="3794"/>
                  <a:pt x="12605" y="3794"/>
                </a:cubicBezTo>
                <a:cubicBezTo>
                  <a:pt x="10394" y="3794"/>
                  <a:pt x="8723" y="5534"/>
                  <a:pt x="8723" y="7849"/>
                </a:cubicBezTo>
                <a:lnTo>
                  <a:pt x="10577" y="7849"/>
                </a:lnTo>
                <a:cubicBezTo>
                  <a:pt x="10577" y="6709"/>
                  <a:pt x="11499" y="5821"/>
                  <a:pt x="12605" y="5821"/>
                </a:cubicBezTo>
                <a:cubicBezTo>
                  <a:pt x="13710" y="5821"/>
                  <a:pt x="14641" y="6709"/>
                  <a:pt x="14641" y="7849"/>
                </a:cubicBezTo>
                <a:cubicBezTo>
                  <a:pt x="14641" y="8589"/>
                  <a:pt x="14171" y="9320"/>
                  <a:pt x="13710" y="9320"/>
                </a:cubicBezTo>
                <a:cubicBezTo>
                  <a:pt x="12605" y="9320"/>
                  <a:pt x="11499" y="10800"/>
                  <a:pt x="11499" y="12323"/>
                </a:cubicBezTo>
                <a:lnTo>
                  <a:pt x="11499" y="1428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Блок-схема: процесс 19"/>
          <p:cNvSpPr/>
          <p:nvPr/>
        </p:nvSpPr>
        <p:spPr>
          <a:xfrm>
            <a:off x="2928960" y="1143000"/>
            <a:ext cx="1414440" cy="6429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80 Х 4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Блок-схема: узел 20"/>
          <p:cNvSpPr/>
          <p:nvPr/>
        </p:nvSpPr>
        <p:spPr>
          <a:xfrm>
            <a:off x="1785960" y="3733920"/>
            <a:ext cx="957240" cy="69516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Блок-схема: узел 21"/>
          <p:cNvSpPr/>
          <p:nvPr/>
        </p:nvSpPr>
        <p:spPr>
          <a:xfrm>
            <a:off x="4357800" y="2971800"/>
            <a:ext cx="976320" cy="60012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Блок-схема: узел 22"/>
          <p:cNvSpPr/>
          <p:nvPr/>
        </p:nvSpPr>
        <p:spPr>
          <a:xfrm>
            <a:off x="6643800" y="3048120"/>
            <a:ext cx="900000" cy="66672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http://www.lenagold.ru/fon/clipart/b/bab/babochka163.jpg"/>
          <p:cNvPicPr/>
          <p:nvPr/>
        </p:nvPicPr>
        <p:blipFill>
          <a:blip r:embed="rId9"/>
          <a:stretch/>
        </p:blipFill>
        <p:spPr>
          <a:xfrm rot="3988200">
            <a:off x="529920" y="3510000"/>
            <a:ext cx="1334880" cy="1201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http://www.lenagold.ru/fon/clipart/b/bab/babochka98.jpg"/>
          <p:cNvPicPr/>
          <p:nvPr/>
        </p:nvPicPr>
        <p:blipFill>
          <a:blip r:embed="rId10"/>
          <a:stretch/>
        </p:blipFill>
        <p:spPr>
          <a:xfrm rot="21382200">
            <a:off x="3710160" y="3303360"/>
            <a:ext cx="1039680" cy="93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http://www.lenagold.ru/fon/clipart/b/bab/babochka162.jpg"/>
          <p:cNvPicPr/>
          <p:nvPr/>
        </p:nvPicPr>
        <p:blipFill>
          <a:blip r:embed="rId11"/>
          <a:stretch/>
        </p:blipFill>
        <p:spPr>
          <a:xfrm>
            <a:off x="6753240" y="3451320"/>
            <a:ext cx="1458720" cy="947520"/>
          </a:xfrm>
          <a:prstGeom prst="rect">
            <a:avLst/>
          </a:prstGeom>
          <a:ln w="0">
            <a:noFill/>
          </a:ln>
        </p:spPr>
      </p:pic>
      <p:sp>
        <p:nvSpPr>
          <p:cNvPr id="144" name="Нижний колонтитул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edsovet.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8 4.44444E-006 C 0.01945 -0.00278 0.02622 -0.00602 0.03299 -0.0095 C 0.03629 -0.01366 0.04254 -0.01783 0.04636 -0.02037 C 0.05052 -0.02917 0.04636 -0.02176 0.05191 -0.02801 C 0.05348 -0.02987 0.0566 -0.0345 0.0566 -0.03426 C 0.05973 -0.04375 0.06337 -0.05278 0.06667 -0.0625 C 0.06736 -0.07084 0.06788 -0.07408 0.06979 -0.08102 C 0.07084 -0.08519 0.07292 -0.09352 0.07292 -0.09329 C 0.07396 -0.10301 0.07518 -0.11227 0.07604 -0.12176 C 0.07587 -0.13264 0.08108 -0.19653 0.06667 -0.20579 C 0.06424 -0.21065 0.06129 -0.21343 0.05868 -0.21829 C 0.05226 -0.23125 0.04688 -0.24075 0.03768 -0.24468 C 0.03195 -0.25255 0.029 -0.25787 0.02205 -0.26042 C 0.01684 -0.2676 0.0099 -0.26737 0.004 -0.26968 C -0.01093 -0.27524 -0.02552 -0.2882 -0.04045 -0.2882 E">
                                      <p:cBhvr>
                                        <p:cTn id="115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C 0.00278 -0.00393 0.00677 -0.00602 0.00972 -0.00949 C 0.01198 -0.0125 0.01372 -0.01643 0.01597 -0.01875 C 0.02379 -0.02708 0.03438 -0.03125 0.04236 -0.03935 C 0.05226 -0.05046 0.03889 -0.04051 0.05243 -0.04884 C 0.05747 -0.05972 0.05191 -0.04907 0.06111 -0.05995 C 0.06771 -0.06736 0.07309 -0.07615 0.08004 -0.0824 C 0.08247 -0.08727 0.08941 -0.0993 0.09254 -0.10278 C 0.09566 -0.10694 0.10035 -0.10856 0.10382 -0.11227 C 0.11007 -0.11921 0.11684 -0.12685 0.12292 -0.13449 C 0.13577 -0.15162 0.12639 -0.14444 0.13768 -0.15162 C 0.14618 -0.16389 0.15486 -0.17546 0.16406 -0.18703 C 0.16684 -0.2 0.16268 -0.18495 0.17031 -0.19606 C 0.18021 -0.21134 0.17084 -0.20486 0.179 -0.20949 C 0.18542 -0.22801 0.17639 -0.20416 0.18802 -0.22407 C 0.18872 -0.22569 0.1882 -0.22824 0.18924 -0.22963 C 0.19045 -0.23217 0.19271 -0.23333 0.19427 -0.23541 C 0.19861 -0.2419 0.20278 -0.24884 0.2066 -0.25602 C 0.21875 -0.27731 0.23108 -0.29977 0.23577 -0.32708 C 0.23629 -0.33148 0.23941 -0.33403 0.24063 -0.33819 C 0.24531 -0.35509 0.24601 -0.36412 0.24601 -0.3824 E">
                                      <p:cBhvr>
                                        <p:cTn id="117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I:\маша с сачком.png"/>
          <p:cNvPicPr/>
          <p:nvPr/>
        </p:nvPicPr>
        <p:blipFill>
          <a:blip r:embed="rId1"/>
          <a:stretch/>
        </p:blipFill>
        <p:spPr>
          <a:xfrm>
            <a:off x="0" y="0"/>
            <a:ext cx="3573360" cy="35002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57840" y="28548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http://www.lenagold.ru/fon/clipart/tc/tcvet/kras/tcvet40.jpg"/>
          <p:cNvPicPr/>
          <p:nvPr/>
        </p:nvPicPr>
        <p:blipFill>
          <a:blip r:embed="rId2"/>
          <a:stretch/>
        </p:blipFill>
        <p:spPr>
          <a:xfrm>
            <a:off x="338040" y="4286160"/>
            <a:ext cx="2427480" cy="2571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http://www.lenagold.ru/fon/clipart/tc/tcvet/kras/tcvet40.jpg"/>
          <p:cNvPicPr/>
          <p:nvPr/>
        </p:nvPicPr>
        <p:blipFill>
          <a:blip r:embed="rId3"/>
          <a:stretch/>
        </p:blipFill>
        <p:spPr>
          <a:xfrm>
            <a:off x="1928880" y="3929040"/>
            <a:ext cx="2765520" cy="2928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http://www.lenagold.ru/fon/clipart/tc/tcvet/kras/tcvet40.jpg"/>
          <p:cNvPicPr/>
          <p:nvPr/>
        </p:nvPicPr>
        <p:blipFill>
          <a:blip r:embed="rId4"/>
          <a:stretch/>
        </p:blipFill>
        <p:spPr>
          <a:xfrm>
            <a:off x="4071960" y="3929040"/>
            <a:ext cx="2765520" cy="2928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http://www.lenagold.ru/fon/clipart/tc/tcvet/kras/tcvet40.jpg"/>
          <p:cNvPicPr/>
          <p:nvPr/>
        </p:nvPicPr>
        <p:blipFill>
          <a:blip r:embed="rId5"/>
          <a:stretch/>
        </p:blipFill>
        <p:spPr>
          <a:xfrm>
            <a:off x="6643800" y="4210200"/>
            <a:ext cx="2500200" cy="2647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http://www.lenagold.ru/fon/clipart/tc/tcvet/kras/tcvet48.jpg"/>
          <p:cNvPicPr/>
          <p:nvPr/>
        </p:nvPicPr>
        <p:blipFill>
          <a:blip r:embed="rId6"/>
          <a:stretch/>
        </p:blipFill>
        <p:spPr>
          <a:xfrm>
            <a:off x="1357200" y="4446720"/>
            <a:ext cx="2278080" cy="2411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http://www.lenagold.ru/fon/clipart/tc/tcvet/kras/tcvet48.jpg"/>
          <p:cNvPicPr/>
          <p:nvPr/>
        </p:nvPicPr>
        <p:blipFill>
          <a:blip r:embed="rId7"/>
          <a:stretch/>
        </p:blipFill>
        <p:spPr>
          <a:xfrm>
            <a:off x="5418000" y="4357800"/>
            <a:ext cx="2360880" cy="2500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http://www.lenagold.ru/fon/clipart/tc/tcvet/kras/tcvet48.jpg"/>
          <p:cNvPicPr/>
          <p:nvPr/>
        </p:nvPicPr>
        <p:blipFill>
          <a:blip r:embed="rId8"/>
          <a:stretch/>
        </p:blipFill>
        <p:spPr>
          <a:xfrm>
            <a:off x="3203640" y="4357800"/>
            <a:ext cx="2360520" cy="2500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http://www.lenagold.ru/fon/clipart/b/bab/babochka89.jpg"/>
          <p:cNvPicPr/>
          <p:nvPr/>
        </p:nvPicPr>
        <p:blipFill>
          <a:blip r:embed="rId9"/>
          <a:stretch/>
        </p:blipFill>
        <p:spPr>
          <a:xfrm rot="15231000">
            <a:off x="3751200" y="3142440"/>
            <a:ext cx="1190520" cy="1073160"/>
          </a:xfrm>
          <a:prstGeom prst="rect">
            <a:avLst/>
          </a:prstGeom>
          <a:ln w="0">
            <a:noFill/>
          </a:ln>
        </p:spPr>
      </p:pic>
      <p:sp>
        <p:nvSpPr>
          <p:cNvPr id="155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7572240" y="628668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9" h="21600">
                <a:moveTo>
                  <a:pt x="9198" y="3794"/>
                </a:moveTo>
                <a:lnTo>
                  <a:pt x="23211" y="10800"/>
                </a:lnTo>
                <a:lnTo>
                  <a:pt x="9198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Управляющая кнопка: справка 18">
            <a:hlinkClick r:id="" action="ppaction://hlinkshowjump?jump=lastslide"/>
          </p:cNvPr>
          <p:cNvSpPr/>
          <p:nvPr/>
        </p:nvSpPr>
        <p:spPr>
          <a:xfrm>
            <a:off x="8215200" y="628668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126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9" h="21600">
                <a:moveTo>
                  <a:pt x="13710" y="14281"/>
                </a:moveTo>
                <a:lnTo>
                  <a:pt x="13710" y="12323"/>
                </a:lnTo>
                <a:cubicBezTo>
                  <a:pt x="13710" y="11496"/>
                  <a:pt x="14041" y="10800"/>
                  <a:pt x="14641" y="10800"/>
                </a:cubicBezTo>
                <a:cubicBezTo>
                  <a:pt x="15773" y="10800"/>
                  <a:pt x="16669" y="9434"/>
                  <a:pt x="16669" y="7849"/>
                </a:cubicBezTo>
                <a:cubicBezTo>
                  <a:pt x="16669" y="5534"/>
                  <a:pt x="14815" y="3794"/>
                  <a:pt x="12605" y="3794"/>
                </a:cubicBezTo>
                <a:cubicBezTo>
                  <a:pt x="10394" y="3794"/>
                  <a:pt x="8723" y="5534"/>
                  <a:pt x="8723" y="7849"/>
                </a:cubicBezTo>
                <a:lnTo>
                  <a:pt x="10577" y="7849"/>
                </a:lnTo>
                <a:cubicBezTo>
                  <a:pt x="10577" y="6709"/>
                  <a:pt x="11499" y="5821"/>
                  <a:pt x="12605" y="5821"/>
                </a:cubicBezTo>
                <a:cubicBezTo>
                  <a:pt x="13710" y="5821"/>
                  <a:pt x="14641" y="6709"/>
                  <a:pt x="14641" y="7849"/>
                </a:cubicBezTo>
                <a:cubicBezTo>
                  <a:pt x="14641" y="8589"/>
                  <a:pt x="14171" y="9320"/>
                  <a:pt x="13710" y="9320"/>
                </a:cubicBezTo>
                <a:cubicBezTo>
                  <a:pt x="12605" y="9320"/>
                  <a:pt x="11499" y="10800"/>
                  <a:pt x="11499" y="12323"/>
                </a:cubicBezTo>
                <a:lnTo>
                  <a:pt x="11499" y="1428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Блок-схема: процесс 19"/>
          <p:cNvSpPr/>
          <p:nvPr/>
        </p:nvSpPr>
        <p:spPr>
          <a:xfrm>
            <a:off x="2895480" y="1143000"/>
            <a:ext cx="1447920" cy="6094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100 : 3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Блок-схема: узел 20"/>
          <p:cNvSpPr/>
          <p:nvPr/>
        </p:nvSpPr>
        <p:spPr>
          <a:xfrm>
            <a:off x="2214720" y="3657600"/>
            <a:ext cx="909360" cy="62856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Блок-схема: узел 21"/>
          <p:cNvSpPr/>
          <p:nvPr/>
        </p:nvSpPr>
        <p:spPr>
          <a:xfrm>
            <a:off x="4800600" y="3071880"/>
            <a:ext cx="1057320" cy="64296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Блок-схема: узел 22"/>
          <p:cNvSpPr/>
          <p:nvPr/>
        </p:nvSpPr>
        <p:spPr>
          <a:xfrm>
            <a:off x="6248520" y="3143160"/>
            <a:ext cx="923760" cy="66672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http://www.lenagold.ru/fon/clipart/b/bab/babochka264.jpg"/>
          <p:cNvPicPr/>
          <p:nvPr/>
        </p:nvPicPr>
        <p:blipFill>
          <a:blip r:embed="rId10"/>
          <a:stretch/>
        </p:blipFill>
        <p:spPr>
          <a:xfrm rot="17469000">
            <a:off x="7010280" y="2949480"/>
            <a:ext cx="1285920" cy="1361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http://www.lenagold.ru/fon/clipart/b/bab/babochka85.jpg"/>
          <p:cNvPicPr/>
          <p:nvPr/>
        </p:nvPicPr>
        <p:blipFill>
          <a:blip r:embed="rId11"/>
          <a:stretch/>
        </p:blipFill>
        <p:spPr>
          <a:xfrm rot="2746200">
            <a:off x="1049400" y="3485880"/>
            <a:ext cx="1542960" cy="1387440"/>
          </a:xfrm>
          <a:prstGeom prst="rect">
            <a:avLst/>
          </a:prstGeom>
          <a:ln w="0">
            <a:noFill/>
          </a:ln>
        </p:spPr>
      </p:pic>
      <p:sp>
        <p:nvSpPr>
          <p:cNvPr id="163" name="Нижний колонтитул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edsovet.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85185E-006 C -0.01146 -0.00764 -0.02292 -0.01204 -0.0342 -0.01921 C -0.04323 -0.02454 -0.04757 -0.02894 -0.05642 -0.03148 C -0.06233 -0.0331 -0.07014 -0.03334 -0.07622 -0.03565 C -0.11215 -0.05116 -0.14896 -0.06042 -0.18611 -0.06713 C -0.21892 -0.07963 -0.25295 -0.08287 -0.28576 -0.09421 C -0.32083 -0.10602 -0.35642 -0.1132 -0.39167 -0.12315 C -0.42135 -0.13148 -0.45104 -0.13982 -0.48073 -0.14584 C -0.49826 -0.15278 -0.51632 -0.15787 -0.53438 -0.16065 C -0.5467 -0.16435 -0.55885 -0.16829 -0.57118 -0.17107 C -0.58212 -0.17685 -0.59514 -0.17894 -0.6066 -0.18125 C -0.61476 -0.18449 -0.62309 -0.18796 -0.63142 -0.18959 C -0.63802 -0.19329 -0.64549 -0.19398 -0.65243 -0.19584 C -0.65868 -0.20023 -0.66389 -0.20417 -0.67083 -0.20625 C -0.67726 -0.21134 -0.68281 -0.2125 -0.68906 -0.2169 C -0.69445 -0.22037 -0.69792 -0.22454 -0.7033 -0.22732 C -0.70851 -0.23264 -0.7132 -0.23449 -0.7191 -0.2375 C -0.72049 -0.23796 -0.72292 -0.23935 -0.72292 -0.23912 E">
                                      <p:cBhvr>
                                        <p:cTn id="141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C -0.00677 -0.00278 -0.0125 -0.00856 -0.01858 -0.01296 C -0.02274 -0.01551 -0.02743 -0.01597 -0.03177 -0.01828 C -0.03299 -0.0199 -0.0342 -0.02268 -0.03576 -0.02384 C -0.04045 -0.02685 -0.04549 -0.02847 -0.05035 -0.03102 C -0.0566 -0.03403 -0.06146 -0.03958 -0.06875 -0.04166 C -0.07847 -0.04745 -0.08733 -0.05532 -0.09774 -0.0581 C -0.10122 -0.0618 -0.10972 -0.0699 -0.11337 -0.07268 C -0.11771 -0.07615 -0.12674 -0.08171 -0.12674 -0.08148 C -0.1309 -0.09328 -0.13976 -0.09768 -0.14774 -0.10509 C -0.15 -0.10694 -0.15122 -0.11041 -0.15295 -0.1125 C -0.15816 -0.11875 -0.16458 -0.12315 -0.17014 -0.1287 C -0.17465 -0.13333 -0.18333 -0.14328 -0.18333 -0.14282 C -0.18993 -0.15972 -0.19948 -0.1743 -0.20833 -0.18865 C -0.21892 -0.20602 -0.22778 -0.22847 -0.23854 -0.24653 C -0.2441 -0.25602 -0.24705 -0.26713 -0.25451 -0.27384 C -0.25486 -0.27569 -0.25486 -0.27778 -0.25573 -0.2794 C -0.25677 -0.28102 -0.25833 -0.28125 -0.25955 -0.28264 C -0.26076 -0.28426 -0.26111 -0.2868 -0.26215 -0.28842 C -0.26267 -0.28865 -0.26319 -0.28842 -0.26337 -0.28842 E">
                                      <p:cBhvr>
                                        <p:cTn id="143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I:\маша с сачком.png"/>
          <p:cNvPicPr/>
          <p:nvPr/>
        </p:nvPicPr>
        <p:blipFill>
          <a:blip r:embed="rId1"/>
          <a:stretch/>
        </p:blipFill>
        <p:spPr>
          <a:xfrm>
            <a:off x="0" y="0"/>
            <a:ext cx="3718080" cy="36432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0" descr="http://www.lenagold.ru/fon/clipart/tc/tcvet/kras/tcvet40.jpg"/>
          <p:cNvPicPr/>
          <p:nvPr/>
        </p:nvPicPr>
        <p:blipFill>
          <a:blip r:embed="rId2"/>
          <a:stretch/>
        </p:blipFill>
        <p:spPr>
          <a:xfrm>
            <a:off x="338040" y="4286160"/>
            <a:ext cx="2427480" cy="2571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http://www.lenagold.ru/fon/clipart/tc/tcvet/kras/tcvet40.jpg"/>
          <p:cNvPicPr/>
          <p:nvPr/>
        </p:nvPicPr>
        <p:blipFill>
          <a:blip r:embed="rId3"/>
          <a:stretch/>
        </p:blipFill>
        <p:spPr>
          <a:xfrm>
            <a:off x="1928880" y="3929040"/>
            <a:ext cx="2765520" cy="2928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http://www.lenagold.ru/fon/clipart/tc/tcvet/kras/tcvet40.jpg"/>
          <p:cNvPicPr/>
          <p:nvPr/>
        </p:nvPicPr>
        <p:blipFill>
          <a:blip r:embed="rId4"/>
          <a:stretch/>
        </p:blipFill>
        <p:spPr>
          <a:xfrm>
            <a:off x="4071960" y="3929040"/>
            <a:ext cx="2765520" cy="2928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http://www.lenagold.ru/fon/clipart/tc/tcvet/kras/tcvet40.jpg"/>
          <p:cNvPicPr/>
          <p:nvPr/>
        </p:nvPicPr>
        <p:blipFill>
          <a:blip r:embed="rId5"/>
          <a:stretch/>
        </p:blipFill>
        <p:spPr>
          <a:xfrm>
            <a:off x="6643800" y="4210200"/>
            <a:ext cx="2500200" cy="2647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http://www.lenagold.ru/fon/clipart/tc/tcvet/kras/tcvet48.jpg"/>
          <p:cNvPicPr/>
          <p:nvPr/>
        </p:nvPicPr>
        <p:blipFill>
          <a:blip r:embed="rId6"/>
          <a:stretch/>
        </p:blipFill>
        <p:spPr>
          <a:xfrm>
            <a:off x="1357200" y="4446720"/>
            <a:ext cx="2278080" cy="2411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http://www.lenagold.ru/fon/clipart/tc/tcvet/kras/tcvet48.jpg"/>
          <p:cNvPicPr/>
          <p:nvPr/>
        </p:nvPicPr>
        <p:blipFill>
          <a:blip r:embed="rId7"/>
          <a:stretch/>
        </p:blipFill>
        <p:spPr>
          <a:xfrm>
            <a:off x="5418000" y="4357800"/>
            <a:ext cx="2360880" cy="2500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http://www.lenagold.ru/fon/clipart/tc/tcvet/kras/tcvet48.jpg"/>
          <p:cNvPicPr/>
          <p:nvPr/>
        </p:nvPicPr>
        <p:blipFill>
          <a:blip r:embed="rId8"/>
          <a:stretch/>
        </p:blipFill>
        <p:spPr>
          <a:xfrm>
            <a:off x="3203640" y="4357800"/>
            <a:ext cx="2360520" cy="2500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http://www.lenagold.ru/fon/clipart/b/bab/babochka92.jpg"/>
          <p:cNvPicPr/>
          <p:nvPr/>
        </p:nvPicPr>
        <p:blipFill>
          <a:blip r:embed="rId9"/>
          <a:stretch/>
        </p:blipFill>
        <p:spPr>
          <a:xfrm rot="12810000">
            <a:off x="6428880" y="3429000"/>
            <a:ext cx="1214640" cy="1093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http://www.lenagold.ru/fon/clipart/b/bab/babochka260.jpg"/>
          <p:cNvPicPr/>
          <p:nvPr/>
        </p:nvPicPr>
        <p:blipFill>
          <a:blip r:embed="rId10"/>
          <a:stretch/>
        </p:blipFill>
        <p:spPr>
          <a:xfrm>
            <a:off x="642960" y="3500280"/>
            <a:ext cx="1111320" cy="1000440"/>
          </a:xfrm>
          <a:prstGeom prst="rect">
            <a:avLst/>
          </a:prstGeom>
          <a:ln w="0">
            <a:noFill/>
          </a:ln>
        </p:spPr>
      </p:pic>
      <p:sp>
        <p:nvSpPr>
          <p:cNvPr id="175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7572240" y="628668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9" h="21600">
                <a:moveTo>
                  <a:pt x="9198" y="3794"/>
                </a:moveTo>
                <a:lnTo>
                  <a:pt x="23211" y="10800"/>
                </a:lnTo>
                <a:lnTo>
                  <a:pt x="9198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Блок-схема: процесс 14"/>
          <p:cNvSpPr/>
          <p:nvPr/>
        </p:nvSpPr>
        <p:spPr>
          <a:xfrm>
            <a:off x="2928960" y="1143000"/>
            <a:ext cx="1490760" cy="6429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0 Х 15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Блок-схема: узел 18"/>
          <p:cNvSpPr/>
          <p:nvPr/>
        </p:nvSpPr>
        <p:spPr>
          <a:xfrm>
            <a:off x="1714680" y="3581280"/>
            <a:ext cx="1028520" cy="63360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Блок-схема: узел 19"/>
          <p:cNvSpPr/>
          <p:nvPr/>
        </p:nvSpPr>
        <p:spPr>
          <a:xfrm>
            <a:off x="4714920" y="3200400"/>
            <a:ext cx="1000080" cy="65736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Блок-схема: узел 20"/>
          <p:cNvSpPr/>
          <p:nvPr/>
        </p:nvSpPr>
        <p:spPr>
          <a:xfrm>
            <a:off x="7500960" y="3352680"/>
            <a:ext cx="880920" cy="64800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Управляющая кнопка: справка 21">
            <a:hlinkClick r:id="" action="ppaction://hlinkshowjump?jump=lastslide"/>
          </p:cNvPr>
          <p:cNvSpPr/>
          <p:nvPr/>
        </p:nvSpPr>
        <p:spPr>
          <a:xfrm>
            <a:off x="8215200" y="628668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126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9" h="21600">
                <a:moveTo>
                  <a:pt x="13710" y="14281"/>
                </a:moveTo>
                <a:lnTo>
                  <a:pt x="13710" y="12323"/>
                </a:lnTo>
                <a:cubicBezTo>
                  <a:pt x="13710" y="11496"/>
                  <a:pt x="14041" y="10800"/>
                  <a:pt x="14641" y="10800"/>
                </a:cubicBezTo>
                <a:cubicBezTo>
                  <a:pt x="15773" y="10800"/>
                  <a:pt x="16669" y="9434"/>
                  <a:pt x="16669" y="7849"/>
                </a:cubicBezTo>
                <a:cubicBezTo>
                  <a:pt x="16669" y="5534"/>
                  <a:pt x="14815" y="3794"/>
                  <a:pt x="12605" y="3794"/>
                </a:cubicBezTo>
                <a:cubicBezTo>
                  <a:pt x="10394" y="3794"/>
                  <a:pt x="8723" y="5534"/>
                  <a:pt x="8723" y="7849"/>
                </a:cubicBezTo>
                <a:lnTo>
                  <a:pt x="10577" y="7849"/>
                </a:lnTo>
                <a:cubicBezTo>
                  <a:pt x="10577" y="6709"/>
                  <a:pt x="11499" y="5821"/>
                  <a:pt x="12605" y="5821"/>
                </a:cubicBezTo>
                <a:cubicBezTo>
                  <a:pt x="13710" y="5821"/>
                  <a:pt x="14641" y="6709"/>
                  <a:pt x="14641" y="7849"/>
                </a:cubicBezTo>
                <a:cubicBezTo>
                  <a:pt x="14641" y="8589"/>
                  <a:pt x="14171" y="9320"/>
                  <a:pt x="13710" y="9320"/>
                </a:cubicBezTo>
                <a:cubicBezTo>
                  <a:pt x="12605" y="9320"/>
                  <a:pt x="11499" y="10800"/>
                  <a:pt x="11499" y="12323"/>
                </a:cubicBezTo>
                <a:lnTo>
                  <a:pt x="11499" y="1428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http://www.lenagold.ru/fon/clipart/b/bab/babochka269.jpg"/>
          <p:cNvPicPr/>
          <p:nvPr/>
        </p:nvPicPr>
        <p:blipFill>
          <a:blip r:embed="rId11"/>
          <a:stretch/>
        </p:blipFill>
        <p:spPr>
          <a:xfrm rot="17498400">
            <a:off x="3643920" y="3356280"/>
            <a:ext cx="1190520" cy="1071360"/>
          </a:xfrm>
          <a:prstGeom prst="rect">
            <a:avLst/>
          </a:prstGeom>
          <a:ln w="0">
            <a:noFill/>
          </a:ln>
        </p:spPr>
      </p:pic>
      <p:sp>
        <p:nvSpPr>
          <p:cNvPr id="182" name="Нижний колонтитул 2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edsovet.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5185E-006 C -0.00243 -0.01273 -0.00452 -0.01019 3.61111E-006 -0.02292 C -0.00105 -0.03773 -0.00018 -0.05185 -0.00782 -0.06042 C -0.0099 -0.0706 -0.00747 -0.06158 -0.01216 -0.07153 C -0.0191 -0.08681 -0.02257 -0.09236 -0.0342 -0.09607 C -0.0408 -0.10185 -0.04809 -0.10162 -0.05539 -0.10371 C -0.08143 -0.10278 -0.10782 -0.10625 -0.13368 -0.09977 C -0.14827 -0.0963 -0.16615 -0.0875 -0.18004 -0.07894 C -0.18594 -0.07546 -0.19063 -0.0706 -0.1967 -0.06783 C -0.20938 -0.0544 -0.25087 -0.06389 -0.25417 -0.06435 C -0.2632 -0.0669 -0.27084 -0.07801 -0.27969 -0.08287 C -0.28455 -0.08843 -0.28855 -0.09537 -0.29393 -0.09792 C -0.30105 -0.11065 -0.30955 -0.11875 -0.31719 -0.13009 C -0.31945 -0.13334 -0.32049 -0.1382 -0.32275 -0.14121 C -0.32396 -0.14283 -0.3257 -0.14306 -0.32709 -0.14491 C -0.329 -0.14699 -0.33091 -0.14977 -0.33264 -0.15255 C -0.33907 -0.16204 -0.34202 -0.17639 -0.34809 -0.18611 C -0.35 -0.19792 -0.35486 -0.21042 -0.35903 -0.22014 C -0.36181 -0.23357 -0.36007 -0.22824 -0.36355 -0.23681 C -0.3658 -0.24769 -0.3632 -0.2382 -0.36806 -0.24653 C -0.36893 -0.24815 -0.37014 -0.25185 -0.37014 -0.25162 E">
                                      <p:cBhvr>
                                        <p:cTn id="167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7.40741E-007 C 0.00816 -0.01782 0.00348 -0.04769 -0.00416 -0.06482 C -0.00625 -0.07454 -0.00763 -0.08218 -0.01093 -0.09144 C -0.01267 -0.10347 -0.01614 -0.11667 -0.01996 -0.12732 C -0.02204 -0.13958 -0.02395 -0.1507 -0.02795 -0.16134 C -0.02968 -0.17222 -0.0335 -0.18056 -0.03593 -0.19167 C -0.03715 -0.19838 -0.03802 -0.2037 -0.04045 -0.20972 C -0.04305 -0.22361 -0.04444 -0.22708 -0.04843 -0.23843 C -0.05017 -0.24352 -0.04982 -0.24977 -0.05173 -0.2544 C -0.05798 -0.26852 -0.06875 -0.27384 -0.0743 -0.28866 C -0.07222 -0.29352 -0.07031 -0.29514 -0.06753 -0.29907 E">
                                      <p:cBhvr>
                                        <p:cTn id="169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3-02T16:04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