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28.jpeg" ContentType="image/jpeg"/>
  <Override PartName="/ppt/media/image26.jpeg" ContentType="image/jpeg"/>
  <Override PartName="/ppt/media/image19.png" ContentType="image/png"/>
  <Override PartName="/ppt/media/image24.jpeg" ContentType="image/jpeg"/>
  <Override PartName="/ppt/media/image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CD86-F577-4676-B805-8DA9AD62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163B-F724-41E8-A647-05ACD7C5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450-8260-4DCE-A2AD-948DAED9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6308-5DFA-46D4-83A4-9176F958C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225C-A5C4-40A8-98AB-B5648FC3D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6DC53-4AB8-48D1-97D6-24051338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472C-01AF-44F7-8D7B-39908F4F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B82A-9840-4702-B7ED-5080CEC2E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577B-A62F-45D0-9AFC-ACFF2177B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DCDA2-9137-42B0-B78A-41EC5AFD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9D244-4DEF-4CFE-B6EC-47239C69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F890-C2A0-4F39-9A12-C8431190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E54F-290D-4901-B14E-3895DB15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52B9-6EC6-4681-98CC-452D142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AF7B-BFF5-4012-A9E2-A05AF4D87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9996-0960-4213-9F7A-9354220F6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50ECA-C822-414D-A322-6FEA0FF45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1CFA-DDCC-4226-B7CE-D0B2C7BD1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7CD34-AEFD-483B-832A-EE0ADEE26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C489D-6C6F-4CCC-A19E-350B6E6D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201C1-A9C4-467A-B208-4C375EC8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2411C3-0315-40DD-B75A-B152A630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83A2-2110-4A9B-A26B-B00529C3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73F6-0C6A-4BBF-AE77-D50A076F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E682E-EC89-4B7B-88D1-2221285C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8874F-6F5E-4C39-A670-E8CB3789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58A7B-8C10-4092-9346-4745D9A9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4227F-DD29-4DD5-87DA-AFE393F6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3D14A-C4EA-4858-89C0-FDE5E460F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9C9FB-66DD-4ADE-A2BB-4EAEB208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105D49-0459-454A-9D6C-1F41ACAA9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03DAD-8BC0-4F44-A634-883E4B63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C6F391-670A-4280-9A26-570C55BB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6FB1-31B6-4BB9-9ECE-B2068F842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CA043-1285-4207-8DC2-41C53F05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96558-2997-4545-9315-3DA1DADF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6819DD-0A21-4E80-AC56-6BC96B046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0AABD-19BE-43B6-8487-EB7BC4E8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D32E7-5E41-433B-B04C-2A28A1D5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76EDD-3087-4DEF-9920-642B7655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2DB79-0BAC-4553-9513-FE873331A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C697C-888D-44B5-9C09-5A3985E6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C7F7F-B5D4-494D-97EA-67B87826A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107-386C-4C0A-AED8-C768E8F5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052D-7B48-4CC1-B6BE-FB3BFD96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AFD-0EAF-44DD-8C04-87F88E072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286A-21A6-4E33-907A-0EC93C6E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CB71-2B20-40B0-8A78-741FDE0D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32EE5-F19D-4AE8-9773-0F2D8329EEC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F6D56-C7A4-40F2-A853-C6A5F4A55CB1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CE6B3-A18C-445A-95D9-AEFC251878A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051D-5D58-4AFD-ABF4-C9F202C66A94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Прямоугольник 3" descr=""/>
          <p:cNvPicPr/>
          <p:nvPr/>
        </p:nvPicPr>
        <p:blipFill>
          <a:blip r:embed="rId1"/>
          <a:stretch/>
        </p:blipFill>
        <p:spPr>
          <a:xfrm>
            <a:off x="1841400" y="1925640"/>
            <a:ext cx="546120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179280" y="2707920"/>
            <a:ext cx="8785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сновными кулинарными способами приготовления мяса были варка в воде и обжаривание на рожне. Вареное мясо ели, запивая бульоном. Рыбу обычно варили или жарили на рожне, а ценные породы рыб употребляли в виде строганины</a:t>
            </a: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6" name="Picture 2" descr="буюкса (буюрун) - кровяная колбаса"/>
          <p:cNvPicPr/>
          <p:nvPr/>
        </p:nvPicPr>
        <p:blipFill>
          <a:blip r:embed="rId1"/>
          <a:stretch/>
        </p:blipFill>
        <p:spPr>
          <a:xfrm>
            <a:off x="1835280" y="190440"/>
            <a:ext cx="1979640" cy="23464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evenkfsh"/>
          <p:cNvPicPr/>
          <p:nvPr/>
        </p:nvPicPr>
        <p:blipFill>
          <a:blip r:embed="rId2"/>
          <a:stretch/>
        </p:blipFill>
        <p:spPr>
          <a:xfrm>
            <a:off x="5076720" y="482760"/>
            <a:ext cx="25290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68000" y="260280"/>
            <a:ext cx="828036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ЭВЕ́НКИ, народ в Российской Федерации, коренное население Эвенкийского округа (3,8 тыс. чел.) Красноярского края; живут на обширной территории Сибири и Дальнего Востока, в том числе в Якутии (18,2 тыс. чел.). Всего в Российской Федерации 35,5 тысяч человек (2002). 35 тысяч эвенков живут на северо-западе Китая (1992). Верующие — приверженцы традиционных верований, православные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Заголовок 1" descr=""/>
          <p:cNvPicPr/>
          <p:nvPr/>
        </p:nvPicPr>
        <p:blipFill>
          <a:blip r:embed="rId1"/>
          <a:stretch/>
        </p:blipFill>
        <p:spPr>
          <a:xfrm>
            <a:off x="176040" y="5479920"/>
            <a:ext cx="8791920" cy="1182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C:\Users\Надежда\Desktop\Саха Якутия\Эвенки\287090.jpg"/>
          <p:cNvPicPr/>
          <p:nvPr/>
        </p:nvPicPr>
        <p:blipFill>
          <a:blip r:embed="rId2"/>
          <a:stretch/>
        </p:blipFill>
        <p:spPr>
          <a:xfrm>
            <a:off x="108000" y="260280"/>
            <a:ext cx="4824360" cy="5316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3"/>
          <a:stretch/>
        </p:blipFill>
        <p:spPr>
          <a:xfrm>
            <a:off x="5076720" y="260280"/>
            <a:ext cx="388944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Заголовок 1" descr=""/>
          <p:cNvPicPr/>
          <p:nvPr/>
        </p:nvPicPr>
        <p:blipFill>
          <a:blip r:embed="rId1"/>
          <a:stretch/>
        </p:blipFill>
        <p:spPr>
          <a:xfrm>
            <a:off x="1401840" y="5224320"/>
            <a:ext cx="6516720" cy="1500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2" descr=""/>
          <p:cNvPicPr/>
          <p:nvPr/>
        </p:nvPicPr>
        <p:blipFill>
          <a:blip r:embed="rId2"/>
          <a:stretch/>
        </p:blipFill>
        <p:spPr>
          <a:xfrm>
            <a:off x="2843280" y="257040"/>
            <a:ext cx="396072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96840" y="5419800"/>
            <a:ext cx="8918640" cy="13096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C:\Users\Надежда\Desktop\Саха Якутия\Эвенки\Evenki_1.jpg"/>
          <p:cNvPicPr/>
          <p:nvPr/>
        </p:nvPicPr>
        <p:blipFill>
          <a:blip r:embed="rId2"/>
          <a:stretch/>
        </p:blipFill>
        <p:spPr>
          <a:xfrm>
            <a:off x="250920" y="115920"/>
            <a:ext cx="3673440" cy="53323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4379760" y="189000"/>
            <a:ext cx="441828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68360" y="731520"/>
            <a:ext cx="7991280" cy="34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-15696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Основное занятие эвенков — охота на лося, медведя, оленя, рысь и других животных. Оленей разводят для перевозки грузов и для езды верхом. В отличие от народов живущих в Арктике, стада которых насчитывают тысячу голов и более, эвенки держат по 25 оленей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152280" y="4187880"/>
            <a:ext cx="8382240" cy="2494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Users\Надежда\Desktop\Саха Якутия\Эвенки\evenks03.jpg"/>
          <p:cNvPicPr/>
          <p:nvPr/>
        </p:nvPicPr>
        <p:blipFill>
          <a:blip r:embed="rId2"/>
          <a:stretch/>
        </p:blipFill>
        <p:spPr>
          <a:xfrm>
            <a:off x="3708360" y="231840"/>
            <a:ext cx="5281560" cy="3645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"/>
          <p:cNvPicPr/>
          <p:nvPr/>
        </p:nvPicPr>
        <p:blipFill>
          <a:blip r:embed="rId3"/>
          <a:stretch/>
        </p:blipFill>
        <p:spPr>
          <a:xfrm>
            <a:off x="190440" y="260280"/>
            <a:ext cx="337824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21840" y="3933720"/>
            <a:ext cx="8497800" cy="22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ctr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Эвенки – дети природы. Игры и танцы – это подражание живой природе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4900680" y="6922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2"/>
          <a:stretch/>
        </p:blipFill>
        <p:spPr>
          <a:xfrm>
            <a:off x="322200" y="692280"/>
            <a:ext cx="4111560" cy="2817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3"/>
          <a:stretch/>
        </p:blipFill>
        <p:spPr>
          <a:xfrm>
            <a:off x="6588000" y="5262480"/>
            <a:ext cx="1683000" cy="1189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7" descr=""/>
          <p:cNvPicPr/>
          <p:nvPr/>
        </p:nvPicPr>
        <p:blipFill>
          <a:blip r:embed="rId4"/>
          <a:stretch/>
        </p:blipFill>
        <p:spPr>
          <a:xfrm>
            <a:off x="708120" y="5227560"/>
            <a:ext cx="1670040" cy="12589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"/>
          <p:cNvPicPr/>
          <p:nvPr/>
        </p:nvPicPr>
        <p:blipFill>
          <a:blip r:embed="rId5"/>
          <a:stretch/>
        </p:blipFill>
        <p:spPr>
          <a:xfrm>
            <a:off x="4140360" y="5126040"/>
            <a:ext cx="10080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9280" y="188640"/>
            <a:ext cx="8640720" cy="62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7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040"/>
                </a:solidFill>
                <a:latin typeface="Trebuchet MS"/>
              </a:rPr>
              <a:t>Эвенки-скотоводы занимались рыболовством и охотой даже в большей степени, чем якуты. Они питались почти так же, как якуты и русские, но все же сохранили некоторые национальные способы приготовления пищи. Кулинария эвенков Якутии еще не изучена, хотя и имеются описания некоторых блюд. Возродить их предстоит уже сейчас, иначе можно упустить время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20:17:49Z</dcterms:created>
  <dc:creator>Надежда</dc:creator>
  <dc:description/>
  <dc:language>en-US</dc:language>
  <cp:lastModifiedBy>Надежда</cp:lastModifiedBy>
  <dcterms:modified xsi:type="dcterms:W3CDTF">2012-05-20T04:56:15Z</dcterms:modified>
  <cp:revision>8</cp:revision>
  <dc:subject/>
  <dc:title>Презентация PowerPoint</dc:title>
</cp:coreProperties>
</file>