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809-5277-424B-B390-FB42F73A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A940-9E43-4B3E-A090-5D01A0A6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1065-279E-469D-9A22-B410FCE0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C22-854C-4AA9-9AAF-4EA29932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AFE5-2651-434B-A12E-F5918BBB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6B191-5095-4E18-90C6-ACF37FAC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EA05-8DD9-4F8B-B045-D3D16C27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38B7-FFA0-4E02-AF63-6169ABF2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50C09-02F7-4DB6-A046-39BA3965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95FE-71C7-4CCD-BB85-A9BE1A97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4A31-BD5A-4280-801D-ADECF970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4BF-F73D-4471-AA8A-4A0AFC133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1425-4EC4-4307-BFE8-FD79382A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5DCC-A64E-4F26-85FC-1A66FB0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234A-3825-4E0C-AEC5-8F60E737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1F39A-0DDC-44A2-BFE6-AC81E000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C40B-779C-4854-9654-BF2D5FBE0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3552-30E8-4D7A-9004-878DBEC9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B057C-1E31-40D4-9696-B0E5A070D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D8CC-D88D-4F09-9F21-DDC16131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A961-0C9B-413F-8DD9-6060EFFB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D6469-BDB8-4F01-9183-7427C4184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039-C48E-4289-BBD3-A6B54AC1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B0D71-804F-4A3A-9A73-1D80E40F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0C611-C88B-4905-8D8A-978DC89A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37C13-7669-402A-94AB-807B497D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5FC6A-39A6-4103-931C-05E57200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B3F1C-208E-4B7F-AAC0-B56D9942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BA377-45B1-40BF-824D-8AB73590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88C37-943C-4F86-8290-9D1D107F1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44E46-7AEE-44C2-A197-AE4A5AFB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10669-302E-4BA9-BE7D-36CB9ABF2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2A10DE-76BC-479E-B25D-5C197444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8FEE-23FE-40DD-AFF7-05DF0408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D1B544-39F8-4DFC-BE5B-5268340A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72F6-3264-4DBF-A500-7774958A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014D-7CE4-4D3B-A400-7F88D0E3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B5DE5-0EF4-47A2-965F-4C98830B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E8C6-4E6E-4199-B350-4DF9F4C0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0848B-6B9C-4431-AA12-AB60048D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5B294-615D-43CA-9285-DAAD70C0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0A484-3975-48B1-83CF-FE58B3754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A4D4-5CA8-4334-BACF-29C87B994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296-8402-4C71-9F80-6FFC3516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9456-E6CB-4C73-8AC0-004E18C2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902D-2831-44B1-8974-D13118A6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9B54-E218-4CD6-8B94-90A22518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628-75E0-4C11-AB78-D775EB8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8EC6-FF6F-4195-BBAF-A48F890D14A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0C13-51C6-4BC7-95BA-B2E4DAB818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D9AB-FF3C-4392-B3F6-8D97A1237B7A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8ABB-CBD8-4F18-9E81-D0A927FB8E9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1841400" y="1925640"/>
            <a:ext cx="54612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9280" y="270792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сновными кулинарными способами приготовления мяса были варка в воде и обжаривание на рожне. Вареное мясо ели, запивая бульоном. Рыбу обычно варили или жарили на рожне, а ценные породы рыб употребляли в виде строганины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2" descr="буюкса (буюрун) - кровяная колбаса"/>
          <p:cNvPicPr/>
          <p:nvPr/>
        </p:nvPicPr>
        <p:blipFill>
          <a:blip r:embed="rId1"/>
          <a:stretch/>
        </p:blipFill>
        <p:spPr>
          <a:xfrm>
            <a:off x="1835280" y="190440"/>
            <a:ext cx="1979640" cy="23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evenkfsh"/>
          <p:cNvPicPr/>
          <p:nvPr/>
        </p:nvPicPr>
        <p:blipFill>
          <a:blip r:embed="rId2"/>
          <a:stretch/>
        </p:blipFill>
        <p:spPr>
          <a:xfrm>
            <a:off x="5076720" y="482760"/>
            <a:ext cx="2529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000" y="260280"/>
            <a:ext cx="8280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ЭВЕ́НКИ, народ в Российской Федерации, коренное население Эвенкийского округа (3,8 тыс. чел.) Красноярского края; живут на обширной территории Сибири и Дальнего Востока, в том числе в Якутии (18,2 тыс. чел.). Всего в Российской Федерации 35,5 тысяч человек (2002). 35 тысяч эвенков живут на северо-западе Китая (1992). Верующие — приверженцы традиционных верований, православные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76040" y="5479920"/>
            <a:ext cx="8791920" cy="118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Надежда\Desktop\Саха Якутия\Эвенки\287090.jpg"/>
          <p:cNvPicPr/>
          <p:nvPr/>
        </p:nvPicPr>
        <p:blipFill>
          <a:blip r:embed="rId2"/>
          <a:stretch/>
        </p:blipFill>
        <p:spPr>
          <a:xfrm>
            <a:off x="108000" y="260280"/>
            <a:ext cx="4824360" cy="5316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5076720" y="260280"/>
            <a:ext cx="38894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401840" y="5224320"/>
            <a:ext cx="6516720" cy="150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2843280" y="257040"/>
            <a:ext cx="3960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96840" y="5419800"/>
            <a:ext cx="8918640" cy="1309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Надежда\Desktop\Саха Якутия\Эвенки\Evenki_1.jpg"/>
          <p:cNvPicPr/>
          <p:nvPr/>
        </p:nvPicPr>
        <p:blipFill>
          <a:blip r:embed="rId2"/>
          <a:stretch/>
        </p:blipFill>
        <p:spPr>
          <a:xfrm>
            <a:off x="250920" y="115920"/>
            <a:ext cx="3673440" cy="5332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4379760" y="189000"/>
            <a:ext cx="4418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68360" y="731520"/>
            <a:ext cx="79912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569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сновное занятие эвенков — охота на лося, медведя, оленя, рысь и других животных. Оленей разводят для перевозки грузов и для езды верхом. В отличие от народов живущих в Арктике, стада которых насчитывают тысячу голов и более, эвенки держат по 25 оленей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52280" y="4187880"/>
            <a:ext cx="8382240" cy="2494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Надежда\Desktop\Саха Якутия\Эвенки\evenks03.jpg"/>
          <p:cNvPicPr/>
          <p:nvPr/>
        </p:nvPicPr>
        <p:blipFill>
          <a:blip r:embed="rId2"/>
          <a:stretch/>
        </p:blipFill>
        <p:spPr>
          <a:xfrm>
            <a:off x="3708360" y="231840"/>
            <a:ext cx="5281560" cy="3645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190440" y="260280"/>
            <a:ext cx="33782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1840" y="3933720"/>
            <a:ext cx="849780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Эвенки – дети природы. Игры и танцы – это подражание живой природ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900680" y="692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22200" y="692280"/>
            <a:ext cx="4111560" cy="2817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588000" y="5262480"/>
            <a:ext cx="1683000" cy="1189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8120" y="5227560"/>
            <a:ext cx="1670040" cy="1258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5"/>
          <a:stretch/>
        </p:blipFill>
        <p:spPr>
          <a:xfrm>
            <a:off x="4140360" y="5126040"/>
            <a:ext cx="1008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9280" y="188640"/>
            <a:ext cx="864072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Эвенки-скотоводы занимались рыболовством и охотой даже в большей степени, чем якуты. Они питались почти так же, как якуты и русские, но все же сохранили некоторые национальные способы приготовления пищи. Кулинария эвенков Якутии еще не изучена, хотя и имеются описания некоторых блюд. Возродить их предстоит уже сейчас, иначе можно упустить время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17:49Z</dcterms:created>
  <dc:creator>Надежда</dc:creator>
  <dc:description/>
  <dc:language>en-US</dc:language>
  <cp:lastModifiedBy>Надежда</cp:lastModifiedBy>
  <dcterms:modified xsi:type="dcterms:W3CDTF">2012-05-20T04:56:15Z</dcterms:modified>
  <cp:revision>8</cp:revision>
  <dc:subject/>
  <dc:title>Презентация PowerPoint</dc:title>
</cp:coreProperties>
</file>