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0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8DB-4859-44F7-8418-DFD49A54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B60-F2E9-4EC0-8F4A-B6923B02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E1C-05B5-499E-8C42-01313C7A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F95-6129-4296-A977-80D77D9D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4DE2-C5AF-435B-B04C-48CAC156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D31E-7EFA-4922-BCA7-1A1F713C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CC23-DDB3-42E7-9182-3D8DE901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5B86-B3F1-4EAF-9490-6C465FF0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D09A-F902-48AF-BA28-F31F15A3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BF99-4396-42B3-BBDA-47198596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F3E7-FD46-4616-9177-8AD5493C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FD7-ED80-4F72-909C-B5D24E89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E958-956C-4822-9D89-4A7E37D7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5523-6341-489D-A5CE-DCE26C3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8212-7185-47A4-B257-65CAA431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D238-6FB6-49B5-B52D-1D017C33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2321-1562-4668-B332-B3ACC60E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738-29B2-4B9E-8C14-69862E78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362-29E6-404D-89D3-40A8DD14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0DF-6F2F-4312-BA78-77CD9DAC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CAF-C6CE-43D9-9F1E-5FB7F92F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CD2-4FB1-4D1A-8F63-B0CF5E7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F3F-0860-4B93-9560-266B42C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C0B-BD55-4B92-80BA-305387A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26C4-7228-43D8-92F0-A0DCEF7D1C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39F0-3800-46A3-8C50-A023CEAE52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0000" y="1844640"/>
            <a:ext cx="51116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333"/>
                </a:solidFill>
                <a:latin typeface="Arial"/>
                <a:ea typeface="Arial"/>
              </a:rPr>
              <a:t>Приёмы составления орнаментальных композиций</a:t>
            </a:r>
            <a:br>
              <a:rPr sz="3200"/>
            </a:br>
            <a:br>
              <a:rPr sz="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е </a:t>
            </a:r>
            <a:br>
              <a:rPr sz="3200"/>
            </a:b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850920" y="4005000"/>
            <a:ext cx="374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ЕНИЦКОЙ М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16"/>
          <p:cNvPicPr/>
          <p:nvPr/>
        </p:nvPicPr>
        <p:blipFill>
          <a:blip r:embed="rId1"/>
          <a:stretch/>
        </p:blipFill>
        <p:spPr>
          <a:xfrm>
            <a:off x="684360" y="1557360"/>
            <a:ext cx="1815840" cy="288144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7"/>
          <p:cNvSpPr/>
          <p:nvPr/>
        </p:nvSpPr>
        <p:spPr>
          <a:xfrm>
            <a:off x="324000" y="260280"/>
            <a:ext cx="74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сударственное бюджет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297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шкинского района Санкт-Петербург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дошкольное отдел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35"/>
          <p:cNvPicPr/>
          <p:nvPr/>
        </p:nvPicPr>
        <p:blipFill>
          <a:blip r:embed="rId2"/>
          <a:stretch/>
        </p:blipFill>
        <p:spPr>
          <a:xfrm>
            <a:off x="2050920" y="3789360"/>
            <a:ext cx="1820880" cy="187164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9"/>
          <p:cNvSpPr/>
          <p:nvPr/>
        </p:nvSpPr>
        <p:spPr>
          <a:xfrm>
            <a:off x="2627280" y="5805360"/>
            <a:ext cx="27367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Пейзажны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ы пейз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ы архите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60"/>
          <p:cNvPicPr/>
          <p:nvPr/>
        </p:nvPicPr>
        <p:blipFill>
          <a:blip r:embed="rId3"/>
          <a:stretch/>
        </p:blipFill>
        <p:spPr>
          <a:xfrm>
            <a:off x="1547640" y="3213000"/>
            <a:ext cx="2275200" cy="3240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5"/>
          <p:cNvPicPr/>
          <p:nvPr/>
        </p:nvPicPr>
        <p:blipFill>
          <a:blip r:embed="rId4"/>
          <a:stretch/>
        </p:blipFill>
        <p:spPr>
          <a:xfrm>
            <a:off x="4067280" y="1484280"/>
            <a:ext cx="35971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Зооморфны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нтастические, сказочные с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Копия 26"/>
          <p:cNvPicPr/>
          <p:nvPr/>
        </p:nvPicPr>
        <p:blipFill>
          <a:blip r:embed="rId2"/>
          <a:stretch/>
        </p:blipFill>
        <p:spPr>
          <a:xfrm>
            <a:off x="5580000" y="1197000"/>
            <a:ext cx="1711440" cy="2376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27"/>
          <p:cNvPicPr/>
          <p:nvPr/>
        </p:nvPicPr>
        <p:blipFill>
          <a:blip r:embed="rId3"/>
          <a:stretch/>
        </p:blipFill>
        <p:spPr>
          <a:xfrm>
            <a:off x="2843280" y="2455920"/>
            <a:ext cx="2448000" cy="1860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28"/>
          <p:cNvPicPr/>
          <p:nvPr/>
        </p:nvPicPr>
        <p:blipFill>
          <a:blip r:embed="rId4"/>
          <a:stretch/>
        </p:blipFill>
        <p:spPr>
          <a:xfrm>
            <a:off x="5580000" y="3933720"/>
            <a:ext cx="1849680" cy="2232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29"/>
          <p:cNvPicPr/>
          <p:nvPr/>
        </p:nvPicPr>
        <p:blipFill>
          <a:blip r:embed="rId5"/>
          <a:stretch/>
        </p:blipFill>
        <p:spPr>
          <a:xfrm>
            <a:off x="4427640" y="1268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30"/>
          <p:cNvPicPr/>
          <p:nvPr/>
        </p:nvPicPr>
        <p:blipFill>
          <a:blip r:embed="rId6"/>
          <a:stretch/>
        </p:blipFill>
        <p:spPr>
          <a:xfrm>
            <a:off x="324000" y="3789360"/>
            <a:ext cx="2682720" cy="2544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35"/>
          <p:cNvPicPr/>
          <p:nvPr/>
        </p:nvPicPr>
        <p:blipFill>
          <a:blip r:embed="rId7"/>
          <a:stretch/>
        </p:blipFill>
        <p:spPr>
          <a:xfrm>
            <a:off x="3132000" y="4437000"/>
            <a:ext cx="1260720" cy="1295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36"/>
          <p:cNvPicPr/>
          <p:nvPr/>
        </p:nvPicPr>
        <p:blipFill>
          <a:blip r:embed="rId8"/>
          <a:stretch/>
        </p:blipFill>
        <p:spPr>
          <a:xfrm>
            <a:off x="4356000" y="5229360"/>
            <a:ext cx="109692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Геометрически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гз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т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bord42[1]"/>
          <p:cNvPicPr/>
          <p:nvPr/>
        </p:nvPicPr>
        <p:blipFill>
          <a:blip r:embed="rId7"/>
          <a:stretch/>
        </p:blipFill>
        <p:spPr>
          <a:xfrm>
            <a:off x="611280" y="5013360"/>
            <a:ext cx="3276360" cy="515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61"/>
          <p:cNvPicPr/>
          <p:nvPr/>
        </p:nvPicPr>
        <p:blipFill>
          <a:blip r:embed="rId8"/>
          <a:stretch/>
        </p:blipFill>
        <p:spPr>
          <a:xfrm>
            <a:off x="4500720" y="1125360"/>
            <a:ext cx="2906640" cy="4032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64"/>
          <p:cNvPicPr/>
          <p:nvPr/>
        </p:nvPicPr>
        <p:blipFill>
          <a:blip r:embed="rId9"/>
          <a:stretch/>
        </p:blipFill>
        <p:spPr>
          <a:xfrm>
            <a:off x="2411280" y="1557360"/>
            <a:ext cx="1998720" cy="3168720"/>
          </a:xfrm>
          <a:prstGeom prst="rect">
            <a:avLst/>
          </a:prstGeom>
          <a:ln w="0">
            <a:noFill/>
          </a:ln>
        </p:spPr>
      </p:pic>
      <p:sp>
        <p:nvSpPr>
          <p:cNvPr id="265" name="Oval 7"/>
          <p:cNvSpPr/>
          <p:nvPr/>
        </p:nvSpPr>
        <p:spPr>
          <a:xfrm>
            <a:off x="4140360" y="5734080"/>
            <a:ext cx="360360" cy="358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4572000" y="5734080"/>
            <a:ext cx="360360" cy="358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5003640" y="5734080"/>
            <a:ext cx="360360" cy="358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5435640" y="5734080"/>
            <a:ext cx="360360" cy="358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012000" y="5734080"/>
            <a:ext cx="14256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27640" y="602136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6659640" y="573408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7236000" y="5661000"/>
            <a:ext cx="14256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6659640" y="6093000"/>
            <a:ext cx="142920" cy="14256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7093080" y="602136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826920" y="587700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8"/>
          <p:cNvSpPr/>
          <p:nvPr/>
        </p:nvSpPr>
        <p:spPr>
          <a:xfrm>
            <a:off x="1476360" y="587700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9"/>
          <p:cNvSpPr/>
          <p:nvPr/>
        </p:nvSpPr>
        <p:spPr>
          <a:xfrm>
            <a:off x="2124000" y="587700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0"/>
          <p:cNvSpPr/>
          <p:nvPr/>
        </p:nvSpPr>
        <p:spPr>
          <a:xfrm>
            <a:off x="2843280" y="5877000"/>
            <a:ext cx="142920" cy="14292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Эпиграфически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200484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7" descr="3"/>
          <p:cNvPicPr/>
          <p:nvPr/>
        </p:nvPicPr>
        <p:blipFill>
          <a:blip r:embed="rId2"/>
          <a:stretch/>
        </p:blipFill>
        <p:spPr>
          <a:xfrm>
            <a:off x="2700360" y="1484280"/>
            <a:ext cx="4032360" cy="155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4"/>
          <p:cNvPicPr/>
          <p:nvPr/>
        </p:nvPicPr>
        <p:blipFill>
          <a:blip r:embed="rId3"/>
          <a:stretch/>
        </p:blipFill>
        <p:spPr>
          <a:xfrm>
            <a:off x="2700360" y="3357720"/>
            <a:ext cx="4680000" cy="2784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3" descr="a10[1]"/>
          <p:cNvPicPr/>
          <p:nvPr/>
        </p:nvPicPr>
        <p:blipFill>
          <a:blip r:embed="rId4"/>
          <a:stretch/>
        </p:blipFill>
        <p:spPr>
          <a:xfrm>
            <a:off x="611280" y="2205000"/>
            <a:ext cx="1655640" cy="1644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65"/>
          <p:cNvPicPr/>
          <p:nvPr/>
        </p:nvPicPr>
        <p:blipFill>
          <a:blip r:embed="rId5"/>
          <a:stretch/>
        </p:blipFill>
        <p:spPr>
          <a:xfrm>
            <a:off x="684360" y="4076640"/>
            <a:ext cx="156024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Антропоморфны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6162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ы фигуры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част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6" descr="Копия 39"/>
          <p:cNvPicPr/>
          <p:nvPr/>
        </p:nvPicPr>
        <p:blipFill>
          <a:blip r:embed="rId3"/>
          <a:stretch/>
        </p:blipFill>
        <p:spPr>
          <a:xfrm>
            <a:off x="3995640" y="1197000"/>
            <a:ext cx="3584520" cy="4967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det14[1]"/>
          <p:cNvPicPr/>
          <p:nvPr/>
        </p:nvPicPr>
        <p:blipFill>
          <a:blip r:embed="rId4"/>
          <a:stretch/>
        </p:blipFill>
        <p:spPr>
          <a:xfrm>
            <a:off x="2556000" y="4292640"/>
            <a:ext cx="1428480" cy="1009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1" descr="poli32[1]"/>
          <p:cNvPicPr/>
          <p:nvPr/>
        </p:nvPicPr>
        <p:blipFill>
          <a:blip r:embed="rId5"/>
          <a:stretch/>
        </p:blipFill>
        <p:spPr>
          <a:xfrm>
            <a:off x="395280" y="4292640"/>
            <a:ext cx="201600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Орнаментальные формы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52600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cument"/>
          <p:cNvSpPr/>
          <p:nvPr/>
        </p:nvSpPr>
        <p:spPr>
          <a:xfrm>
            <a:off x="250920" y="1268280"/>
            <a:ext cx="3600360" cy="5112000"/>
          </a:xfrm>
          <a:prstGeom prst="pie">
            <a:avLst/>
          </a:prstGeom>
          <a:solidFill>
            <a:srgbClr val="d8ebb3"/>
          </a:solidFill>
          <a:ln w="9360">
            <a:solidFill>
              <a:srgbClr val="d4dd9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метр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5"/>
          <p:cNvSpPr/>
          <p:nvPr/>
        </p:nvSpPr>
        <p:spPr>
          <a:xfrm>
            <a:off x="1835280" y="2349360"/>
            <a:ext cx="576000" cy="57636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8"/>
          <p:cNvSpPr/>
          <p:nvPr/>
        </p:nvSpPr>
        <p:spPr>
          <a:xfrm>
            <a:off x="755640" y="2133720"/>
            <a:ext cx="574560" cy="1081080"/>
          </a:xfrm>
          <a:prstGeom prst="flowChartDecision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0"/>
          <p:cNvSpPr/>
          <p:nvPr/>
        </p:nvSpPr>
        <p:spPr>
          <a:xfrm>
            <a:off x="755640" y="4076640"/>
            <a:ext cx="863640" cy="576360"/>
          </a:xfrm>
          <a:prstGeom prst="flowChartExtra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1"/>
          <p:cNvSpPr/>
          <p:nvPr/>
        </p:nvSpPr>
        <p:spPr>
          <a:xfrm flipV="1">
            <a:off x="2627280" y="2708280"/>
            <a:ext cx="934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2"/>
          <p:cNvSpPr/>
          <p:nvPr/>
        </p:nvSpPr>
        <p:spPr>
          <a:xfrm>
            <a:off x="1476360" y="3213000"/>
            <a:ext cx="576360" cy="57636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ocument"/>
          <p:cNvSpPr/>
          <p:nvPr/>
        </p:nvSpPr>
        <p:spPr>
          <a:xfrm>
            <a:off x="4067280" y="1268280"/>
            <a:ext cx="3529080" cy="5112000"/>
          </a:xfrm>
          <a:prstGeom prst="pie">
            <a:avLst/>
          </a:prstGeom>
          <a:solidFill>
            <a:srgbClr val="d8ebb3"/>
          </a:solidFill>
          <a:ln w="9360">
            <a:solidFill>
              <a:srgbClr val="d4dd9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4"/>
          <p:cNvSpPr/>
          <p:nvPr/>
        </p:nvSpPr>
        <p:spPr>
          <a:xfrm flipV="1">
            <a:off x="1547640" y="5013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5"/>
          <p:cNvSpPr/>
          <p:nvPr/>
        </p:nvSpPr>
        <p:spPr>
          <a:xfrm>
            <a:off x="1692360" y="5013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2"/>
          <p:cNvSpPr/>
          <p:nvPr/>
        </p:nvSpPr>
        <p:spPr>
          <a:xfrm flipV="1">
            <a:off x="1835280" y="501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93"/>
          <p:cNvSpPr/>
          <p:nvPr/>
        </p:nvSpPr>
        <p:spPr>
          <a:xfrm>
            <a:off x="1979640" y="501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4"/>
          <p:cNvSpPr/>
          <p:nvPr/>
        </p:nvSpPr>
        <p:spPr>
          <a:xfrm flipV="1">
            <a:off x="2124000" y="501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5"/>
          <p:cNvSpPr/>
          <p:nvPr/>
        </p:nvSpPr>
        <p:spPr>
          <a:xfrm>
            <a:off x="2268360" y="5013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6"/>
          <p:cNvSpPr/>
          <p:nvPr/>
        </p:nvSpPr>
        <p:spPr>
          <a:xfrm flipV="1">
            <a:off x="2411280" y="5013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7"/>
          <p:cNvSpPr/>
          <p:nvPr/>
        </p:nvSpPr>
        <p:spPr>
          <a:xfrm>
            <a:off x="2556000" y="501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99"/>
          <p:cNvSpPr/>
          <p:nvPr/>
        </p:nvSpPr>
        <p:spPr>
          <a:xfrm flipV="1" rot="10962600">
            <a:off x="1979280" y="4508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100"/>
          <p:cNvSpPr/>
          <p:nvPr/>
        </p:nvSpPr>
        <p:spPr>
          <a:xfrm flipV="1" rot="10962600">
            <a:off x="2339640" y="4508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101"/>
          <p:cNvSpPr/>
          <p:nvPr/>
        </p:nvSpPr>
        <p:spPr>
          <a:xfrm flipV="1" rot="10962600">
            <a:off x="2700000" y="4508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rc 102"/>
          <p:cNvSpPr/>
          <p:nvPr/>
        </p:nvSpPr>
        <p:spPr>
          <a:xfrm flipV="1" rot="10962600">
            <a:off x="3058920" y="4508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8"/>
          <p:cNvSpPr/>
          <p:nvPr/>
        </p:nvSpPr>
        <p:spPr>
          <a:xfrm flipV="1">
            <a:off x="183528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09"/>
          <p:cNvSpPr/>
          <p:nvPr/>
        </p:nvSpPr>
        <p:spPr>
          <a:xfrm flipV="1">
            <a:off x="205092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0"/>
          <p:cNvSpPr/>
          <p:nvPr/>
        </p:nvSpPr>
        <p:spPr>
          <a:xfrm>
            <a:off x="1835280" y="54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11"/>
          <p:cNvSpPr/>
          <p:nvPr/>
        </p:nvSpPr>
        <p:spPr>
          <a:xfrm flipV="1">
            <a:off x="212400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12"/>
          <p:cNvSpPr/>
          <p:nvPr/>
        </p:nvSpPr>
        <p:spPr>
          <a:xfrm flipV="1">
            <a:off x="234000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13"/>
          <p:cNvSpPr/>
          <p:nvPr/>
        </p:nvSpPr>
        <p:spPr>
          <a:xfrm>
            <a:off x="212400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14"/>
          <p:cNvSpPr/>
          <p:nvPr/>
        </p:nvSpPr>
        <p:spPr>
          <a:xfrm flipV="1">
            <a:off x="241128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15"/>
          <p:cNvSpPr/>
          <p:nvPr/>
        </p:nvSpPr>
        <p:spPr>
          <a:xfrm flipV="1">
            <a:off x="262728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16"/>
          <p:cNvSpPr/>
          <p:nvPr/>
        </p:nvSpPr>
        <p:spPr>
          <a:xfrm>
            <a:off x="241128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17"/>
          <p:cNvSpPr/>
          <p:nvPr/>
        </p:nvSpPr>
        <p:spPr>
          <a:xfrm flipV="1">
            <a:off x="270036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8"/>
          <p:cNvSpPr/>
          <p:nvPr/>
        </p:nvSpPr>
        <p:spPr>
          <a:xfrm flipV="1">
            <a:off x="291636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9"/>
          <p:cNvSpPr/>
          <p:nvPr/>
        </p:nvSpPr>
        <p:spPr>
          <a:xfrm>
            <a:off x="270036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0"/>
          <p:cNvSpPr/>
          <p:nvPr/>
        </p:nvSpPr>
        <p:spPr>
          <a:xfrm flipV="1">
            <a:off x="298764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21"/>
          <p:cNvSpPr/>
          <p:nvPr/>
        </p:nvSpPr>
        <p:spPr>
          <a:xfrm flipV="1">
            <a:off x="3203640" y="5445000"/>
            <a:ext cx="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22"/>
          <p:cNvSpPr/>
          <p:nvPr/>
        </p:nvSpPr>
        <p:spPr>
          <a:xfrm>
            <a:off x="298764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24"/>
          <p:cNvSpPr/>
          <p:nvPr/>
        </p:nvSpPr>
        <p:spPr>
          <a:xfrm>
            <a:off x="3059280" y="3645000"/>
            <a:ext cx="71280" cy="7128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rc 132"/>
          <p:cNvSpPr/>
          <p:nvPr/>
        </p:nvSpPr>
        <p:spPr>
          <a:xfrm flipV="1" rot="10962600">
            <a:off x="4355640" y="4076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rc 133"/>
          <p:cNvSpPr/>
          <p:nvPr/>
        </p:nvSpPr>
        <p:spPr>
          <a:xfrm flipV="1" rot="10962600">
            <a:off x="4716000" y="4076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rc 134"/>
          <p:cNvSpPr/>
          <p:nvPr/>
        </p:nvSpPr>
        <p:spPr>
          <a:xfrm flipV="1" rot="10962600">
            <a:off x="5076360" y="4076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35"/>
          <p:cNvSpPr/>
          <p:nvPr/>
        </p:nvSpPr>
        <p:spPr>
          <a:xfrm flipV="1" rot="10962600">
            <a:off x="5435280" y="4076280"/>
            <a:ext cx="360360" cy="233280"/>
          </a:xfrm>
          <a:custGeom>
            <a:avLst/>
            <a:gdLst>
              <a:gd name="textAreaLeft" fmla="*/ 0 w 360360"/>
              <a:gd name="textAreaRight" fmla="*/ 360720 w 360360"/>
              <a:gd name="textAreaTop" fmla="*/ 360 h 233280"/>
              <a:gd name="textAreaBottom" fmla="*/ 234000 h 233280"/>
            </a:gdLst>
            <a:ahLst/>
            <a:rect l="textAreaLeft" t="textAreaTop" r="textAreaRight" b="textAreaBottom"/>
            <a:pathLst>
              <a:path fill="none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</a:path>
              <a:path stroke="0" w="43200" h="24872">
                <a:moveTo>
                  <a:pt x="24" y="22638"/>
                </a:moveTo>
                <a:cubicBezTo>
                  <a:pt x="8" y="22292"/>
                  <a:pt x="0" y="219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695"/>
                  <a:pt x="-22420" y="23789"/>
                  <a:pt x="-22586" y="24871"/>
                </a:cubicBezTo>
                <a:lnTo>
                  <a:pt x="21600" y="21600"/>
                </a:lnTo>
                <a:lnTo>
                  <a:pt x="24" y="226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36"/>
          <p:cNvSpPr/>
          <p:nvPr/>
        </p:nvSpPr>
        <p:spPr>
          <a:xfrm>
            <a:off x="6804000" y="3933720"/>
            <a:ext cx="71640" cy="71640"/>
          </a:xfrm>
          <a:prstGeom prst="ellipse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42"/>
          <p:cNvSpPr/>
          <p:nvPr/>
        </p:nvSpPr>
        <p:spPr>
          <a:xfrm rot="9666000">
            <a:off x="4426920" y="2204640"/>
            <a:ext cx="431640" cy="1008000"/>
          </a:xfrm>
          <a:custGeom>
            <a:avLst/>
            <a:gdLst>
              <a:gd name="textAreaLeft" fmla="*/ 0 w 431640"/>
              <a:gd name="textAreaRight" fmla="*/ 432000 w 431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6" h="952">
                <a:moveTo>
                  <a:pt x="53" y="831"/>
                </a:moveTo>
                <a:cubicBezTo>
                  <a:pt x="68" y="710"/>
                  <a:pt x="106" y="30"/>
                  <a:pt x="98" y="15"/>
                </a:cubicBezTo>
                <a:cubicBezTo>
                  <a:pt x="90" y="0"/>
                  <a:pt x="14" y="604"/>
                  <a:pt x="7" y="740"/>
                </a:cubicBezTo>
                <a:cubicBezTo>
                  <a:pt x="0" y="876"/>
                  <a:pt x="38" y="952"/>
                  <a:pt x="53" y="831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149"/>
          <p:cNvCxnSpPr/>
          <p:nvPr/>
        </p:nvCxnSpPr>
        <p:spPr>
          <a:xfrm flipH="1" flipV="1" rot="5400000">
            <a:off x="5794560" y="2926080"/>
            <a:ext cx="1154880" cy="864360"/>
          </a:xfrm>
          <a:prstGeom prst="curvedConnector5">
            <a:avLst>
              <a:gd name="adj1" fmla="val 41097"/>
              <a:gd name="adj2" fmla="val 50000"/>
              <a:gd name="adj3" fmla="val 410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AutoShape 150"/>
          <p:cNvCxnSpPr/>
          <p:nvPr/>
        </p:nvCxnSpPr>
        <p:spPr>
          <a:xfrm flipH="1" flipV="1" rot="5400000">
            <a:off x="5832000" y="2888640"/>
            <a:ext cx="1080000" cy="864360"/>
          </a:xfrm>
          <a:prstGeom prst="curvedConnector5">
            <a:avLst>
              <a:gd name="adj1" fmla="val 74524"/>
              <a:gd name="adj2" fmla="val 50000"/>
              <a:gd name="adj3" fmla="val 745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AutoShape 152"/>
          <p:cNvSpPr/>
          <p:nvPr/>
        </p:nvSpPr>
        <p:spPr>
          <a:xfrm rot="2949000">
            <a:off x="4990320" y="2578680"/>
            <a:ext cx="431640" cy="836640"/>
          </a:xfrm>
          <a:custGeom>
            <a:avLst/>
            <a:gdLst>
              <a:gd name="textAreaLeft" fmla="*/ 100440 w 431640"/>
              <a:gd name="textAreaRight" fmla="*/ 330840 w 431640"/>
              <a:gd name="textAreaTop" fmla="*/ 88200 h 836640"/>
              <a:gd name="textAreaBottom" fmla="*/ 529920 h 836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1"/>
          <p:cNvSpPr/>
          <p:nvPr/>
        </p:nvSpPr>
        <p:spPr>
          <a:xfrm rot="5400000">
            <a:off x="4859280" y="4868640"/>
            <a:ext cx="72072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4" y="1939"/>
                  <a:pt x="10808" y="5080"/>
                  <a:pt x="10808" y="10800"/>
                </a:cubicBezTo>
                <a:cubicBezTo>
                  <a:pt x="10808" y="16520"/>
                  <a:pt x="16204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2"/>
          <p:cNvSpPr/>
          <p:nvPr/>
        </p:nvSpPr>
        <p:spPr>
          <a:xfrm rot="5400000">
            <a:off x="5290560" y="4868640"/>
            <a:ext cx="72072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4" y="1939"/>
                  <a:pt x="10808" y="5080"/>
                  <a:pt x="10808" y="10800"/>
                </a:cubicBezTo>
                <a:cubicBezTo>
                  <a:pt x="10808" y="16520"/>
                  <a:pt x="16204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73"/>
          <p:cNvSpPr/>
          <p:nvPr/>
        </p:nvSpPr>
        <p:spPr>
          <a:xfrm rot="5400000">
            <a:off x="5722920" y="4868640"/>
            <a:ext cx="72072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4" y="1939"/>
                  <a:pt x="10808" y="5080"/>
                  <a:pt x="10808" y="10800"/>
                </a:cubicBezTo>
                <a:cubicBezTo>
                  <a:pt x="10808" y="16520"/>
                  <a:pt x="16204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74"/>
          <p:cNvSpPr/>
          <p:nvPr/>
        </p:nvSpPr>
        <p:spPr>
          <a:xfrm rot="5400000">
            <a:off x="6156360" y="4868640"/>
            <a:ext cx="72072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4" y="1939"/>
                  <a:pt x="10808" y="5080"/>
                  <a:pt x="10808" y="10800"/>
                </a:cubicBezTo>
                <a:cubicBezTo>
                  <a:pt x="10808" y="16520"/>
                  <a:pt x="16204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Технические упражнения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42"/>
          <p:cNvPicPr/>
          <p:nvPr/>
        </p:nvPicPr>
        <p:blipFill>
          <a:blip r:embed="rId1"/>
          <a:stretch/>
        </p:blipFill>
        <p:spPr>
          <a:xfrm>
            <a:off x="971640" y="1125360"/>
            <a:ext cx="590544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0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Упражнение№1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345" name="Picture 4" descr="м4"/>
          <p:cNvPicPr/>
          <p:nvPr/>
        </p:nvPicPr>
        <p:blipFill>
          <a:blip r:embed="rId1"/>
          <a:stretch/>
        </p:blipFill>
        <p:spPr>
          <a:xfrm>
            <a:off x="684360" y="1268280"/>
            <a:ext cx="2447640" cy="128124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149"/>
          <p:cNvSpPr/>
          <p:nvPr/>
        </p:nvSpPr>
        <p:spPr>
          <a:xfrm rot="1843800">
            <a:off x="5076360" y="1268280"/>
            <a:ext cx="432000" cy="836640"/>
          </a:xfrm>
          <a:custGeom>
            <a:avLst/>
            <a:gdLst>
              <a:gd name="textAreaLeft" fmla="*/ 100800 w 432000"/>
              <a:gd name="textAreaRight" fmla="*/ 331200 w 432000"/>
              <a:gd name="textAreaTop" fmla="*/ 88200 h 836640"/>
              <a:gd name="textAreaBottom" fmla="*/ 529920 h 836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99"/>
          <p:cNvGrpSpPr/>
          <p:nvPr/>
        </p:nvGrpSpPr>
        <p:grpSpPr>
          <a:xfrm>
            <a:off x="425880" y="2918160"/>
            <a:ext cx="1205280" cy="858960"/>
            <a:chOff x="425880" y="2918160"/>
            <a:chExt cx="1205280" cy="858960"/>
          </a:xfrm>
        </p:grpSpPr>
        <p:grpSp>
          <p:nvGrpSpPr>
            <p:cNvPr id="348" name="Group 100"/>
            <p:cNvGrpSpPr/>
            <p:nvPr/>
          </p:nvGrpSpPr>
          <p:grpSpPr>
            <a:xfrm>
              <a:off x="425880" y="2918160"/>
              <a:ext cx="1205280" cy="858960"/>
              <a:chOff x="425880" y="2918160"/>
              <a:chExt cx="1205280" cy="858960"/>
            </a:xfrm>
          </p:grpSpPr>
          <p:sp>
            <p:nvSpPr>
              <p:cNvPr id="349" name="AutoShape 101"/>
              <p:cNvSpPr/>
              <p:nvPr/>
            </p:nvSpPr>
            <p:spPr>
              <a:xfrm flipH="1" flipV="1" rot="20472000">
                <a:off x="1201320" y="333900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102"/>
              <p:cNvSpPr/>
              <p:nvPr/>
            </p:nvSpPr>
            <p:spPr>
              <a:xfrm flipH="1" flipV="1" rot="10630800">
                <a:off x="1131120" y="292248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3"/>
              <p:cNvSpPr/>
              <p:nvPr/>
            </p:nvSpPr>
            <p:spPr>
              <a:xfrm flipH="1" flipV="1" rot="7522800">
                <a:off x="964440" y="303804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04"/>
              <p:cNvSpPr/>
              <p:nvPr/>
            </p:nvSpPr>
            <p:spPr>
              <a:xfrm flipH="1" flipV="1" rot="4215600">
                <a:off x="934920" y="323208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05"/>
              <p:cNvSpPr/>
              <p:nvPr/>
            </p:nvSpPr>
            <p:spPr>
              <a:xfrm flipH="1" flipV="1" rot="13851000">
                <a:off x="1271880" y="304056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106"/>
              <p:cNvSpPr/>
              <p:nvPr/>
            </p:nvSpPr>
            <p:spPr>
              <a:xfrm flipH="1" flipV="1" rot="17403600">
                <a:off x="1301400" y="322668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rc 107"/>
              <p:cNvSpPr/>
              <p:nvPr/>
            </p:nvSpPr>
            <p:spPr>
              <a:xfrm flipH="1" flipV="1" rot="16182600">
                <a:off x="678240" y="312804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360 h 807120"/>
                  <a:gd name="textAreaBottom" fmla="*/ 80784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AutoShape 108"/>
            <p:cNvSpPr/>
            <p:nvPr/>
          </p:nvSpPr>
          <p:spPr>
            <a:xfrm flipH="1" flipV="1" rot="16182600">
              <a:off x="1158120" y="325800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39"/>
          <p:cNvGrpSpPr/>
          <p:nvPr/>
        </p:nvGrpSpPr>
        <p:grpSpPr>
          <a:xfrm>
            <a:off x="395640" y="3768120"/>
            <a:ext cx="1205280" cy="858960"/>
            <a:chOff x="395640" y="3768120"/>
            <a:chExt cx="1205280" cy="858960"/>
          </a:xfrm>
        </p:grpSpPr>
        <p:grpSp>
          <p:nvGrpSpPr>
            <p:cNvPr id="358" name="Group 140"/>
            <p:cNvGrpSpPr/>
            <p:nvPr/>
          </p:nvGrpSpPr>
          <p:grpSpPr>
            <a:xfrm>
              <a:off x="395640" y="3768120"/>
              <a:ext cx="1205280" cy="858960"/>
              <a:chOff x="395640" y="3768120"/>
              <a:chExt cx="1205280" cy="858960"/>
            </a:xfrm>
          </p:grpSpPr>
          <p:sp>
            <p:nvSpPr>
              <p:cNvPr id="359" name="AutoShape 141"/>
              <p:cNvSpPr/>
              <p:nvPr/>
            </p:nvSpPr>
            <p:spPr>
              <a:xfrm flipH="1" rot="1128000">
                <a:off x="1171080" y="378936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142"/>
              <p:cNvSpPr/>
              <p:nvPr/>
            </p:nvSpPr>
            <p:spPr>
              <a:xfrm flipH="1" rot="10969200">
                <a:off x="1100880" y="420588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143"/>
              <p:cNvSpPr/>
              <p:nvPr/>
            </p:nvSpPr>
            <p:spPr>
              <a:xfrm flipH="1" rot="14077200">
                <a:off x="934200" y="412992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144"/>
              <p:cNvSpPr/>
              <p:nvPr/>
            </p:nvSpPr>
            <p:spPr>
              <a:xfrm flipH="1" rot="17384400">
                <a:off x="904680" y="394380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145"/>
              <p:cNvSpPr/>
              <p:nvPr/>
            </p:nvSpPr>
            <p:spPr>
              <a:xfrm flipH="1" rot="7749000">
                <a:off x="1241640" y="413460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utoShape 146"/>
              <p:cNvSpPr/>
              <p:nvPr/>
            </p:nvSpPr>
            <p:spPr>
              <a:xfrm flipH="1" rot="4196400">
                <a:off x="1271160" y="394128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rc 147"/>
              <p:cNvSpPr/>
              <p:nvPr/>
            </p:nvSpPr>
            <p:spPr>
              <a:xfrm flipH="1" rot="5417400">
                <a:off x="648000" y="361008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AutoShape 148"/>
            <p:cNvSpPr/>
            <p:nvPr/>
          </p:nvSpPr>
          <p:spPr>
            <a:xfrm flipH="1" rot="5417400">
              <a:off x="1127880" y="412380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52"/>
          <p:cNvGrpSpPr/>
          <p:nvPr/>
        </p:nvGrpSpPr>
        <p:grpSpPr>
          <a:xfrm>
            <a:off x="1605240" y="2949840"/>
            <a:ext cx="1205280" cy="858960"/>
            <a:chOff x="1605240" y="2949840"/>
            <a:chExt cx="1205280" cy="858960"/>
          </a:xfrm>
        </p:grpSpPr>
        <p:grpSp>
          <p:nvGrpSpPr>
            <p:cNvPr id="368" name="Group 153"/>
            <p:cNvGrpSpPr/>
            <p:nvPr/>
          </p:nvGrpSpPr>
          <p:grpSpPr>
            <a:xfrm>
              <a:off x="1605240" y="2949840"/>
              <a:ext cx="1205280" cy="858960"/>
              <a:chOff x="1605240" y="2949840"/>
              <a:chExt cx="1205280" cy="858960"/>
            </a:xfrm>
          </p:grpSpPr>
          <p:sp>
            <p:nvSpPr>
              <p:cNvPr id="369" name="AutoShape 154"/>
              <p:cNvSpPr/>
              <p:nvPr/>
            </p:nvSpPr>
            <p:spPr>
              <a:xfrm flipH="1" flipV="1" rot="20472000">
                <a:off x="2380680" y="337068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155"/>
              <p:cNvSpPr/>
              <p:nvPr/>
            </p:nvSpPr>
            <p:spPr>
              <a:xfrm flipH="1" flipV="1" rot="10630800">
                <a:off x="2310480" y="295416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156"/>
              <p:cNvSpPr/>
              <p:nvPr/>
            </p:nvSpPr>
            <p:spPr>
              <a:xfrm flipH="1" flipV="1" rot="7522800">
                <a:off x="2143800" y="306972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157"/>
              <p:cNvSpPr/>
              <p:nvPr/>
            </p:nvSpPr>
            <p:spPr>
              <a:xfrm flipH="1" flipV="1" rot="4215600">
                <a:off x="2114280" y="326376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158"/>
              <p:cNvSpPr/>
              <p:nvPr/>
            </p:nvSpPr>
            <p:spPr>
              <a:xfrm flipH="1" flipV="1" rot="13851000">
                <a:off x="2451240" y="307224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159"/>
              <p:cNvSpPr/>
              <p:nvPr/>
            </p:nvSpPr>
            <p:spPr>
              <a:xfrm flipH="1" flipV="1" rot="17403600">
                <a:off x="2480760" y="325836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rc 160"/>
              <p:cNvSpPr/>
              <p:nvPr/>
            </p:nvSpPr>
            <p:spPr>
              <a:xfrm flipH="1" flipV="1" rot="16182600">
                <a:off x="1857600" y="315972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360 h 807120"/>
                  <a:gd name="textAreaBottom" fmla="*/ 80784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AutoShape 161"/>
            <p:cNvSpPr/>
            <p:nvPr/>
          </p:nvSpPr>
          <p:spPr>
            <a:xfrm flipH="1" flipV="1" rot="16182600">
              <a:off x="2337480" y="328968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62"/>
          <p:cNvGrpSpPr/>
          <p:nvPr/>
        </p:nvGrpSpPr>
        <p:grpSpPr>
          <a:xfrm>
            <a:off x="1575000" y="3799800"/>
            <a:ext cx="1205280" cy="858960"/>
            <a:chOff x="1575000" y="3799800"/>
            <a:chExt cx="1205280" cy="858960"/>
          </a:xfrm>
        </p:grpSpPr>
        <p:grpSp>
          <p:nvGrpSpPr>
            <p:cNvPr id="378" name="Group 163"/>
            <p:cNvGrpSpPr/>
            <p:nvPr/>
          </p:nvGrpSpPr>
          <p:grpSpPr>
            <a:xfrm>
              <a:off x="1575000" y="3799800"/>
              <a:ext cx="1205280" cy="858960"/>
              <a:chOff x="1575000" y="3799800"/>
              <a:chExt cx="1205280" cy="858960"/>
            </a:xfrm>
          </p:grpSpPr>
          <p:sp>
            <p:nvSpPr>
              <p:cNvPr id="379" name="AutoShape 164"/>
              <p:cNvSpPr/>
              <p:nvPr/>
            </p:nvSpPr>
            <p:spPr>
              <a:xfrm flipH="1" rot="1128000">
                <a:off x="2350440" y="382104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165"/>
              <p:cNvSpPr/>
              <p:nvPr/>
            </p:nvSpPr>
            <p:spPr>
              <a:xfrm flipH="1" rot="10969200">
                <a:off x="2280240" y="423756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166"/>
              <p:cNvSpPr/>
              <p:nvPr/>
            </p:nvSpPr>
            <p:spPr>
              <a:xfrm flipH="1" rot="14077200">
                <a:off x="2113560" y="416160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167"/>
              <p:cNvSpPr/>
              <p:nvPr/>
            </p:nvSpPr>
            <p:spPr>
              <a:xfrm flipH="1" rot="17384400">
                <a:off x="2084040" y="397548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AutoShape 168"/>
              <p:cNvSpPr/>
              <p:nvPr/>
            </p:nvSpPr>
            <p:spPr>
              <a:xfrm flipH="1" rot="7749000">
                <a:off x="2421000" y="416628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utoShape 169"/>
              <p:cNvSpPr/>
              <p:nvPr/>
            </p:nvSpPr>
            <p:spPr>
              <a:xfrm flipH="1" rot="4196400">
                <a:off x="2450520" y="397296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rc 170"/>
              <p:cNvSpPr/>
              <p:nvPr/>
            </p:nvSpPr>
            <p:spPr>
              <a:xfrm flipH="1" rot="5417400">
                <a:off x="1827360" y="364176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AutoShape 171"/>
            <p:cNvSpPr/>
            <p:nvPr/>
          </p:nvSpPr>
          <p:spPr>
            <a:xfrm flipH="1" rot="5417400">
              <a:off x="2307240" y="415548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73"/>
          <p:cNvGrpSpPr/>
          <p:nvPr/>
        </p:nvGrpSpPr>
        <p:grpSpPr>
          <a:xfrm>
            <a:off x="2783160" y="2949840"/>
            <a:ext cx="1205280" cy="858960"/>
            <a:chOff x="2783160" y="2949840"/>
            <a:chExt cx="1205280" cy="858960"/>
          </a:xfrm>
        </p:grpSpPr>
        <p:grpSp>
          <p:nvGrpSpPr>
            <p:cNvPr id="388" name="Group 174"/>
            <p:cNvGrpSpPr/>
            <p:nvPr/>
          </p:nvGrpSpPr>
          <p:grpSpPr>
            <a:xfrm>
              <a:off x="2783160" y="2949840"/>
              <a:ext cx="1205280" cy="858960"/>
              <a:chOff x="2783160" y="2949840"/>
              <a:chExt cx="1205280" cy="858960"/>
            </a:xfrm>
          </p:grpSpPr>
          <p:sp>
            <p:nvSpPr>
              <p:cNvPr id="389" name="AutoShape 175"/>
              <p:cNvSpPr/>
              <p:nvPr/>
            </p:nvSpPr>
            <p:spPr>
              <a:xfrm flipH="1" flipV="1" rot="20472000">
                <a:off x="3558600" y="337068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utoShape 176"/>
              <p:cNvSpPr/>
              <p:nvPr/>
            </p:nvSpPr>
            <p:spPr>
              <a:xfrm flipH="1" flipV="1" rot="10630800">
                <a:off x="3488400" y="295416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560 h 416160"/>
                  <a:gd name="textAreaBottom" fmla="*/ 2635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AutoShape 177"/>
              <p:cNvSpPr/>
              <p:nvPr/>
            </p:nvSpPr>
            <p:spPr>
              <a:xfrm flipH="1" flipV="1" rot="7522800">
                <a:off x="3321720" y="306972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utoShape 178"/>
              <p:cNvSpPr/>
              <p:nvPr/>
            </p:nvSpPr>
            <p:spPr>
              <a:xfrm flipH="1" flipV="1" rot="4215600">
                <a:off x="3292200" y="326376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utoShape 179"/>
              <p:cNvSpPr/>
              <p:nvPr/>
            </p:nvSpPr>
            <p:spPr>
              <a:xfrm flipH="1" flipV="1" rot="13851000">
                <a:off x="3629160" y="307224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AutoShape 180"/>
              <p:cNvSpPr/>
              <p:nvPr/>
            </p:nvSpPr>
            <p:spPr>
              <a:xfrm flipH="1" flipV="1" rot="17403600">
                <a:off x="3658680" y="325836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rc 181"/>
              <p:cNvSpPr/>
              <p:nvPr/>
            </p:nvSpPr>
            <p:spPr>
              <a:xfrm flipH="1" flipV="1" rot="16182600">
                <a:off x="3035520" y="315972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360 h 807120"/>
                  <a:gd name="textAreaBottom" fmla="*/ 80784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AutoShape 182"/>
            <p:cNvSpPr/>
            <p:nvPr/>
          </p:nvSpPr>
          <p:spPr>
            <a:xfrm flipH="1" flipV="1" rot="16182600">
              <a:off x="3515400" y="328968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83"/>
          <p:cNvGrpSpPr/>
          <p:nvPr/>
        </p:nvGrpSpPr>
        <p:grpSpPr>
          <a:xfrm>
            <a:off x="2752920" y="3799800"/>
            <a:ext cx="1205280" cy="858960"/>
            <a:chOff x="2752920" y="3799800"/>
            <a:chExt cx="1205280" cy="858960"/>
          </a:xfrm>
        </p:grpSpPr>
        <p:grpSp>
          <p:nvGrpSpPr>
            <p:cNvPr id="398" name="Group 184"/>
            <p:cNvGrpSpPr/>
            <p:nvPr/>
          </p:nvGrpSpPr>
          <p:grpSpPr>
            <a:xfrm>
              <a:off x="2752920" y="3799800"/>
              <a:ext cx="1205280" cy="858960"/>
              <a:chOff x="2752920" y="3799800"/>
              <a:chExt cx="1205280" cy="858960"/>
            </a:xfrm>
          </p:grpSpPr>
          <p:sp>
            <p:nvSpPr>
              <p:cNvPr id="399" name="AutoShape 185"/>
              <p:cNvSpPr/>
              <p:nvPr/>
            </p:nvSpPr>
            <p:spPr>
              <a:xfrm flipH="1" rot="1128000">
                <a:off x="3528360" y="382104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186"/>
              <p:cNvSpPr/>
              <p:nvPr/>
            </p:nvSpPr>
            <p:spPr>
              <a:xfrm flipH="1" rot="10969200">
                <a:off x="3458160" y="4237560"/>
                <a:ext cx="201600" cy="416160"/>
              </a:xfrm>
              <a:custGeom>
                <a:avLst/>
                <a:gdLst>
                  <a:gd name="textAreaLeft" fmla="*/ 46440 w 201600"/>
                  <a:gd name="textAreaRight" fmla="*/ 154440 w 201600"/>
                  <a:gd name="textAreaTop" fmla="*/ 43200 h 416160"/>
                  <a:gd name="textAreaBottom" fmla="*/ 26316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187"/>
              <p:cNvSpPr/>
              <p:nvPr/>
            </p:nvSpPr>
            <p:spPr>
              <a:xfrm flipH="1" rot="14077200">
                <a:off x="3291480" y="4161600"/>
                <a:ext cx="226800" cy="3765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9960 h 376560"/>
                  <a:gd name="textAreaBottom" fmla="*/ 238680 h 3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188"/>
              <p:cNvSpPr/>
              <p:nvPr/>
            </p:nvSpPr>
            <p:spPr>
              <a:xfrm flipH="1" rot="17384400">
                <a:off x="3261960" y="3975480"/>
                <a:ext cx="227160" cy="36936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189"/>
              <p:cNvSpPr/>
              <p:nvPr/>
            </p:nvSpPr>
            <p:spPr>
              <a:xfrm flipH="1" rot="7749000">
                <a:off x="3598920" y="4166280"/>
                <a:ext cx="226800" cy="369360"/>
              </a:xfrm>
              <a:custGeom>
                <a:avLst/>
                <a:gdLst>
                  <a:gd name="textAreaLeft" fmla="*/ 52560 w 226800"/>
                  <a:gd name="textAreaRight" fmla="*/ 173520 w 226800"/>
                  <a:gd name="textAreaTop" fmla="*/ 38520 h 369360"/>
                  <a:gd name="textAreaBottom" fmla="*/ 233640 h 36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190"/>
              <p:cNvSpPr/>
              <p:nvPr/>
            </p:nvSpPr>
            <p:spPr>
              <a:xfrm flipH="1" rot="4196400">
                <a:off x="3628440" y="3972960"/>
                <a:ext cx="227160" cy="376920"/>
              </a:xfrm>
              <a:custGeom>
                <a:avLst/>
                <a:gdLst>
                  <a:gd name="textAreaLeft" fmla="*/ 52560 w 227160"/>
                  <a:gd name="textAreaRight" fmla="*/ 173880 w 227160"/>
                  <a:gd name="textAreaTop" fmla="*/ 39960 h 376920"/>
                  <a:gd name="textAreaBottom" fmla="*/ 239040 h 3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e9d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rc 191"/>
              <p:cNvSpPr/>
              <p:nvPr/>
            </p:nvSpPr>
            <p:spPr>
              <a:xfrm flipH="1" rot="5417400">
                <a:off x="3005280" y="3641760"/>
                <a:ext cx="303480" cy="807120"/>
              </a:xfrm>
              <a:custGeom>
                <a:avLst/>
                <a:gdLst>
                  <a:gd name="textAreaLeft" fmla="*/ -360 w 303480"/>
                  <a:gd name="textAreaRight" fmla="*/ 303480 w 30348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AutoShape 192"/>
            <p:cNvSpPr/>
            <p:nvPr/>
          </p:nvSpPr>
          <p:spPr>
            <a:xfrm flipH="1" rot="5417400">
              <a:off x="3485160" y="4155480"/>
              <a:ext cx="138240" cy="16308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4"/>
          <p:cNvGrpSpPr/>
          <p:nvPr/>
        </p:nvGrpSpPr>
        <p:grpSpPr>
          <a:xfrm>
            <a:off x="4140360" y="4362120"/>
            <a:ext cx="746280" cy="1018080"/>
            <a:chOff x="4140360" y="4362120"/>
            <a:chExt cx="746280" cy="1018080"/>
          </a:xfrm>
        </p:grpSpPr>
        <p:grpSp>
          <p:nvGrpSpPr>
            <p:cNvPr id="408" name="Group 195"/>
            <p:cNvGrpSpPr/>
            <p:nvPr/>
          </p:nvGrpSpPr>
          <p:grpSpPr>
            <a:xfrm>
              <a:off x="4158000" y="4362120"/>
              <a:ext cx="728640" cy="511920"/>
              <a:chOff x="4158000" y="4362120"/>
              <a:chExt cx="728640" cy="511920"/>
            </a:xfrm>
          </p:grpSpPr>
          <p:grpSp>
            <p:nvGrpSpPr>
              <p:cNvPr id="409" name="Group 196"/>
              <p:cNvGrpSpPr/>
              <p:nvPr/>
            </p:nvGrpSpPr>
            <p:grpSpPr>
              <a:xfrm>
                <a:off x="4158000" y="4362120"/>
                <a:ext cx="728640" cy="511920"/>
                <a:chOff x="4158000" y="4362120"/>
                <a:chExt cx="728640" cy="511920"/>
              </a:xfrm>
            </p:grpSpPr>
            <p:sp>
              <p:nvSpPr>
                <p:cNvPr id="410" name="AutoShape 197"/>
                <p:cNvSpPr/>
                <p:nvPr/>
              </p:nvSpPr>
              <p:spPr>
                <a:xfrm flipH="1" flipV="1" rot="20472000">
                  <a:off x="4626720" y="461268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98"/>
                <p:cNvSpPr/>
                <p:nvPr/>
              </p:nvSpPr>
              <p:spPr>
                <a:xfrm flipH="1" flipV="1" rot="10630800">
                  <a:off x="4584960" y="436464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6280 h 248400"/>
                    <a:gd name="textAreaBottom" fmla="*/ 15768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AutoShape 199"/>
                <p:cNvSpPr/>
                <p:nvPr/>
              </p:nvSpPr>
              <p:spPr>
                <a:xfrm flipH="1" flipV="1" rot="7522800">
                  <a:off x="4484880" y="4432320"/>
                  <a:ext cx="135720" cy="22752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AutoShape 200"/>
                <p:cNvSpPr/>
                <p:nvPr/>
              </p:nvSpPr>
              <p:spPr>
                <a:xfrm flipH="1" flipV="1" rot="4215600">
                  <a:off x="4467600" y="454716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201"/>
                <p:cNvSpPr/>
                <p:nvPr/>
              </p:nvSpPr>
              <p:spPr>
                <a:xfrm flipH="1" flipV="1" rot="13851000">
                  <a:off x="4669560" y="443340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2680 h 222840"/>
                    <a:gd name="textAreaBottom" fmla="*/ 14076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202"/>
                <p:cNvSpPr/>
                <p:nvPr/>
              </p:nvSpPr>
              <p:spPr>
                <a:xfrm flipH="1" flipV="1" rot="17403600">
                  <a:off x="4688280" y="4544280"/>
                  <a:ext cx="135360" cy="2275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rc 203"/>
                <p:cNvSpPr/>
                <p:nvPr/>
              </p:nvSpPr>
              <p:spPr>
                <a:xfrm flipH="1" flipV="1" rot="16182600">
                  <a:off x="4311720" y="4483440"/>
                  <a:ext cx="180720" cy="48780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-360 h 487800"/>
                    <a:gd name="textAreaBottom" fmla="*/ 487800 h 487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7" name="AutoShape 204"/>
              <p:cNvSpPr/>
              <p:nvPr/>
            </p:nvSpPr>
            <p:spPr>
              <a:xfrm flipH="1" flipV="1" rot="16182600">
                <a:off x="4601520" y="4563720"/>
                <a:ext cx="82440" cy="9828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05"/>
            <p:cNvGrpSpPr/>
            <p:nvPr/>
          </p:nvGrpSpPr>
          <p:grpSpPr>
            <a:xfrm>
              <a:off x="4140360" y="4868280"/>
              <a:ext cx="728640" cy="511920"/>
              <a:chOff x="4140360" y="4868280"/>
              <a:chExt cx="728640" cy="511920"/>
            </a:xfrm>
          </p:grpSpPr>
          <p:grpSp>
            <p:nvGrpSpPr>
              <p:cNvPr id="419" name="Group 206"/>
              <p:cNvGrpSpPr/>
              <p:nvPr/>
            </p:nvGrpSpPr>
            <p:grpSpPr>
              <a:xfrm>
                <a:off x="4140360" y="4868280"/>
                <a:ext cx="728640" cy="511920"/>
                <a:chOff x="4140360" y="4868280"/>
                <a:chExt cx="728640" cy="511920"/>
              </a:xfrm>
            </p:grpSpPr>
            <p:sp>
              <p:nvSpPr>
                <p:cNvPr id="420" name="AutoShape 207"/>
                <p:cNvSpPr/>
                <p:nvPr/>
              </p:nvSpPr>
              <p:spPr>
                <a:xfrm flipH="1" rot="1128000">
                  <a:off x="4609080" y="488124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AutoShape 208"/>
                <p:cNvSpPr/>
                <p:nvPr/>
              </p:nvSpPr>
              <p:spPr>
                <a:xfrm flipH="1" rot="10969200">
                  <a:off x="4567320" y="512856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400"/>
                    <a:gd name="textAreaBottom" fmla="*/ 15732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AutoShape 209"/>
                <p:cNvSpPr/>
                <p:nvPr/>
              </p:nvSpPr>
              <p:spPr>
                <a:xfrm flipH="1" rot="14077200">
                  <a:off x="4466520" y="5082480"/>
                  <a:ext cx="135720" cy="22752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utoShape 210"/>
                <p:cNvSpPr/>
                <p:nvPr/>
              </p:nvSpPr>
              <p:spPr>
                <a:xfrm flipH="1" rot="17384400">
                  <a:off x="4449240" y="4971240"/>
                  <a:ext cx="135360" cy="22320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200"/>
                    <a:gd name="textAreaBottom" fmla="*/ 141120 h 22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11"/>
                <p:cNvSpPr/>
                <p:nvPr/>
              </p:nvSpPr>
              <p:spPr>
                <a:xfrm flipH="1" rot="7749000">
                  <a:off x="4651920" y="508572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2840"/>
                    <a:gd name="textAreaBottom" fmla="*/ 14112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12"/>
                <p:cNvSpPr/>
                <p:nvPr/>
              </p:nvSpPr>
              <p:spPr>
                <a:xfrm flipH="1" rot="4196400">
                  <a:off x="4670640" y="4969800"/>
                  <a:ext cx="135360" cy="2275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rc 213"/>
                <p:cNvSpPr/>
                <p:nvPr/>
              </p:nvSpPr>
              <p:spPr>
                <a:xfrm flipH="1" rot="5417400">
                  <a:off x="4294080" y="4770720"/>
                  <a:ext cx="180720" cy="48780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0 h 487800"/>
                    <a:gd name="textAreaBottom" fmla="*/ 488160 h 487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AutoShape 214"/>
              <p:cNvSpPr/>
              <p:nvPr/>
            </p:nvSpPr>
            <p:spPr>
              <a:xfrm flipH="1" rot="5417400">
                <a:off x="4583880" y="5079960"/>
                <a:ext cx="82440" cy="9828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Group 216"/>
          <p:cNvGrpSpPr/>
          <p:nvPr/>
        </p:nvGrpSpPr>
        <p:grpSpPr>
          <a:xfrm>
            <a:off x="5358960" y="4362120"/>
            <a:ext cx="746640" cy="1018080"/>
            <a:chOff x="5358960" y="4362120"/>
            <a:chExt cx="746640" cy="1018080"/>
          </a:xfrm>
        </p:grpSpPr>
        <p:grpSp>
          <p:nvGrpSpPr>
            <p:cNvPr id="429" name="Group 217"/>
            <p:cNvGrpSpPr/>
            <p:nvPr/>
          </p:nvGrpSpPr>
          <p:grpSpPr>
            <a:xfrm>
              <a:off x="5376600" y="4362120"/>
              <a:ext cx="729000" cy="511920"/>
              <a:chOff x="5376600" y="4362120"/>
              <a:chExt cx="729000" cy="511920"/>
            </a:xfrm>
          </p:grpSpPr>
          <p:grpSp>
            <p:nvGrpSpPr>
              <p:cNvPr id="430" name="Group 218"/>
              <p:cNvGrpSpPr/>
              <p:nvPr/>
            </p:nvGrpSpPr>
            <p:grpSpPr>
              <a:xfrm>
                <a:off x="5376600" y="4362120"/>
                <a:ext cx="729000" cy="511920"/>
                <a:chOff x="5376600" y="4362120"/>
                <a:chExt cx="729000" cy="511920"/>
              </a:xfrm>
            </p:grpSpPr>
            <p:sp>
              <p:nvSpPr>
                <p:cNvPr id="431" name="AutoShape 219"/>
                <p:cNvSpPr/>
                <p:nvPr/>
              </p:nvSpPr>
              <p:spPr>
                <a:xfrm flipH="1" flipV="1" rot="20472000">
                  <a:off x="5845680" y="461268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AutoShape 220"/>
                <p:cNvSpPr/>
                <p:nvPr/>
              </p:nvSpPr>
              <p:spPr>
                <a:xfrm flipH="1" flipV="1" rot="10630800">
                  <a:off x="5803920" y="436464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6280 h 248400"/>
                    <a:gd name="textAreaBottom" fmla="*/ 15768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AutoShape 221"/>
                <p:cNvSpPr/>
                <p:nvPr/>
              </p:nvSpPr>
              <p:spPr>
                <a:xfrm flipH="1" flipV="1" rot="7522800">
                  <a:off x="5703840" y="4431960"/>
                  <a:ext cx="135720" cy="22788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3760 h 227880"/>
                    <a:gd name="textAreaBottom" fmla="*/ 144000 h 227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AutoShape 222"/>
                <p:cNvSpPr/>
                <p:nvPr/>
              </p:nvSpPr>
              <p:spPr>
                <a:xfrm flipH="1" flipV="1" rot="4215600">
                  <a:off x="5686200" y="454716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AutoShape 223"/>
                <p:cNvSpPr/>
                <p:nvPr/>
              </p:nvSpPr>
              <p:spPr>
                <a:xfrm flipH="1" flipV="1" rot="13851000">
                  <a:off x="5888520" y="443340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2680 h 222840"/>
                    <a:gd name="textAreaBottom" fmla="*/ 14076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AutoShape 224"/>
                <p:cNvSpPr/>
                <p:nvPr/>
              </p:nvSpPr>
              <p:spPr>
                <a:xfrm flipH="1" flipV="1" rot="17403600">
                  <a:off x="5907240" y="4544280"/>
                  <a:ext cx="135360" cy="22788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760 h 227880"/>
                    <a:gd name="textAreaBottom" fmla="*/ 144000 h 227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Arc 225"/>
                <p:cNvSpPr/>
                <p:nvPr/>
              </p:nvSpPr>
              <p:spPr>
                <a:xfrm flipH="1" flipV="1" rot="16182600">
                  <a:off x="5530320" y="4483080"/>
                  <a:ext cx="180720" cy="48816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360 h 488160"/>
                    <a:gd name="textAreaBottom" fmla="*/ 488880 h 48816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AutoShape 226"/>
              <p:cNvSpPr/>
              <p:nvPr/>
            </p:nvSpPr>
            <p:spPr>
              <a:xfrm flipH="1" flipV="1" rot="16182600">
                <a:off x="5819760" y="456336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227"/>
            <p:cNvGrpSpPr/>
            <p:nvPr/>
          </p:nvGrpSpPr>
          <p:grpSpPr>
            <a:xfrm>
              <a:off x="5358960" y="4868280"/>
              <a:ext cx="729000" cy="511920"/>
              <a:chOff x="5358960" y="4868280"/>
              <a:chExt cx="729000" cy="511920"/>
            </a:xfrm>
          </p:grpSpPr>
          <p:grpSp>
            <p:nvGrpSpPr>
              <p:cNvPr id="440" name="Group 228"/>
              <p:cNvGrpSpPr/>
              <p:nvPr/>
            </p:nvGrpSpPr>
            <p:grpSpPr>
              <a:xfrm>
                <a:off x="5358960" y="4868280"/>
                <a:ext cx="729000" cy="511920"/>
                <a:chOff x="5358960" y="4868280"/>
                <a:chExt cx="729000" cy="511920"/>
              </a:xfrm>
            </p:grpSpPr>
            <p:sp>
              <p:nvSpPr>
                <p:cNvPr id="441" name="AutoShape 229"/>
                <p:cNvSpPr/>
                <p:nvPr/>
              </p:nvSpPr>
              <p:spPr>
                <a:xfrm flipH="1" rot="1128000">
                  <a:off x="5828040" y="488124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AutoShape 230"/>
                <p:cNvSpPr/>
                <p:nvPr/>
              </p:nvSpPr>
              <p:spPr>
                <a:xfrm flipH="1" rot="10969200">
                  <a:off x="5786280" y="512856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400"/>
                    <a:gd name="textAreaBottom" fmla="*/ 15732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AutoShape 231"/>
                <p:cNvSpPr/>
                <p:nvPr/>
              </p:nvSpPr>
              <p:spPr>
                <a:xfrm flipH="1" rot="14077200">
                  <a:off x="5686200" y="5082120"/>
                  <a:ext cx="135720" cy="22788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7880"/>
                    <a:gd name="textAreaBottom" fmla="*/ 144360 h 227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AutoShape 232"/>
                <p:cNvSpPr/>
                <p:nvPr/>
              </p:nvSpPr>
              <p:spPr>
                <a:xfrm flipH="1" rot="17384400">
                  <a:off x="5667840" y="4971240"/>
                  <a:ext cx="135360" cy="22320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200"/>
                    <a:gd name="textAreaBottom" fmla="*/ 141120 h 22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AutoShape 233"/>
                <p:cNvSpPr/>
                <p:nvPr/>
              </p:nvSpPr>
              <p:spPr>
                <a:xfrm flipH="1" rot="7749000">
                  <a:off x="5870880" y="508572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2840"/>
                    <a:gd name="textAreaBottom" fmla="*/ 14112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AutoShape 234"/>
                <p:cNvSpPr/>
                <p:nvPr/>
              </p:nvSpPr>
              <p:spPr>
                <a:xfrm flipH="1" rot="4196400">
                  <a:off x="5889600" y="4969800"/>
                  <a:ext cx="135360" cy="22788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7880"/>
                    <a:gd name="textAreaBottom" fmla="*/ 144360 h 227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Arc 235"/>
                <p:cNvSpPr/>
                <p:nvPr/>
              </p:nvSpPr>
              <p:spPr>
                <a:xfrm flipH="1" rot="5417400">
                  <a:off x="5512680" y="4770360"/>
                  <a:ext cx="180720" cy="48816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0 h 488160"/>
                    <a:gd name="textAreaBottom" fmla="*/ 488520 h 48816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AutoShape 236"/>
              <p:cNvSpPr/>
              <p:nvPr/>
            </p:nvSpPr>
            <p:spPr>
              <a:xfrm flipH="1" rot="5417400">
                <a:off x="5802120" y="507960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Group 237"/>
          <p:cNvGrpSpPr/>
          <p:nvPr/>
        </p:nvGrpSpPr>
        <p:grpSpPr>
          <a:xfrm>
            <a:off x="6578640" y="4362120"/>
            <a:ext cx="746280" cy="1018080"/>
            <a:chOff x="6578640" y="4362120"/>
            <a:chExt cx="746280" cy="1018080"/>
          </a:xfrm>
        </p:grpSpPr>
        <p:grpSp>
          <p:nvGrpSpPr>
            <p:cNvPr id="450" name="Group 238"/>
            <p:cNvGrpSpPr/>
            <p:nvPr/>
          </p:nvGrpSpPr>
          <p:grpSpPr>
            <a:xfrm>
              <a:off x="6596280" y="4362120"/>
              <a:ext cx="728640" cy="511920"/>
              <a:chOff x="6596280" y="4362120"/>
              <a:chExt cx="728640" cy="511920"/>
            </a:xfrm>
          </p:grpSpPr>
          <p:grpSp>
            <p:nvGrpSpPr>
              <p:cNvPr id="451" name="Group 239"/>
              <p:cNvGrpSpPr/>
              <p:nvPr/>
            </p:nvGrpSpPr>
            <p:grpSpPr>
              <a:xfrm>
                <a:off x="6596280" y="4362120"/>
                <a:ext cx="728640" cy="511920"/>
                <a:chOff x="6596280" y="4362120"/>
                <a:chExt cx="728640" cy="511920"/>
              </a:xfrm>
            </p:grpSpPr>
            <p:sp>
              <p:nvSpPr>
                <p:cNvPr id="452" name="AutoShape 240"/>
                <p:cNvSpPr/>
                <p:nvPr/>
              </p:nvSpPr>
              <p:spPr>
                <a:xfrm flipH="1" flipV="1" rot="20472000">
                  <a:off x="7065000" y="461268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241"/>
                <p:cNvSpPr/>
                <p:nvPr/>
              </p:nvSpPr>
              <p:spPr>
                <a:xfrm flipH="1" flipV="1" rot="10630800">
                  <a:off x="7023240" y="436464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6280 h 248400"/>
                    <a:gd name="textAreaBottom" fmla="*/ 15768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AutoShape 242"/>
                <p:cNvSpPr/>
                <p:nvPr/>
              </p:nvSpPr>
              <p:spPr>
                <a:xfrm flipH="1" flipV="1" rot="7522800">
                  <a:off x="6923160" y="4432320"/>
                  <a:ext cx="135720" cy="22752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AutoShape 243"/>
                <p:cNvSpPr/>
                <p:nvPr/>
              </p:nvSpPr>
              <p:spPr>
                <a:xfrm flipH="1" flipV="1" rot="4215600">
                  <a:off x="6905880" y="454716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AutoShape 244"/>
                <p:cNvSpPr/>
                <p:nvPr/>
              </p:nvSpPr>
              <p:spPr>
                <a:xfrm flipH="1" flipV="1" rot="13851000">
                  <a:off x="7107840" y="443340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2680 h 222840"/>
                    <a:gd name="textAreaBottom" fmla="*/ 14076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245"/>
                <p:cNvSpPr/>
                <p:nvPr/>
              </p:nvSpPr>
              <p:spPr>
                <a:xfrm flipH="1" flipV="1" rot="17403600">
                  <a:off x="7126560" y="4544280"/>
                  <a:ext cx="135360" cy="2275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Arc 246"/>
                <p:cNvSpPr/>
                <p:nvPr/>
              </p:nvSpPr>
              <p:spPr>
                <a:xfrm flipH="1" flipV="1" rot="16182600">
                  <a:off x="6750000" y="4483440"/>
                  <a:ext cx="180720" cy="48780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-360 h 487800"/>
                    <a:gd name="textAreaBottom" fmla="*/ 487800 h 487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AutoShape 247"/>
              <p:cNvSpPr/>
              <p:nvPr/>
            </p:nvSpPr>
            <p:spPr>
              <a:xfrm flipH="1" flipV="1" rot="16182600">
                <a:off x="7039800" y="4563720"/>
                <a:ext cx="82440" cy="9828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48"/>
            <p:cNvGrpSpPr/>
            <p:nvPr/>
          </p:nvGrpSpPr>
          <p:grpSpPr>
            <a:xfrm>
              <a:off x="6578640" y="4868280"/>
              <a:ext cx="728640" cy="511920"/>
              <a:chOff x="6578640" y="4868280"/>
              <a:chExt cx="728640" cy="511920"/>
            </a:xfrm>
          </p:grpSpPr>
          <p:grpSp>
            <p:nvGrpSpPr>
              <p:cNvPr id="461" name="Group 249"/>
              <p:cNvGrpSpPr/>
              <p:nvPr/>
            </p:nvGrpSpPr>
            <p:grpSpPr>
              <a:xfrm>
                <a:off x="6578640" y="4868280"/>
                <a:ext cx="728640" cy="511920"/>
                <a:chOff x="6578640" y="4868280"/>
                <a:chExt cx="728640" cy="511920"/>
              </a:xfrm>
            </p:grpSpPr>
            <p:sp>
              <p:nvSpPr>
                <p:cNvPr id="462" name="AutoShape 250"/>
                <p:cNvSpPr/>
                <p:nvPr/>
              </p:nvSpPr>
              <p:spPr>
                <a:xfrm flipH="1" rot="1128000">
                  <a:off x="7047360" y="4881240"/>
                  <a:ext cx="121680" cy="24804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AutoShape 251"/>
                <p:cNvSpPr/>
                <p:nvPr/>
              </p:nvSpPr>
              <p:spPr>
                <a:xfrm flipH="1" rot="10969200">
                  <a:off x="7005600" y="5128560"/>
                  <a:ext cx="121680" cy="248400"/>
                </a:xfrm>
                <a:custGeom>
                  <a:avLst/>
                  <a:gdLst>
                    <a:gd name="textAreaLeft" fmla="*/ 28440 w 121680"/>
                    <a:gd name="textAreaRight" fmla="*/ 93600 w 121680"/>
                    <a:gd name="textAreaTop" fmla="*/ 25920 h 248400"/>
                    <a:gd name="textAreaBottom" fmla="*/ 157320 h 24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AutoShape 252"/>
                <p:cNvSpPr/>
                <p:nvPr/>
              </p:nvSpPr>
              <p:spPr>
                <a:xfrm flipH="1" rot="14077200">
                  <a:off x="6904800" y="5082480"/>
                  <a:ext cx="135720" cy="22752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AutoShape 253"/>
                <p:cNvSpPr/>
                <p:nvPr/>
              </p:nvSpPr>
              <p:spPr>
                <a:xfrm flipH="1" rot="17384400">
                  <a:off x="6887520" y="4971240"/>
                  <a:ext cx="135360" cy="22320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200"/>
                    <a:gd name="textAreaBottom" fmla="*/ 141120 h 22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AutoShape 254"/>
                <p:cNvSpPr/>
                <p:nvPr/>
              </p:nvSpPr>
              <p:spPr>
                <a:xfrm flipH="1" rot="7749000">
                  <a:off x="7090200" y="5085720"/>
                  <a:ext cx="135360" cy="2228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2840"/>
                    <a:gd name="textAreaBottom" fmla="*/ 141120 h 22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AutoShape 255"/>
                <p:cNvSpPr/>
                <p:nvPr/>
              </p:nvSpPr>
              <p:spPr>
                <a:xfrm flipH="1" rot="4196400">
                  <a:off x="7108920" y="4969800"/>
                  <a:ext cx="135360" cy="2275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7520"/>
                    <a:gd name="textAreaBottom" fmla="*/ 144360 h 22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Arc 256"/>
                <p:cNvSpPr/>
                <p:nvPr/>
              </p:nvSpPr>
              <p:spPr>
                <a:xfrm flipH="1" rot="5417400">
                  <a:off x="6732360" y="4770720"/>
                  <a:ext cx="180720" cy="48780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0 h 487800"/>
                    <a:gd name="textAreaBottom" fmla="*/ 488160 h 487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AutoShape 257"/>
              <p:cNvSpPr/>
              <p:nvPr/>
            </p:nvSpPr>
            <p:spPr>
              <a:xfrm flipH="1" rot="5417400">
                <a:off x="7022160" y="5079960"/>
                <a:ext cx="82440" cy="9828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258"/>
          <p:cNvGrpSpPr/>
          <p:nvPr/>
        </p:nvGrpSpPr>
        <p:grpSpPr>
          <a:xfrm>
            <a:off x="5992920" y="5222520"/>
            <a:ext cx="748080" cy="1018080"/>
            <a:chOff x="5992920" y="5222520"/>
            <a:chExt cx="748080" cy="1018080"/>
          </a:xfrm>
        </p:grpSpPr>
        <p:grpSp>
          <p:nvGrpSpPr>
            <p:cNvPr id="471" name="Group 259"/>
            <p:cNvGrpSpPr/>
            <p:nvPr/>
          </p:nvGrpSpPr>
          <p:grpSpPr>
            <a:xfrm>
              <a:off x="6010560" y="5222520"/>
              <a:ext cx="730440" cy="511920"/>
              <a:chOff x="6010560" y="5222520"/>
              <a:chExt cx="730440" cy="511920"/>
            </a:xfrm>
          </p:grpSpPr>
          <p:grpSp>
            <p:nvGrpSpPr>
              <p:cNvPr id="472" name="Group 260"/>
              <p:cNvGrpSpPr/>
              <p:nvPr/>
            </p:nvGrpSpPr>
            <p:grpSpPr>
              <a:xfrm>
                <a:off x="6010560" y="5222520"/>
                <a:ext cx="730440" cy="511920"/>
                <a:chOff x="6010560" y="5222520"/>
                <a:chExt cx="730440" cy="511920"/>
              </a:xfrm>
            </p:grpSpPr>
            <p:sp>
              <p:nvSpPr>
                <p:cNvPr id="473" name="AutoShape 261"/>
                <p:cNvSpPr/>
                <p:nvPr/>
              </p:nvSpPr>
              <p:spPr>
                <a:xfrm flipH="1" flipV="1" rot="20472000">
                  <a:off x="6480000" y="547308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AutoShape 262"/>
                <p:cNvSpPr/>
                <p:nvPr/>
              </p:nvSpPr>
              <p:spPr>
                <a:xfrm flipH="1" flipV="1" rot="10630800">
                  <a:off x="6438600" y="522468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AutoShape 263"/>
                <p:cNvSpPr/>
                <p:nvPr/>
              </p:nvSpPr>
              <p:spPr>
                <a:xfrm flipH="1" flipV="1" rot="7522800">
                  <a:off x="6338160" y="5292000"/>
                  <a:ext cx="135720" cy="22860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3760 h 228600"/>
                    <a:gd name="textAreaBottom" fmla="*/ 14472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264"/>
                <p:cNvSpPr/>
                <p:nvPr/>
              </p:nvSpPr>
              <p:spPr>
                <a:xfrm flipH="1" flipV="1" rot="4215600">
                  <a:off x="6320160" y="5407560"/>
                  <a:ext cx="135360" cy="2239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760 h 223920"/>
                    <a:gd name="textAreaBottom" fmla="*/ 142200 h 22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AutoShape 265"/>
                <p:cNvSpPr/>
                <p:nvPr/>
              </p:nvSpPr>
              <p:spPr>
                <a:xfrm flipH="1" flipV="1" rot="13851000">
                  <a:off x="6523560" y="529272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AutoShape 266"/>
                <p:cNvSpPr/>
                <p:nvPr/>
              </p:nvSpPr>
              <p:spPr>
                <a:xfrm flipH="1" flipV="1" rot="17403600">
                  <a:off x="6542280" y="5404680"/>
                  <a:ext cx="135360" cy="2282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480 h 228240"/>
                    <a:gd name="textAreaBottom" fmla="*/ 14508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Arc 267"/>
                <p:cNvSpPr/>
                <p:nvPr/>
              </p:nvSpPr>
              <p:spPr>
                <a:xfrm flipH="1" flipV="1" rot="16182600">
                  <a:off x="6165000" y="5343120"/>
                  <a:ext cx="180720" cy="48924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-360 h 489240"/>
                    <a:gd name="textAreaBottom" fmla="*/ 489240 h 4892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AutoShape 268"/>
              <p:cNvSpPr/>
              <p:nvPr/>
            </p:nvSpPr>
            <p:spPr>
              <a:xfrm flipH="1" flipV="1" rot="16182600">
                <a:off x="6454800" y="542376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69"/>
            <p:cNvGrpSpPr/>
            <p:nvPr/>
          </p:nvGrpSpPr>
          <p:grpSpPr>
            <a:xfrm>
              <a:off x="5992920" y="5728680"/>
              <a:ext cx="730080" cy="511920"/>
              <a:chOff x="5992920" y="5728680"/>
              <a:chExt cx="730080" cy="511920"/>
            </a:xfrm>
          </p:grpSpPr>
          <p:grpSp>
            <p:nvGrpSpPr>
              <p:cNvPr id="482" name="Group 270"/>
              <p:cNvGrpSpPr/>
              <p:nvPr/>
            </p:nvGrpSpPr>
            <p:grpSpPr>
              <a:xfrm>
                <a:off x="5992920" y="5728680"/>
                <a:ext cx="730080" cy="511920"/>
                <a:chOff x="5992920" y="5728680"/>
                <a:chExt cx="730080" cy="511920"/>
              </a:xfrm>
            </p:grpSpPr>
            <p:sp>
              <p:nvSpPr>
                <p:cNvPr id="483" name="AutoShape 271"/>
                <p:cNvSpPr/>
                <p:nvPr/>
              </p:nvSpPr>
              <p:spPr>
                <a:xfrm flipH="1" rot="1128000">
                  <a:off x="6462000" y="574164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AutoShape 272"/>
                <p:cNvSpPr/>
                <p:nvPr/>
              </p:nvSpPr>
              <p:spPr>
                <a:xfrm flipH="1" rot="10969200">
                  <a:off x="6420600" y="598932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AutoShape 273"/>
                <p:cNvSpPr/>
                <p:nvPr/>
              </p:nvSpPr>
              <p:spPr>
                <a:xfrm flipH="1" rot="14077200">
                  <a:off x="6320520" y="5942160"/>
                  <a:ext cx="135720" cy="22860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8600"/>
                    <a:gd name="textAreaBottom" fmla="*/ 14508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AutoShape 274"/>
                <p:cNvSpPr/>
                <p:nvPr/>
              </p:nvSpPr>
              <p:spPr>
                <a:xfrm flipH="1" rot="17384400">
                  <a:off x="6302880" y="5831280"/>
                  <a:ext cx="135360" cy="2239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400 h 223920"/>
                    <a:gd name="textAreaBottom" fmla="*/ 141840 h 22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AutoShape 275"/>
                <p:cNvSpPr/>
                <p:nvPr/>
              </p:nvSpPr>
              <p:spPr>
                <a:xfrm flipH="1" rot="7749000">
                  <a:off x="6505560" y="594540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AutoShape 276"/>
                <p:cNvSpPr/>
                <p:nvPr/>
              </p:nvSpPr>
              <p:spPr>
                <a:xfrm flipH="1" rot="4196400">
                  <a:off x="6525000" y="5830200"/>
                  <a:ext cx="135360" cy="2282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8240"/>
                    <a:gd name="textAreaBottom" fmla="*/ 14472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Arc 277"/>
                <p:cNvSpPr/>
                <p:nvPr/>
              </p:nvSpPr>
              <p:spPr>
                <a:xfrm flipH="1" rot="5417400">
                  <a:off x="6147000" y="5630400"/>
                  <a:ext cx="180720" cy="48888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0 h 488880"/>
                    <a:gd name="textAreaBottom" fmla="*/ 489240 h 48888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AutoShape 278"/>
              <p:cNvSpPr/>
              <p:nvPr/>
            </p:nvSpPr>
            <p:spPr>
              <a:xfrm flipH="1" rot="5417400">
                <a:off x="6436800" y="594000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Group 279"/>
          <p:cNvGrpSpPr/>
          <p:nvPr/>
        </p:nvGrpSpPr>
        <p:grpSpPr>
          <a:xfrm>
            <a:off x="4773600" y="5171760"/>
            <a:ext cx="748080" cy="1018080"/>
            <a:chOff x="4773600" y="5171760"/>
            <a:chExt cx="748080" cy="1018080"/>
          </a:xfrm>
        </p:grpSpPr>
        <p:grpSp>
          <p:nvGrpSpPr>
            <p:cNvPr id="492" name="Group 280"/>
            <p:cNvGrpSpPr/>
            <p:nvPr/>
          </p:nvGrpSpPr>
          <p:grpSpPr>
            <a:xfrm>
              <a:off x="4791240" y="5171760"/>
              <a:ext cx="730440" cy="511920"/>
              <a:chOff x="4791240" y="5171760"/>
              <a:chExt cx="730440" cy="511920"/>
            </a:xfrm>
          </p:grpSpPr>
          <p:grpSp>
            <p:nvGrpSpPr>
              <p:cNvPr id="493" name="Group 281"/>
              <p:cNvGrpSpPr/>
              <p:nvPr/>
            </p:nvGrpSpPr>
            <p:grpSpPr>
              <a:xfrm>
                <a:off x="4791240" y="5171760"/>
                <a:ext cx="730440" cy="511920"/>
                <a:chOff x="4791240" y="5171760"/>
                <a:chExt cx="730440" cy="511920"/>
              </a:xfrm>
            </p:grpSpPr>
            <p:sp>
              <p:nvSpPr>
                <p:cNvPr id="494" name="AutoShape 282"/>
                <p:cNvSpPr/>
                <p:nvPr/>
              </p:nvSpPr>
              <p:spPr>
                <a:xfrm flipH="1" flipV="1" rot="20472000">
                  <a:off x="5260680" y="542232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AutoShape 283"/>
                <p:cNvSpPr/>
                <p:nvPr/>
              </p:nvSpPr>
              <p:spPr>
                <a:xfrm flipH="1" flipV="1" rot="10630800">
                  <a:off x="5219280" y="517392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560 h 248040"/>
                    <a:gd name="textAreaBottom" fmla="*/ 15660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AutoShape 284"/>
                <p:cNvSpPr/>
                <p:nvPr/>
              </p:nvSpPr>
              <p:spPr>
                <a:xfrm flipH="1" flipV="1" rot="7522800">
                  <a:off x="5118840" y="5241240"/>
                  <a:ext cx="135720" cy="22860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3760 h 228600"/>
                    <a:gd name="textAreaBottom" fmla="*/ 14472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AutoShape 285"/>
                <p:cNvSpPr/>
                <p:nvPr/>
              </p:nvSpPr>
              <p:spPr>
                <a:xfrm flipH="1" flipV="1" rot="4215600">
                  <a:off x="5100840" y="5356800"/>
                  <a:ext cx="135360" cy="2239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760 h 223920"/>
                    <a:gd name="textAreaBottom" fmla="*/ 142200 h 22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AutoShape 286"/>
                <p:cNvSpPr/>
                <p:nvPr/>
              </p:nvSpPr>
              <p:spPr>
                <a:xfrm flipH="1" flipV="1" rot="13851000">
                  <a:off x="5304240" y="524196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AutoShape 287"/>
                <p:cNvSpPr/>
                <p:nvPr/>
              </p:nvSpPr>
              <p:spPr>
                <a:xfrm flipH="1" flipV="1" rot="17403600">
                  <a:off x="5322960" y="5353920"/>
                  <a:ext cx="135360" cy="2282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480 h 228240"/>
                    <a:gd name="textAreaBottom" fmla="*/ 14508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Arc 288"/>
                <p:cNvSpPr/>
                <p:nvPr/>
              </p:nvSpPr>
              <p:spPr>
                <a:xfrm flipH="1" flipV="1" rot="16182600">
                  <a:off x="4945680" y="5292360"/>
                  <a:ext cx="180720" cy="48924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-360 h 489240"/>
                    <a:gd name="textAreaBottom" fmla="*/ 489240 h 4892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AutoShape 289"/>
              <p:cNvSpPr/>
              <p:nvPr/>
            </p:nvSpPr>
            <p:spPr>
              <a:xfrm flipH="1" flipV="1" rot="16182600">
                <a:off x="5235480" y="537300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290"/>
            <p:cNvGrpSpPr/>
            <p:nvPr/>
          </p:nvGrpSpPr>
          <p:grpSpPr>
            <a:xfrm>
              <a:off x="4773600" y="5677920"/>
              <a:ext cx="730080" cy="511920"/>
              <a:chOff x="4773600" y="5677920"/>
              <a:chExt cx="730080" cy="511920"/>
            </a:xfrm>
          </p:grpSpPr>
          <p:grpSp>
            <p:nvGrpSpPr>
              <p:cNvPr id="503" name="Group 291"/>
              <p:cNvGrpSpPr/>
              <p:nvPr/>
            </p:nvGrpSpPr>
            <p:grpSpPr>
              <a:xfrm>
                <a:off x="4773600" y="5677920"/>
                <a:ext cx="730080" cy="511920"/>
                <a:chOff x="4773600" y="5677920"/>
                <a:chExt cx="730080" cy="511920"/>
              </a:xfrm>
            </p:grpSpPr>
            <p:sp>
              <p:nvSpPr>
                <p:cNvPr id="504" name="AutoShape 292"/>
                <p:cNvSpPr/>
                <p:nvPr/>
              </p:nvSpPr>
              <p:spPr>
                <a:xfrm flipH="1" rot="1128000">
                  <a:off x="5242680" y="569088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AutoShape 293"/>
                <p:cNvSpPr/>
                <p:nvPr/>
              </p:nvSpPr>
              <p:spPr>
                <a:xfrm flipH="1" rot="10969200">
                  <a:off x="5201280" y="5938560"/>
                  <a:ext cx="122040" cy="248040"/>
                </a:xfrm>
                <a:custGeom>
                  <a:avLst/>
                  <a:gdLst>
                    <a:gd name="textAreaLeft" fmla="*/ 27720 w 122040"/>
                    <a:gd name="textAreaRight" fmla="*/ 93240 w 122040"/>
                    <a:gd name="textAreaTop" fmla="*/ 25920 h 248040"/>
                    <a:gd name="textAreaBottom" fmla="*/ 156960 h 24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294"/>
                <p:cNvSpPr/>
                <p:nvPr/>
              </p:nvSpPr>
              <p:spPr>
                <a:xfrm flipH="1" rot="14077200">
                  <a:off x="5101200" y="5891400"/>
                  <a:ext cx="135720" cy="228600"/>
                </a:xfrm>
                <a:custGeom>
                  <a:avLst/>
                  <a:gdLst>
                    <a:gd name="textAreaLeft" fmla="*/ 30960 w 135720"/>
                    <a:gd name="textAreaRight" fmla="*/ 103680 w 135720"/>
                    <a:gd name="textAreaTop" fmla="*/ 24120 h 228600"/>
                    <a:gd name="textAreaBottom" fmla="*/ 14508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295"/>
                <p:cNvSpPr/>
                <p:nvPr/>
              </p:nvSpPr>
              <p:spPr>
                <a:xfrm flipH="1" rot="17384400">
                  <a:off x="5083560" y="5780520"/>
                  <a:ext cx="135360" cy="22392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400 h 223920"/>
                    <a:gd name="textAreaBottom" fmla="*/ 141840 h 22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296"/>
                <p:cNvSpPr/>
                <p:nvPr/>
              </p:nvSpPr>
              <p:spPr>
                <a:xfrm flipH="1" rot="7749000">
                  <a:off x="5286240" y="5894640"/>
                  <a:ext cx="135360" cy="22356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3040 h 223560"/>
                    <a:gd name="textAreaBottom" fmla="*/ 141480 h 22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297"/>
                <p:cNvSpPr/>
                <p:nvPr/>
              </p:nvSpPr>
              <p:spPr>
                <a:xfrm flipH="1" rot="4196400">
                  <a:off x="5305680" y="5779440"/>
                  <a:ext cx="135360" cy="228240"/>
                </a:xfrm>
                <a:custGeom>
                  <a:avLst/>
                  <a:gdLst>
                    <a:gd name="textAreaLeft" fmla="*/ 31680 w 135360"/>
                    <a:gd name="textAreaRight" fmla="*/ 104040 w 135360"/>
                    <a:gd name="textAreaTop" fmla="*/ 24120 h 228240"/>
                    <a:gd name="textAreaBottom" fmla="*/ 14472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e9d4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Arc 298"/>
                <p:cNvSpPr/>
                <p:nvPr/>
              </p:nvSpPr>
              <p:spPr>
                <a:xfrm flipH="1" rot="5417400">
                  <a:off x="4927680" y="5579640"/>
                  <a:ext cx="180720" cy="488880"/>
                </a:xfrm>
                <a:custGeom>
                  <a:avLst/>
                  <a:gdLst>
                    <a:gd name="textAreaLeft" fmla="*/ 360 w 180720"/>
                    <a:gd name="textAreaRight" fmla="*/ 181440 w 180720"/>
                    <a:gd name="textAreaTop" fmla="*/ 0 h 488880"/>
                    <a:gd name="textAreaBottom" fmla="*/ 489240 h 48888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" name="AutoShape 299"/>
              <p:cNvSpPr/>
              <p:nvPr/>
            </p:nvSpPr>
            <p:spPr>
              <a:xfrm flipH="1" rot="5417400">
                <a:off x="5217480" y="5889240"/>
                <a:ext cx="82440" cy="986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AutoShape 131"/>
          <p:cNvSpPr/>
          <p:nvPr/>
        </p:nvSpPr>
        <p:spPr>
          <a:xfrm rot="9689400">
            <a:off x="6427800" y="2889360"/>
            <a:ext cx="331920" cy="684000"/>
          </a:xfrm>
          <a:custGeom>
            <a:avLst/>
            <a:gdLst>
              <a:gd name="textAreaLeft" fmla="*/ 77400 w 331920"/>
              <a:gd name="textAreaRight" fmla="*/ 254520 w 331920"/>
              <a:gd name="textAreaTop" fmla="*/ 72000 h 684000"/>
              <a:gd name="textAreaBottom" fmla="*/ 433080 h 684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32"/>
          <p:cNvSpPr/>
          <p:nvPr/>
        </p:nvSpPr>
        <p:spPr>
          <a:xfrm rot="21448800">
            <a:off x="6316560" y="2204640"/>
            <a:ext cx="331920" cy="684360"/>
          </a:xfrm>
          <a:custGeom>
            <a:avLst/>
            <a:gdLst>
              <a:gd name="textAreaLeft" fmla="*/ 77400 w 331920"/>
              <a:gd name="textAreaRight" fmla="*/ 254520 w 331920"/>
              <a:gd name="textAreaTop" fmla="*/ 72000 h 684360"/>
              <a:gd name="textAreaBottom" fmla="*/ 433440 h 684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33"/>
          <p:cNvSpPr/>
          <p:nvPr/>
        </p:nvSpPr>
        <p:spPr>
          <a:xfrm rot="18340200">
            <a:off x="6040440" y="2391840"/>
            <a:ext cx="373320" cy="620640"/>
          </a:xfrm>
          <a:custGeom>
            <a:avLst/>
            <a:gdLst>
              <a:gd name="textAreaLeft" fmla="*/ 87120 w 373320"/>
              <a:gd name="textAreaRight" fmla="*/ 286200 w 373320"/>
              <a:gd name="textAreaTop" fmla="*/ 65160 h 620640"/>
              <a:gd name="textAreaBottom" fmla="*/ 393120 h 620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34"/>
          <p:cNvSpPr/>
          <p:nvPr/>
        </p:nvSpPr>
        <p:spPr>
          <a:xfrm rot="15033000">
            <a:off x="5991120" y="2710800"/>
            <a:ext cx="372960" cy="608040"/>
          </a:xfrm>
          <a:custGeom>
            <a:avLst/>
            <a:gdLst>
              <a:gd name="textAreaLeft" fmla="*/ 86760 w 372960"/>
              <a:gd name="textAreaRight" fmla="*/ 285840 w 372960"/>
              <a:gd name="textAreaTop" fmla="*/ 64080 h 608040"/>
              <a:gd name="textAreaBottom" fmla="*/ 385200 h 608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35"/>
          <p:cNvSpPr/>
          <p:nvPr/>
        </p:nvSpPr>
        <p:spPr>
          <a:xfrm rot="3068400">
            <a:off x="6547680" y="2397600"/>
            <a:ext cx="373320" cy="609840"/>
          </a:xfrm>
          <a:custGeom>
            <a:avLst/>
            <a:gdLst>
              <a:gd name="textAreaLeft" fmla="*/ 87120 w 373320"/>
              <a:gd name="textAreaRight" fmla="*/ 286200 w 373320"/>
              <a:gd name="textAreaTop" fmla="*/ 64080 h 609840"/>
              <a:gd name="textAreaBottom" fmla="*/ 386280 h 609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36"/>
          <p:cNvSpPr/>
          <p:nvPr/>
        </p:nvSpPr>
        <p:spPr>
          <a:xfrm rot="6621000">
            <a:off x="6596280" y="2703960"/>
            <a:ext cx="372960" cy="622440"/>
          </a:xfrm>
          <a:custGeom>
            <a:avLst/>
            <a:gdLst>
              <a:gd name="textAreaLeft" fmla="*/ 86760 w 372960"/>
              <a:gd name="textAreaRight" fmla="*/ 285840 w 372960"/>
              <a:gd name="textAreaTop" fmla="*/ 65520 h 622440"/>
              <a:gd name="textAreaBottom" fmla="*/ 394200 h 622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rc 137"/>
          <p:cNvSpPr/>
          <p:nvPr/>
        </p:nvSpPr>
        <p:spPr>
          <a:xfrm rot="5400000">
            <a:off x="5566680" y="2534400"/>
            <a:ext cx="498240" cy="1332000"/>
          </a:xfrm>
          <a:custGeom>
            <a:avLst/>
            <a:gdLst>
              <a:gd name="textAreaLeft" fmla="*/ 0 w 498240"/>
              <a:gd name="textAreaRight" fmla="*/ 498600 w 49824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fill="none" w="21600" h="3713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457"/>
                  <a:pt x="19220" y="33064"/>
                  <a:pt x="15007" y="37134"/>
                </a:cubicBezTo>
              </a:path>
              <a:path stroke="0" w="21600" h="3713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457"/>
                  <a:pt x="19220" y="33064"/>
                  <a:pt x="15007" y="3713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38"/>
          <p:cNvSpPr/>
          <p:nvPr/>
        </p:nvSpPr>
        <p:spPr>
          <a:xfrm rot="5400000">
            <a:off x="6358320" y="2755080"/>
            <a:ext cx="228600" cy="268200"/>
          </a:xfrm>
          <a:prstGeom prst="sun">
            <a:avLst>
              <a:gd name="adj" fmla="val 25000"/>
            </a:avLst>
          </a:prstGeom>
          <a:solidFill>
            <a:srgbClr val="f0ee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347"/>
          <p:cNvGrpSpPr/>
          <p:nvPr/>
        </p:nvGrpSpPr>
        <p:grpSpPr>
          <a:xfrm>
            <a:off x="4427640" y="1341360"/>
            <a:ext cx="2808000" cy="2376000"/>
            <a:chOff x="4427640" y="1341360"/>
            <a:chExt cx="2808000" cy="2376000"/>
          </a:xfrm>
        </p:grpSpPr>
        <p:sp>
          <p:nvSpPr>
            <p:cNvPr id="521" name="Line 344"/>
            <p:cNvSpPr/>
            <p:nvPr/>
          </p:nvSpPr>
          <p:spPr>
            <a:xfrm flipV="1">
              <a:off x="4427640" y="1341360"/>
              <a:ext cx="2808000" cy="2376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45"/>
            <p:cNvSpPr/>
            <p:nvPr/>
          </p:nvSpPr>
          <p:spPr>
            <a:xfrm>
              <a:off x="4427640" y="3717360"/>
              <a:ext cx="28080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346"/>
            <p:cNvSpPr/>
            <p:nvPr/>
          </p:nvSpPr>
          <p:spPr>
            <a:xfrm>
              <a:off x="7235640" y="1341360"/>
              <a:ext cx="0" cy="2376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350"/>
          <p:cNvGrpSpPr/>
          <p:nvPr/>
        </p:nvGrpSpPr>
        <p:grpSpPr>
          <a:xfrm>
            <a:off x="4211640" y="1196640"/>
            <a:ext cx="3096720" cy="2592000"/>
            <a:chOff x="4211640" y="1196640"/>
            <a:chExt cx="3096720" cy="2592000"/>
          </a:xfrm>
        </p:grpSpPr>
        <p:sp>
          <p:nvSpPr>
            <p:cNvPr id="525" name="Line 351"/>
            <p:cNvSpPr/>
            <p:nvPr/>
          </p:nvSpPr>
          <p:spPr>
            <a:xfrm flipV="1">
              <a:off x="4211640" y="1196640"/>
              <a:ext cx="3096720" cy="25916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52"/>
            <p:cNvSpPr/>
            <p:nvPr/>
          </p:nvSpPr>
          <p:spPr>
            <a:xfrm>
              <a:off x="4211640" y="3788640"/>
              <a:ext cx="30967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53"/>
            <p:cNvSpPr/>
            <p:nvPr/>
          </p:nvSpPr>
          <p:spPr>
            <a:xfrm>
              <a:off x="7308360" y="1197000"/>
              <a:ext cx="0" cy="259164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Упражнение№2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529" name="Picture 4" descr="м3"/>
          <p:cNvPicPr/>
          <p:nvPr/>
        </p:nvPicPr>
        <p:blipFill>
          <a:blip r:embed="rId1"/>
          <a:stretch/>
        </p:blipFill>
        <p:spPr>
          <a:xfrm>
            <a:off x="468360" y="1268280"/>
            <a:ext cx="1800000" cy="2376720"/>
          </a:xfrm>
          <a:prstGeom prst="rect">
            <a:avLst/>
          </a:prstGeom>
          <a:ln w="28440">
            <a:solidFill>
              <a:srgbClr val="faf6f0"/>
            </a:solidFill>
            <a:miter/>
          </a:ln>
        </p:spPr>
      </p:pic>
      <p:pic>
        <p:nvPicPr>
          <p:cNvPr id="530" name="Picture 13" descr="end_54[1]"/>
          <p:cNvPicPr/>
          <p:nvPr/>
        </p:nvPicPr>
        <p:blipFill>
          <a:blip r:embed="rId2"/>
          <a:stretch/>
        </p:blipFill>
        <p:spPr>
          <a:xfrm>
            <a:off x="5597640" y="2043000"/>
            <a:ext cx="1428480" cy="96228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pic>
        <p:nvPicPr>
          <p:cNvPr id="531" name="Picture 14" descr="end_54[1]"/>
          <p:cNvPicPr/>
          <p:nvPr/>
        </p:nvPicPr>
        <p:blipFill>
          <a:blip r:embed="rId3"/>
          <a:stretch/>
        </p:blipFill>
        <p:spPr>
          <a:xfrm>
            <a:off x="4572000" y="3068640"/>
            <a:ext cx="1428840" cy="9619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5" descr="end_54[1]"/>
          <p:cNvPicPr/>
          <p:nvPr/>
        </p:nvPicPr>
        <p:blipFill>
          <a:blip r:embed="rId4"/>
          <a:stretch/>
        </p:blipFill>
        <p:spPr>
          <a:xfrm>
            <a:off x="3454560" y="4041720"/>
            <a:ext cx="1428480" cy="96192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pic>
        <p:nvPicPr>
          <p:cNvPr id="533" name="Picture 16" descr="end_54[1]"/>
          <p:cNvPicPr/>
          <p:nvPr/>
        </p:nvPicPr>
        <p:blipFill>
          <a:blip r:embed="rId5"/>
          <a:stretch/>
        </p:blipFill>
        <p:spPr>
          <a:xfrm>
            <a:off x="3436920" y="2043000"/>
            <a:ext cx="1428840" cy="96228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pic>
        <p:nvPicPr>
          <p:cNvPr id="534" name="Picture 17" descr="end_54[1]"/>
          <p:cNvPicPr/>
          <p:nvPr/>
        </p:nvPicPr>
        <p:blipFill>
          <a:blip r:embed="rId6"/>
          <a:stretch/>
        </p:blipFill>
        <p:spPr>
          <a:xfrm>
            <a:off x="5668920" y="4059360"/>
            <a:ext cx="1428840" cy="96192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pic>
        <p:nvPicPr>
          <p:cNvPr id="535" name="Picture 19" descr="end_54[1]"/>
          <p:cNvPicPr/>
          <p:nvPr/>
        </p:nvPicPr>
        <p:blipFill>
          <a:blip r:embed="rId7"/>
          <a:stretch/>
        </p:blipFill>
        <p:spPr>
          <a:xfrm>
            <a:off x="4572000" y="5013360"/>
            <a:ext cx="1428840" cy="961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1" descr="end_54[1]"/>
          <p:cNvPicPr/>
          <p:nvPr/>
        </p:nvPicPr>
        <p:blipFill>
          <a:blip r:embed="rId8"/>
          <a:stretch/>
        </p:blipFill>
        <p:spPr>
          <a:xfrm>
            <a:off x="468360" y="4294080"/>
            <a:ext cx="2233440" cy="1503360"/>
          </a:xfrm>
          <a:prstGeom prst="rect">
            <a:avLst/>
          </a:prstGeom>
          <a:ln w="0">
            <a:noFill/>
          </a:ln>
        </p:spPr>
      </p:pic>
      <p:grpSp>
        <p:nvGrpSpPr>
          <p:cNvPr id="537" name="Group 28"/>
          <p:cNvGrpSpPr/>
          <p:nvPr/>
        </p:nvGrpSpPr>
        <p:grpSpPr>
          <a:xfrm>
            <a:off x="1549440" y="3789360"/>
            <a:ext cx="1512000" cy="2088720"/>
            <a:chOff x="1549440" y="3789360"/>
            <a:chExt cx="1512000" cy="2088720"/>
          </a:xfrm>
        </p:grpSpPr>
        <p:sp>
          <p:nvSpPr>
            <p:cNvPr id="538" name="Line 24"/>
            <p:cNvSpPr/>
            <p:nvPr/>
          </p:nvSpPr>
          <p:spPr>
            <a:xfrm>
              <a:off x="1549440" y="3789360"/>
              <a:ext cx="0" cy="2088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6"/>
            <p:cNvSpPr/>
            <p:nvPr/>
          </p:nvSpPr>
          <p:spPr>
            <a:xfrm>
              <a:off x="1549440" y="3789360"/>
              <a:ext cx="1512000" cy="2088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 flipH="1">
              <a:off x="1549440" y="5878080"/>
              <a:ext cx="15120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1" name="Picture 31" descr="end_54[1]"/>
          <p:cNvPicPr/>
          <p:nvPr/>
        </p:nvPicPr>
        <p:blipFill>
          <a:blip r:embed="rId9"/>
          <a:stretch/>
        </p:blipFill>
        <p:spPr>
          <a:xfrm>
            <a:off x="4500720" y="1052640"/>
            <a:ext cx="142848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Упражнение№3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543" name="Picture 21" descr="42 копи"/>
          <p:cNvPicPr/>
          <p:nvPr/>
        </p:nvPicPr>
        <p:blipFill>
          <a:blip r:embed="rId1"/>
          <a:stretch/>
        </p:blipFill>
        <p:spPr>
          <a:xfrm>
            <a:off x="755640" y="1413000"/>
            <a:ext cx="2592360" cy="168120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48"/>
          <p:cNvGrpSpPr/>
          <p:nvPr/>
        </p:nvGrpSpPr>
        <p:grpSpPr>
          <a:xfrm>
            <a:off x="4040640" y="1675440"/>
            <a:ext cx="3316320" cy="3489480"/>
            <a:chOff x="4040640" y="1675440"/>
            <a:chExt cx="3316320" cy="3489480"/>
          </a:xfrm>
        </p:grpSpPr>
        <p:pic>
          <p:nvPicPr>
            <p:cNvPr id="545" name="Picture 28" descr="poli20[1]"/>
            <p:cNvPicPr/>
            <p:nvPr/>
          </p:nvPicPr>
          <p:blipFill>
            <a:blip r:embed="rId2"/>
            <a:stretch/>
          </p:blipFill>
          <p:spPr>
            <a:xfrm rot="7682400">
              <a:off x="5698800" y="2444760"/>
              <a:ext cx="1530360" cy="1069920"/>
            </a:xfrm>
            <a:prstGeom prst="rect">
              <a:avLst/>
            </a:prstGeom>
            <a:ln w="19080">
              <a:solidFill>
                <a:srgbClr val="99cc00"/>
              </a:solidFill>
              <a:miter/>
            </a:ln>
          </p:spPr>
        </p:pic>
        <p:pic>
          <p:nvPicPr>
            <p:cNvPr id="546" name="Picture 30" descr="poli20[1]"/>
            <p:cNvPicPr/>
            <p:nvPr/>
          </p:nvPicPr>
          <p:blipFill>
            <a:blip r:embed="rId3"/>
            <a:stretch/>
          </p:blipFill>
          <p:spPr>
            <a:xfrm rot="12859200">
              <a:off x="5382360" y="3728520"/>
              <a:ext cx="1459080" cy="1122480"/>
            </a:xfrm>
            <a:prstGeom prst="rect">
              <a:avLst/>
            </a:prstGeom>
            <a:ln w="19080">
              <a:solidFill>
                <a:srgbClr val="99cc00"/>
              </a:solidFill>
              <a:miter/>
            </a:ln>
          </p:spPr>
        </p:pic>
        <p:pic>
          <p:nvPicPr>
            <p:cNvPr id="547" name="Picture 31" descr="poli20[1]"/>
            <p:cNvPicPr/>
            <p:nvPr/>
          </p:nvPicPr>
          <p:blipFill>
            <a:blip r:embed="rId4"/>
            <a:stretch/>
          </p:blipFill>
          <p:spPr>
            <a:xfrm rot="18288000">
              <a:off x="4151160" y="3420720"/>
              <a:ext cx="1530360" cy="1069920"/>
            </a:xfrm>
            <a:prstGeom prst="rect">
              <a:avLst/>
            </a:prstGeom>
            <a:ln w="19080">
              <a:solidFill>
                <a:srgbClr val="99cc00"/>
              </a:solidFill>
              <a:miter/>
            </a:ln>
          </p:spPr>
        </p:pic>
        <p:pic>
          <p:nvPicPr>
            <p:cNvPr id="548" name="Picture 32" descr="poli20[1]"/>
            <p:cNvPicPr/>
            <p:nvPr/>
          </p:nvPicPr>
          <p:blipFill>
            <a:blip r:embed="rId5"/>
            <a:stretch/>
          </p:blipFill>
          <p:spPr>
            <a:xfrm rot="2247000">
              <a:off x="4444920" y="2003040"/>
              <a:ext cx="1459080" cy="1122480"/>
            </a:xfrm>
            <a:prstGeom prst="rect">
              <a:avLst/>
            </a:prstGeom>
            <a:ln w="19080">
              <a:solidFill>
                <a:srgbClr val="99cc00"/>
              </a:solidFill>
              <a:miter/>
            </a:ln>
          </p:spPr>
        </p:pic>
      </p:grpSp>
      <p:pic>
        <p:nvPicPr>
          <p:cNvPr id="549" name="Picture 34" descr="poli20[1]"/>
          <p:cNvPicPr/>
          <p:nvPr/>
        </p:nvPicPr>
        <p:blipFill>
          <a:blip r:embed="rId6"/>
          <a:stretch/>
        </p:blipFill>
        <p:spPr>
          <a:xfrm>
            <a:off x="1116000" y="4221000"/>
            <a:ext cx="2303640" cy="16891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grpSp>
        <p:nvGrpSpPr>
          <p:cNvPr id="550" name="Group 42"/>
          <p:cNvGrpSpPr/>
          <p:nvPr/>
        </p:nvGrpSpPr>
        <p:grpSpPr>
          <a:xfrm>
            <a:off x="1117080" y="3429720"/>
            <a:ext cx="3383640" cy="2520000"/>
            <a:chOff x="1117080" y="3429720"/>
            <a:chExt cx="3383640" cy="2520000"/>
          </a:xfrm>
        </p:grpSpPr>
        <p:sp>
          <p:nvSpPr>
            <p:cNvPr id="551" name="Line 43"/>
            <p:cNvSpPr/>
            <p:nvPr/>
          </p:nvSpPr>
          <p:spPr>
            <a:xfrm flipH="1">
              <a:off x="1117080" y="5949720"/>
              <a:ext cx="338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44"/>
            <p:cNvSpPr/>
            <p:nvPr/>
          </p:nvSpPr>
          <p:spPr>
            <a:xfrm flipH="1" flipV="1">
              <a:off x="1117080" y="3429720"/>
              <a:ext cx="3383640" cy="2520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45"/>
            <p:cNvSpPr/>
            <p:nvPr/>
          </p:nvSpPr>
          <p:spPr>
            <a:xfrm>
              <a:off x="1117080" y="3429720"/>
              <a:ext cx="0" cy="2520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49" descr="poli20[1]"/>
          <p:cNvPicPr/>
          <p:nvPr/>
        </p:nvPicPr>
        <p:blipFill>
          <a:blip r:embed="rId7"/>
          <a:stretch/>
        </p:blipFill>
        <p:spPr>
          <a:xfrm rot="2075400">
            <a:off x="4346280" y="1959120"/>
            <a:ext cx="1585800" cy="11412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555" name="Picture 50" descr="poli20[1]"/>
          <p:cNvPicPr/>
          <p:nvPr/>
        </p:nvPicPr>
        <p:blipFill>
          <a:blip r:embed="rId8"/>
          <a:stretch/>
        </p:blipFill>
        <p:spPr>
          <a:xfrm rot="2202600">
            <a:off x="5881680" y="2155320"/>
            <a:ext cx="1160640" cy="15829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556" name="Picture 51" descr="poli20[1]"/>
          <p:cNvPicPr/>
          <p:nvPr/>
        </p:nvPicPr>
        <p:blipFill>
          <a:blip r:embed="rId9"/>
          <a:stretch/>
        </p:blipFill>
        <p:spPr>
          <a:xfrm rot="2124000">
            <a:off x="5338440" y="3732120"/>
            <a:ext cx="1585800" cy="116208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557" name="Picture 52" descr="poli20[1]"/>
          <p:cNvPicPr/>
          <p:nvPr/>
        </p:nvPicPr>
        <p:blipFill>
          <a:blip r:embed="rId10"/>
          <a:stretch/>
        </p:blipFill>
        <p:spPr>
          <a:xfrm rot="2035200">
            <a:off x="4330440" y="3220560"/>
            <a:ext cx="1160280" cy="158436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726120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териалы и принадлежност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орна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ические 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Упражнение№4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559" name="Picture 5" descr="43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755640" y="1557360"/>
            <a:ext cx="2040120" cy="208764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7"/>
          <p:cNvGrpSpPr/>
          <p:nvPr/>
        </p:nvGrpSpPr>
        <p:grpSpPr>
          <a:xfrm>
            <a:off x="1171080" y="4377960"/>
            <a:ext cx="1936440" cy="1327320"/>
            <a:chOff x="1171080" y="4377960"/>
            <a:chExt cx="1936440" cy="1327320"/>
          </a:xfrm>
        </p:grpSpPr>
        <p:sp>
          <p:nvSpPr>
            <p:cNvPr id="561" name="AutoShape 8"/>
            <p:cNvSpPr/>
            <p:nvPr/>
          </p:nvSpPr>
          <p:spPr>
            <a:xfrm rot="9689400">
              <a:off x="2415600" y="5027400"/>
              <a:ext cx="323640" cy="642960"/>
            </a:xfrm>
            <a:custGeom>
              <a:avLst/>
              <a:gdLst>
                <a:gd name="textAreaLeft" fmla="*/ 75960 w 323640"/>
                <a:gd name="textAreaRight" fmla="*/ 247680 w 323640"/>
                <a:gd name="textAreaTop" fmla="*/ 68040 h 642960"/>
                <a:gd name="textAreaBottom" fmla="*/ 40644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9"/>
            <p:cNvSpPr/>
            <p:nvPr/>
          </p:nvSpPr>
          <p:spPr>
            <a:xfrm rot="21448800">
              <a:off x="2307960" y="4384800"/>
              <a:ext cx="323640" cy="642960"/>
            </a:xfrm>
            <a:custGeom>
              <a:avLst/>
              <a:gdLst>
                <a:gd name="textAreaLeft" fmla="*/ 75960 w 323640"/>
                <a:gd name="textAreaRight" fmla="*/ 247680 w 323640"/>
                <a:gd name="textAreaTop" fmla="*/ 68040 h 642960"/>
                <a:gd name="textAreaBottom" fmla="*/ 40644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10"/>
            <p:cNvSpPr/>
            <p:nvPr/>
          </p:nvSpPr>
          <p:spPr>
            <a:xfrm rot="18340200">
              <a:off x="2045160" y="4550040"/>
              <a:ext cx="351000" cy="603360"/>
            </a:xfrm>
            <a:custGeom>
              <a:avLst/>
              <a:gdLst>
                <a:gd name="textAreaLeft" fmla="*/ 82440 w 351000"/>
                <a:gd name="textAreaRight" fmla="*/ 268560 w 351000"/>
                <a:gd name="textAreaTop" fmla="*/ 63360 h 603360"/>
                <a:gd name="textAreaBottom" fmla="*/ 382680 h 6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1"/>
            <p:cNvSpPr/>
            <p:nvPr/>
          </p:nvSpPr>
          <p:spPr>
            <a:xfrm rot="15033000">
              <a:off x="1996560" y="4849200"/>
              <a:ext cx="351000" cy="592200"/>
            </a:xfrm>
            <a:custGeom>
              <a:avLst/>
              <a:gdLst>
                <a:gd name="textAreaLeft" fmla="*/ 82440 w 351000"/>
                <a:gd name="textAreaRight" fmla="*/ 268560 w 351000"/>
                <a:gd name="textAreaTop" fmla="*/ 61920 h 592200"/>
                <a:gd name="textAreaBottom" fmla="*/ 374760 h 59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2"/>
            <p:cNvSpPr/>
            <p:nvPr/>
          </p:nvSpPr>
          <p:spPr>
            <a:xfrm rot="3068400">
              <a:off x="2538720" y="4555440"/>
              <a:ext cx="351000" cy="593640"/>
            </a:xfrm>
            <a:custGeom>
              <a:avLst/>
              <a:gdLst>
                <a:gd name="textAreaLeft" fmla="*/ 82440 w 351000"/>
                <a:gd name="textAreaRight" fmla="*/ 268560 w 351000"/>
                <a:gd name="textAreaTop" fmla="*/ 61920 h 593640"/>
                <a:gd name="textAreaBottom" fmla="*/ 37620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13"/>
            <p:cNvSpPr/>
            <p:nvPr/>
          </p:nvSpPr>
          <p:spPr>
            <a:xfrm rot="6621000">
              <a:off x="2587320" y="4843440"/>
              <a:ext cx="351000" cy="604800"/>
            </a:xfrm>
            <a:custGeom>
              <a:avLst/>
              <a:gdLst>
                <a:gd name="textAreaLeft" fmla="*/ 82440 w 351000"/>
                <a:gd name="textAreaRight" fmla="*/ 268560 w 351000"/>
                <a:gd name="textAreaTop" fmla="*/ 63360 h 604800"/>
                <a:gd name="textAreaBottom" fmla="*/ 382680 h 60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d4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rc 14"/>
            <p:cNvSpPr/>
            <p:nvPr/>
          </p:nvSpPr>
          <p:spPr>
            <a:xfrm rot="5400000">
              <a:off x="1585440" y="4670640"/>
              <a:ext cx="468360" cy="12970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fill="none" w="21600" h="3713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457"/>
                    <a:pt x="19220" y="33064"/>
                    <a:pt x="15007" y="37134"/>
                  </a:cubicBezTo>
                </a:path>
                <a:path stroke="0" w="21600" h="3713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457"/>
                    <a:pt x="19220" y="33064"/>
                    <a:pt x="15007" y="3713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5"/>
            <p:cNvSpPr/>
            <p:nvPr/>
          </p:nvSpPr>
          <p:spPr>
            <a:xfrm rot="5400000">
              <a:off x="2353320" y="4896360"/>
              <a:ext cx="214200" cy="26064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6"/>
          <p:cNvGrpSpPr/>
          <p:nvPr/>
        </p:nvGrpSpPr>
        <p:grpSpPr>
          <a:xfrm>
            <a:off x="468360" y="3573360"/>
            <a:ext cx="2734920" cy="2231280"/>
            <a:chOff x="468360" y="3573360"/>
            <a:chExt cx="2734920" cy="2231280"/>
          </a:xfrm>
        </p:grpSpPr>
        <p:sp>
          <p:nvSpPr>
            <p:cNvPr id="570" name="Line 17"/>
            <p:cNvSpPr/>
            <p:nvPr/>
          </p:nvSpPr>
          <p:spPr>
            <a:xfrm flipV="1">
              <a:off x="468360" y="3573360"/>
              <a:ext cx="2734920" cy="2231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8"/>
            <p:cNvSpPr/>
            <p:nvPr/>
          </p:nvSpPr>
          <p:spPr>
            <a:xfrm>
              <a:off x="468360" y="5804640"/>
              <a:ext cx="273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9"/>
            <p:cNvSpPr/>
            <p:nvPr/>
          </p:nvSpPr>
          <p:spPr>
            <a:xfrm>
              <a:off x="3203280" y="3573360"/>
              <a:ext cx="0" cy="2231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45"/>
          <p:cNvGrpSpPr/>
          <p:nvPr/>
        </p:nvGrpSpPr>
        <p:grpSpPr>
          <a:xfrm>
            <a:off x="3801240" y="1595160"/>
            <a:ext cx="3453840" cy="3582720"/>
            <a:chOff x="3801240" y="1595160"/>
            <a:chExt cx="3453840" cy="3582720"/>
          </a:xfrm>
        </p:grpSpPr>
        <p:grpSp>
          <p:nvGrpSpPr>
            <p:cNvPr id="574" name="Group 246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575" name="Group 247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576" name="AutoShape 248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249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AutoShape 250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251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252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AutoShape 253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rc 254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AutoShape 255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56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585" name="Group 257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586" name="AutoShape 258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AutoShape 259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AutoShape 260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AutoShape 261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262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263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Arc 264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AutoShape 265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266"/>
            <p:cNvGrpSpPr/>
            <p:nvPr/>
          </p:nvGrpSpPr>
          <p:grpSpPr>
            <a:xfrm>
              <a:off x="5458320" y="3507120"/>
              <a:ext cx="1365480" cy="1464840"/>
              <a:chOff x="5458320" y="3507120"/>
              <a:chExt cx="1365480" cy="1464840"/>
            </a:xfrm>
          </p:grpSpPr>
          <p:grpSp>
            <p:nvGrpSpPr>
              <p:cNvPr id="595" name="Group 267"/>
              <p:cNvGrpSpPr/>
              <p:nvPr/>
            </p:nvGrpSpPr>
            <p:grpSpPr>
              <a:xfrm>
                <a:off x="5458320" y="3507120"/>
                <a:ext cx="1365480" cy="1464840"/>
                <a:chOff x="5458320" y="3507120"/>
                <a:chExt cx="1365480" cy="1464840"/>
              </a:xfrm>
            </p:grpSpPr>
            <p:sp>
              <p:nvSpPr>
                <p:cNvPr id="596" name="AutoShape 268"/>
                <p:cNvSpPr/>
                <p:nvPr/>
              </p:nvSpPr>
              <p:spPr>
                <a:xfrm flipH="1" flipV="1" rot="2891400">
                  <a:off x="593640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269"/>
                <p:cNvSpPr/>
                <p:nvPr/>
              </p:nvSpPr>
              <p:spPr>
                <a:xfrm flipH="1" flipV="1" rot="14650200">
                  <a:off x="639324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AutoShape 270"/>
                <p:cNvSpPr/>
                <p:nvPr/>
              </p:nvSpPr>
              <p:spPr>
                <a:xfrm flipH="1" flipV="1" rot="11542200">
                  <a:off x="618696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AutoShape 271"/>
                <p:cNvSpPr/>
                <p:nvPr/>
              </p:nvSpPr>
              <p:spPr>
                <a:xfrm flipH="1" flipV="1" rot="8235000">
                  <a:off x="594828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272"/>
                <p:cNvSpPr/>
                <p:nvPr/>
              </p:nvSpPr>
              <p:spPr>
                <a:xfrm flipH="1" flipV="1" rot="17870400">
                  <a:off x="634644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273"/>
                <p:cNvSpPr/>
                <p:nvPr/>
              </p:nvSpPr>
              <p:spPr>
                <a:xfrm flipH="1" flipV="1" rot="21423600">
                  <a:off x="613764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rc 274"/>
                <p:cNvSpPr/>
                <p:nvPr/>
              </p:nvSpPr>
              <p:spPr>
                <a:xfrm flipH="1" flipV="1" rot="20202000">
                  <a:off x="565164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AutoShape 275"/>
              <p:cNvSpPr/>
              <p:nvPr/>
            </p:nvSpPr>
            <p:spPr>
              <a:xfrm flipH="1" flipV="1" rot="20202000">
                <a:off x="618804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76"/>
            <p:cNvGrpSpPr/>
            <p:nvPr/>
          </p:nvGrpSpPr>
          <p:grpSpPr>
            <a:xfrm>
              <a:off x="4645440" y="1595160"/>
              <a:ext cx="1143000" cy="1562760"/>
              <a:chOff x="4645440" y="1595160"/>
              <a:chExt cx="1143000" cy="1562760"/>
            </a:xfrm>
          </p:grpSpPr>
          <p:grpSp>
            <p:nvGrpSpPr>
              <p:cNvPr id="605" name="Group 277"/>
              <p:cNvGrpSpPr/>
              <p:nvPr/>
            </p:nvGrpSpPr>
            <p:grpSpPr>
              <a:xfrm>
                <a:off x="4645440" y="1595160"/>
                <a:ext cx="1143000" cy="1562760"/>
                <a:chOff x="4645440" y="1595160"/>
                <a:chExt cx="1143000" cy="1562760"/>
              </a:xfrm>
            </p:grpSpPr>
            <p:sp>
              <p:nvSpPr>
                <p:cNvPr id="606" name="AutoShape 278"/>
                <p:cNvSpPr/>
                <p:nvPr/>
              </p:nvSpPr>
              <p:spPr>
                <a:xfrm flipH="1" flipV="1" rot="14578200">
                  <a:off x="5316840" y="172260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AutoShape 279"/>
                <p:cNvSpPr/>
                <p:nvPr/>
              </p:nvSpPr>
              <p:spPr>
                <a:xfrm flipH="1" flipV="1" rot="4736400">
                  <a:off x="4800600" y="1888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AutoShape 280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AutoShape 281"/>
                <p:cNvSpPr/>
                <p:nvPr/>
              </p:nvSpPr>
              <p:spPr>
                <a:xfrm flipH="1" flipV="1" rot="19921200">
                  <a:off x="5185080" y="20995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282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AutoShape 283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Arc 284"/>
                <p:cNvSpPr/>
                <p:nvPr/>
              </p:nvSpPr>
              <p:spPr>
                <a:xfrm flipH="1" flipV="1" rot="10288200">
                  <a:off x="532224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AutoShape 285"/>
              <p:cNvSpPr/>
              <p:nvPr/>
            </p:nvSpPr>
            <p:spPr>
              <a:xfrm flipH="1" flipV="1" rot="10288200">
                <a:off x="5109480" y="2017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286"/>
            <p:cNvGrpSpPr/>
            <p:nvPr/>
          </p:nvGrpSpPr>
          <p:grpSpPr>
            <a:xfrm>
              <a:off x="5585400" y="1787400"/>
              <a:ext cx="1235880" cy="1572120"/>
              <a:chOff x="5585400" y="1787400"/>
              <a:chExt cx="1235880" cy="1572120"/>
            </a:xfrm>
          </p:grpSpPr>
          <p:grpSp>
            <p:nvGrpSpPr>
              <p:cNvPr id="615" name="Group 287"/>
              <p:cNvGrpSpPr/>
              <p:nvPr/>
            </p:nvGrpSpPr>
            <p:grpSpPr>
              <a:xfrm>
                <a:off x="5585400" y="1787400"/>
                <a:ext cx="1235880" cy="1572120"/>
                <a:chOff x="5585400" y="1787400"/>
                <a:chExt cx="1235880" cy="1572120"/>
              </a:xfrm>
            </p:grpSpPr>
            <p:sp>
              <p:nvSpPr>
                <p:cNvPr id="616" name="AutoShape 288"/>
                <p:cNvSpPr/>
                <p:nvPr/>
              </p:nvSpPr>
              <p:spPr>
                <a:xfrm flipH="1" flipV="1" rot="17647800">
                  <a:off x="6390720" y="2131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289"/>
                <p:cNvSpPr/>
                <p:nvPr/>
              </p:nvSpPr>
              <p:spPr>
                <a:xfrm flipH="1" flipV="1" rot="7806600">
                  <a:off x="5937480" y="183456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AutoShape 290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291"/>
                <p:cNvSpPr/>
                <p:nvPr/>
              </p:nvSpPr>
              <p:spPr>
                <a:xfrm flipH="1" flipV="1" rot="1391400">
                  <a:off x="6028560" y="2286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292"/>
                <p:cNvSpPr/>
                <p:nvPr/>
              </p:nvSpPr>
              <p:spPr>
                <a:xfrm flipH="1" flipV="1" rot="11026800">
                  <a:off x="6148800" y="179568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293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Arc 294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AutoShape 295"/>
              <p:cNvSpPr/>
              <p:nvPr/>
            </p:nvSpPr>
            <p:spPr>
              <a:xfrm flipH="1" flipV="1" rot="13358400">
                <a:off x="6172200" y="218232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Oval 296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Group 297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626" name="Group 298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627" name="AutoShape 299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300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301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AutoShape 302"/>
                <p:cNvSpPr/>
                <p:nvPr/>
              </p:nvSpPr>
              <p:spPr>
                <a:xfrm flipH="1" flipV="1" rot="13818000">
                  <a:off x="4382640" y="35877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AutoShape 303"/>
                <p:cNvSpPr/>
                <p:nvPr/>
              </p:nvSpPr>
              <p:spPr>
                <a:xfrm flipH="1" flipV="1" rot="1852800">
                  <a:off x="4062960" y="39722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AutoShape 304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rc 305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AutoShape 306"/>
              <p:cNvSpPr/>
              <p:nvPr/>
            </p:nvSpPr>
            <p:spPr>
              <a:xfrm flipH="1" flipV="1" rot="4184400">
                <a:off x="4259880" y="389412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307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636" name="Group 308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637" name="AutoShape 309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AutoShape 310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AutoShape 311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312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AutoShape 313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AutoShape 314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Arc 315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AutoShape 316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317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646" name="Group 318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647" name="AutoShape 319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AutoShape 320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AutoShape 321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AutoShape 322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AutoShape 323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AutoShape 324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Arc 325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AutoShape 326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327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656" name="Group 328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657" name="AutoShape 329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AutoShape 330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AutoShape 331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AutoShape 332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AutoShape 333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334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Arc 335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AutoShape 336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337"/>
            <p:cNvGrpSpPr/>
            <p:nvPr/>
          </p:nvGrpSpPr>
          <p:grpSpPr>
            <a:xfrm>
              <a:off x="5458320" y="3507120"/>
              <a:ext cx="1365480" cy="1464840"/>
              <a:chOff x="5458320" y="3507120"/>
              <a:chExt cx="1365480" cy="1464840"/>
            </a:xfrm>
          </p:grpSpPr>
          <p:grpSp>
            <p:nvGrpSpPr>
              <p:cNvPr id="666" name="Group 338"/>
              <p:cNvGrpSpPr/>
              <p:nvPr/>
            </p:nvGrpSpPr>
            <p:grpSpPr>
              <a:xfrm>
                <a:off x="5458320" y="3507120"/>
                <a:ext cx="1365480" cy="1464840"/>
                <a:chOff x="5458320" y="3507120"/>
                <a:chExt cx="1365480" cy="1464840"/>
              </a:xfrm>
            </p:grpSpPr>
            <p:sp>
              <p:nvSpPr>
                <p:cNvPr id="667" name="AutoShape 339"/>
                <p:cNvSpPr/>
                <p:nvPr/>
              </p:nvSpPr>
              <p:spPr>
                <a:xfrm flipH="1" flipV="1" rot="2891400">
                  <a:off x="593640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340"/>
                <p:cNvSpPr/>
                <p:nvPr/>
              </p:nvSpPr>
              <p:spPr>
                <a:xfrm flipH="1" flipV="1" rot="14650200">
                  <a:off x="639324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AutoShape 341"/>
                <p:cNvSpPr/>
                <p:nvPr/>
              </p:nvSpPr>
              <p:spPr>
                <a:xfrm flipH="1" flipV="1" rot="11542200">
                  <a:off x="618696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AutoShape 342"/>
                <p:cNvSpPr/>
                <p:nvPr/>
              </p:nvSpPr>
              <p:spPr>
                <a:xfrm flipH="1" flipV="1" rot="8235000">
                  <a:off x="594828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343"/>
                <p:cNvSpPr/>
                <p:nvPr/>
              </p:nvSpPr>
              <p:spPr>
                <a:xfrm flipH="1" flipV="1" rot="17870400">
                  <a:off x="634644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AutoShape 344"/>
                <p:cNvSpPr/>
                <p:nvPr/>
              </p:nvSpPr>
              <p:spPr>
                <a:xfrm flipH="1" flipV="1" rot="21423600">
                  <a:off x="613764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Arc 345"/>
                <p:cNvSpPr/>
                <p:nvPr/>
              </p:nvSpPr>
              <p:spPr>
                <a:xfrm flipH="1" flipV="1" rot="20202000">
                  <a:off x="565164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AutoShape 346"/>
              <p:cNvSpPr/>
              <p:nvPr/>
            </p:nvSpPr>
            <p:spPr>
              <a:xfrm flipH="1" flipV="1" rot="20202000">
                <a:off x="618804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347"/>
            <p:cNvGrpSpPr/>
            <p:nvPr/>
          </p:nvGrpSpPr>
          <p:grpSpPr>
            <a:xfrm>
              <a:off x="4645440" y="1595160"/>
              <a:ext cx="1143000" cy="1562760"/>
              <a:chOff x="4645440" y="1595160"/>
              <a:chExt cx="1143000" cy="1562760"/>
            </a:xfrm>
          </p:grpSpPr>
          <p:grpSp>
            <p:nvGrpSpPr>
              <p:cNvPr id="676" name="Group 348"/>
              <p:cNvGrpSpPr/>
              <p:nvPr/>
            </p:nvGrpSpPr>
            <p:grpSpPr>
              <a:xfrm>
                <a:off x="4645440" y="1595160"/>
                <a:ext cx="1143000" cy="1562760"/>
                <a:chOff x="4645440" y="1595160"/>
                <a:chExt cx="1143000" cy="1562760"/>
              </a:xfrm>
            </p:grpSpPr>
            <p:sp>
              <p:nvSpPr>
                <p:cNvPr id="677" name="AutoShape 349"/>
                <p:cNvSpPr/>
                <p:nvPr/>
              </p:nvSpPr>
              <p:spPr>
                <a:xfrm flipH="1" flipV="1" rot="14578200">
                  <a:off x="5316840" y="172260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AutoShape 350"/>
                <p:cNvSpPr/>
                <p:nvPr/>
              </p:nvSpPr>
              <p:spPr>
                <a:xfrm flipH="1" flipV="1" rot="4736400">
                  <a:off x="4800600" y="1888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AutoShape 351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AutoShape 352"/>
                <p:cNvSpPr/>
                <p:nvPr/>
              </p:nvSpPr>
              <p:spPr>
                <a:xfrm flipH="1" flipV="1" rot="19921200">
                  <a:off x="5185080" y="20995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353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AutoShape 354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Arc 355"/>
                <p:cNvSpPr/>
                <p:nvPr/>
              </p:nvSpPr>
              <p:spPr>
                <a:xfrm flipH="1" flipV="1" rot="10288200">
                  <a:off x="532224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4" name="AutoShape 356"/>
              <p:cNvSpPr/>
              <p:nvPr/>
            </p:nvSpPr>
            <p:spPr>
              <a:xfrm flipH="1" flipV="1" rot="10288200">
                <a:off x="5109480" y="2017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Group 357"/>
            <p:cNvGrpSpPr/>
            <p:nvPr/>
          </p:nvGrpSpPr>
          <p:grpSpPr>
            <a:xfrm>
              <a:off x="5585400" y="1787400"/>
              <a:ext cx="1235880" cy="1572120"/>
              <a:chOff x="5585400" y="1787400"/>
              <a:chExt cx="1235880" cy="1572120"/>
            </a:xfrm>
          </p:grpSpPr>
          <p:grpSp>
            <p:nvGrpSpPr>
              <p:cNvPr id="686" name="Group 358"/>
              <p:cNvGrpSpPr/>
              <p:nvPr/>
            </p:nvGrpSpPr>
            <p:grpSpPr>
              <a:xfrm>
                <a:off x="5585400" y="1787400"/>
                <a:ext cx="1235880" cy="1572120"/>
                <a:chOff x="5585400" y="1787400"/>
                <a:chExt cx="1235880" cy="1572120"/>
              </a:xfrm>
            </p:grpSpPr>
            <p:sp>
              <p:nvSpPr>
                <p:cNvPr id="687" name="AutoShape 359"/>
                <p:cNvSpPr/>
                <p:nvPr/>
              </p:nvSpPr>
              <p:spPr>
                <a:xfrm flipH="1" flipV="1" rot="17647800">
                  <a:off x="6390720" y="2131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360"/>
                <p:cNvSpPr/>
                <p:nvPr/>
              </p:nvSpPr>
              <p:spPr>
                <a:xfrm flipH="1" flipV="1" rot="7806600">
                  <a:off x="5937480" y="183456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AutoShape 361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AutoShape 362"/>
                <p:cNvSpPr/>
                <p:nvPr/>
              </p:nvSpPr>
              <p:spPr>
                <a:xfrm flipH="1" flipV="1" rot="1391400">
                  <a:off x="6028560" y="2286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363"/>
                <p:cNvSpPr/>
                <p:nvPr/>
              </p:nvSpPr>
              <p:spPr>
                <a:xfrm flipH="1" flipV="1" rot="11026800">
                  <a:off x="6148800" y="179568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utoShape 364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Arc 365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AutoShape 366"/>
              <p:cNvSpPr/>
              <p:nvPr/>
            </p:nvSpPr>
            <p:spPr>
              <a:xfrm flipH="1" flipV="1" rot="13358400">
                <a:off x="6172200" y="218232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Oval 367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368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697" name="Group 369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698" name="AutoShape 370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AutoShape 371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AutoShape 372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373"/>
                <p:cNvSpPr/>
                <p:nvPr/>
              </p:nvSpPr>
              <p:spPr>
                <a:xfrm flipH="1" flipV="1" rot="13818000">
                  <a:off x="4382640" y="35877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AutoShape 374"/>
                <p:cNvSpPr/>
                <p:nvPr/>
              </p:nvSpPr>
              <p:spPr>
                <a:xfrm flipH="1" flipV="1" rot="1852800">
                  <a:off x="4062960" y="39722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AutoShape 375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Arc 376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AutoShape 377"/>
              <p:cNvSpPr/>
              <p:nvPr/>
            </p:nvSpPr>
            <p:spPr>
              <a:xfrm flipH="1" flipV="1" rot="4184400">
                <a:off x="4259880" y="389412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378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707" name="Group 379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708" name="AutoShape 380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AutoShape 381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AutoShape 382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AutoShape 383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AutoShape 384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AutoShape 385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Arc 386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5" name="AutoShape 387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388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717" name="Group 389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718" name="AutoShape 390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AutoShape 391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AutoShape 392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393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AutoShape 394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AutoShape 395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Arc 396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AutoShape 397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398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727" name="Group 399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728" name="AutoShape 400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401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402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AutoShape 403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AutoShape 404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AutoShape 405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Arc 406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AutoShape 407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408"/>
            <p:cNvGrpSpPr/>
            <p:nvPr/>
          </p:nvGrpSpPr>
          <p:grpSpPr>
            <a:xfrm>
              <a:off x="5458320" y="3507120"/>
              <a:ext cx="1365480" cy="1464840"/>
              <a:chOff x="5458320" y="3507120"/>
              <a:chExt cx="1365480" cy="1464840"/>
            </a:xfrm>
          </p:grpSpPr>
          <p:grpSp>
            <p:nvGrpSpPr>
              <p:cNvPr id="737" name="Group 409"/>
              <p:cNvGrpSpPr/>
              <p:nvPr/>
            </p:nvGrpSpPr>
            <p:grpSpPr>
              <a:xfrm>
                <a:off x="5458320" y="3507120"/>
                <a:ext cx="1365480" cy="1464840"/>
                <a:chOff x="5458320" y="3507120"/>
                <a:chExt cx="1365480" cy="1464840"/>
              </a:xfrm>
            </p:grpSpPr>
            <p:sp>
              <p:nvSpPr>
                <p:cNvPr id="738" name="AutoShape 410"/>
                <p:cNvSpPr/>
                <p:nvPr/>
              </p:nvSpPr>
              <p:spPr>
                <a:xfrm flipH="1" flipV="1" rot="2891400">
                  <a:off x="593640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AutoShape 411"/>
                <p:cNvSpPr/>
                <p:nvPr/>
              </p:nvSpPr>
              <p:spPr>
                <a:xfrm flipH="1" flipV="1" rot="14650200">
                  <a:off x="639324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AutoShape 412"/>
                <p:cNvSpPr/>
                <p:nvPr/>
              </p:nvSpPr>
              <p:spPr>
                <a:xfrm flipH="1" flipV="1" rot="11542200">
                  <a:off x="618696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AutoShape 413"/>
                <p:cNvSpPr/>
                <p:nvPr/>
              </p:nvSpPr>
              <p:spPr>
                <a:xfrm flipH="1" flipV="1" rot="8235000">
                  <a:off x="594828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AutoShape 414"/>
                <p:cNvSpPr/>
                <p:nvPr/>
              </p:nvSpPr>
              <p:spPr>
                <a:xfrm flipH="1" flipV="1" rot="17870400">
                  <a:off x="634644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AutoShape 415"/>
                <p:cNvSpPr/>
                <p:nvPr/>
              </p:nvSpPr>
              <p:spPr>
                <a:xfrm flipH="1" flipV="1" rot="21423600">
                  <a:off x="613764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Arc 416"/>
                <p:cNvSpPr/>
                <p:nvPr/>
              </p:nvSpPr>
              <p:spPr>
                <a:xfrm flipH="1" flipV="1" rot="20202000">
                  <a:off x="565164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AutoShape 417"/>
              <p:cNvSpPr/>
              <p:nvPr/>
            </p:nvSpPr>
            <p:spPr>
              <a:xfrm flipH="1" flipV="1" rot="20202000">
                <a:off x="618804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Group 418"/>
            <p:cNvGrpSpPr/>
            <p:nvPr/>
          </p:nvGrpSpPr>
          <p:grpSpPr>
            <a:xfrm>
              <a:off x="4645440" y="1595160"/>
              <a:ext cx="1143000" cy="1562760"/>
              <a:chOff x="4645440" y="1595160"/>
              <a:chExt cx="1143000" cy="1562760"/>
            </a:xfrm>
          </p:grpSpPr>
          <p:grpSp>
            <p:nvGrpSpPr>
              <p:cNvPr id="747" name="Group 419"/>
              <p:cNvGrpSpPr/>
              <p:nvPr/>
            </p:nvGrpSpPr>
            <p:grpSpPr>
              <a:xfrm>
                <a:off x="4645440" y="1595160"/>
                <a:ext cx="1143000" cy="1562760"/>
                <a:chOff x="4645440" y="1595160"/>
                <a:chExt cx="1143000" cy="1562760"/>
              </a:xfrm>
            </p:grpSpPr>
            <p:sp>
              <p:nvSpPr>
                <p:cNvPr id="748" name="AutoShape 420"/>
                <p:cNvSpPr/>
                <p:nvPr/>
              </p:nvSpPr>
              <p:spPr>
                <a:xfrm flipH="1" flipV="1" rot="14578200">
                  <a:off x="5316840" y="172260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421"/>
                <p:cNvSpPr/>
                <p:nvPr/>
              </p:nvSpPr>
              <p:spPr>
                <a:xfrm flipH="1" flipV="1" rot="4736400">
                  <a:off x="4800600" y="1888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AutoShape 422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423"/>
                <p:cNvSpPr/>
                <p:nvPr/>
              </p:nvSpPr>
              <p:spPr>
                <a:xfrm flipH="1" flipV="1" rot="19921200">
                  <a:off x="5185080" y="20995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424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425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Arc 426"/>
                <p:cNvSpPr/>
                <p:nvPr/>
              </p:nvSpPr>
              <p:spPr>
                <a:xfrm flipH="1" flipV="1" rot="10288200">
                  <a:off x="532224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5" name="AutoShape 427"/>
              <p:cNvSpPr/>
              <p:nvPr/>
            </p:nvSpPr>
            <p:spPr>
              <a:xfrm flipH="1" flipV="1" rot="10288200">
                <a:off x="5109480" y="2017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428"/>
            <p:cNvGrpSpPr/>
            <p:nvPr/>
          </p:nvGrpSpPr>
          <p:grpSpPr>
            <a:xfrm>
              <a:off x="5585400" y="1787400"/>
              <a:ext cx="1235880" cy="1572120"/>
              <a:chOff x="5585400" y="1787400"/>
              <a:chExt cx="1235880" cy="1572120"/>
            </a:xfrm>
          </p:grpSpPr>
          <p:grpSp>
            <p:nvGrpSpPr>
              <p:cNvPr id="757" name="Group 429"/>
              <p:cNvGrpSpPr/>
              <p:nvPr/>
            </p:nvGrpSpPr>
            <p:grpSpPr>
              <a:xfrm>
                <a:off x="5585400" y="1787400"/>
                <a:ext cx="1235880" cy="1572120"/>
                <a:chOff x="5585400" y="1787400"/>
                <a:chExt cx="1235880" cy="1572120"/>
              </a:xfrm>
            </p:grpSpPr>
            <p:sp>
              <p:nvSpPr>
                <p:cNvPr id="758" name="AutoShape 430"/>
                <p:cNvSpPr/>
                <p:nvPr/>
              </p:nvSpPr>
              <p:spPr>
                <a:xfrm flipH="1" flipV="1" rot="17647800">
                  <a:off x="6390720" y="2131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431"/>
                <p:cNvSpPr/>
                <p:nvPr/>
              </p:nvSpPr>
              <p:spPr>
                <a:xfrm flipH="1" flipV="1" rot="7806600">
                  <a:off x="5937480" y="183456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432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433"/>
                <p:cNvSpPr/>
                <p:nvPr/>
              </p:nvSpPr>
              <p:spPr>
                <a:xfrm flipH="1" flipV="1" rot="1391400">
                  <a:off x="6028560" y="2286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434"/>
                <p:cNvSpPr/>
                <p:nvPr/>
              </p:nvSpPr>
              <p:spPr>
                <a:xfrm flipH="1" flipV="1" rot="11026800">
                  <a:off x="6148800" y="179568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435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rc 436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5" name="AutoShape 437"/>
              <p:cNvSpPr/>
              <p:nvPr/>
            </p:nvSpPr>
            <p:spPr>
              <a:xfrm flipH="1" flipV="1" rot="13358400">
                <a:off x="6172200" y="218232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Oval 438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439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768" name="Group 440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769" name="AutoShape 441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AutoShape 442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AutoShape 443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AutoShape 444"/>
                <p:cNvSpPr/>
                <p:nvPr/>
              </p:nvSpPr>
              <p:spPr>
                <a:xfrm flipH="1" flipV="1" rot="13818000">
                  <a:off x="4382640" y="35877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AutoShape 445"/>
                <p:cNvSpPr/>
                <p:nvPr/>
              </p:nvSpPr>
              <p:spPr>
                <a:xfrm flipH="1" flipV="1" rot="1852800">
                  <a:off x="4062960" y="39722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446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rc 447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AutoShape 448"/>
              <p:cNvSpPr/>
              <p:nvPr/>
            </p:nvSpPr>
            <p:spPr>
              <a:xfrm flipH="1" flipV="1" rot="4184400">
                <a:off x="4259880" y="389412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449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778" name="Group 450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779" name="AutoShape 451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452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453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AutoShape 454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AutoShape 455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456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rc 457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" name="AutoShape 458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459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788" name="Group 460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789" name="AutoShape 461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462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463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464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AutoShape 465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466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Arc 467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AutoShape 468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469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798" name="Group 470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799" name="AutoShape 471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AutoShape 472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473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474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475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AutoShape 476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Arc 477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AutoShape 478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479"/>
            <p:cNvGrpSpPr/>
            <p:nvPr/>
          </p:nvGrpSpPr>
          <p:grpSpPr>
            <a:xfrm>
              <a:off x="5458320" y="3507120"/>
              <a:ext cx="1365480" cy="1464840"/>
              <a:chOff x="5458320" y="3507120"/>
              <a:chExt cx="1365480" cy="1464840"/>
            </a:xfrm>
          </p:grpSpPr>
          <p:grpSp>
            <p:nvGrpSpPr>
              <p:cNvPr id="808" name="Group 480"/>
              <p:cNvGrpSpPr/>
              <p:nvPr/>
            </p:nvGrpSpPr>
            <p:grpSpPr>
              <a:xfrm>
                <a:off x="5458320" y="3507120"/>
                <a:ext cx="1365480" cy="1464840"/>
                <a:chOff x="5458320" y="3507120"/>
                <a:chExt cx="1365480" cy="1464840"/>
              </a:xfrm>
            </p:grpSpPr>
            <p:sp>
              <p:nvSpPr>
                <p:cNvPr id="809" name="AutoShape 481"/>
                <p:cNvSpPr/>
                <p:nvPr/>
              </p:nvSpPr>
              <p:spPr>
                <a:xfrm flipH="1" flipV="1" rot="2891400">
                  <a:off x="593640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AutoShape 482"/>
                <p:cNvSpPr/>
                <p:nvPr/>
              </p:nvSpPr>
              <p:spPr>
                <a:xfrm flipH="1" flipV="1" rot="14650200">
                  <a:off x="639324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AutoShape 483"/>
                <p:cNvSpPr/>
                <p:nvPr/>
              </p:nvSpPr>
              <p:spPr>
                <a:xfrm flipH="1" flipV="1" rot="11542200">
                  <a:off x="618696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AutoShape 484"/>
                <p:cNvSpPr/>
                <p:nvPr/>
              </p:nvSpPr>
              <p:spPr>
                <a:xfrm flipH="1" flipV="1" rot="8235000">
                  <a:off x="594828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485"/>
                <p:cNvSpPr/>
                <p:nvPr/>
              </p:nvSpPr>
              <p:spPr>
                <a:xfrm flipH="1" flipV="1" rot="17870400">
                  <a:off x="634644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486"/>
                <p:cNvSpPr/>
                <p:nvPr/>
              </p:nvSpPr>
              <p:spPr>
                <a:xfrm flipH="1" flipV="1" rot="21423600">
                  <a:off x="613764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rc 487"/>
                <p:cNvSpPr/>
                <p:nvPr/>
              </p:nvSpPr>
              <p:spPr>
                <a:xfrm flipH="1" flipV="1" rot="20202000">
                  <a:off x="565164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6" name="AutoShape 488"/>
              <p:cNvSpPr/>
              <p:nvPr/>
            </p:nvSpPr>
            <p:spPr>
              <a:xfrm flipH="1" flipV="1" rot="20202000">
                <a:off x="618804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Group 489"/>
            <p:cNvGrpSpPr/>
            <p:nvPr/>
          </p:nvGrpSpPr>
          <p:grpSpPr>
            <a:xfrm>
              <a:off x="4645440" y="1595160"/>
              <a:ext cx="1143000" cy="1562760"/>
              <a:chOff x="4645440" y="1595160"/>
              <a:chExt cx="1143000" cy="1562760"/>
            </a:xfrm>
          </p:grpSpPr>
          <p:grpSp>
            <p:nvGrpSpPr>
              <p:cNvPr id="818" name="Group 490"/>
              <p:cNvGrpSpPr/>
              <p:nvPr/>
            </p:nvGrpSpPr>
            <p:grpSpPr>
              <a:xfrm>
                <a:off x="4645440" y="1595160"/>
                <a:ext cx="1143000" cy="1562760"/>
                <a:chOff x="4645440" y="1595160"/>
                <a:chExt cx="1143000" cy="1562760"/>
              </a:xfrm>
            </p:grpSpPr>
            <p:sp>
              <p:nvSpPr>
                <p:cNvPr id="819" name="AutoShape 491"/>
                <p:cNvSpPr/>
                <p:nvPr/>
              </p:nvSpPr>
              <p:spPr>
                <a:xfrm flipH="1" flipV="1" rot="14578200">
                  <a:off x="5316840" y="172260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492"/>
                <p:cNvSpPr/>
                <p:nvPr/>
              </p:nvSpPr>
              <p:spPr>
                <a:xfrm flipH="1" flipV="1" rot="4736400">
                  <a:off x="4800600" y="1888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AutoShape 493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AutoShape 494"/>
                <p:cNvSpPr/>
                <p:nvPr/>
              </p:nvSpPr>
              <p:spPr>
                <a:xfrm flipH="1" flipV="1" rot="19921200">
                  <a:off x="5185080" y="20995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AutoShape 495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AutoShape 496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Arc 497"/>
                <p:cNvSpPr/>
                <p:nvPr/>
              </p:nvSpPr>
              <p:spPr>
                <a:xfrm flipH="1" flipV="1" rot="10288200">
                  <a:off x="532224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6" name="AutoShape 498"/>
              <p:cNvSpPr/>
              <p:nvPr/>
            </p:nvSpPr>
            <p:spPr>
              <a:xfrm flipH="1" flipV="1" rot="10288200">
                <a:off x="5109480" y="2017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499"/>
            <p:cNvGrpSpPr/>
            <p:nvPr/>
          </p:nvGrpSpPr>
          <p:grpSpPr>
            <a:xfrm>
              <a:off x="5585400" y="1787400"/>
              <a:ext cx="1235880" cy="1572120"/>
              <a:chOff x="5585400" y="1787400"/>
              <a:chExt cx="1235880" cy="1572120"/>
            </a:xfrm>
          </p:grpSpPr>
          <p:grpSp>
            <p:nvGrpSpPr>
              <p:cNvPr id="828" name="Group 500"/>
              <p:cNvGrpSpPr/>
              <p:nvPr/>
            </p:nvGrpSpPr>
            <p:grpSpPr>
              <a:xfrm>
                <a:off x="5585400" y="1787400"/>
                <a:ext cx="1235880" cy="1572120"/>
                <a:chOff x="5585400" y="1787400"/>
                <a:chExt cx="1235880" cy="1572120"/>
              </a:xfrm>
            </p:grpSpPr>
            <p:sp>
              <p:nvSpPr>
                <p:cNvPr id="829" name="AutoShape 501"/>
                <p:cNvSpPr/>
                <p:nvPr/>
              </p:nvSpPr>
              <p:spPr>
                <a:xfrm flipH="1" flipV="1" rot="17647800">
                  <a:off x="6390720" y="2131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AutoShape 502"/>
                <p:cNvSpPr/>
                <p:nvPr/>
              </p:nvSpPr>
              <p:spPr>
                <a:xfrm flipH="1" flipV="1" rot="7806600">
                  <a:off x="5937480" y="183456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AutoShape 503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AutoShape 504"/>
                <p:cNvSpPr/>
                <p:nvPr/>
              </p:nvSpPr>
              <p:spPr>
                <a:xfrm flipH="1" flipV="1" rot="1391400">
                  <a:off x="6028560" y="2286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505"/>
                <p:cNvSpPr/>
                <p:nvPr/>
              </p:nvSpPr>
              <p:spPr>
                <a:xfrm flipH="1" flipV="1" rot="11026800">
                  <a:off x="6148800" y="179568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AutoShape 506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Arc 507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6" name="AutoShape 508"/>
              <p:cNvSpPr/>
              <p:nvPr/>
            </p:nvSpPr>
            <p:spPr>
              <a:xfrm flipH="1" flipV="1" rot="13358400">
                <a:off x="6172200" y="218232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Oval 509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510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839" name="Group 511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840" name="AutoShape 512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AutoShape 513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514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AutoShape 515"/>
                <p:cNvSpPr/>
                <p:nvPr/>
              </p:nvSpPr>
              <p:spPr>
                <a:xfrm flipH="1" flipV="1" rot="13818000">
                  <a:off x="4382640" y="35877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AutoShape 516"/>
                <p:cNvSpPr/>
                <p:nvPr/>
              </p:nvSpPr>
              <p:spPr>
                <a:xfrm flipH="1" flipV="1" rot="1852800">
                  <a:off x="4062960" y="39722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AutoShape 517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rc 518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AutoShape 519"/>
              <p:cNvSpPr/>
              <p:nvPr/>
            </p:nvSpPr>
            <p:spPr>
              <a:xfrm flipH="1" flipV="1" rot="4184400">
                <a:off x="4259880" y="389412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Group 520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849" name="Group 521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850" name="AutoShape 522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AutoShape 523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AutoShape 524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AutoShape 525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AutoShape 526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AutoShape 527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Arc 528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AutoShape 529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Group 1100"/>
          <p:cNvGrpSpPr/>
          <p:nvPr/>
        </p:nvGrpSpPr>
        <p:grpSpPr>
          <a:xfrm>
            <a:off x="4656240" y="1595160"/>
            <a:ext cx="1143000" cy="1562760"/>
            <a:chOff x="4656240" y="1595160"/>
            <a:chExt cx="1143000" cy="1562760"/>
          </a:xfrm>
        </p:grpSpPr>
        <p:grpSp>
          <p:nvGrpSpPr>
            <p:cNvPr id="859" name="Group 1101"/>
            <p:cNvGrpSpPr/>
            <p:nvPr/>
          </p:nvGrpSpPr>
          <p:grpSpPr>
            <a:xfrm>
              <a:off x="4656240" y="1595160"/>
              <a:ext cx="1143000" cy="1562760"/>
              <a:chOff x="4656240" y="1595160"/>
              <a:chExt cx="1143000" cy="1562760"/>
            </a:xfrm>
          </p:grpSpPr>
          <p:sp>
            <p:nvSpPr>
              <p:cNvPr id="860" name="AutoShape 1102"/>
              <p:cNvSpPr/>
              <p:nvPr/>
            </p:nvSpPr>
            <p:spPr>
              <a:xfrm flipH="1" flipV="1" rot="14578200">
                <a:off x="5327640" y="1722600"/>
                <a:ext cx="264240" cy="53388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080 h 533880"/>
                  <a:gd name="textAreaBottom" fmla="*/ 337320 h 53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AutoShape 1103"/>
              <p:cNvSpPr/>
              <p:nvPr/>
            </p:nvSpPr>
            <p:spPr>
              <a:xfrm flipH="1" flipV="1" rot="4736400">
                <a:off x="4811400" y="1888920"/>
                <a:ext cx="264240" cy="53460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440 h 534600"/>
                  <a:gd name="textAreaBottom" fmla="*/ 337680 h 53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AutoShape 1104"/>
              <p:cNvSpPr/>
              <p:nvPr/>
            </p:nvSpPr>
            <p:spPr>
              <a:xfrm flipH="1" flipV="1" rot="1628400">
                <a:off x="4948560" y="209232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AutoShape 1105"/>
              <p:cNvSpPr/>
              <p:nvPr/>
            </p:nvSpPr>
            <p:spPr>
              <a:xfrm flipH="1" flipV="1" rot="19921200">
                <a:off x="5195880" y="209952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AutoShape 1106"/>
              <p:cNvSpPr/>
              <p:nvPr/>
            </p:nvSpPr>
            <p:spPr>
              <a:xfrm flipH="1" flipV="1" rot="7956600">
                <a:off x="4888800" y="169884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AutoShape 1107"/>
              <p:cNvSpPr/>
              <p:nvPr/>
            </p:nvSpPr>
            <p:spPr>
              <a:xfrm flipH="1" flipV="1" rot="11509800">
                <a:off x="5124600" y="161928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Arc 1108"/>
              <p:cNvSpPr/>
              <p:nvPr/>
            </p:nvSpPr>
            <p:spPr>
              <a:xfrm flipH="1" flipV="1" rot="10288200">
                <a:off x="5333040" y="2076480"/>
                <a:ext cx="389520" cy="1058400"/>
              </a:xfrm>
              <a:custGeom>
                <a:avLst/>
                <a:gdLst>
                  <a:gd name="textAreaLeft" fmla="*/ 360 w 389520"/>
                  <a:gd name="textAreaRight" fmla="*/ 390240 w 389520"/>
                  <a:gd name="textAreaTop" fmla="*/ 360 h 1058400"/>
                  <a:gd name="textAreaBottom" fmla="*/ 1059120 h 105840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AutoShape 1109"/>
            <p:cNvSpPr/>
            <p:nvPr/>
          </p:nvSpPr>
          <p:spPr>
            <a:xfrm flipH="1" flipV="1" rot="10288200">
              <a:off x="5120280" y="2017440"/>
              <a:ext cx="177480" cy="21384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1110"/>
          <p:cNvGrpSpPr/>
          <p:nvPr/>
        </p:nvGrpSpPr>
        <p:grpSpPr>
          <a:xfrm>
            <a:off x="5585400" y="1787040"/>
            <a:ext cx="1235520" cy="1572480"/>
            <a:chOff x="5585400" y="1787040"/>
            <a:chExt cx="1235520" cy="1572480"/>
          </a:xfrm>
        </p:grpSpPr>
        <p:grpSp>
          <p:nvGrpSpPr>
            <p:cNvPr id="869" name="Group 1111"/>
            <p:cNvGrpSpPr/>
            <p:nvPr/>
          </p:nvGrpSpPr>
          <p:grpSpPr>
            <a:xfrm>
              <a:off x="5585400" y="1787040"/>
              <a:ext cx="1235520" cy="1572480"/>
              <a:chOff x="5585400" y="1787040"/>
              <a:chExt cx="1235520" cy="1572480"/>
            </a:xfrm>
          </p:grpSpPr>
          <p:sp>
            <p:nvSpPr>
              <p:cNvPr id="870" name="AutoShape 1112"/>
              <p:cNvSpPr/>
              <p:nvPr/>
            </p:nvSpPr>
            <p:spPr>
              <a:xfrm flipH="1" flipV="1" rot="17647800">
                <a:off x="6390720" y="2132640"/>
                <a:ext cx="264240" cy="53388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080 h 533880"/>
                  <a:gd name="textAreaBottom" fmla="*/ 337320 h 53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4d4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AutoShape 1113"/>
              <p:cNvSpPr/>
              <p:nvPr/>
            </p:nvSpPr>
            <p:spPr>
              <a:xfrm flipH="1" flipV="1" rot="7806600">
                <a:off x="5937840" y="1834920"/>
                <a:ext cx="264240" cy="53424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800 h 534240"/>
                  <a:gd name="textAreaBottom" fmla="*/ 338040 h 53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4d4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AutoShape 1114"/>
              <p:cNvSpPr/>
              <p:nvPr/>
            </p:nvSpPr>
            <p:spPr>
              <a:xfrm flipH="1" flipV="1" rot="4698600">
                <a:off x="5875560" y="2086920"/>
                <a:ext cx="291600" cy="49356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1840 h 493560"/>
                  <a:gd name="textAreaBottom" fmla="*/ 312480 h 49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95c1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AutoShape 1115"/>
              <p:cNvSpPr/>
              <p:nvPr/>
            </p:nvSpPr>
            <p:spPr>
              <a:xfrm flipH="1" flipV="1" rot="1391400">
                <a:off x="6028560" y="228564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95c1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AutoShape 1116"/>
              <p:cNvSpPr/>
              <p:nvPr/>
            </p:nvSpPr>
            <p:spPr>
              <a:xfrm flipH="1" flipV="1" rot="11026800">
                <a:off x="6148440" y="179532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95c1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AutoShape 1117"/>
              <p:cNvSpPr/>
              <p:nvPr/>
            </p:nvSpPr>
            <p:spPr>
              <a:xfrm flipH="1" flipV="1" rot="14579400">
                <a:off x="6354360" y="192744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4d4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Arc 1118"/>
              <p:cNvSpPr/>
              <p:nvPr/>
            </p:nvSpPr>
            <p:spPr>
              <a:xfrm flipH="1" flipV="1" rot="13358400">
                <a:off x="5891760" y="2309040"/>
                <a:ext cx="389520" cy="1058040"/>
              </a:xfrm>
              <a:custGeom>
                <a:avLst/>
                <a:gdLst>
                  <a:gd name="textAreaLeft" fmla="*/ 360 w 389520"/>
                  <a:gd name="textAreaRight" fmla="*/ 390240 w 389520"/>
                  <a:gd name="textAreaTop" fmla="*/ -360 h 1058040"/>
                  <a:gd name="textAreaBottom" fmla="*/ 1058040 h 105804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AutoShape 1119"/>
            <p:cNvSpPr/>
            <p:nvPr/>
          </p:nvSpPr>
          <p:spPr>
            <a:xfrm flipH="1" flipV="1" rot="13358400">
              <a:off x="6172560" y="2181600"/>
              <a:ext cx="177480" cy="21384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1120"/>
          <p:cNvGrpSpPr/>
          <p:nvPr/>
        </p:nvGrpSpPr>
        <p:grpSpPr>
          <a:xfrm>
            <a:off x="5642280" y="2811600"/>
            <a:ext cx="1612800" cy="1128960"/>
            <a:chOff x="5642280" y="2811600"/>
            <a:chExt cx="1612800" cy="1128960"/>
          </a:xfrm>
        </p:grpSpPr>
        <p:grpSp>
          <p:nvGrpSpPr>
            <p:cNvPr id="879" name="Group 1121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sp>
            <p:nvSpPr>
              <p:cNvPr id="880" name="AutoShape 1122"/>
              <p:cNvSpPr/>
              <p:nvPr/>
            </p:nvSpPr>
            <p:spPr>
              <a:xfrm flipH="1" flipV="1" rot="21261600">
                <a:off x="6647040" y="3382200"/>
                <a:ext cx="259200" cy="546120"/>
              </a:xfrm>
              <a:custGeom>
                <a:avLst/>
                <a:gdLst>
                  <a:gd name="textAreaLeft" fmla="*/ 60120 w 259200"/>
                  <a:gd name="textAreaRight" fmla="*/ 198720 w 259200"/>
                  <a:gd name="textAreaTop" fmla="*/ 56520 h 546120"/>
                  <a:gd name="textAreaBottom" fmla="*/ 345240 h 54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d6e4b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AutoShape 1123"/>
              <p:cNvSpPr/>
              <p:nvPr/>
            </p:nvSpPr>
            <p:spPr>
              <a:xfrm flipH="1" flipV="1" rot="11419800">
                <a:off x="6684840" y="2829600"/>
                <a:ext cx="258840" cy="546120"/>
              </a:xfrm>
              <a:custGeom>
                <a:avLst/>
                <a:gdLst>
                  <a:gd name="textAreaLeft" fmla="*/ 59400 w 258840"/>
                  <a:gd name="textAreaRight" fmla="*/ 197640 w 258840"/>
                  <a:gd name="textAreaTop" fmla="*/ 56520 h 546120"/>
                  <a:gd name="textAreaBottom" fmla="*/ 345240 h 54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utoShape 1124"/>
              <p:cNvSpPr/>
              <p:nvPr/>
            </p:nvSpPr>
            <p:spPr>
              <a:xfrm flipH="1" flipV="1" rot="8311800">
                <a:off x="6443640" y="2937960"/>
                <a:ext cx="297720" cy="483840"/>
              </a:xfrm>
              <a:custGeom>
                <a:avLst/>
                <a:gdLst>
                  <a:gd name="textAreaLeft" fmla="*/ 68400 w 297720"/>
                  <a:gd name="textAreaRight" fmla="*/ 227520 w 297720"/>
                  <a:gd name="textAreaTop" fmla="*/ 51120 h 483840"/>
                  <a:gd name="textAreaBottom" fmla="*/ 30672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AutoShape 1125"/>
              <p:cNvSpPr/>
              <p:nvPr/>
            </p:nvSpPr>
            <p:spPr>
              <a:xfrm flipH="1" flipV="1" rot="5005200">
                <a:off x="6349680" y="3177360"/>
                <a:ext cx="298080" cy="47448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9680 h 474480"/>
                  <a:gd name="textAreaBottom" fmla="*/ 300600 h 47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d6e4b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AutoShape 1126"/>
              <p:cNvSpPr/>
              <p:nvPr/>
            </p:nvSpPr>
            <p:spPr>
              <a:xfrm flipH="1" flipV="1" rot="14640000">
                <a:off x="6827040" y="3030840"/>
                <a:ext cx="298080" cy="47448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9680 h 474480"/>
                  <a:gd name="textAreaBottom" fmla="*/ 300600 h 47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d6e4b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127"/>
              <p:cNvSpPr/>
              <p:nvPr/>
            </p:nvSpPr>
            <p:spPr>
              <a:xfrm flipH="1" flipV="1" rot="18193200">
                <a:off x="6809040" y="3277440"/>
                <a:ext cx="298080" cy="48384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51120 h 483840"/>
                  <a:gd name="textAreaBottom" fmla="*/ 30672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rc 1128"/>
              <p:cNvSpPr/>
              <p:nvPr/>
            </p:nvSpPr>
            <p:spPr>
              <a:xfrm flipH="1" flipV="1" rot="16971600">
                <a:off x="5992200" y="2978640"/>
                <a:ext cx="398160" cy="1036440"/>
              </a:xfrm>
              <a:custGeom>
                <a:avLst/>
                <a:gdLst>
                  <a:gd name="textAreaLeft" fmla="*/ 360 w 398160"/>
                  <a:gd name="textAreaRight" fmla="*/ 398880 w 398160"/>
                  <a:gd name="textAreaTop" fmla="*/ -360 h 1036440"/>
                  <a:gd name="textAreaBottom" fmla="*/ 1036440 h 103644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AutoShape 1129"/>
            <p:cNvSpPr/>
            <p:nvPr/>
          </p:nvSpPr>
          <p:spPr>
            <a:xfrm flipH="1" flipV="1" rot="16971600">
              <a:off x="6654960" y="3262680"/>
              <a:ext cx="181440" cy="20916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1130"/>
          <p:cNvGrpSpPr/>
          <p:nvPr/>
        </p:nvGrpSpPr>
        <p:grpSpPr>
          <a:xfrm>
            <a:off x="5457960" y="3507120"/>
            <a:ext cx="1365480" cy="1464840"/>
            <a:chOff x="5457960" y="3507120"/>
            <a:chExt cx="1365480" cy="1464840"/>
          </a:xfrm>
        </p:grpSpPr>
        <p:grpSp>
          <p:nvGrpSpPr>
            <p:cNvPr id="889" name="Group 1131"/>
            <p:cNvGrpSpPr/>
            <p:nvPr/>
          </p:nvGrpSpPr>
          <p:grpSpPr>
            <a:xfrm>
              <a:off x="5457960" y="3507120"/>
              <a:ext cx="1365480" cy="1464840"/>
              <a:chOff x="5457960" y="3507120"/>
              <a:chExt cx="1365480" cy="1464840"/>
            </a:xfrm>
          </p:grpSpPr>
          <p:sp>
            <p:nvSpPr>
              <p:cNvPr id="890" name="AutoShape 1132"/>
              <p:cNvSpPr/>
              <p:nvPr/>
            </p:nvSpPr>
            <p:spPr>
              <a:xfrm flipH="1" flipV="1" rot="2891400">
                <a:off x="5936040" y="4380120"/>
                <a:ext cx="264240" cy="53424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800 h 534240"/>
                  <a:gd name="textAreaBottom" fmla="*/ 338040 h 53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AutoShape 1133"/>
              <p:cNvSpPr/>
              <p:nvPr/>
            </p:nvSpPr>
            <p:spPr>
              <a:xfrm flipH="1" flipV="1" rot="14650200">
                <a:off x="6392880" y="4086720"/>
                <a:ext cx="264240" cy="53424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800 h 534240"/>
                  <a:gd name="textAreaBottom" fmla="*/ 338040 h 53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AutoShape 1134"/>
              <p:cNvSpPr/>
              <p:nvPr/>
            </p:nvSpPr>
            <p:spPr>
              <a:xfrm flipH="1" flipV="1" rot="11542200">
                <a:off x="6186600" y="396864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1135"/>
              <p:cNvSpPr/>
              <p:nvPr/>
            </p:nvSpPr>
            <p:spPr>
              <a:xfrm flipH="1" flipV="1" rot="8235000">
                <a:off x="5947920" y="403380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AutoShape 1136"/>
              <p:cNvSpPr/>
              <p:nvPr/>
            </p:nvSpPr>
            <p:spPr>
              <a:xfrm flipH="1" flipV="1" rot="17870400">
                <a:off x="6346080" y="4342680"/>
                <a:ext cx="291600" cy="48456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560"/>
                  <a:gd name="textAreaBottom" fmla="*/ 306720 h 48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AutoShape 1137"/>
              <p:cNvSpPr/>
              <p:nvPr/>
            </p:nvSpPr>
            <p:spPr>
              <a:xfrm flipH="1" flipV="1" rot="21423600">
                <a:off x="6137280" y="447084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Arc 1138"/>
              <p:cNvSpPr/>
              <p:nvPr/>
            </p:nvSpPr>
            <p:spPr>
              <a:xfrm flipH="1" flipV="1" rot="20202000">
                <a:off x="5651280" y="3540600"/>
                <a:ext cx="389520" cy="1058040"/>
              </a:xfrm>
              <a:custGeom>
                <a:avLst/>
                <a:gdLst>
                  <a:gd name="textAreaLeft" fmla="*/ 360 w 389520"/>
                  <a:gd name="textAreaRight" fmla="*/ 390240 w 389520"/>
                  <a:gd name="textAreaTop" fmla="*/ -360 h 1058040"/>
                  <a:gd name="textAreaBottom" fmla="*/ 1058040 h 105804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AutoShape 1139"/>
            <p:cNvSpPr/>
            <p:nvPr/>
          </p:nvSpPr>
          <p:spPr>
            <a:xfrm flipH="1" flipV="1" rot="20202000">
              <a:off x="6187680" y="4345920"/>
              <a:ext cx="177480" cy="21384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Group 1140"/>
          <p:cNvGrpSpPr/>
          <p:nvPr/>
        </p:nvGrpSpPr>
        <p:grpSpPr>
          <a:xfrm>
            <a:off x="4621680" y="3529800"/>
            <a:ext cx="1096200" cy="1648080"/>
            <a:chOff x="4621680" y="3529800"/>
            <a:chExt cx="1096200" cy="1648080"/>
          </a:xfrm>
        </p:grpSpPr>
        <p:grpSp>
          <p:nvGrpSpPr>
            <p:cNvPr id="899" name="Group 1141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sp>
            <p:nvSpPr>
              <p:cNvPr id="900" name="AutoShape 1142"/>
              <p:cNvSpPr/>
              <p:nvPr/>
            </p:nvSpPr>
            <p:spPr>
              <a:xfrm flipH="1" flipV="1" rot="6012000">
                <a:off x="4775760" y="4350960"/>
                <a:ext cx="264240" cy="53388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080 h 533880"/>
                  <a:gd name="textAreaBottom" fmla="*/ 337320 h 53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87880">
                  <a:alpha val="98000"/>
                </a:srgbClr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AutoShape 1143"/>
              <p:cNvSpPr/>
              <p:nvPr/>
            </p:nvSpPr>
            <p:spPr>
              <a:xfrm flipH="1" flipV="1" rot="17770200">
                <a:off x="5287320" y="4530600"/>
                <a:ext cx="264240" cy="534240"/>
              </a:xfrm>
              <a:custGeom>
                <a:avLst/>
                <a:gdLst>
                  <a:gd name="textAreaLeft" fmla="*/ 61200 w 264240"/>
                  <a:gd name="textAreaRight" fmla="*/ 202320 w 264240"/>
                  <a:gd name="textAreaTop" fmla="*/ 55800 h 534240"/>
                  <a:gd name="textAreaBottom" fmla="*/ 338040 h 53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8788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AutoShape 1144"/>
              <p:cNvSpPr/>
              <p:nvPr/>
            </p:nvSpPr>
            <p:spPr>
              <a:xfrm flipH="1" flipV="1" rot="14662200">
                <a:off x="5263920" y="431388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8788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AutoShape 1145"/>
              <p:cNvSpPr/>
              <p:nvPr/>
            </p:nvSpPr>
            <p:spPr>
              <a:xfrm flipH="1" flipV="1" rot="11355000">
                <a:off x="5068800" y="4167000"/>
                <a:ext cx="291600" cy="48384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3840"/>
                  <a:gd name="textAreaBottom" fmla="*/ 30600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fb187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AutoShape 1146"/>
              <p:cNvSpPr/>
              <p:nvPr/>
            </p:nvSpPr>
            <p:spPr>
              <a:xfrm flipH="1" flipV="1" rot="20990400">
                <a:off x="5070600" y="4671000"/>
                <a:ext cx="291600" cy="48420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0400 h 484200"/>
                  <a:gd name="textAreaBottom" fmla="*/ 30636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8788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AutoShape 1147"/>
              <p:cNvSpPr/>
              <p:nvPr/>
            </p:nvSpPr>
            <p:spPr>
              <a:xfrm flipH="1" flipV="1" rot="2943000">
                <a:off x="4838400" y="4583520"/>
                <a:ext cx="291600" cy="493920"/>
              </a:xfrm>
              <a:custGeom>
                <a:avLst/>
                <a:gdLst>
                  <a:gd name="textAreaLeft" fmla="*/ 67680 w 291600"/>
                  <a:gd name="textAreaRight" fmla="*/ 223560 w 291600"/>
                  <a:gd name="textAreaTop" fmla="*/ 52560 h 493920"/>
                  <a:gd name="textAreaBottom" fmla="*/ 313560 h 49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fb187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Arc 1148"/>
              <p:cNvSpPr/>
              <p:nvPr/>
            </p:nvSpPr>
            <p:spPr>
              <a:xfrm flipH="1" flipV="1" rot="1722000">
                <a:off x="5030640" y="3557880"/>
                <a:ext cx="389520" cy="1058040"/>
              </a:xfrm>
              <a:custGeom>
                <a:avLst/>
                <a:gdLst>
                  <a:gd name="textAreaLeft" fmla="*/ 360 w 389520"/>
                  <a:gd name="textAreaRight" fmla="*/ 390240 w 389520"/>
                  <a:gd name="textAreaTop" fmla="*/ -360 h 1058040"/>
                  <a:gd name="textAreaBottom" fmla="*/ 1058040 h 105804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AutoShape 1149"/>
            <p:cNvSpPr/>
            <p:nvPr/>
          </p:nvSpPr>
          <p:spPr>
            <a:xfrm flipH="1" flipV="1" rot="1722000">
              <a:off x="5100120" y="4555440"/>
              <a:ext cx="177480" cy="21384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1150"/>
          <p:cNvGrpSpPr/>
          <p:nvPr/>
        </p:nvGrpSpPr>
        <p:grpSpPr>
          <a:xfrm>
            <a:off x="3801240" y="2301840"/>
            <a:ext cx="1614240" cy="1105560"/>
            <a:chOff x="3801240" y="2301840"/>
            <a:chExt cx="1614240" cy="1105560"/>
          </a:xfrm>
        </p:grpSpPr>
        <p:grpSp>
          <p:nvGrpSpPr>
            <p:cNvPr id="909" name="Group 1151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sp>
            <p:nvSpPr>
              <p:cNvPr id="910" name="AutoShape 1152"/>
              <p:cNvSpPr/>
              <p:nvPr/>
            </p:nvSpPr>
            <p:spPr>
              <a:xfrm flipH="1" flipV="1" rot="11625000">
                <a:off x="4240800" y="2324880"/>
                <a:ext cx="258840" cy="545760"/>
              </a:xfrm>
              <a:custGeom>
                <a:avLst/>
                <a:gdLst>
                  <a:gd name="textAreaLeft" fmla="*/ 59400 w 258840"/>
                  <a:gd name="textAreaRight" fmla="*/ 197640 w 258840"/>
                  <a:gd name="textAreaTop" fmla="*/ 57240 h 545760"/>
                  <a:gd name="textAreaBottom" fmla="*/ 345600 h 54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4dd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AutoShape 1153"/>
              <p:cNvSpPr/>
              <p:nvPr/>
            </p:nvSpPr>
            <p:spPr>
              <a:xfrm flipH="1" flipV="1" rot="1783800">
                <a:off x="4021920" y="2832840"/>
                <a:ext cx="258840" cy="546120"/>
              </a:xfrm>
              <a:custGeom>
                <a:avLst/>
                <a:gdLst>
                  <a:gd name="textAreaLeft" fmla="*/ 59400 w 258840"/>
                  <a:gd name="textAreaRight" fmla="*/ 197640 w 258840"/>
                  <a:gd name="textAreaTop" fmla="*/ 56520 h 546120"/>
                  <a:gd name="textAreaBottom" fmla="*/ 345240 h 54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4dd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AutoShape 1154"/>
              <p:cNvSpPr/>
              <p:nvPr/>
            </p:nvSpPr>
            <p:spPr>
              <a:xfrm flipH="1" flipV="1" rot="20275800">
                <a:off x="4238280" y="2864880"/>
                <a:ext cx="298080" cy="48384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51120 h 483840"/>
                  <a:gd name="textAreaBottom" fmla="*/ 30672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4dd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AutoShape 1155"/>
              <p:cNvSpPr/>
              <p:nvPr/>
            </p:nvSpPr>
            <p:spPr>
              <a:xfrm flipH="1" flipV="1" rot="16968600">
                <a:off x="4403160" y="2679480"/>
                <a:ext cx="298080" cy="47412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8960 h 474120"/>
                  <a:gd name="textAreaBottom" fmla="*/ 299520 h 47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4dd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AutoShape 1156"/>
              <p:cNvSpPr/>
              <p:nvPr/>
            </p:nvSpPr>
            <p:spPr>
              <a:xfrm flipH="1" flipV="1" rot="5004000">
                <a:off x="3904200" y="2659320"/>
                <a:ext cx="298080" cy="47412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8960 h 474120"/>
                  <a:gd name="textAreaBottom" fmla="*/ 299520 h 47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c9c1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AutoShape 1157"/>
              <p:cNvSpPr/>
              <p:nvPr/>
            </p:nvSpPr>
            <p:spPr>
              <a:xfrm flipH="1" flipV="1" rot="8556600">
                <a:off x="4005360" y="2422800"/>
                <a:ext cx="298080" cy="48420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51120 h 484200"/>
                  <a:gd name="textAreaBottom" fmla="*/ 306720 h 48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4dd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Arc 1158"/>
              <p:cNvSpPr/>
              <p:nvPr/>
            </p:nvSpPr>
            <p:spPr>
              <a:xfrm flipH="1" flipV="1" rot="7335600">
                <a:off x="4671720" y="2422440"/>
                <a:ext cx="398160" cy="1036800"/>
              </a:xfrm>
              <a:custGeom>
                <a:avLst/>
                <a:gdLst>
                  <a:gd name="textAreaLeft" fmla="*/ 360 w 398160"/>
                  <a:gd name="textAreaRight" fmla="*/ 398880 w 398160"/>
                  <a:gd name="textAreaTop" fmla="*/ 360 h 1036800"/>
                  <a:gd name="textAreaBottom" fmla="*/ 1037520 h 103680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AutoShape 1159"/>
            <p:cNvSpPr/>
            <p:nvPr/>
          </p:nvSpPr>
          <p:spPr>
            <a:xfrm flipH="1" flipV="1" rot="7335600">
              <a:off x="4213080" y="2774160"/>
              <a:ext cx="181440" cy="20916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1160"/>
          <p:cNvGrpSpPr/>
          <p:nvPr/>
        </p:nvGrpSpPr>
        <p:grpSpPr>
          <a:xfrm>
            <a:off x="3801240" y="1595160"/>
            <a:ext cx="3453840" cy="3582720"/>
            <a:chOff x="3801240" y="1595160"/>
            <a:chExt cx="3453840" cy="3582720"/>
          </a:xfrm>
        </p:grpSpPr>
        <p:grpSp>
          <p:nvGrpSpPr>
            <p:cNvPr id="919" name="Group 1161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920" name="Group 1162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921" name="AutoShape 1163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AutoShape 1164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1165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AutoShape 1166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AutoShape 1167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AutoShape 1168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Arc 1169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AutoShape 1170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1171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930" name="Group 1172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931" name="AutoShape 1173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AutoShape 1174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AutoShape 1175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AutoShape 1176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AutoShape 1177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AutoShape 1178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Arc 1179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8" name="AutoShape 1180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181"/>
            <p:cNvGrpSpPr/>
            <p:nvPr/>
          </p:nvGrpSpPr>
          <p:grpSpPr>
            <a:xfrm>
              <a:off x="5457960" y="3507120"/>
              <a:ext cx="1365480" cy="1464840"/>
              <a:chOff x="5457960" y="3507120"/>
              <a:chExt cx="1365480" cy="1464840"/>
            </a:xfrm>
          </p:grpSpPr>
          <p:grpSp>
            <p:nvGrpSpPr>
              <p:cNvPr id="940" name="Group 1182"/>
              <p:cNvGrpSpPr/>
              <p:nvPr/>
            </p:nvGrpSpPr>
            <p:grpSpPr>
              <a:xfrm>
                <a:off x="5457960" y="3507120"/>
                <a:ext cx="1365480" cy="1464840"/>
                <a:chOff x="5457960" y="3507120"/>
                <a:chExt cx="1365480" cy="1464840"/>
              </a:xfrm>
            </p:grpSpPr>
            <p:sp>
              <p:nvSpPr>
                <p:cNvPr id="941" name="AutoShape 1183"/>
                <p:cNvSpPr/>
                <p:nvPr/>
              </p:nvSpPr>
              <p:spPr>
                <a:xfrm flipH="1" flipV="1" rot="2891400">
                  <a:off x="593604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AutoShape 1184"/>
                <p:cNvSpPr/>
                <p:nvPr/>
              </p:nvSpPr>
              <p:spPr>
                <a:xfrm flipH="1" flipV="1" rot="14650200">
                  <a:off x="639288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AutoShape 1185"/>
                <p:cNvSpPr/>
                <p:nvPr/>
              </p:nvSpPr>
              <p:spPr>
                <a:xfrm flipH="1" flipV="1" rot="11542200">
                  <a:off x="618660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AutoShape 1186"/>
                <p:cNvSpPr/>
                <p:nvPr/>
              </p:nvSpPr>
              <p:spPr>
                <a:xfrm flipH="1" flipV="1" rot="8235000">
                  <a:off x="594792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AutoShape 1187"/>
                <p:cNvSpPr/>
                <p:nvPr/>
              </p:nvSpPr>
              <p:spPr>
                <a:xfrm flipH="1" flipV="1" rot="17870400">
                  <a:off x="634608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AutoShape 1188"/>
                <p:cNvSpPr/>
                <p:nvPr/>
              </p:nvSpPr>
              <p:spPr>
                <a:xfrm flipH="1" flipV="1" rot="21423600">
                  <a:off x="613728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Arc 1189"/>
                <p:cNvSpPr/>
                <p:nvPr/>
              </p:nvSpPr>
              <p:spPr>
                <a:xfrm flipH="1" flipV="1" rot="20202000">
                  <a:off x="565128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8" name="AutoShape 1190"/>
              <p:cNvSpPr/>
              <p:nvPr/>
            </p:nvSpPr>
            <p:spPr>
              <a:xfrm flipH="1" flipV="1" rot="20202000">
                <a:off x="618768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Group 1191"/>
            <p:cNvGrpSpPr/>
            <p:nvPr/>
          </p:nvGrpSpPr>
          <p:grpSpPr>
            <a:xfrm>
              <a:off x="4645080" y="1595160"/>
              <a:ext cx="1143000" cy="1562760"/>
              <a:chOff x="4645080" y="1595160"/>
              <a:chExt cx="1143000" cy="1562760"/>
            </a:xfrm>
          </p:grpSpPr>
          <p:grpSp>
            <p:nvGrpSpPr>
              <p:cNvPr id="950" name="Group 1192"/>
              <p:cNvGrpSpPr/>
              <p:nvPr/>
            </p:nvGrpSpPr>
            <p:grpSpPr>
              <a:xfrm>
                <a:off x="4645080" y="1595160"/>
                <a:ext cx="1143000" cy="1562760"/>
                <a:chOff x="4645080" y="1595160"/>
                <a:chExt cx="1143000" cy="1562760"/>
              </a:xfrm>
            </p:grpSpPr>
            <p:sp>
              <p:nvSpPr>
                <p:cNvPr id="951" name="AutoShape 1193"/>
                <p:cNvSpPr/>
                <p:nvPr/>
              </p:nvSpPr>
              <p:spPr>
                <a:xfrm flipH="1" flipV="1" rot="14578200">
                  <a:off x="5316480" y="172188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AutoShape 1194"/>
                <p:cNvSpPr/>
                <p:nvPr/>
              </p:nvSpPr>
              <p:spPr>
                <a:xfrm flipH="1" flipV="1" rot="4736400">
                  <a:off x="4800240" y="1888560"/>
                  <a:ext cx="264240" cy="53496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6160 h 534960"/>
                    <a:gd name="textAreaBottom" fmla="*/ 338760 h 53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AutoShape 1195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AutoShape 1196"/>
                <p:cNvSpPr/>
                <p:nvPr/>
              </p:nvSpPr>
              <p:spPr>
                <a:xfrm flipH="1" flipV="1" rot="19921200">
                  <a:off x="5185080" y="209916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AutoShape 1197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AutoShape 1198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Arc 1199"/>
                <p:cNvSpPr/>
                <p:nvPr/>
              </p:nvSpPr>
              <p:spPr>
                <a:xfrm flipH="1" flipV="1" rot="10288200">
                  <a:off x="532188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AutoShape 1200"/>
              <p:cNvSpPr/>
              <p:nvPr/>
            </p:nvSpPr>
            <p:spPr>
              <a:xfrm flipH="1" flipV="1" rot="10288200">
                <a:off x="5109480" y="201744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Group 1201"/>
            <p:cNvGrpSpPr/>
            <p:nvPr/>
          </p:nvGrpSpPr>
          <p:grpSpPr>
            <a:xfrm>
              <a:off x="5585400" y="1787040"/>
              <a:ext cx="1235520" cy="1572480"/>
              <a:chOff x="5585400" y="1787040"/>
              <a:chExt cx="1235520" cy="1572480"/>
            </a:xfrm>
          </p:grpSpPr>
          <p:grpSp>
            <p:nvGrpSpPr>
              <p:cNvPr id="960" name="Group 1202"/>
              <p:cNvGrpSpPr/>
              <p:nvPr/>
            </p:nvGrpSpPr>
            <p:grpSpPr>
              <a:xfrm>
                <a:off x="5585400" y="1787040"/>
                <a:ext cx="1235520" cy="1572480"/>
                <a:chOff x="5585400" y="1787040"/>
                <a:chExt cx="1235520" cy="1572480"/>
              </a:xfrm>
            </p:grpSpPr>
            <p:sp>
              <p:nvSpPr>
                <p:cNvPr id="961" name="AutoShape 1203"/>
                <p:cNvSpPr/>
                <p:nvPr/>
              </p:nvSpPr>
              <p:spPr>
                <a:xfrm flipH="1" flipV="1" rot="17647800">
                  <a:off x="6390720" y="213264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AutoShape 1204"/>
                <p:cNvSpPr/>
                <p:nvPr/>
              </p:nvSpPr>
              <p:spPr>
                <a:xfrm flipH="1" flipV="1" rot="7806600">
                  <a:off x="5937840" y="18349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AutoShape 1205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AutoShape 1206"/>
                <p:cNvSpPr/>
                <p:nvPr/>
              </p:nvSpPr>
              <p:spPr>
                <a:xfrm flipH="1" flipV="1" rot="1391400">
                  <a:off x="6028560" y="22856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AutoShape 1207"/>
                <p:cNvSpPr/>
                <p:nvPr/>
              </p:nvSpPr>
              <p:spPr>
                <a:xfrm flipH="1" flipV="1" rot="11026800">
                  <a:off x="6148440" y="17953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AutoShape 1208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Arc 1209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8" name="AutoShape 1210"/>
              <p:cNvSpPr/>
              <p:nvPr/>
            </p:nvSpPr>
            <p:spPr>
              <a:xfrm flipH="1" flipV="1" rot="13358400">
                <a:off x="6172560" y="218160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9" name="Oval 1211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Group 1212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971" name="Group 1213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972" name="AutoShape 1214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AutoShape 1215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AutoShape 1216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AutoShape 1217"/>
                <p:cNvSpPr/>
                <p:nvPr/>
              </p:nvSpPr>
              <p:spPr>
                <a:xfrm flipH="1" flipV="1" rot="13818000">
                  <a:off x="4382640" y="358884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AutoShape 1218"/>
                <p:cNvSpPr/>
                <p:nvPr/>
              </p:nvSpPr>
              <p:spPr>
                <a:xfrm flipH="1" flipV="1" rot="1852800">
                  <a:off x="4062240" y="39718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AutoShape 1219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Arc 1220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9" name="AutoShape 1221"/>
              <p:cNvSpPr/>
              <p:nvPr/>
            </p:nvSpPr>
            <p:spPr>
              <a:xfrm flipH="1" flipV="1" rot="4184400">
                <a:off x="4259520" y="389448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Group 1222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981" name="Group 1223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982" name="AutoShape 1224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AutoShape 1225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AutoShape 1226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AutoShape 1227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AutoShape 1228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AutoShape 1229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Arc 1230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9" name="AutoShape 1231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1232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991" name="Group 1233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992" name="AutoShape 1234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AutoShape 1235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AutoShape 1236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AutoShape 1237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AutoShape 1238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AutoShape 1239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Arc 1240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9" name="AutoShape 1241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1242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1001" name="Group 1243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1002" name="AutoShape 1244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AutoShape 1245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AutoShape 1246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AutoShape 1247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AutoShape 1248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AutoShape 1249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Arc 1250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9" name="AutoShape 1251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Group 1252"/>
            <p:cNvGrpSpPr/>
            <p:nvPr/>
          </p:nvGrpSpPr>
          <p:grpSpPr>
            <a:xfrm>
              <a:off x="5457960" y="3507120"/>
              <a:ext cx="1365480" cy="1464840"/>
              <a:chOff x="5457960" y="3507120"/>
              <a:chExt cx="1365480" cy="1464840"/>
            </a:xfrm>
          </p:grpSpPr>
          <p:grpSp>
            <p:nvGrpSpPr>
              <p:cNvPr id="1011" name="Group 1253"/>
              <p:cNvGrpSpPr/>
              <p:nvPr/>
            </p:nvGrpSpPr>
            <p:grpSpPr>
              <a:xfrm>
                <a:off x="5457960" y="3507120"/>
                <a:ext cx="1365480" cy="1464840"/>
                <a:chOff x="5457960" y="3507120"/>
                <a:chExt cx="1365480" cy="1464840"/>
              </a:xfrm>
            </p:grpSpPr>
            <p:sp>
              <p:nvSpPr>
                <p:cNvPr id="1012" name="AutoShape 1254"/>
                <p:cNvSpPr/>
                <p:nvPr/>
              </p:nvSpPr>
              <p:spPr>
                <a:xfrm flipH="1" flipV="1" rot="2891400">
                  <a:off x="593604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AutoShape 1255"/>
                <p:cNvSpPr/>
                <p:nvPr/>
              </p:nvSpPr>
              <p:spPr>
                <a:xfrm flipH="1" flipV="1" rot="14650200">
                  <a:off x="639288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AutoShape 1256"/>
                <p:cNvSpPr/>
                <p:nvPr/>
              </p:nvSpPr>
              <p:spPr>
                <a:xfrm flipH="1" flipV="1" rot="11542200">
                  <a:off x="618660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AutoShape 1257"/>
                <p:cNvSpPr/>
                <p:nvPr/>
              </p:nvSpPr>
              <p:spPr>
                <a:xfrm flipH="1" flipV="1" rot="8235000">
                  <a:off x="594792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AutoShape 1258"/>
                <p:cNvSpPr/>
                <p:nvPr/>
              </p:nvSpPr>
              <p:spPr>
                <a:xfrm flipH="1" flipV="1" rot="17870400">
                  <a:off x="634608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AutoShape 1259"/>
                <p:cNvSpPr/>
                <p:nvPr/>
              </p:nvSpPr>
              <p:spPr>
                <a:xfrm flipH="1" flipV="1" rot="21423600">
                  <a:off x="613728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Arc 1260"/>
                <p:cNvSpPr/>
                <p:nvPr/>
              </p:nvSpPr>
              <p:spPr>
                <a:xfrm flipH="1" flipV="1" rot="20202000">
                  <a:off x="565128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AutoShape 1261"/>
              <p:cNvSpPr/>
              <p:nvPr/>
            </p:nvSpPr>
            <p:spPr>
              <a:xfrm flipH="1" flipV="1" rot="20202000">
                <a:off x="618768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1262"/>
            <p:cNvGrpSpPr/>
            <p:nvPr/>
          </p:nvGrpSpPr>
          <p:grpSpPr>
            <a:xfrm>
              <a:off x="4645080" y="1595160"/>
              <a:ext cx="1143000" cy="1562760"/>
              <a:chOff x="4645080" y="1595160"/>
              <a:chExt cx="1143000" cy="1562760"/>
            </a:xfrm>
          </p:grpSpPr>
          <p:grpSp>
            <p:nvGrpSpPr>
              <p:cNvPr id="1021" name="Group 1263"/>
              <p:cNvGrpSpPr/>
              <p:nvPr/>
            </p:nvGrpSpPr>
            <p:grpSpPr>
              <a:xfrm>
                <a:off x="4645080" y="1595160"/>
                <a:ext cx="1143000" cy="1562760"/>
                <a:chOff x="4645080" y="1595160"/>
                <a:chExt cx="1143000" cy="1562760"/>
              </a:xfrm>
            </p:grpSpPr>
            <p:sp>
              <p:nvSpPr>
                <p:cNvPr id="1022" name="AutoShape 1264"/>
                <p:cNvSpPr/>
                <p:nvPr/>
              </p:nvSpPr>
              <p:spPr>
                <a:xfrm flipH="1" flipV="1" rot="14578200">
                  <a:off x="5316480" y="172188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AutoShape 1265"/>
                <p:cNvSpPr/>
                <p:nvPr/>
              </p:nvSpPr>
              <p:spPr>
                <a:xfrm flipH="1" flipV="1" rot="4736400">
                  <a:off x="4800240" y="1888560"/>
                  <a:ext cx="264240" cy="53496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6160 h 534960"/>
                    <a:gd name="textAreaBottom" fmla="*/ 338760 h 53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AutoShape 1266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AutoShape 1267"/>
                <p:cNvSpPr/>
                <p:nvPr/>
              </p:nvSpPr>
              <p:spPr>
                <a:xfrm flipH="1" flipV="1" rot="19921200">
                  <a:off x="5185080" y="209916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AutoShape 1268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AutoShape 1269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Arc 1270"/>
                <p:cNvSpPr/>
                <p:nvPr/>
              </p:nvSpPr>
              <p:spPr>
                <a:xfrm flipH="1" flipV="1" rot="10288200">
                  <a:off x="532188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AutoShape 1271"/>
              <p:cNvSpPr/>
              <p:nvPr/>
            </p:nvSpPr>
            <p:spPr>
              <a:xfrm flipH="1" flipV="1" rot="10288200">
                <a:off x="5109480" y="201744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1272"/>
            <p:cNvGrpSpPr/>
            <p:nvPr/>
          </p:nvGrpSpPr>
          <p:grpSpPr>
            <a:xfrm>
              <a:off x="5585400" y="1787040"/>
              <a:ext cx="1235520" cy="1572480"/>
              <a:chOff x="5585400" y="1787040"/>
              <a:chExt cx="1235520" cy="1572480"/>
            </a:xfrm>
          </p:grpSpPr>
          <p:grpSp>
            <p:nvGrpSpPr>
              <p:cNvPr id="1031" name="Group 1273"/>
              <p:cNvGrpSpPr/>
              <p:nvPr/>
            </p:nvGrpSpPr>
            <p:grpSpPr>
              <a:xfrm>
                <a:off x="5585400" y="1787040"/>
                <a:ext cx="1235520" cy="1572480"/>
                <a:chOff x="5585400" y="1787040"/>
                <a:chExt cx="1235520" cy="1572480"/>
              </a:xfrm>
            </p:grpSpPr>
            <p:sp>
              <p:nvSpPr>
                <p:cNvPr id="1032" name="AutoShape 1274"/>
                <p:cNvSpPr/>
                <p:nvPr/>
              </p:nvSpPr>
              <p:spPr>
                <a:xfrm flipH="1" flipV="1" rot="17647800">
                  <a:off x="6390720" y="213264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AutoShape 1275"/>
                <p:cNvSpPr/>
                <p:nvPr/>
              </p:nvSpPr>
              <p:spPr>
                <a:xfrm flipH="1" flipV="1" rot="7806600">
                  <a:off x="5937840" y="18349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AutoShape 1276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AutoShape 1277"/>
                <p:cNvSpPr/>
                <p:nvPr/>
              </p:nvSpPr>
              <p:spPr>
                <a:xfrm flipH="1" flipV="1" rot="1391400">
                  <a:off x="6028560" y="22856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AutoShape 1278"/>
                <p:cNvSpPr/>
                <p:nvPr/>
              </p:nvSpPr>
              <p:spPr>
                <a:xfrm flipH="1" flipV="1" rot="11026800">
                  <a:off x="6148440" y="17953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AutoShape 1279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Arc 1280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9" name="AutoShape 1281"/>
              <p:cNvSpPr/>
              <p:nvPr/>
            </p:nvSpPr>
            <p:spPr>
              <a:xfrm flipH="1" flipV="1" rot="13358400">
                <a:off x="6172560" y="218160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Oval 1282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Group 1283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1042" name="Group 1284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1043" name="AutoShape 1285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AutoShape 1286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AutoShape 1287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AutoShape 1288"/>
                <p:cNvSpPr/>
                <p:nvPr/>
              </p:nvSpPr>
              <p:spPr>
                <a:xfrm flipH="1" flipV="1" rot="13818000">
                  <a:off x="4382640" y="358884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AutoShape 1289"/>
                <p:cNvSpPr/>
                <p:nvPr/>
              </p:nvSpPr>
              <p:spPr>
                <a:xfrm flipH="1" flipV="1" rot="1852800">
                  <a:off x="4062240" y="39718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AutoShape 1290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rc 1291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0" name="AutoShape 1292"/>
              <p:cNvSpPr/>
              <p:nvPr/>
            </p:nvSpPr>
            <p:spPr>
              <a:xfrm flipH="1" flipV="1" rot="4184400">
                <a:off x="4259520" y="389448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293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1052" name="Group 1294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1053" name="AutoShape 1295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AutoShape 1296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297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98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1299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AutoShape 1300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Arc 1301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0" name="AutoShape 1302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303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1062" name="Group 1304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1063" name="AutoShape 1305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AutoShape 1306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AutoShape 1307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AutoShape 1308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AutoShape 1309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AutoShape 1310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Arc 1311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AutoShape 1312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Group 1313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1072" name="Group 1314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1073" name="AutoShape 1315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AutoShape 1316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AutoShape 1317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AutoShape 1318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AutoShape 1319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AutoShape 1320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Arc 1321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AutoShape 1322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1" name="Group 1323"/>
            <p:cNvGrpSpPr/>
            <p:nvPr/>
          </p:nvGrpSpPr>
          <p:grpSpPr>
            <a:xfrm>
              <a:off x="5457960" y="3507120"/>
              <a:ext cx="1365480" cy="1464840"/>
              <a:chOff x="5457960" y="3507120"/>
              <a:chExt cx="1365480" cy="1464840"/>
            </a:xfrm>
          </p:grpSpPr>
          <p:grpSp>
            <p:nvGrpSpPr>
              <p:cNvPr id="1082" name="Group 1324"/>
              <p:cNvGrpSpPr/>
              <p:nvPr/>
            </p:nvGrpSpPr>
            <p:grpSpPr>
              <a:xfrm>
                <a:off x="5457960" y="3507120"/>
                <a:ext cx="1365480" cy="1464840"/>
                <a:chOff x="5457960" y="3507120"/>
                <a:chExt cx="1365480" cy="1464840"/>
              </a:xfrm>
            </p:grpSpPr>
            <p:sp>
              <p:nvSpPr>
                <p:cNvPr id="1083" name="AutoShape 1325"/>
                <p:cNvSpPr/>
                <p:nvPr/>
              </p:nvSpPr>
              <p:spPr>
                <a:xfrm flipH="1" flipV="1" rot="2891400">
                  <a:off x="593604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AutoShape 1326"/>
                <p:cNvSpPr/>
                <p:nvPr/>
              </p:nvSpPr>
              <p:spPr>
                <a:xfrm flipH="1" flipV="1" rot="14650200">
                  <a:off x="639288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AutoShape 1327"/>
                <p:cNvSpPr/>
                <p:nvPr/>
              </p:nvSpPr>
              <p:spPr>
                <a:xfrm flipH="1" flipV="1" rot="11542200">
                  <a:off x="618660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AutoShape 1328"/>
                <p:cNvSpPr/>
                <p:nvPr/>
              </p:nvSpPr>
              <p:spPr>
                <a:xfrm flipH="1" flipV="1" rot="8235000">
                  <a:off x="594792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AutoShape 1329"/>
                <p:cNvSpPr/>
                <p:nvPr/>
              </p:nvSpPr>
              <p:spPr>
                <a:xfrm flipH="1" flipV="1" rot="17870400">
                  <a:off x="634608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AutoShape 1330"/>
                <p:cNvSpPr/>
                <p:nvPr/>
              </p:nvSpPr>
              <p:spPr>
                <a:xfrm flipH="1" flipV="1" rot="21423600">
                  <a:off x="613728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Arc 1331"/>
                <p:cNvSpPr/>
                <p:nvPr/>
              </p:nvSpPr>
              <p:spPr>
                <a:xfrm flipH="1" flipV="1" rot="20202000">
                  <a:off x="565128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0" name="AutoShape 1332"/>
              <p:cNvSpPr/>
              <p:nvPr/>
            </p:nvSpPr>
            <p:spPr>
              <a:xfrm flipH="1" flipV="1" rot="20202000">
                <a:off x="618768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Group 1333"/>
            <p:cNvGrpSpPr/>
            <p:nvPr/>
          </p:nvGrpSpPr>
          <p:grpSpPr>
            <a:xfrm>
              <a:off x="4645080" y="1595160"/>
              <a:ext cx="1143000" cy="1562760"/>
              <a:chOff x="4645080" y="1595160"/>
              <a:chExt cx="1143000" cy="1562760"/>
            </a:xfrm>
          </p:grpSpPr>
          <p:grpSp>
            <p:nvGrpSpPr>
              <p:cNvPr id="1092" name="Group 1334"/>
              <p:cNvGrpSpPr/>
              <p:nvPr/>
            </p:nvGrpSpPr>
            <p:grpSpPr>
              <a:xfrm>
                <a:off x="4645080" y="1595160"/>
                <a:ext cx="1143000" cy="1562760"/>
                <a:chOff x="4645080" y="1595160"/>
                <a:chExt cx="1143000" cy="1562760"/>
              </a:xfrm>
            </p:grpSpPr>
            <p:sp>
              <p:nvSpPr>
                <p:cNvPr id="1093" name="AutoShape 1335"/>
                <p:cNvSpPr/>
                <p:nvPr/>
              </p:nvSpPr>
              <p:spPr>
                <a:xfrm flipH="1" flipV="1" rot="14578200">
                  <a:off x="5316480" y="172188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AutoShape 1336"/>
                <p:cNvSpPr/>
                <p:nvPr/>
              </p:nvSpPr>
              <p:spPr>
                <a:xfrm flipH="1" flipV="1" rot="4736400">
                  <a:off x="4800240" y="1888560"/>
                  <a:ext cx="264240" cy="53496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6160 h 534960"/>
                    <a:gd name="textAreaBottom" fmla="*/ 338760 h 53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AutoShape 1337"/>
                <p:cNvSpPr/>
                <p:nvPr/>
              </p:nvSpPr>
              <p:spPr>
                <a:xfrm flipH="1" flipV="1" rot="1628400">
                  <a:off x="49377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1338"/>
                <p:cNvSpPr/>
                <p:nvPr/>
              </p:nvSpPr>
              <p:spPr>
                <a:xfrm flipH="1" flipV="1" rot="19921200">
                  <a:off x="5185080" y="209916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AutoShape 1339"/>
                <p:cNvSpPr/>
                <p:nvPr/>
              </p:nvSpPr>
              <p:spPr>
                <a:xfrm flipH="1" flipV="1" rot="7956600">
                  <a:off x="48780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AutoShape 1340"/>
                <p:cNvSpPr/>
                <p:nvPr/>
              </p:nvSpPr>
              <p:spPr>
                <a:xfrm flipH="1" flipV="1" rot="11509800">
                  <a:off x="51138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Arc 1341"/>
                <p:cNvSpPr/>
                <p:nvPr/>
              </p:nvSpPr>
              <p:spPr>
                <a:xfrm flipH="1" flipV="1" rot="10288200">
                  <a:off x="532188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0" name="AutoShape 1342"/>
              <p:cNvSpPr/>
              <p:nvPr/>
            </p:nvSpPr>
            <p:spPr>
              <a:xfrm flipH="1" flipV="1" rot="10288200">
                <a:off x="5109480" y="2017440"/>
                <a:ext cx="17784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Group 1343"/>
            <p:cNvGrpSpPr/>
            <p:nvPr/>
          </p:nvGrpSpPr>
          <p:grpSpPr>
            <a:xfrm>
              <a:off x="5585400" y="1787040"/>
              <a:ext cx="1235520" cy="1572480"/>
              <a:chOff x="5585400" y="1787040"/>
              <a:chExt cx="1235520" cy="1572480"/>
            </a:xfrm>
          </p:grpSpPr>
          <p:grpSp>
            <p:nvGrpSpPr>
              <p:cNvPr id="1102" name="Group 1344"/>
              <p:cNvGrpSpPr/>
              <p:nvPr/>
            </p:nvGrpSpPr>
            <p:grpSpPr>
              <a:xfrm>
                <a:off x="5585400" y="1787040"/>
                <a:ext cx="1235520" cy="1572480"/>
                <a:chOff x="5585400" y="1787040"/>
                <a:chExt cx="1235520" cy="1572480"/>
              </a:xfrm>
            </p:grpSpPr>
            <p:sp>
              <p:nvSpPr>
                <p:cNvPr id="1103" name="AutoShape 1345"/>
                <p:cNvSpPr/>
                <p:nvPr/>
              </p:nvSpPr>
              <p:spPr>
                <a:xfrm flipH="1" flipV="1" rot="17647800">
                  <a:off x="6390720" y="213264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AutoShape 1346"/>
                <p:cNvSpPr/>
                <p:nvPr/>
              </p:nvSpPr>
              <p:spPr>
                <a:xfrm flipH="1" flipV="1" rot="7806600">
                  <a:off x="5937840" y="18349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347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AutoShape 1348"/>
                <p:cNvSpPr/>
                <p:nvPr/>
              </p:nvSpPr>
              <p:spPr>
                <a:xfrm flipH="1" flipV="1" rot="1391400">
                  <a:off x="6028560" y="22856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349"/>
                <p:cNvSpPr/>
                <p:nvPr/>
              </p:nvSpPr>
              <p:spPr>
                <a:xfrm flipH="1" flipV="1" rot="11026800">
                  <a:off x="6148440" y="17953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AutoShape 1350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rc 1351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AutoShape 1352"/>
              <p:cNvSpPr/>
              <p:nvPr/>
            </p:nvSpPr>
            <p:spPr>
              <a:xfrm flipH="1" flipV="1" rot="13358400">
                <a:off x="6172560" y="218160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Oval 1353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2" name="Group 1354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1113" name="Group 1355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1114" name="AutoShape 1356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AutoShape 1357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AutoShape 1358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AutoShape 1359"/>
                <p:cNvSpPr/>
                <p:nvPr/>
              </p:nvSpPr>
              <p:spPr>
                <a:xfrm flipH="1" flipV="1" rot="13818000">
                  <a:off x="4382640" y="358884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AutoShape 1360"/>
                <p:cNvSpPr/>
                <p:nvPr/>
              </p:nvSpPr>
              <p:spPr>
                <a:xfrm flipH="1" flipV="1" rot="1852800">
                  <a:off x="4062240" y="39718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AutoShape 1361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Arc 1362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1" name="AutoShape 1363"/>
              <p:cNvSpPr/>
              <p:nvPr/>
            </p:nvSpPr>
            <p:spPr>
              <a:xfrm flipH="1" flipV="1" rot="4184400">
                <a:off x="4259520" y="389448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1364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1123" name="Group 1365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1124" name="AutoShape 1366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AutoShape 1367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AutoShape 1368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AutoShape 1369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AutoShape 1370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AutoShape 1371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Arc 1372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1" name="AutoShape 1373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1374"/>
            <p:cNvGrpSpPr/>
            <p:nvPr/>
          </p:nvGrpSpPr>
          <p:grpSpPr>
            <a:xfrm>
              <a:off x="4621680" y="3529800"/>
              <a:ext cx="1096200" cy="1648080"/>
              <a:chOff x="4621680" y="3529800"/>
              <a:chExt cx="1096200" cy="1648080"/>
            </a:xfrm>
          </p:grpSpPr>
          <p:grpSp>
            <p:nvGrpSpPr>
              <p:cNvPr id="1133" name="Group 1375"/>
              <p:cNvGrpSpPr/>
              <p:nvPr/>
            </p:nvGrpSpPr>
            <p:grpSpPr>
              <a:xfrm>
                <a:off x="4621680" y="3529800"/>
                <a:ext cx="1096200" cy="1648080"/>
                <a:chOff x="4621680" y="3529800"/>
                <a:chExt cx="1096200" cy="1648080"/>
              </a:xfrm>
            </p:grpSpPr>
            <p:sp>
              <p:nvSpPr>
                <p:cNvPr id="1134" name="AutoShape 1376"/>
                <p:cNvSpPr/>
                <p:nvPr/>
              </p:nvSpPr>
              <p:spPr>
                <a:xfrm flipH="1" flipV="1" rot="6012000">
                  <a:off x="4775760" y="435096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>
                    <a:alpha val="98000"/>
                  </a:srgbClr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AutoShape 1377"/>
                <p:cNvSpPr/>
                <p:nvPr/>
              </p:nvSpPr>
              <p:spPr>
                <a:xfrm flipH="1" flipV="1" rot="17770200">
                  <a:off x="5287320" y="453060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AutoShape 1378"/>
                <p:cNvSpPr/>
                <p:nvPr/>
              </p:nvSpPr>
              <p:spPr>
                <a:xfrm flipH="1" flipV="1" rot="14662200">
                  <a:off x="5263920" y="43138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AutoShape 1379"/>
                <p:cNvSpPr/>
                <p:nvPr/>
              </p:nvSpPr>
              <p:spPr>
                <a:xfrm flipH="1" flipV="1" rot="11355000">
                  <a:off x="5068800" y="4167000"/>
                  <a:ext cx="291600" cy="48384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3840"/>
                    <a:gd name="textAreaBottom" fmla="*/ 30600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1380"/>
                <p:cNvSpPr/>
                <p:nvPr/>
              </p:nvSpPr>
              <p:spPr>
                <a:xfrm flipH="1" flipV="1" rot="20990400">
                  <a:off x="5070600" y="46710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8788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AutoShape 1381"/>
                <p:cNvSpPr/>
                <p:nvPr/>
              </p:nvSpPr>
              <p:spPr>
                <a:xfrm flipH="1" flipV="1" rot="2943000">
                  <a:off x="4838400" y="45835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fb187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382"/>
                <p:cNvSpPr/>
                <p:nvPr/>
              </p:nvSpPr>
              <p:spPr>
                <a:xfrm flipH="1" flipV="1" rot="1722000">
                  <a:off x="5030640" y="355788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1" name="AutoShape 1383"/>
              <p:cNvSpPr/>
              <p:nvPr/>
            </p:nvSpPr>
            <p:spPr>
              <a:xfrm flipH="1" flipV="1" rot="1722000">
                <a:off x="5100120" y="4555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Group 1384"/>
            <p:cNvGrpSpPr/>
            <p:nvPr/>
          </p:nvGrpSpPr>
          <p:grpSpPr>
            <a:xfrm>
              <a:off x="5642280" y="2811600"/>
              <a:ext cx="1612800" cy="1128960"/>
              <a:chOff x="5642280" y="2811600"/>
              <a:chExt cx="1612800" cy="1128960"/>
            </a:xfrm>
          </p:grpSpPr>
          <p:grpSp>
            <p:nvGrpSpPr>
              <p:cNvPr id="1143" name="Group 1385"/>
              <p:cNvGrpSpPr/>
              <p:nvPr/>
            </p:nvGrpSpPr>
            <p:grpSpPr>
              <a:xfrm>
                <a:off x="5642280" y="2811600"/>
                <a:ext cx="1612800" cy="1128960"/>
                <a:chOff x="5642280" y="2811600"/>
                <a:chExt cx="1612800" cy="1128960"/>
              </a:xfrm>
            </p:grpSpPr>
            <p:sp>
              <p:nvSpPr>
                <p:cNvPr id="1144" name="AutoShape 1386"/>
                <p:cNvSpPr/>
                <p:nvPr/>
              </p:nvSpPr>
              <p:spPr>
                <a:xfrm flipH="1" flipV="1" rot="21261600">
                  <a:off x="6647040" y="3382200"/>
                  <a:ext cx="259200" cy="546120"/>
                </a:xfrm>
                <a:custGeom>
                  <a:avLst/>
                  <a:gdLst>
                    <a:gd name="textAreaLeft" fmla="*/ 60120 w 259200"/>
                    <a:gd name="textAreaRight" fmla="*/ 198720 w 25920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AutoShape 1387"/>
                <p:cNvSpPr/>
                <p:nvPr/>
              </p:nvSpPr>
              <p:spPr>
                <a:xfrm flipH="1" flipV="1" rot="11419800">
                  <a:off x="6684840" y="282960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AutoShape 1388"/>
                <p:cNvSpPr/>
                <p:nvPr/>
              </p:nvSpPr>
              <p:spPr>
                <a:xfrm flipH="1" flipV="1" rot="8311800">
                  <a:off x="6443640" y="2937960"/>
                  <a:ext cx="297720" cy="483840"/>
                </a:xfrm>
                <a:custGeom>
                  <a:avLst/>
                  <a:gdLst>
                    <a:gd name="textAreaLeft" fmla="*/ 68400 w 297720"/>
                    <a:gd name="textAreaRight" fmla="*/ 227520 w 29772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AutoShape 1389"/>
                <p:cNvSpPr/>
                <p:nvPr/>
              </p:nvSpPr>
              <p:spPr>
                <a:xfrm flipH="1" flipV="1" rot="5005200">
                  <a:off x="6349680" y="317736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AutoShape 1390"/>
                <p:cNvSpPr/>
                <p:nvPr/>
              </p:nvSpPr>
              <p:spPr>
                <a:xfrm flipH="1" flipV="1" rot="14640000">
                  <a:off x="6827040" y="3030840"/>
                  <a:ext cx="298080" cy="47448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9680 h 474480"/>
                    <a:gd name="textAreaBottom" fmla="*/ 300600 h 474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d6e4b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AutoShape 1391"/>
                <p:cNvSpPr/>
                <p:nvPr/>
              </p:nvSpPr>
              <p:spPr>
                <a:xfrm flipH="1" flipV="1" rot="18193200">
                  <a:off x="6809040" y="327744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Arc 1392"/>
                <p:cNvSpPr/>
                <p:nvPr/>
              </p:nvSpPr>
              <p:spPr>
                <a:xfrm flipH="1" flipV="1" rot="16971600">
                  <a:off x="5992200" y="297864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1" name="AutoShape 1393"/>
              <p:cNvSpPr/>
              <p:nvPr/>
            </p:nvSpPr>
            <p:spPr>
              <a:xfrm flipH="1" flipV="1" rot="16971600">
                <a:off x="6654960" y="326268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2" name="Group 1394"/>
            <p:cNvGrpSpPr/>
            <p:nvPr/>
          </p:nvGrpSpPr>
          <p:grpSpPr>
            <a:xfrm>
              <a:off x="5457960" y="3507120"/>
              <a:ext cx="1365480" cy="1464840"/>
              <a:chOff x="5457960" y="3507120"/>
              <a:chExt cx="1365480" cy="1464840"/>
            </a:xfrm>
          </p:grpSpPr>
          <p:grpSp>
            <p:nvGrpSpPr>
              <p:cNvPr id="1153" name="Group 1395"/>
              <p:cNvGrpSpPr/>
              <p:nvPr/>
            </p:nvGrpSpPr>
            <p:grpSpPr>
              <a:xfrm>
                <a:off x="5457960" y="3507120"/>
                <a:ext cx="1365480" cy="1464840"/>
                <a:chOff x="5457960" y="3507120"/>
                <a:chExt cx="1365480" cy="1464840"/>
              </a:xfrm>
            </p:grpSpPr>
            <p:sp>
              <p:nvSpPr>
                <p:cNvPr id="1154" name="AutoShape 1396"/>
                <p:cNvSpPr/>
                <p:nvPr/>
              </p:nvSpPr>
              <p:spPr>
                <a:xfrm flipH="1" flipV="1" rot="2891400">
                  <a:off x="5936040" y="43801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AutoShape 1397"/>
                <p:cNvSpPr/>
                <p:nvPr/>
              </p:nvSpPr>
              <p:spPr>
                <a:xfrm flipH="1" flipV="1" rot="14650200">
                  <a:off x="6392880" y="40867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AutoShape 1398"/>
                <p:cNvSpPr/>
                <p:nvPr/>
              </p:nvSpPr>
              <p:spPr>
                <a:xfrm flipH="1" flipV="1" rot="11542200">
                  <a:off x="6186600" y="39686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AutoShape 1399"/>
                <p:cNvSpPr/>
                <p:nvPr/>
              </p:nvSpPr>
              <p:spPr>
                <a:xfrm flipH="1" flipV="1" rot="8235000">
                  <a:off x="5947920" y="403380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AutoShape 1400"/>
                <p:cNvSpPr/>
                <p:nvPr/>
              </p:nvSpPr>
              <p:spPr>
                <a:xfrm flipH="1" flipV="1" rot="17870400">
                  <a:off x="6346080" y="4342680"/>
                  <a:ext cx="291600" cy="484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560"/>
                    <a:gd name="textAreaBottom" fmla="*/ 306720 h 48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AutoShape 1401"/>
                <p:cNvSpPr/>
                <p:nvPr/>
              </p:nvSpPr>
              <p:spPr>
                <a:xfrm flipH="1" flipV="1" rot="21423600">
                  <a:off x="6137280" y="44708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Arc 1402"/>
                <p:cNvSpPr/>
                <p:nvPr/>
              </p:nvSpPr>
              <p:spPr>
                <a:xfrm flipH="1" flipV="1" rot="20202000">
                  <a:off x="5651280" y="354060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1" name="AutoShape 1403"/>
              <p:cNvSpPr/>
              <p:nvPr/>
            </p:nvSpPr>
            <p:spPr>
              <a:xfrm flipH="1" flipV="1" rot="20202000">
                <a:off x="6187680" y="434592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Group 1404"/>
            <p:cNvGrpSpPr/>
            <p:nvPr/>
          </p:nvGrpSpPr>
          <p:grpSpPr>
            <a:xfrm>
              <a:off x="4656240" y="1595160"/>
              <a:ext cx="1143000" cy="1562760"/>
              <a:chOff x="4656240" y="1595160"/>
              <a:chExt cx="1143000" cy="1562760"/>
            </a:xfrm>
          </p:grpSpPr>
          <p:grpSp>
            <p:nvGrpSpPr>
              <p:cNvPr id="1163" name="Group 1405"/>
              <p:cNvGrpSpPr/>
              <p:nvPr/>
            </p:nvGrpSpPr>
            <p:grpSpPr>
              <a:xfrm>
                <a:off x="4656240" y="1595160"/>
                <a:ext cx="1143000" cy="1562760"/>
                <a:chOff x="4656240" y="1595160"/>
                <a:chExt cx="1143000" cy="1562760"/>
              </a:xfrm>
            </p:grpSpPr>
            <p:sp>
              <p:nvSpPr>
                <p:cNvPr id="1164" name="AutoShape 1406"/>
                <p:cNvSpPr/>
                <p:nvPr/>
              </p:nvSpPr>
              <p:spPr>
                <a:xfrm flipH="1" flipV="1" rot="14578200">
                  <a:off x="5327640" y="172260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AutoShape 1407"/>
                <p:cNvSpPr/>
                <p:nvPr/>
              </p:nvSpPr>
              <p:spPr>
                <a:xfrm flipH="1" flipV="1" rot="4736400">
                  <a:off x="4811400" y="1888920"/>
                  <a:ext cx="264240" cy="53460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440 h 534600"/>
                    <a:gd name="textAreaBottom" fmla="*/ 337680 h 53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AutoShape 1408"/>
                <p:cNvSpPr/>
                <p:nvPr/>
              </p:nvSpPr>
              <p:spPr>
                <a:xfrm flipH="1" flipV="1" rot="1628400">
                  <a:off x="4948560" y="209232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AutoShape 1409"/>
                <p:cNvSpPr/>
                <p:nvPr/>
              </p:nvSpPr>
              <p:spPr>
                <a:xfrm flipH="1" flipV="1" rot="19921200">
                  <a:off x="5195880" y="20995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AutoShape 1410"/>
                <p:cNvSpPr/>
                <p:nvPr/>
              </p:nvSpPr>
              <p:spPr>
                <a:xfrm flipH="1" flipV="1" rot="7956600">
                  <a:off x="4888800" y="16988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AutoShape 1411"/>
                <p:cNvSpPr/>
                <p:nvPr/>
              </p:nvSpPr>
              <p:spPr>
                <a:xfrm flipH="1" flipV="1" rot="11509800">
                  <a:off x="5124600" y="161928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Arc 1412"/>
                <p:cNvSpPr/>
                <p:nvPr/>
              </p:nvSpPr>
              <p:spPr>
                <a:xfrm flipH="1" flipV="1" rot="10288200">
                  <a:off x="5333040" y="2076480"/>
                  <a:ext cx="389520" cy="105840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360 h 1058400"/>
                    <a:gd name="textAreaBottom" fmla="*/ 1059120 h 10584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1" name="AutoShape 1413"/>
              <p:cNvSpPr/>
              <p:nvPr/>
            </p:nvSpPr>
            <p:spPr>
              <a:xfrm flipH="1" flipV="1" rot="10288200">
                <a:off x="5120280" y="201744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2" name="Group 1414"/>
            <p:cNvGrpSpPr/>
            <p:nvPr/>
          </p:nvGrpSpPr>
          <p:grpSpPr>
            <a:xfrm>
              <a:off x="5585400" y="1787040"/>
              <a:ext cx="1235520" cy="1572480"/>
              <a:chOff x="5585400" y="1787040"/>
              <a:chExt cx="1235520" cy="1572480"/>
            </a:xfrm>
          </p:grpSpPr>
          <p:grpSp>
            <p:nvGrpSpPr>
              <p:cNvPr id="1173" name="Group 1415"/>
              <p:cNvGrpSpPr/>
              <p:nvPr/>
            </p:nvGrpSpPr>
            <p:grpSpPr>
              <a:xfrm>
                <a:off x="5585400" y="1787040"/>
                <a:ext cx="1235520" cy="1572480"/>
                <a:chOff x="5585400" y="1787040"/>
                <a:chExt cx="1235520" cy="1572480"/>
              </a:xfrm>
            </p:grpSpPr>
            <p:sp>
              <p:nvSpPr>
                <p:cNvPr id="1174" name="AutoShape 1416"/>
                <p:cNvSpPr/>
                <p:nvPr/>
              </p:nvSpPr>
              <p:spPr>
                <a:xfrm flipH="1" flipV="1" rot="17647800">
                  <a:off x="6390720" y="2132640"/>
                  <a:ext cx="264240" cy="53388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080 h 533880"/>
                    <a:gd name="textAreaBottom" fmla="*/ 33732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AutoShape 1417"/>
                <p:cNvSpPr/>
                <p:nvPr/>
              </p:nvSpPr>
              <p:spPr>
                <a:xfrm flipH="1" flipV="1" rot="7806600">
                  <a:off x="5937840" y="1834920"/>
                  <a:ext cx="264240" cy="534240"/>
                </a:xfrm>
                <a:custGeom>
                  <a:avLst/>
                  <a:gdLst>
                    <a:gd name="textAreaLeft" fmla="*/ 61200 w 264240"/>
                    <a:gd name="textAreaRight" fmla="*/ 202320 w 264240"/>
                    <a:gd name="textAreaTop" fmla="*/ 55800 h 534240"/>
                    <a:gd name="textAreaBottom" fmla="*/ 338040 h 53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AutoShape 1418"/>
                <p:cNvSpPr/>
                <p:nvPr/>
              </p:nvSpPr>
              <p:spPr>
                <a:xfrm flipH="1" flipV="1" rot="4698600">
                  <a:off x="5875560" y="2086920"/>
                  <a:ext cx="291600" cy="49356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1840 h 493560"/>
                    <a:gd name="textAreaBottom" fmla="*/ 31248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1419"/>
                <p:cNvSpPr/>
                <p:nvPr/>
              </p:nvSpPr>
              <p:spPr>
                <a:xfrm flipH="1" flipV="1" rot="1391400">
                  <a:off x="6028560" y="228564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AutoShape 1420"/>
                <p:cNvSpPr/>
                <p:nvPr/>
              </p:nvSpPr>
              <p:spPr>
                <a:xfrm flipH="1" flipV="1" rot="11026800">
                  <a:off x="6148440" y="1795320"/>
                  <a:ext cx="291600" cy="48420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0400 h 484200"/>
                    <a:gd name="textAreaBottom" fmla="*/ 30636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95c1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AutoShape 1421"/>
                <p:cNvSpPr/>
                <p:nvPr/>
              </p:nvSpPr>
              <p:spPr>
                <a:xfrm flipH="1" flipV="1" rot="14579400">
                  <a:off x="6354360" y="1927440"/>
                  <a:ext cx="291600" cy="493920"/>
                </a:xfrm>
                <a:custGeom>
                  <a:avLst/>
                  <a:gdLst>
                    <a:gd name="textAreaLeft" fmla="*/ 67680 w 291600"/>
                    <a:gd name="textAreaRight" fmla="*/ 223560 w 291600"/>
                    <a:gd name="textAreaTop" fmla="*/ 52560 h 493920"/>
                    <a:gd name="textAreaBottom" fmla="*/ 313560 h 493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b4d4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Arc 1422"/>
                <p:cNvSpPr/>
                <p:nvPr/>
              </p:nvSpPr>
              <p:spPr>
                <a:xfrm flipH="1" flipV="1" rot="13358400">
                  <a:off x="5891760" y="2309040"/>
                  <a:ext cx="389520" cy="1058040"/>
                </a:xfrm>
                <a:custGeom>
                  <a:avLst/>
                  <a:gdLst>
                    <a:gd name="textAreaLeft" fmla="*/ 360 w 389520"/>
                    <a:gd name="textAreaRight" fmla="*/ 390240 w 389520"/>
                    <a:gd name="textAreaTop" fmla="*/ -360 h 1058040"/>
                    <a:gd name="textAreaBottom" fmla="*/ 1058040 h 10580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AutoShape 1423"/>
              <p:cNvSpPr/>
              <p:nvPr/>
            </p:nvSpPr>
            <p:spPr>
              <a:xfrm flipH="1" flipV="1" rot="13358400">
                <a:off x="6172560" y="2181600"/>
                <a:ext cx="177480" cy="21384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Oval 1424"/>
            <p:cNvSpPr/>
            <p:nvPr/>
          </p:nvSpPr>
          <p:spPr>
            <a:xfrm>
              <a:off x="5219640" y="3068640"/>
              <a:ext cx="555840" cy="568440"/>
            </a:xfrm>
            <a:prstGeom prst="ellipse">
              <a:avLst/>
            </a:prstGeom>
            <a:solidFill>
              <a:srgbClr val="b4d4d3"/>
            </a:solidFill>
            <a:ln w="9360">
              <a:solidFill>
                <a:srgbClr val="6667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Group 1425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grpSp>
            <p:nvGrpSpPr>
              <p:cNvPr id="1184" name="Group 1426"/>
              <p:cNvGrpSpPr/>
              <p:nvPr/>
            </p:nvGrpSpPr>
            <p:grpSpPr>
              <a:xfrm>
                <a:off x="3848040" y="3222360"/>
                <a:ext cx="1451880" cy="1338480"/>
                <a:chOff x="3848040" y="3222360"/>
                <a:chExt cx="1451880" cy="1338480"/>
              </a:xfrm>
            </p:grpSpPr>
            <p:sp>
              <p:nvSpPr>
                <p:cNvPr id="1185" name="AutoShape 1427"/>
                <p:cNvSpPr/>
                <p:nvPr/>
              </p:nvSpPr>
              <p:spPr>
                <a:xfrm flipH="1" flipV="1" rot="8473800">
                  <a:off x="4038480" y="350172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AutoShape 1428"/>
                <p:cNvSpPr/>
                <p:nvPr/>
              </p:nvSpPr>
              <p:spPr>
                <a:xfrm flipH="1" flipV="1" rot="20233200">
                  <a:off x="4308120" y="398556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>
                    <a:alpha val="6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AutoShape 1429"/>
                <p:cNvSpPr/>
                <p:nvPr/>
              </p:nvSpPr>
              <p:spPr>
                <a:xfrm flipH="1" flipV="1" rot="17124600">
                  <a:off x="4432680" y="383040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AutoShape 1430"/>
                <p:cNvSpPr/>
                <p:nvPr/>
              </p:nvSpPr>
              <p:spPr>
                <a:xfrm flipH="1" flipV="1" rot="13818000">
                  <a:off x="4382640" y="358884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AutoShape 1431"/>
                <p:cNvSpPr/>
                <p:nvPr/>
              </p:nvSpPr>
              <p:spPr>
                <a:xfrm flipH="1" flipV="1" rot="1852800">
                  <a:off x="4062240" y="39718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99ff">
                    <a:alpha val="33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1432"/>
                <p:cNvSpPr/>
                <p:nvPr/>
              </p:nvSpPr>
              <p:spPr>
                <a:xfrm flipH="1" flipV="1" rot="5406000">
                  <a:off x="3940560" y="3746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ad49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Arc 1433"/>
                <p:cNvSpPr/>
                <p:nvPr/>
              </p:nvSpPr>
              <p:spPr>
                <a:xfrm flipH="1" flipV="1" rot="4184400">
                  <a:off x="4545360" y="3070080"/>
                  <a:ext cx="398160" cy="103644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-360 h 1036440"/>
                    <a:gd name="textAreaBottom" fmla="*/ 1036440 h 103644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2" name="AutoShape 1434"/>
              <p:cNvSpPr/>
              <p:nvPr/>
            </p:nvSpPr>
            <p:spPr>
              <a:xfrm flipH="1" flipV="1" rot="4184400">
                <a:off x="4259520" y="3894480"/>
                <a:ext cx="181440" cy="20952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435"/>
            <p:cNvGrpSpPr/>
            <p:nvPr/>
          </p:nvGrpSpPr>
          <p:grpSpPr>
            <a:xfrm>
              <a:off x="3801240" y="2301840"/>
              <a:ext cx="1614240" cy="1105560"/>
              <a:chOff x="3801240" y="2301840"/>
              <a:chExt cx="1614240" cy="1105560"/>
            </a:xfrm>
          </p:grpSpPr>
          <p:grpSp>
            <p:nvGrpSpPr>
              <p:cNvPr id="1194" name="Group 1436"/>
              <p:cNvGrpSpPr/>
              <p:nvPr/>
            </p:nvGrpSpPr>
            <p:grpSpPr>
              <a:xfrm>
                <a:off x="3801240" y="2301840"/>
                <a:ext cx="1614240" cy="1105560"/>
                <a:chOff x="3801240" y="2301840"/>
                <a:chExt cx="1614240" cy="1105560"/>
              </a:xfrm>
            </p:grpSpPr>
            <p:sp>
              <p:nvSpPr>
                <p:cNvPr id="1195" name="AutoShape 1437"/>
                <p:cNvSpPr/>
                <p:nvPr/>
              </p:nvSpPr>
              <p:spPr>
                <a:xfrm flipH="1" flipV="1" rot="11625000">
                  <a:off x="4240800" y="2324880"/>
                  <a:ext cx="258840" cy="54576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7240 h 545760"/>
                    <a:gd name="textAreaBottom" fmla="*/ 345600 h 54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AutoShape 1438"/>
                <p:cNvSpPr/>
                <p:nvPr/>
              </p:nvSpPr>
              <p:spPr>
                <a:xfrm flipH="1" flipV="1" rot="1783800">
                  <a:off x="4021920" y="2832840"/>
                  <a:ext cx="258840" cy="546120"/>
                </a:xfrm>
                <a:custGeom>
                  <a:avLst/>
                  <a:gdLst>
                    <a:gd name="textAreaLeft" fmla="*/ 59400 w 258840"/>
                    <a:gd name="textAreaRight" fmla="*/ 197640 w 258840"/>
                    <a:gd name="textAreaTop" fmla="*/ 56520 h 546120"/>
                    <a:gd name="textAreaBottom" fmla="*/ 345240 h 54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AutoShape 1439"/>
                <p:cNvSpPr/>
                <p:nvPr/>
              </p:nvSpPr>
              <p:spPr>
                <a:xfrm flipH="1" flipV="1" rot="20275800">
                  <a:off x="4238280" y="2864880"/>
                  <a:ext cx="298080" cy="48384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3840"/>
                    <a:gd name="textAreaBottom" fmla="*/ 306720 h 48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AutoShape 1440"/>
                <p:cNvSpPr/>
                <p:nvPr/>
              </p:nvSpPr>
              <p:spPr>
                <a:xfrm flipH="1" flipV="1" rot="16968600">
                  <a:off x="4403160" y="267948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AutoShape 1441"/>
                <p:cNvSpPr/>
                <p:nvPr/>
              </p:nvSpPr>
              <p:spPr>
                <a:xfrm flipH="1" flipV="1" rot="5004000">
                  <a:off x="3904200" y="2659320"/>
                  <a:ext cx="298080" cy="47412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48960 h 474120"/>
                    <a:gd name="textAreaBottom" fmla="*/ 299520 h 474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c9c1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AutoShape 1442"/>
                <p:cNvSpPr/>
                <p:nvPr/>
              </p:nvSpPr>
              <p:spPr>
                <a:xfrm flipH="1" flipV="1" rot="8556600">
                  <a:off x="4005360" y="2422800"/>
                  <a:ext cx="298080" cy="484200"/>
                </a:xfrm>
                <a:custGeom>
                  <a:avLst/>
                  <a:gdLst>
                    <a:gd name="textAreaLeft" fmla="*/ 69480 w 298080"/>
                    <a:gd name="textAreaRight" fmla="*/ 228240 w 298080"/>
                    <a:gd name="textAreaTop" fmla="*/ 51120 h 484200"/>
                    <a:gd name="textAreaBottom" fmla="*/ 306720 h 48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d4dd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Arc 1443"/>
                <p:cNvSpPr/>
                <p:nvPr/>
              </p:nvSpPr>
              <p:spPr>
                <a:xfrm flipH="1" flipV="1" rot="7335600">
                  <a:off x="4671720" y="2422440"/>
                  <a:ext cx="398160" cy="1036800"/>
                </a:xfrm>
                <a:custGeom>
                  <a:avLst/>
                  <a:gdLst>
                    <a:gd name="textAreaLeft" fmla="*/ 360 w 398160"/>
                    <a:gd name="textAreaRight" fmla="*/ 398880 w 398160"/>
                    <a:gd name="textAreaTop" fmla="*/ 360 h 1036800"/>
                    <a:gd name="textAreaBottom" fmla="*/ 1037520 h 1036800"/>
                  </a:gdLst>
                  <a:ahLst/>
                  <a:rect l="textAreaLeft" t="textAreaTop" r="textAreaRight" b="textAreaBottom"/>
                  <a:pathLst>
                    <a:path fill="none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</a:path>
                    <a:path stroke="0" w="21600" h="37135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7457"/>
                        <a:pt x="19220" y="33064"/>
                        <a:pt x="15007" y="3713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AutoShape 1444"/>
              <p:cNvSpPr/>
              <p:nvPr/>
            </p:nvSpPr>
            <p:spPr>
              <a:xfrm flipH="1" flipV="1" rot="7335600">
                <a:off x="4213080" y="2774160"/>
                <a:ext cx="181440" cy="209160"/>
              </a:xfrm>
              <a:prstGeom prst="sun">
                <a:avLst>
                  <a:gd name="adj" fmla="val 25000"/>
                </a:avLst>
              </a:prstGeom>
              <a:solidFill>
                <a:srgbClr val="f0ee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3" name="Group 1445"/>
          <p:cNvGrpSpPr/>
          <p:nvPr/>
        </p:nvGrpSpPr>
        <p:grpSpPr>
          <a:xfrm>
            <a:off x="3848040" y="3222360"/>
            <a:ext cx="1451880" cy="1338480"/>
            <a:chOff x="3848040" y="3222360"/>
            <a:chExt cx="1451880" cy="1338480"/>
          </a:xfrm>
        </p:grpSpPr>
        <p:grpSp>
          <p:nvGrpSpPr>
            <p:cNvPr id="1204" name="Group 1446"/>
            <p:cNvGrpSpPr/>
            <p:nvPr/>
          </p:nvGrpSpPr>
          <p:grpSpPr>
            <a:xfrm>
              <a:off x="3848040" y="3222360"/>
              <a:ext cx="1451880" cy="1338480"/>
              <a:chOff x="3848040" y="3222360"/>
              <a:chExt cx="1451880" cy="1338480"/>
            </a:xfrm>
          </p:grpSpPr>
          <p:sp>
            <p:nvSpPr>
              <p:cNvPr id="1205" name="AutoShape 1447"/>
              <p:cNvSpPr/>
              <p:nvPr/>
            </p:nvSpPr>
            <p:spPr>
              <a:xfrm flipH="1" flipV="1" rot="8473800">
                <a:off x="4038480" y="3501720"/>
                <a:ext cx="258840" cy="546120"/>
              </a:xfrm>
              <a:custGeom>
                <a:avLst/>
                <a:gdLst>
                  <a:gd name="textAreaLeft" fmla="*/ 59400 w 258840"/>
                  <a:gd name="textAreaRight" fmla="*/ 197640 w 258840"/>
                  <a:gd name="textAreaTop" fmla="*/ 56520 h 546120"/>
                  <a:gd name="textAreaBottom" fmla="*/ 345240 h 54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AutoShape 1448"/>
              <p:cNvSpPr/>
              <p:nvPr/>
            </p:nvSpPr>
            <p:spPr>
              <a:xfrm flipH="1" flipV="1" rot="20233200">
                <a:off x="4308120" y="3985560"/>
                <a:ext cx="258840" cy="546120"/>
              </a:xfrm>
              <a:custGeom>
                <a:avLst/>
                <a:gdLst>
                  <a:gd name="textAreaLeft" fmla="*/ 59400 w 258840"/>
                  <a:gd name="textAreaRight" fmla="*/ 197640 w 258840"/>
                  <a:gd name="textAreaTop" fmla="*/ 56520 h 546120"/>
                  <a:gd name="textAreaBottom" fmla="*/ 345240 h 54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99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AutoShape 1449"/>
              <p:cNvSpPr/>
              <p:nvPr/>
            </p:nvSpPr>
            <p:spPr>
              <a:xfrm flipH="1" flipV="1" rot="17124600">
                <a:off x="4432680" y="3830400"/>
                <a:ext cx="298080" cy="48384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51120 h 483840"/>
                  <a:gd name="textAreaBottom" fmla="*/ 30672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450"/>
              <p:cNvSpPr/>
              <p:nvPr/>
            </p:nvSpPr>
            <p:spPr>
              <a:xfrm flipH="1" flipV="1" rot="13818000">
                <a:off x="4382640" y="3588840"/>
                <a:ext cx="298080" cy="47412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8960 h 474120"/>
                  <a:gd name="textAreaBottom" fmla="*/ 299520 h 47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451"/>
              <p:cNvSpPr/>
              <p:nvPr/>
            </p:nvSpPr>
            <p:spPr>
              <a:xfrm flipH="1" flipV="1" rot="1852800">
                <a:off x="4062240" y="3971880"/>
                <a:ext cx="298080" cy="47412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48960 h 474120"/>
                  <a:gd name="textAreaBottom" fmla="*/ 299520 h 47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99ff">
                  <a:alpha val="3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AutoShape 1452"/>
              <p:cNvSpPr/>
              <p:nvPr/>
            </p:nvSpPr>
            <p:spPr>
              <a:xfrm flipH="1" flipV="1" rot="5406000">
                <a:off x="3940560" y="3746880"/>
                <a:ext cx="298080" cy="483840"/>
              </a:xfrm>
              <a:custGeom>
                <a:avLst/>
                <a:gdLst>
                  <a:gd name="textAreaLeft" fmla="*/ 69480 w 298080"/>
                  <a:gd name="textAreaRight" fmla="*/ 228240 w 298080"/>
                  <a:gd name="textAreaTop" fmla="*/ 51120 h 483840"/>
                  <a:gd name="textAreaBottom" fmla="*/ 306720 h 48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dad4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Arc 1453"/>
              <p:cNvSpPr/>
              <p:nvPr/>
            </p:nvSpPr>
            <p:spPr>
              <a:xfrm flipH="1" flipV="1" rot="4184400">
                <a:off x="4545360" y="3070080"/>
                <a:ext cx="398160" cy="1036440"/>
              </a:xfrm>
              <a:custGeom>
                <a:avLst/>
                <a:gdLst>
                  <a:gd name="textAreaLeft" fmla="*/ 360 w 398160"/>
                  <a:gd name="textAreaRight" fmla="*/ 398880 w 398160"/>
                  <a:gd name="textAreaTop" fmla="*/ -360 h 1036440"/>
                  <a:gd name="textAreaBottom" fmla="*/ 1036440 h 1036440"/>
                </a:gdLst>
                <a:ahLst/>
                <a:rect l="textAreaLeft" t="textAreaTop" r="textAreaRight" b="textAreaBottom"/>
                <a:pathLst>
                  <a:path fill="none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</a:path>
                  <a:path stroke="0" w="21600" h="3713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7457"/>
                      <a:pt x="19220" y="33064"/>
                      <a:pt x="15007" y="3713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2" name="AutoShape 1454"/>
            <p:cNvSpPr/>
            <p:nvPr/>
          </p:nvSpPr>
          <p:spPr>
            <a:xfrm flipH="1" flipV="1" rot="4184400">
              <a:off x="4259520" y="3894480"/>
              <a:ext cx="181440" cy="209520"/>
            </a:xfrm>
            <a:prstGeom prst="sun">
              <a:avLst>
                <a:gd name="adj" fmla="val 25000"/>
              </a:avLst>
            </a:prstGeom>
            <a:solidFill>
              <a:srgbClr val="f0ee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6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1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1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6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1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Список литературы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7416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намент.  Л.В.Фокина. 2005г. «Феник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й народный костюм. А.Ю.Андре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-Пб 2005г «Парит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 детей вышивать. О.С. Молотоба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2003г. «Валдо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костюма. А.Ю.Андре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-Пб 2005г. «Парит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аду творений. Наталья Талавира. С.-Пб 200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00 мотивов цветы и растения. Справ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эхем Лесли.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ери и птицы славянской мифологии в декоративно-прикладном искусстве. Тверь 199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ический центр комитета по делам культуры. Тверское училище-колледж культуры Администрации Твер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4"/>
          <p:cNvSpPr/>
          <p:nvPr/>
        </p:nvSpPr>
        <p:spPr>
          <a:xfrm>
            <a:off x="4067280" y="191628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0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обии изложена теоретическая и практическая основа для приобретения практических навыков изучения натуры, и изображения ее декорати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Материалы и принадлежности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умаг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овальная и  чертежная  плотная, белая с гладкой поверхностью. На гладкой бумаге работают пером и карандашом, на шероховатой -карандашом углем, крас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 время работы бумага должна лежать неподвижно и пря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рандаш.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итовый, преимущественно граненой формы, средней мягкости – М и  2М. Готовя карандаш к работе, острым ножом стачивают деревянную оправу на 25 – 30 мм и обнажают графит на 8 –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процессе работы карандаш держат за середину оправы и время от времени повертывают в руке, чтобы рисовать острой частью граф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ушь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н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о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аллические перья различных размеров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Орнамент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05" name="Picture 32" descr="orn_bg[1]"/>
          <p:cNvPicPr/>
          <p:nvPr/>
        </p:nvPicPr>
        <p:blipFill>
          <a:blip r:embed="rId1"/>
          <a:stretch/>
        </p:blipFill>
        <p:spPr>
          <a:xfrm>
            <a:off x="468360" y="3429000"/>
            <a:ext cx="3529080" cy="1871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68000" y="1268280"/>
            <a:ext cx="69850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намен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зор, отличающийся ритмическим расположением одних и тех же декоративных мот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ся путем переработки и стилизации изображений всевозможных предметов реального мира, или из сочетаний геометрических 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намент может быть выполнен в различной технике. Он всегда служит украшением предметов, интерьеров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bord3[1]"/>
          <p:cNvPicPr/>
          <p:nvPr/>
        </p:nvPicPr>
        <p:blipFill>
          <a:blip r:embed="rId2"/>
          <a:stretch/>
        </p:blipFill>
        <p:spPr>
          <a:xfrm>
            <a:off x="2771640" y="5445000"/>
            <a:ext cx="4680000" cy="8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Виды орнаментов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пи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ульпту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Organization Chart 7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211" name="Picture 106" descr="рис5"/>
          <p:cNvPicPr/>
          <p:nvPr/>
        </p:nvPicPr>
        <p:blipFill>
          <a:blip r:embed="rId4"/>
          <a:stretch/>
        </p:blipFill>
        <p:spPr>
          <a:xfrm>
            <a:off x="3708360" y="2708280"/>
            <a:ext cx="2951280" cy="1944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8" descr="10"/>
          <p:cNvPicPr/>
          <p:nvPr/>
        </p:nvPicPr>
        <p:blipFill>
          <a:blip r:embed="rId5"/>
          <a:stretch/>
        </p:blipFill>
        <p:spPr>
          <a:xfrm>
            <a:off x="4140360" y="4941720"/>
            <a:ext cx="2172960" cy="1570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0" descr="12"/>
          <p:cNvPicPr/>
          <p:nvPr/>
        </p:nvPicPr>
        <p:blipFill>
          <a:blip r:embed="rId6"/>
          <a:stretch/>
        </p:blipFill>
        <p:spPr>
          <a:xfrm>
            <a:off x="3708360" y="1413000"/>
            <a:ext cx="2952720" cy="118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Виды орнаментов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4127400" y="2235240"/>
            <a:ext cx="173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84360" y="1557360"/>
            <a:ext cx="2016000" cy="574560"/>
          </a:xfrm>
          <a:prstGeom prst="rect">
            <a:avLst/>
          </a:prstGeom>
          <a:solidFill>
            <a:srgbClr val="d4dd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2916360" y="1557360"/>
            <a:ext cx="2016000" cy="576360"/>
          </a:xfrm>
          <a:prstGeom prst="rect">
            <a:avLst/>
          </a:prstGeom>
          <a:solidFill>
            <a:srgbClr val="d4dd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пи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5148360" y="1557360"/>
            <a:ext cx="2016000" cy="576360"/>
          </a:xfrm>
          <a:prstGeom prst="rect">
            <a:avLst/>
          </a:prstGeom>
          <a:solidFill>
            <a:srgbClr val="d4dd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ульп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1403280" y="3068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родны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н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4"/>
          <p:cNvSpPr/>
          <p:nvPr/>
        </p:nvSpPr>
        <p:spPr>
          <a:xfrm>
            <a:off x="611280" y="364320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686160" y="436392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йза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682560" y="5083200"/>
            <a:ext cx="25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оморф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8"/>
          <p:cNvSpPr/>
          <p:nvPr/>
        </p:nvSpPr>
        <p:spPr>
          <a:xfrm>
            <a:off x="4067280" y="3643200"/>
            <a:ext cx="30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метр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4001400" y="5083200"/>
            <a:ext cx="34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ропоморф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4000320" y="4365720"/>
            <a:ext cx="31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пи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5"/>
          <p:cNvSpPr/>
          <p:nvPr/>
        </p:nvSpPr>
        <p:spPr>
          <a:xfrm>
            <a:off x="3708360" y="2565360"/>
            <a:ext cx="358920" cy="503280"/>
          </a:xfrm>
          <a:prstGeom prst="upArrow">
            <a:avLst>
              <a:gd name="adj1" fmla="val 50000"/>
              <a:gd name="adj2" fmla="val 35055"/>
            </a:avLst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6"/>
          <p:cNvSpPr/>
          <p:nvPr/>
        </p:nvSpPr>
        <p:spPr>
          <a:xfrm rot="2767800">
            <a:off x="4571640" y="2565720"/>
            <a:ext cx="360360" cy="502920"/>
          </a:xfrm>
          <a:prstGeom prst="upArrow">
            <a:avLst>
              <a:gd name="adj1" fmla="val 50000"/>
              <a:gd name="adj2" fmla="val 34890"/>
            </a:avLst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7"/>
          <p:cNvSpPr/>
          <p:nvPr/>
        </p:nvSpPr>
        <p:spPr>
          <a:xfrm rot="18928800">
            <a:off x="2916360" y="2565360"/>
            <a:ext cx="358560" cy="503280"/>
          </a:xfrm>
          <a:prstGeom prst="upArrow">
            <a:avLst>
              <a:gd name="adj1" fmla="val 50000"/>
              <a:gd name="adj2" fmla="val 35090"/>
            </a:avLst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9"/>
          <p:cNvSpPr/>
          <p:nvPr/>
        </p:nvSpPr>
        <p:spPr>
          <a:xfrm rot="5400000">
            <a:off x="3636360" y="-315720"/>
            <a:ext cx="503280" cy="6840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178200 h 6840360"/>
              <a:gd name="textAreaBottom" fmla="*/ 6662160 h 68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7a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1042 L 0.00035 -0.08912 E">
                                      <p:cBhvr>
                                        <p:cTn id="264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05903 -0.07362 E">
                                      <p:cBhvr>
                                        <p:cTn id="273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0.0592 -0.06806 E">
                                      <p:cBhvr>
                                        <p:cTn id="282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Природный орнамент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160" y="1196640"/>
            <a:ext cx="3616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ы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ские вол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есные свет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еол пла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poli75[1]"/>
          <p:cNvPicPr/>
          <p:nvPr/>
        </p:nvPicPr>
        <p:blipFill>
          <a:blip r:embed="rId6"/>
          <a:stretch/>
        </p:blipFill>
        <p:spPr>
          <a:xfrm>
            <a:off x="4284720" y="3357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20"/>
          <p:cNvPicPr/>
          <p:nvPr/>
        </p:nvPicPr>
        <p:blipFill>
          <a:blip r:embed="rId7"/>
          <a:stretch/>
        </p:blipFill>
        <p:spPr>
          <a:xfrm>
            <a:off x="4932360" y="1197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21"/>
          <p:cNvPicPr/>
          <p:nvPr/>
        </p:nvPicPr>
        <p:blipFill>
          <a:blip r:embed="rId8"/>
          <a:stretch/>
        </p:blipFill>
        <p:spPr>
          <a:xfrm>
            <a:off x="6300720" y="981000"/>
            <a:ext cx="1236600" cy="1727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poli4[1]"/>
          <p:cNvPicPr/>
          <p:nvPr/>
        </p:nvPicPr>
        <p:blipFill>
          <a:blip r:embed="rId9"/>
          <a:stretch/>
        </p:blipFill>
        <p:spPr>
          <a:xfrm>
            <a:off x="5580000" y="3357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18"/>
          <p:cNvPicPr/>
          <p:nvPr/>
        </p:nvPicPr>
        <p:blipFill>
          <a:blip r:embed="rId10"/>
          <a:stretch/>
        </p:blipFill>
        <p:spPr>
          <a:xfrm>
            <a:off x="4284720" y="2781360"/>
            <a:ext cx="2448000" cy="5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19"/>
          <p:cNvPicPr/>
          <p:nvPr/>
        </p:nvPicPr>
        <p:blipFill>
          <a:blip r:embed="rId11"/>
          <a:stretch/>
        </p:blipFill>
        <p:spPr>
          <a:xfrm>
            <a:off x="3635280" y="981000"/>
            <a:ext cx="1293840" cy="1727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57"/>
          <p:cNvPicPr/>
          <p:nvPr/>
        </p:nvPicPr>
        <p:blipFill>
          <a:blip r:embed="rId12"/>
          <a:stretch/>
        </p:blipFill>
        <p:spPr>
          <a:xfrm>
            <a:off x="5651640" y="4653000"/>
            <a:ext cx="1009440" cy="1590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56"/>
          <p:cNvPicPr/>
          <p:nvPr/>
        </p:nvPicPr>
        <p:blipFill>
          <a:blip r:embed="rId13"/>
          <a:stretch/>
        </p:blipFill>
        <p:spPr>
          <a:xfrm>
            <a:off x="4500720" y="4797360"/>
            <a:ext cx="599760" cy="10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Растительны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poli20[1]"/>
          <p:cNvPicPr/>
          <p:nvPr/>
        </p:nvPicPr>
        <p:blipFill>
          <a:blip r:embed="rId5"/>
          <a:stretch/>
        </p:blipFill>
        <p:spPr>
          <a:xfrm>
            <a:off x="3564000" y="306864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poli19[1]"/>
          <p:cNvPicPr/>
          <p:nvPr/>
        </p:nvPicPr>
        <p:blipFill>
          <a:blip r:embed="rId6"/>
          <a:stretch/>
        </p:blipFill>
        <p:spPr>
          <a:xfrm>
            <a:off x="1979640" y="2205000"/>
            <a:ext cx="1428840" cy="1152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58"/>
          <p:cNvPicPr/>
          <p:nvPr/>
        </p:nvPicPr>
        <p:blipFill>
          <a:blip r:embed="rId7"/>
          <a:stretch/>
        </p:blipFill>
        <p:spPr>
          <a:xfrm>
            <a:off x="2411280" y="4292640"/>
            <a:ext cx="2521080" cy="2225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23"/>
          <p:cNvPicPr/>
          <p:nvPr/>
        </p:nvPicPr>
        <p:blipFill>
          <a:blip r:embed="rId8"/>
          <a:stretch/>
        </p:blipFill>
        <p:spPr>
          <a:xfrm>
            <a:off x="5364000" y="3716280"/>
            <a:ext cx="2089440" cy="2808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24"/>
          <p:cNvPicPr/>
          <p:nvPr/>
        </p:nvPicPr>
        <p:blipFill>
          <a:blip r:embed="rId9"/>
          <a:stretch/>
        </p:blipFill>
        <p:spPr>
          <a:xfrm>
            <a:off x="5508720" y="1341360"/>
            <a:ext cx="177480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1:58:07Z</dcterms:created>
  <dc:creator>X</dc:creator>
  <dc:description/>
  <dc:language>en-US</dc:language>
  <cp:lastModifiedBy>User</cp:lastModifiedBy>
  <dcterms:modified xsi:type="dcterms:W3CDTF">2019-01-10T20:58:41Z</dcterms:modified>
  <cp:revision>63</cp:revision>
  <dc:subject/>
  <dc:title>Приемы составления орнаментальных композиций </dc:title>
</cp:coreProperties>
</file>