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6DBC-5D17-4645-98BE-82F409B54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9141-BDDE-44A4-9397-7E0BE145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5658-4079-48F9-8F1E-43B60CEEF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B9B2-76EB-4364-AD16-C4216BDA0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BBC99-2D5D-44BC-A9B2-36F8FEEE1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F3490A-504F-4232-B334-9CEC30DC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8EA409-252C-4F25-A054-87A95CDA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D3FF21-054D-49FD-ADD3-1155D9E0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13753-AABB-4529-B386-72EFE597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5709F1-34F6-476A-9FF2-84586490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DD5E4-2C60-4BDC-99FD-911FE8DF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0886-B7C7-498C-AA25-B44912E8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EC9291-965A-42DE-93FA-BCF035F2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0356E4-40E3-451C-BEEC-A85BA782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C1B207-3640-4DE4-AF45-97B02A1C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5A2CC-5D5B-4D81-9783-A76F1E227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E802F-5DD4-418F-8693-550CC48A7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6116-A698-46E7-A78B-710D0C5F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B405-4E13-4E8B-B434-470C1468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3A49-602E-4B1E-9975-6F07D0A9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32FC-D613-410D-B2A8-E428217A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4E16-4E31-44FE-9895-C819819C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8903-F067-4E24-8927-4AE7E563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19F8-11E2-4B7F-9692-C195C59C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5D23-1445-4A8B-9257-AC30F4B1D2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00C9-4A08-4700-AA97-D5778A272A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одель организации профильного обучения по физической культур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читель физической культур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БОУ «СОШ №5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номарёва Мария Ивано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раснодарский кра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билисский райо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Структура и содержание образования на старшей ступени школ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нцип построения рабочего  учебного плана школы, реализующей профильное обучение в области физической культуры в 10-11-х классах,  основаны на идее двухуровневог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базового и профильного) федерального компонента Государственного стандарта общего образов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Уровни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Базовый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риентирован на формирование общей культуры и в большей степени связан с мировоззренческими, воспитательными и развивающими задачами общего образования ;задачами социализ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Профиль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ыбирается исходя из личных склонностей, потребностей учащегося и ориентирован на его подготовку к последующему профессиональному образованию и профессиональной деятель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язательные (базовые) общеобразовательные предметы для классов спортивно-педагогического профил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усский язы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Литерату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атемат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ностранный язы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стор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Физ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Хим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ществозн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В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П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Профильные предмет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Физическая культу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алеолог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новы безопасности жизнедеятель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иолог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Элективные курсы , проектная и исследовательская деятельность учащихс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Элективные курс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язательны для посещения курсы по выбору учащихся , входящие в состав профиля обучения на старшей ступени школ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ечень и содержание  элективных курсов определяются самой школ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еализуются за счёт школьного компонента учебного плана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ажнейшим вопросом организации профильного обучения является определение модели организации профильного обуч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Модель внутришкольной профилизаци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аличие квалифицированного педагогического персонала и учебно-материальной баз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   решение о создании профильного класса принимает учредитель(по представлению от администрации и органа самоуправления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    изучение мнения старшеклассников и их родител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Модель сетевого взаимодействия образовательных учреждений и организац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бъединение нескольких школ  вокруг одной, обладающей достаточным материальным и кадровым потенциал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привлечение учреждений дополнительного образования  среднего и высшего профессионального физкультурно-педагогического образова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существление перехода к профильному обучению возможно при наличи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441440" y="1762200"/>
            <a:ext cx="6188040" cy="3297240"/>
            <a:chOff x="1441440" y="1762200"/>
            <a:chExt cx="6188040" cy="3297240"/>
          </a:xfrm>
        </p:grpSpPr>
        <p:sp>
          <p:nvSpPr>
            <p:cNvPr id="127" name="_s72721"/>
            <p:cNvSpPr/>
            <p:nvPr/>
          </p:nvSpPr>
          <p:spPr>
            <a:xfrm>
              <a:off x="3699000" y="2347920"/>
              <a:ext cx="1673280" cy="1674720"/>
            </a:xfrm>
            <a:prstGeom prst="ellipse">
              <a:avLst/>
            </a:prstGeom>
            <a:solidFill>
              <a:srgbClr val="00c600">
                <a:alpha val="50000"/>
              </a:srgbClr>
            </a:solidFill>
            <a:ln w="468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_s72722"/>
            <p:cNvSpPr/>
            <p:nvPr/>
          </p:nvSpPr>
          <p:spPr>
            <a:xfrm>
              <a:off x="3699000" y="1762200"/>
              <a:ext cx="167328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Педагогическ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услов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_s72723"/>
            <p:cNvSpPr/>
            <p:nvPr/>
          </p:nvSpPr>
          <p:spPr>
            <a:xfrm>
              <a:off x="4249800" y="3301920"/>
              <a:ext cx="1673280" cy="167472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46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_s72724"/>
            <p:cNvSpPr/>
            <p:nvPr/>
          </p:nvSpPr>
          <p:spPr>
            <a:xfrm>
              <a:off x="5956200" y="4640400"/>
              <a:ext cx="167328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Ресурсны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услов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_s72725"/>
            <p:cNvSpPr/>
            <p:nvPr/>
          </p:nvSpPr>
          <p:spPr>
            <a:xfrm>
              <a:off x="3147840" y="3301920"/>
              <a:ext cx="1673280" cy="1674720"/>
            </a:xfrm>
            <a:prstGeom prst="ellipse">
              <a:avLst/>
            </a:prstGeom>
            <a:solidFill>
              <a:srgbClr val="6699ff">
                <a:alpha val="50000"/>
              </a:srgbClr>
            </a:solidFill>
            <a:ln w="468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_s72726"/>
            <p:cNvSpPr/>
            <p:nvPr/>
          </p:nvSpPr>
          <p:spPr>
            <a:xfrm>
              <a:off x="1441440" y="4641840"/>
              <a:ext cx="167328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Организацион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услов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Педагогические условия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личие опыта работы по программам углубленного изучения предмета «Физическая культура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личие опыта предоставления учащимся выбора(курсов, программ, заданий, форм контроля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нание учащимися своих познавательных возможностей и интересов, понимание смысла своего образования и его взаимосвязи с будущей профессиональной карьерой и личным жизненным успехом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личие опыта диагностики познавательных интересов и возможностей учащихся , их склонности к профессиям в сфере физической культуры и спор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Ресурсные условия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беспечение равного доступа к получению образовательных услуг для всех желающих учащихся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личие квалифицированных педагогических кадров, имеющих опыт инновационной деятельност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чебно-методическое сопровожд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наличие программ и учебно-методических пособий по профильным предметам и элективным курсам; готовность учителя адаптировать их к профильному и базовому уровням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вязь с учреждениями среднего и высшего профессионального образования в области физической культуры , а также учреждениями дополнительного образования спортивной направленности , которые могут содействовать реализации профильного обуче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атериально-техническое обеспечение программ профильного обучения(наличие учебно-спортивной базы, современного спортивного оборудования. Предметных кабинетов и т.д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Организационные условия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личие опыта предпрофильной подготовки учащихся основной школ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работка механизма комплектования 10-х профильных класс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личие внутренних нормативных документов(приказов, распоряжений, положений, договоров и т.д.)для организации предпрофильной и профильной подготов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1114560" y="404640"/>
            <a:ext cx="705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468360" y="549360"/>
            <a:ext cx="5759280" cy="2837160"/>
          </a:xfrm>
          <a:prstGeom prst="rect">
            <a:avLst/>
          </a:prstGeom>
          <a:solidFill>
            <a:srgbClr val="ffffdb"/>
          </a:solidFill>
          <a:ln w="22320">
            <a:solidFill>
              <a:srgbClr val="8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0000"/>
                </a:solidFill>
                <a:latin typeface="Arial"/>
              </a:rPr>
              <a:t>Для парусника, который не знает, куда плыть, ни один ветер не будет попутны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0000"/>
                </a:solidFill>
                <a:latin typeface="Arial"/>
              </a:rPr>
              <a:t>                     </a:t>
            </a:r>
            <a:r>
              <a:rPr b="1" lang="en-US" sz="3600" spc="-1" strike="noStrike">
                <a:solidFill>
                  <a:srgbClr val="860000"/>
                </a:solidFill>
                <a:latin typeface="Arial"/>
              </a:rPr>
              <a:t>Сене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7" descr="j0292152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5194440" y="2349360"/>
            <a:ext cx="3636720" cy="4319640"/>
          </a:xfrm>
          <a:prstGeom prst="rect">
            <a:avLst/>
          </a:prstGeom>
          <a:ln w="19080">
            <a:solidFill>
              <a:srgbClr val="86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6666"/>
                </a:solidFill>
                <a:latin typeface="Book Antiqua"/>
              </a:rPr>
              <a:t>Проблемы организации профильного обучения в сельских школах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07280" cy="454824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33cccc"/>
              </a:gs>
              <a:gs pos="100000">
                <a:srgbClr val="000099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Tahoma"/>
              </a:rPr>
              <a:t>1. модель базовой школ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Tahoma"/>
              </a:rPr>
              <a:t>2. модель сетевой организац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Tahoma"/>
              </a:rPr>
              <a:t>3. модель социально-педагогического партнерства с учреждениями профессионального образо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Tahoma"/>
              </a:rPr>
              <a:t>4. модель многопрофильной опорной школ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6666"/>
                </a:solidFill>
                <a:latin typeface="Book Antiqua"/>
              </a:rPr>
              <a:t>Проблемы организации профильного обучения в сельских школах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7848360" cy="494208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33cccc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ahoma"/>
              </a:rPr>
              <a:t>обеспечение права выбора учащимися профиля обучения в условиях системы многопрофиль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ahoma"/>
              </a:rPr>
              <a:t>обеспечение интеграции профиля обучения и специализации профессиональной подготов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ahoma"/>
              </a:rPr>
              <a:t>обеспечение профиля обучения с правом выбора профессиональной подготов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опутного ветра в освоении профильного обучения!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971640" y="2381400"/>
            <a:ext cx="7561080" cy="3983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"...Дети проводят в школе значительную часть дня, и сохранение, укрепление их физического, психического здоровья - дело не только семьи, но и педагогов. Здоровье человека - важный показатель его личного успеха. Если у молодёжи появится привычка к занятиям спортом, будут решены и такие острые проблемы, как наркомания, алкоголизм, детская безнадзорность."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одерж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сновы профильного обучения в области физической культу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фильное обучение как условие  многоуровневой системы образо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руктура и содержание общего среднего образования в области физической культуры в условиях профильного обуч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фессиональная ориентация школьников на физкультурно-педагогическую деятельность в условиях профильного обуч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рганизационно-педагогические условия перехода школы в режим профильного обучения в области физической культур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сновы профильного  обучения в области физической культуры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филь обучения предопределяет профессиональный выбор учащихся, от которого в немалой степени зависит и успешность учения в старших классах, подготовка школьников к переходу на следующую образовательную степень, а в целом, и к будущей профессиональной деятельности. Чем точнее будет самоопределение, тем больше вероятность того, что общество получит хорошего специалис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бор профиля  основывае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195640" y="1562040"/>
            <a:ext cx="4681440" cy="4054680"/>
            <a:chOff x="2195640" y="1562040"/>
            <a:chExt cx="4681440" cy="4054680"/>
          </a:xfrm>
        </p:grpSpPr>
        <p:sp>
          <p:nvSpPr>
            <p:cNvPr id="96" name="_s58375"/>
            <p:cNvSpPr/>
            <p:nvPr/>
          </p:nvSpPr>
          <p:spPr>
            <a:xfrm flipV="1">
              <a:off x="3951360" y="1562040"/>
              <a:ext cx="1170000" cy="1013040"/>
            </a:xfrm>
            <a:custGeom>
              <a:avLst/>
              <a:gdLst>
                <a:gd name="textAreaLeft" fmla="*/ 419760 w 1170000"/>
                <a:gd name="textAreaRight" fmla="*/ 750240 w 1170000"/>
                <a:gd name="textAreaTop" fmla="*/ 363600 h 1013040"/>
                <a:gd name="textAreaBottom" fmla="*/ 649440 h 101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Будуща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профессия 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_s58376"/>
            <p:cNvSpPr/>
            <p:nvPr/>
          </p:nvSpPr>
          <p:spPr>
            <a:xfrm flipV="1">
              <a:off x="3365640" y="2574360"/>
              <a:ext cx="2341440" cy="1014120"/>
            </a:xfrm>
            <a:custGeom>
              <a:avLst/>
              <a:gdLst>
                <a:gd name="textAreaLeft" fmla="*/ 514800 w 2341440"/>
                <a:gd name="textAreaRight" fmla="*/ 1826640 w 2341440"/>
                <a:gd name="textAreaTop" fmla="*/ 222840 h 1014120"/>
                <a:gd name="textAreaBottom" fmla="*/ 791280 h 10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настоял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родител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_s58378"/>
            <p:cNvSpPr/>
            <p:nvPr/>
          </p:nvSpPr>
          <p:spPr>
            <a:xfrm flipV="1">
              <a:off x="2781360" y="3589200"/>
              <a:ext cx="3510000" cy="1013040"/>
            </a:xfrm>
            <a:custGeom>
              <a:avLst/>
              <a:gdLst>
                <a:gd name="textAreaLeft" fmla="*/ 609120 w 3510000"/>
                <a:gd name="textAreaRight" fmla="*/ 2900880 w 3510000"/>
                <a:gd name="textAreaTop" fmla="*/ 175680 h 1013040"/>
                <a:gd name="textAreaBottom" fmla="*/ 837360 h 101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За компанию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_s58377"/>
            <p:cNvSpPr/>
            <p:nvPr/>
          </p:nvSpPr>
          <p:spPr>
            <a:xfrm flipV="1">
              <a:off x="2195640" y="4602240"/>
              <a:ext cx="4681440" cy="1014480"/>
            </a:xfrm>
            <a:custGeom>
              <a:avLst/>
              <a:gdLst>
                <a:gd name="textAreaLeft" fmla="*/ 704160 w 4681440"/>
                <a:gd name="textAreaRight" fmla="*/ 3977280 w 4681440"/>
                <a:gd name="textAreaTop" fmla="*/ 152640 h 1014480"/>
                <a:gd name="textAreaBottom" fmla="*/ 861840 h 101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Интуитивн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 под влиянием случайных факторов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строение учебного процесса в профильном обучени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углубленно изучаются профильные общеобразовательные предметы и элективные курсы, к которым есть устойчивый интерес и индивидуальные способности учащихся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сосредоточивается внимание на формировании профессионально важных качеств личности в сфере педагогической, физкультурно-спортивной, военно-оборонной деятельности, безопасности жизнедеятельности и др.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осуществляется контроль, коррекция профессиональных планов учащихся, выявляется степень их обоснованност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намечаются пути подготовки к будущей профессиональной деятельности, способы диагностики мотивационно-ориентационной сферы учащихся, оценки результатов, достижений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формируются основы для социально-профессиональной адаптации учащихся: ценностные ориентации, мотивы выбора профессии, профессионально-педагогическая направленность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формируются профессиональные интересы учащихс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фильное обучение в области физической культуры предполага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31640" y="2404440"/>
            <a:ext cx="8503920" cy="3934440"/>
            <a:chOff x="431640" y="2404440"/>
            <a:chExt cx="8503920" cy="3934440"/>
          </a:xfrm>
        </p:grpSpPr>
        <p:cxnSp>
          <p:nvCxnSpPr>
            <p:cNvPr id="104" name="_s61452"/>
            <p:cNvCxnSpPr>
              <a:stCxn id="105" idx="0"/>
              <a:endCxn id="106" idx="2"/>
            </p:cNvCxnSpPr>
            <p:nvPr/>
          </p:nvCxnSpPr>
          <p:spPr>
            <a:xfrm flipV="1" rot="16200000">
              <a:off x="5653440" y="3497760"/>
              <a:ext cx="210600" cy="21502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7" name="_s61451"/>
            <p:cNvCxnSpPr>
              <a:stCxn id="108" idx="0"/>
              <a:endCxn id="106" idx="2"/>
            </p:cNvCxnSpPr>
            <p:nvPr/>
          </p:nvCxnSpPr>
          <p:spPr>
            <a:xfrm flipH="1" flipV="1" rot="5400000">
              <a:off x="3504240" y="3498120"/>
              <a:ext cx="210600" cy="21495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6" name="_s61447"/>
            <p:cNvSpPr/>
            <p:nvPr/>
          </p:nvSpPr>
          <p:spPr>
            <a:xfrm>
              <a:off x="2496240" y="2404440"/>
              <a:ext cx="4375080" cy="2063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Отбор и профессиональна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ориентац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школьников на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физкультурно-педагогическую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деятельност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61448"/>
            <p:cNvSpPr/>
            <p:nvPr/>
          </p:nvSpPr>
          <p:spPr>
            <a:xfrm>
              <a:off x="431640" y="4678560"/>
              <a:ext cx="4205160" cy="1660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Профессиональное самоопределен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учащихся в соответств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с выбранным профилем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_s61449"/>
            <p:cNvSpPr/>
            <p:nvPr/>
          </p:nvSpPr>
          <p:spPr>
            <a:xfrm>
              <a:off x="4730400" y="4678560"/>
              <a:ext cx="4205160" cy="1660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Формирование устойчиво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профессиональной мотивации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на педагогическую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деятельност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Цели профильного обучения: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формирование интереса к профессиональной деятельности специалиста физической культуры, ознакомление с основными формами и видами его педагогической деятельност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своение простейших педагогических умений в организации и проведении занятий физическими упражнениями, основ методики обучения двигательным действиям и развития физических качеств, контроля за физической подготовленностью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акрепление навыков организации и проведения самостоятельных занятий по развитию основных физических качеств и совершенствованию техники двигательных действи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вышение уровня индивидуальной технической и физической подготовленности в избранном виде спорт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спитание личностно-значимых качеств социальной адаптации, культуры поведения в коллективном общении и взаимодействии; в умении адекватно оценивать индивидуальные возможности и способности в избираемой профессиональной деятельно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08:35:37Z</dcterms:created>
  <dc:creator>Егор</dc:creator>
  <dc:description/>
  <dc:language>en-US</dc:language>
  <cp:lastModifiedBy>Admin</cp:lastModifiedBy>
  <dcterms:modified xsi:type="dcterms:W3CDTF">2004-01-27T04:40:33Z</dcterms:modified>
  <cp:revision>11</cp:revision>
  <dc:subject/>
  <dc:title>Прикладная  профильная физическая культура</dc:title>
</cp:coreProperties>
</file>