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79C-BB34-47D6-82BB-8C90691D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9C6-01CA-4BBE-8CC7-9350EA6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653-C52F-4F85-9AA7-12EB807D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C8F-797E-447D-8718-363CD751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B5FB-AB8F-471D-BB50-AA5EE6D6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77F90-91AD-4121-9524-90871CB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697B4-E752-42C9-9E1A-8E7BD2D0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F553-C9B6-4920-92AB-44DDA543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99425-DB79-4D2D-BE00-8B395E6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7138-5314-4190-80D2-ACE8AEA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A54D5-C469-4C66-8F81-788C198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719-BB46-4517-837E-F5566F9E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4CB0-D59D-4A40-9369-995A3D7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0844B-3744-46B9-A86A-BAF3F570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5873-395D-4FF9-86B8-0FE8FF6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0CBD3-D5CD-4B27-BA5C-44F5AFC3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1F532-F746-4475-9189-B98BDA5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CB5-B993-4F28-AA04-0D755E03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D12-31AD-4904-B132-136843D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DAB-50A2-4DE4-A22C-C69BDB95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428-EA8F-4BF6-8EA6-7FBCBA2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405-8CF5-4A6E-8BFA-9B52DF7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5C4-25A4-426F-84A0-17BCFEC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CB4-0843-44BB-AA81-C22DC61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AFC4-D019-48A7-8BF3-E719DA7D2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0A4-6AF6-4662-A8F2-59B41275A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дель организации профильного обучения по физической культу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БОУ «СОШ №5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омарёва Мария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аснодарский кр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билис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Структура и содержание образования на старшей ступени шк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цип построения рабочего  учебного плана школы, реализующей профильное обучение в области физической культуры в 10-11-х классах,  основаны на идее двухуровнев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базового и профильного) федерального компонента Государственного стандарта обще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Уровн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Базов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иентирован на формирование общей культуры и в большей степени связан с мировоззренческими, воспитательными и развивающими задачами общего образования ;задачами социал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Профи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бирается исходя из личных склонностей, потребностей учащегося и ориентирован на его подготовку к последующему профессиональному образованию и профессиона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ые (базовые) общеобразовательные предметы для классов спортивно-педагогического профи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сский язы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остранный язы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и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озн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В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П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Профильные предм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ая куль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ле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лективные курсы , проектная и исследовательская деятельность учащих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лективные к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язательны для посещения курсы по выбору учащихся , входящие в состав профиля обучения на старшей ступени шк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чень и содержание  элективных курсов определяются самой школ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ализуются за счёт школьного компонента учебного план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жнейшим вопросом организации профильного обучения является определение модели организации профильного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Модель внутришкольной профилиз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ичие квалифицированного педагогического персонала и учебно-материальной ба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решение о создании профильного класса принимает учредитель(по представлению от администрации и органа самоуправл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 изучение мнения старшеклассников и их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Модель сетевого взаимодействия образовательных учреждений и организац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ъединение нескольких школ  вокруг одной, обладающей достаточным материальным и кадровым потенци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ривлечение учреждений дополнительного образования  среднего и высшего профессионального физкультурно-педагогического обра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уществление перехода к профильному обучению возможно при налич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41440" y="1762200"/>
            <a:ext cx="6188040" cy="3297240"/>
            <a:chOff x="1441440" y="1762200"/>
            <a:chExt cx="6188040" cy="3297240"/>
          </a:xfrm>
        </p:grpSpPr>
        <p:sp>
          <p:nvSpPr>
            <p:cNvPr id="127" name="_s72721"/>
            <p:cNvSpPr/>
            <p:nvPr/>
          </p:nvSpPr>
          <p:spPr>
            <a:xfrm>
              <a:off x="3699000" y="2347920"/>
              <a:ext cx="1673280" cy="1674720"/>
            </a:xfrm>
            <a:prstGeom prst="ellipse">
              <a:avLst/>
            </a:prstGeom>
            <a:solidFill>
              <a:srgbClr val="00c600">
                <a:alpha val="50000"/>
              </a:srgbClr>
            </a:solidFill>
            <a:ln w="468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72722"/>
            <p:cNvSpPr/>
            <p:nvPr/>
          </p:nvSpPr>
          <p:spPr>
            <a:xfrm>
              <a:off x="3699000" y="17622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едагог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72723"/>
            <p:cNvSpPr/>
            <p:nvPr/>
          </p:nvSpPr>
          <p:spPr>
            <a:xfrm>
              <a:off x="4249800" y="3301920"/>
              <a:ext cx="1673280" cy="16747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72724"/>
            <p:cNvSpPr/>
            <p:nvPr/>
          </p:nvSpPr>
          <p:spPr>
            <a:xfrm>
              <a:off x="5956200" y="46404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Ресурс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72725"/>
            <p:cNvSpPr/>
            <p:nvPr/>
          </p:nvSpPr>
          <p:spPr>
            <a:xfrm>
              <a:off x="3147840" y="3301920"/>
              <a:ext cx="1673280" cy="167472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72726"/>
            <p:cNvSpPr/>
            <p:nvPr/>
          </p:nvSpPr>
          <p:spPr>
            <a:xfrm>
              <a:off x="1441440" y="464184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Организацио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едагогически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работы по программам углубленного изучения предмета «Физическая культу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предоставления учащимся выбора(курсов, программ, заданий, форм контрол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ние учащимися своих познавательных возможностей и интересов, понимание смысла своего образования и его взаимосвязи с будущей профессиональной карьерой и личным жизненным успех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опыта диагностики познавательных интересов и возможностей учащихся , их склонности к профессиям в сфере физической культуры и сп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Ресурсны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ение равного доступа к получению образовательных услуг для всех желающих учащих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личие квалифицированных педагогических кадров, имеющих опыт инновационной деятель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ебно-методическое сопров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наличие программ и учебно-методических пособий по профильным предметам и элективным курсам; готовность учителя адаптировать их к профильному и базовому уровня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ь с учреждениями среднего и высшего профессионального образования в области физической культуры , а также учреждениями дополнительного образования спортивной направленности , которые могут содействовать реализации профильного обуч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риально-техническое обеспечение программ профильного обучения(наличие учебно-спортивной базы, современного спортивного оборудования. Предметных кабинетов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Организационные услов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опыта предпрофильной подготовки учащихся основной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ка механизма комплектования 10-х профильных клас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 внутренних нормативных документов(приказов, распоряжений, положений, договоров и т.д.)для организации предпрофильной и профи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114560" y="404640"/>
            <a:ext cx="705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68360" y="549360"/>
            <a:ext cx="5759280" cy="2837160"/>
          </a:xfrm>
          <a:prstGeom prst="rect">
            <a:avLst/>
          </a:prstGeom>
          <a:solidFill>
            <a:srgbClr val="ffffdb"/>
          </a:solidFill>
          <a:ln w="22320">
            <a:solidFill>
              <a:srgbClr val="8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Для парусника, который не знает, куда плыть, ни один ветер не будет попут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860000"/>
                </a:solidFill>
                <a:latin typeface="Arial"/>
              </a:rPr>
              <a:t>Сен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j029215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94440" y="2349360"/>
            <a:ext cx="3636720" cy="4319640"/>
          </a:xfrm>
          <a:prstGeom prst="rect">
            <a:avLst/>
          </a:prstGeom>
          <a:ln w="19080">
            <a:solidFill>
              <a:srgbClr val="86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6666"/>
                </a:solidFill>
                <a:latin typeface="Book Antiqua"/>
              </a:rPr>
              <a:t>Проблемы организации профильного обучения в сельских школах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5482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33cccc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1. модель базовой шко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2. модель сетевой орган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3. модель социально-педагогического партнерства с учреждениями профессионально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4. модель многопрофильной опорной шк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Book Antiqua"/>
              </a:rPr>
              <a:t>Проблемы организации профильного обучения в сельских школах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848360" cy="4942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права выбора учащимися профиля обучения в условиях системы многопрофи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интеграции профиля обучения и специализации профессиона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обеспечение профиля обучения с правом выбора профессиональной подго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путного ветра в освоении профильного обучения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71640" y="2381400"/>
            <a:ext cx="7561080" cy="398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...Дети проводят в школе значительную часть дня, и сохранение, укрепление их физического, психического здоровья - дело не только семьи, но и педагогов. Здоровье человека - важный показатель его личного успеха. Если у молодёжи появится привычка к занятиям спортом, будут решены и такие острые проблемы, как наркомания, алкоголизм, детская безнадзорность.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ы профильного обучения в области физической куль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ильное обучение как условие  многоуровневой системы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ктура и содержание общего среднего образования в области физической культуры в условиях профиль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фессиональная ориентация школьников на физкультурно-педагогическую деятельность в условиях профильного об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онно-педагогические условия перехода школы в режим профильного обучения в области физической куль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 профильного  обучения в области физической культу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филь обучения предопределяет профессиональный выбор учащихся, от которого в немалой степени зависит и успешность учения в старших классах, подготовка школьников к переходу на следующую образовательную степень, а в целом, и к будущей профессиональной деятельности. Чем точнее будет самоопределение, тем больше вероятность того, что общество получит хорошего специали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профиля  основыв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95640" y="1562040"/>
            <a:ext cx="4681440" cy="4054680"/>
            <a:chOff x="2195640" y="1562040"/>
            <a:chExt cx="4681440" cy="4054680"/>
          </a:xfrm>
        </p:grpSpPr>
        <p:sp>
          <p:nvSpPr>
            <p:cNvPr id="96" name="_s58375"/>
            <p:cNvSpPr/>
            <p:nvPr/>
          </p:nvSpPr>
          <p:spPr>
            <a:xfrm flipV="1">
              <a:off x="3951360" y="1562040"/>
              <a:ext cx="1170000" cy="1013040"/>
            </a:xfrm>
            <a:custGeom>
              <a:avLst/>
              <a:gdLst>
                <a:gd name="textAreaLeft" fmla="*/ 419760 w 1170000"/>
                <a:gd name="textAreaRight" fmla="*/ 750240 w 1170000"/>
                <a:gd name="textAreaTop" fmla="*/ 363600 h 1013040"/>
                <a:gd name="textAreaBottom" fmla="*/ 649440 h 101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Будущ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профессия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8376"/>
            <p:cNvSpPr/>
            <p:nvPr/>
          </p:nvSpPr>
          <p:spPr>
            <a:xfrm flipV="1">
              <a:off x="3365640" y="2574360"/>
              <a:ext cx="2341440" cy="1014120"/>
            </a:xfrm>
            <a:custGeom>
              <a:avLst/>
              <a:gdLst>
                <a:gd name="textAreaLeft" fmla="*/ 514800 w 2341440"/>
                <a:gd name="textAreaRight" fmla="*/ 1826640 w 2341440"/>
                <a:gd name="textAreaTop" fmla="*/ 222840 h 1014120"/>
                <a:gd name="textAreaBottom" fmla="*/ 791280 h 10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настоя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родител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58378"/>
            <p:cNvSpPr/>
            <p:nvPr/>
          </p:nvSpPr>
          <p:spPr>
            <a:xfrm flipV="1">
              <a:off x="2781360" y="3589200"/>
              <a:ext cx="3510000" cy="1013040"/>
            </a:xfrm>
            <a:custGeom>
              <a:avLst/>
              <a:gdLst>
                <a:gd name="textAreaLeft" fmla="*/ 609120 w 3510000"/>
                <a:gd name="textAreaRight" fmla="*/ 2900880 w 3510000"/>
                <a:gd name="textAreaTop" fmla="*/ 175680 h 1013040"/>
                <a:gd name="textAreaBottom" fmla="*/ 837360 h 101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За компан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8377"/>
            <p:cNvSpPr/>
            <p:nvPr/>
          </p:nvSpPr>
          <p:spPr>
            <a:xfrm flipV="1">
              <a:off x="2195640" y="4602240"/>
              <a:ext cx="4681440" cy="1014480"/>
            </a:xfrm>
            <a:custGeom>
              <a:avLst/>
              <a:gdLst>
                <a:gd name="textAreaLeft" fmla="*/ 704160 w 4681440"/>
                <a:gd name="textAreaRight" fmla="*/ 3977280 w 4681440"/>
                <a:gd name="textAreaTop" fmla="*/ 152640 h 1014480"/>
                <a:gd name="textAreaBottom" fmla="*/ 861840 h 10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нтуитив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 под влиянием случайных факторов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роение учебного процесса в профильном обучен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глубленно изучаются профильные общеобразовательные предметы и элективные курсы, к которым есть устойчивый интерес и индивидуальные способности учащихс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осредоточивается внимание на формировании профессионально важных качеств личности в сфере педагогической, физкультурно-спортивной, военно-оборонной деятельности, безопасности жизнедеятельности и др.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существляется контроль, коррекция профессиональных планов учащихся, выявляется степень их обоснован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намечаются пути подготовки к будущей профессиональной деятельности, способы диагностики мотивационно-ориентационной сферы учащихся, оценки результатов, достиж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формируются основы для социально-профессиональной адаптации учащихся: ценностные ориентации, мотивы выбора профессии, профессионально-педагогическая направлен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формируются профессиональные интересы учащих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ильное обучение в области физической культуры предполаг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1640" y="2404440"/>
            <a:ext cx="8503920" cy="3934440"/>
            <a:chOff x="431640" y="2404440"/>
            <a:chExt cx="8503920" cy="3934440"/>
          </a:xfrm>
        </p:grpSpPr>
        <p:cxnSp>
          <p:nvCxnSpPr>
            <p:cNvPr id="104" name="_s61452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653440" y="3497760"/>
              <a:ext cx="210600" cy="2150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61451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3504240" y="3498120"/>
              <a:ext cx="210600" cy="214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61447"/>
            <p:cNvSpPr/>
            <p:nvPr/>
          </p:nvSpPr>
          <p:spPr>
            <a:xfrm>
              <a:off x="2496240" y="2404440"/>
              <a:ext cx="4375080" cy="2063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тбор и профессион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риент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школьников н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физкультурно-педагогическую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61448"/>
            <p:cNvSpPr/>
            <p:nvPr/>
          </p:nvSpPr>
          <p:spPr>
            <a:xfrm>
              <a:off x="431640" y="4678560"/>
              <a:ext cx="4205160" cy="1660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Профессиональное самоопреде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учащихся в соответств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с выбранным профилем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61449"/>
            <p:cNvSpPr/>
            <p:nvPr/>
          </p:nvSpPr>
          <p:spPr>
            <a:xfrm>
              <a:off x="4730400" y="4678560"/>
              <a:ext cx="4205160" cy="1660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Формирование устойчив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профессиональной мотиваци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на педагогическую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и профильного обучения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ормирование интереса к профессиональной деятельности специалиста физической культуры, ознакомление с основными формами и видами его педагогической деятель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оение простейших педагогических умений в организации и проведении занятий физическими упражнениями, основ методики обучения двигательным действиям и развития физических качеств, контроля за физической подготовлен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репление навыков организации и проведения самостоятельных занятий по развитию основных физических качеств и совершенствованию техники двигательных действ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вышение уровня индивидуальной технической и физической подготовленности в избранном виде спор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итание личностно-значимых качеств социальной адаптации, культуры поведения в коллективном общении и взаимодействии; в умении адекватно оценивать индивидуальные возможности и способности в избираем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35:37Z</dcterms:created>
  <dc:creator>Егор</dc:creator>
  <dc:description/>
  <dc:language>en-US</dc:language>
  <cp:lastModifiedBy>Admin</cp:lastModifiedBy>
  <dcterms:modified xsi:type="dcterms:W3CDTF">2004-01-27T04:40:33Z</dcterms:modified>
  <cp:revision>11</cp:revision>
  <dc:subject/>
  <dc:title>Прикладная  профильная физическая культура</dc:title>
</cp:coreProperties>
</file>