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Rockwell Extra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Rockwell Extra Bol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Rockwell Extra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8B5F99-2E40-4EB3-98C9-714CAF395B41}" type="slidenum">
              <a:rPr b="0" lang="ru-RU" sz="1200" spc="-1" strike="noStrike">
                <a:solidFill>
                  <a:srgbClr val="000000"/>
                </a:solidFill>
                <a:latin typeface="Rockwell Extra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E0493F-C812-4277-AC17-2500B798B419}" type="slidenum">
              <a:rPr b="0" lang="ru-RU" sz="1200" spc="-1" strike="noStrike">
                <a:solidFill>
                  <a:srgbClr val="ffffff"/>
                </a:solidFill>
                <a:latin typeface="Rockwell Extra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A84F-3DD7-4D91-AA04-279690599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F4CB-C9A1-4820-8C9E-AC0799C64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EBCD-64AE-471B-A14E-0DB13C9D4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ACFF-6950-4887-B266-4FE44442EE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0B1B-EB13-4E3D-ACF3-975B628B7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B34D-315A-4689-ADAA-4C74EF2E9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4627-AF41-4587-B95D-990E8771B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1BD4-679B-4FD0-AB0F-1565B9B45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F3CA-7552-4608-860F-7C23FECB7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38CA-6786-4412-A831-ED0D11006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E95D-EB8B-4236-84EF-A7A476D83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72DE-A401-42C7-8004-BDEADBB9E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Rockwell Extra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B5F134-E82D-4DD8-88FC-08BE88A9BD7B}" type="slidenum">
              <a:rPr b="0" lang="ru-RU" sz="1800" spc="-1" strike="noStrike">
                <a:solidFill>
                  <a:srgbClr val="000000"/>
                </a:solidFill>
                <a:latin typeface="Rockwell Extra Bol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838080"/>
            <a:ext cx="6977160" cy="3465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3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тодическое   объединение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ителей   начальных  классов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250800" y="4438800"/>
            <a:ext cx="418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Rockwell Extra Bold"/>
              </a:rPr>
              <a:t>МБОУ «Лицей №3»</a:t>
            </a:r>
            <a:endParaRPr b="0" lang="en-US" sz="32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Rockwell Extra Bold"/>
              </a:rPr>
              <a:t>        </a:t>
            </a:r>
            <a:r>
              <a:rPr b="0" lang="ru-RU" sz="3200" spc="-1" strike="noStrike">
                <a:solidFill>
                  <a:srgbClr val="ff9900"/>
                </a:solidFill>
                <a:latin typeface="Rockwell Extra Bold"/>
              </a:rPr>
              <a:t>2015 </a:t>
            </a:r>
            <a:r>
              <a:rPr b="1" lang="ru-RU" sz="3200" spc="-1" strike="noStrike">
                <a:solidFill>
                  <a:srgbClr val="ff9900"/>
                </a:solidFill>
                <a:latin typeface="Rockwell Extra Bold"/>
              </a:rPr>
              <a:t>год</a:t>
            </a:r>
            <a:endParaRPr b="0" lang="en-US" sz="32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неклассные мероприятия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038480" cy="3343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038480" cy="3343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неклассные мероприятия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69244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8320" y="26924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32004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Участие в интеллектуальном марафоне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астие  в конкурсах, олимпиадах…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яли участие 1-2 классы –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122 человек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ультаты 1-2 классов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1.Шушаков Евгений – 1 место в школе и 1 в районе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«В» класс,  учитель Чепрасова Н.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2.Звонарёва Алёна – 2 место в школе и 3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«В» класс,  учитель Чепрасова Н.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3.Мещанинова Алина – 2 место в школе и 3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«В» класс,  учитель Чепрасова Н.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4.Новикова Алиса – 3 место в школе и 4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«А» класс,  учитель Мухутдинова Н.М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яли участие 3-4 классы –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52 человек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ультаты 3-4 классов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1.Иванушкина Екатерина – 1 место в школе и в 7 районе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«Б» класс,  учитель Звонарёва Е.Н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2.Жуков Никита – 2 место в школе и 8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«Б» класс,  учитель Звонарёва Е.Н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3.Кадушкина Полина – 2 место в школе и 8 в район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4 «Б» класс,  учитель Звонарёва Е.Н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4.Кузнецова Мария – 3 место в школе и 9 в районе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«Б» класс,  учитель Ждакаева И.С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я работали  над созданием системы обучения, обеспечивающей потребность каждого ученика в соответствии с его склонностями, интересами и возможностями. Большое внимание уделялось формированию навыков творческой научно-исследовательской деятельности учащихся; внедрению и освоению учащимися информационно – компьютерных технологий; формированию УУД у  учащихся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92d050"/>
                </a:solidFill>
                <a:latin typeface="Tahoma"/>
              </a:rPr>
              <a:t>Спасибо за внимание.</a:t>
            </a:r>
            <a:endParaRPr b="0" lang="en-US" sz="5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562720" y="8380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4876920"/>
            <a:ext cx="297180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981080"/>
            <a:ext cx="8534520" cy="3124440"/>
          </a:xfrm>
          <a:prstGeom prst="diamond">
            <a:avLst/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Развитие творческих способностей младших школьников на уроках и во внеурочной       деятельности»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85800"/>
            <a:ext cx="2361960" cy="838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чная  деятельность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85800"/>
            <a:ext cx="2362320" cy="838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классные мероприятия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68580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сы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мпиады 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105520"/>
            <a:ext cx="3581280" cy="1295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курсии,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ещение музеев,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атров, планетария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5105520"/>
            <a:ext cx="3733920" cy="13716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cap="sq"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ая деятельность с библиотекой 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  <p:cxnSp>
        <p:nvCxnSpPr>
          <p:cNvPr id="59" name=""/>
          <p:cNvCxnSpPr/>
          <p:nvPr/>
        </p:nvCxnSpPr>
        <p:spPr>
          <a:xfrm flipV="1">
            <a:off x="6400800" y="1676160"/>
            <a:ext cx="915120" cy="91512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60" name=""/>
          <p:cNvCxnSpPr/>
          <p:nvPr/>
        </p:nvCxnSpPr>
        <p:spPr>
          <a:xfrm flipH="1" flipV="1">
            <a:off x="1750320" y="1676160"/>
            <a:ext cx="762840" cy="91512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61" name=""/>
          <p:cNvCxnSpPr/>
          <p:nvPr/>
        </p:nvCxnSpPr>
        <p:spPr>
          <a:xfrm flipV="1">
            <a:off x="4492800" y="1599480"/>
            <a:ext cx="3600" cy="30564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62" name=""/>
          <p:cNvCxnSpPr/>
          <p:nvPr/>
        </p:nvCxnSpPr>
        <p:spPr>
          <a:xfrm flipH="1">
            <a:off x="1599480" y="4417920"/>
            <a:ext cx="762840" cy="61056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6476760" y="4419360"/>
            <a:ext cx="686520" cy="610200"/>
          </a:xfrm>
          <a:prstGeom prst="straightConnector1">
            <a:avLst/>
          </a:prstGeom>
          <a:ln cap="sq" w="38160">
            <a:solidFill>
              <a:srgbClr val="003366"/>
            </a:solidFill>
            <a:miter/>
            <a:tailEnd len="med" type="arrow" w="med"/>
          </a:ln>
        </p:spPr>
      </p:cxn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48456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рганизационные формы работы: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Заседания методического объединения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Методическая помощь и индивидуальные консультации по вопросам преподавания предметов начальной школы, организации внеклассной деятельност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заимопосещение уроков педагогам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ступления учителей начальных классов на МО, семинарах, педагогических советах. 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осещение семинаров, встреч в образовательных учреждениях  города, области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вышение квалификации педагогов на курсах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Прохождение аттестации педагогических кадров.</a:t>
            </a:r>
            <a:endParaRPr b="0" lang="en-US" sz="28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685800"/>
            <a:ext cx="815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 человек </a:t>
            </a:r>
            <a:endParaRPr b="0" lang="en-US" sz="6000" spc="-1" strike="noStrike">
              <a:solidFill>
                <a:srgbClr val="ffffff"/>
              </a:solidFill>
              <a:latin typeface="Rockwell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месте с руководителем, 1 в отпуске по уходу за ребёнком)</a:t>
            </a:r>
            <a:endParaRPr b="0" lang="en-US" sz="60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276560"/>
            <a:ext cx="7162560" cy="4115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фикационные категории и разряды педагогов в % отношении: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ая категория – 27 %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атегория – 55 %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льные – 18 %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540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онарёва Елена Николаевна  – 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тестация на первую категорию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дакаева Ирина Семёновна  –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тестация на первую категорию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хутдинова Наталья Михайловна  –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тестация на первую категорию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крытые уроки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419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86480" y="1828800"/>
            <a:ext cx="4228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крытые уроки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26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крытые уроки.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a_30 </cp:lastModifiedBy>
  <dcterms:modified xsi:type="dcterms:W3CDTF">2015-06-24T04:25:20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