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Rockwell Extra 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76845C-6BDC-40C5-A0C8-8394C3275CC1}" type="slidenum">
              <a:rPr b="0" lang="ru-RU" sz="12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37A89-8ADC-46E4-A100-1944A1B031C4}" type="slidenum">
              <a:rPr b="0" lang="ru-RU" sz="1200" spc="-1" strike="noStrike">
                <a:solidFill>
                  <a:srgbClr val="ffffff"/>
                </a:solidFill>
                <a:latin typeface="Rockwell Extra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85A1-5C3C-43BB-BDDA-E7B17D3BA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40A-E80D-4588-B889-3542655F0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0DF3-9862-4304-B7BD-C9C4FB122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384C-FE27-442E-BAD0-A6D38A302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E979-5841-493D-A5CE-C29C531BD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313A-CC3D-4802-A4AE-A95E8A32C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7394-1DFC-45B6-9C3C-B73CA07F8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49F2-C261-4211-A060-D5A069BD2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B25A-717B-4EF6-80B8-A5CE2B338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3F7D-A3E8-4885-A7FB-8E38AFD5C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348E-6554-4D42-B25D-7A3ECA88E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DB9A-0286-4E5D-AF06-9F0ADC3D1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612090-2998-404E-9710-CC43389A121C}" type="slidenum">
              <a:rPr b="0" lang="ru-RU" sz="18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838080"/>
            <a:ext cx="6977160" cy="346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3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тодическое   объединени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ителей   начальных  классов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250800" y="4438800"/>
            <a:ext cx="41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Rockwell Extra Bold"/>
              </a:rPr>
              <a:t>МБОУ «Лицей №3»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Rockwell Extra Bold"/>
              </a:rPr>
              <a:t>        </a:t>
            </a:r>
            <a:r>
              <a:rPr b="0" lang="ru-RU" sz="3200" spc="-1" strike="noStrike">
                <a:solidFill>
                  <a:srgbClr val="ff9900"/>
                </a:solidFill>
                <a:latin typeface="Rockwell Extra Bold"/>
              </a:rPr>
              <a:t>2015 </a:t>
            </a:r>
            <a:r>
              <a:rPr b="1" lang="ru-RU" sz="3200" spc="-1" strike="noStrike">
                <a:solidFill>
                  <a:srgbClr val="ff9900"/>
                </a:solidFill>
                <a:latin typeface="Rockwell Extra Bold"/>
              </a:rPr>
              <a:t>год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неклассные мероприятия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038480" cy="3343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неклассные мероприятия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3200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Участие в интеллектуальном марафоне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астие  в конкурсах, олимпиадах…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ли участие 1-2 классы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22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1-2 класс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1.Шушаков Евгений – 1 место в школе и 1 в районе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2.Звонарёва Алёна – 2 место в школе и 3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3.Мещанинова Алина – 2 место в школе и 3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4.Новикова Алиса – 3 место в школе и 4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А» класс,  учитель Мухутдинова Н.М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ли участие 3-4 классы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2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3-4 класс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1.Иванушкина Екатерина – 1 место в школе и в 7 районе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2.Жуков Никита – 2 место в школе и 8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3.Кадушкина Полина – 2 место в школе и 8 в район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4.Кузнецова Мария – 3 место в школе и 9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«Б» класс,  учитель Ждакаева И.С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я работали  над созданием системы обучения, обеспечивающей потребность каждого ученика в соответствии с его склонностями, интересами и возможностями. Большое внимание уделялось формированию навыков творческой научно-исследовательской деятельности учащихся; внедрению и освоению учащимися информационно – компьютерных технологий; формированию УУД у  учащихся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Tahoma"/>
              </a:rPr>
              <a:t>Спасибо за внимание.</a:t>
            </a:r>
            <a:endParaRPr b="0" lang="en-US" sz="5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562720" y="8380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876920"/>
            <a:ext cx="29718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981080"/>
            <a:ext cx="8534520" cy="3124440"/>
          </a:xfrm>
          <a:prstGeom prst="diamond">
            <a:avLst/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Развитие творческих способностей младших школьников на уроках и во внеурочной       деятельности»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85800"/>
            <a:ext cx="236196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чная  деятельность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8580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классные мероприятия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6858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сы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мпиады 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105520"/>
            <a:ext cx="3581280" cy="129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курсии,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ещение музеев,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атров, планетария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5105520"/>
            <a:ext cx="373392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ая деятельность с библиотекой 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cxnSp>
        <p:nvCxnSpPr>
          <p:cNvPr id="59" name=""/>
          <p:cNvCxnSpPr/>
          <p:nvPr/>
        </p:nvCxnSpPr>
        <p:spPr>
          <a:xfrm flipV="1">
            <a:off x="6400800" y="1676160"/>
            <a:ext cx="915120" cy="9151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1750320" y="1676160"/>
            <a:ext cx="762840" cy="9151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1" name=""/>
          <p:cNvCxnSpPr/>
          <p:nvPr/>
        </p:nvCxnSpPr>
        <p:spPr>
          <a:xfrm flipV="1">
            <a:off x="4492800" y="1599480"/>
            <a:ext cx="3600" cy="30564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2" name=""/>
          <p:cNvCxnSpPr/>
          <p:nvPr/>
        </p:nvCxnSpPr>
        <p:spPr>
          <a:xfrm flipH="1">
            <a:off x="1599480" y="4417920"/>
            <a:ext cx="762840" cy="61056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6476760" y="4419360"/>
            <a:ext cx="686520" cy="6102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8456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рганизационные формы работы: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Заседания методического объединения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етодическая помощь и индивидуальные консультации по вопросам преподавания предметов начальной школы, организации внеклассной деятельност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заимопосещение уроков педагогам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ступления учителей начальных классов на МО, семинарах, педагогических советах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сещение семинаров, встреч в образовательных учреждениях  города, област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вышение квалификации педагогов на курсах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Прохождение аттестации педагогических кадр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85800"/>
            <a:ext cx="815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человек </a:t>
            </a:r>
            <a:endParaRPr b="0" lang="en-US" sz="60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месте с руководителем, 1 в отпуске по уходу за ребёнком)</a:t>
            </a:r>
            <a:endParaRPr b="0" lang="en-US" sz="60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276560"/>
            <a:ext cx="7162560" cy="4115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фикационные категории и разряды педагогов в % отношении: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ая категория – 27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атегория – 55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ьные – 18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54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онарёва Елена Николаевна  – 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дакаева Ирина Семёновна  –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утдинова Наталья Михайловна  –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419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86480" y="1828800"/>
            <a:ext cx="4228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26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a_30 </cp:lastModifiedBy>
  <dcterms:modified xsi:type="dcterms:W3CDTF">2015-06-24T04:25:20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