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149-FC07-4552-8711-7BEBAB1C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354-CECC-4216-8DA5-391B6D4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90B-7016-45A5-BA88-E5C0AB16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47E-F20C-4CBC-B98F-D041E48E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E24E-FF76-426F-AA64-0C4E425E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EEE-DCDC-4D96-B7C6-E235FC6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553F-977B-4145-BD75-A016B64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DBB-C73B-4B34-8CF0-DEBA3B1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B429-5CFF-49EF-AAE1-C108C31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C9F-1A60-43C2-BD21-065EF566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363-569A-4E01-8C59-B463487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307-3134-49A8-AD65-ED356F2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6D6-E383-4856-998C-A5DD918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52E-3B28-45EA-84A2-E1C2418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BA34-2431-40A6-8D0E-C8EFC3F6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CCE-70C3-405E-9905-A0B83ED0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D257-0CC6-4B85-928C-8E6329BD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D858-502A-481D-A33C-D09AD95D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37AB-F22F-4E6B-9ED4-47C7E9F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FA85-FE56-440D-80D6-A8C5601E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5041-0454-416C-967F-0328244C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3E81-AF7A-44BD-B2F7-ABC85150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844-3747-4F3F-A68C-690F5A6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F5BA-111B-4519-BE57-45395693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569B-AB71-421E-A64C-E498348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49C5-4524-45EF-8CF7-BA45974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52EF-021F-4AA4-BF04-01DA92F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7BA4-5EB8-4967-8E76-3485313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4ACE-D1F8-4B4B-AF8C-5720E2E0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976F-1182-4A76-962D-C6CB97A1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4AF5-3978-484A-99A5-A7B7BEBA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C0CC-9693-4298-BAD1-8FD6BBB2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0055-CEB8-4860-82B2-E31BB26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91C-D104-486C-9BFE-E0742C9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046A-9692-4B2C-B8E8-172D2A6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34B5-5F53-44A5-BB92-8EE7B83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2A9A-F0FD-4A45-BF38-9E29A76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7147-B3E8-4CF8-B369-42792D3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1369-2EB3-4791-BDCE-55D3993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45BA-1154-4B1F-AEDD-FD185D9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F709-D221-48FF-A078-91F2855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91B4-5944-4880-83BB-105E2F9D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52C2-3543-4A23-9C9D-B348513F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6A5-D969-400E-9318-D582110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E7B-B5A2-49EF-BC56-62FB7B1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9DA-5503-428B-89C3-5D36AF53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860-8213-4291-9231-601A85B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4EE-8365-4581-8400-B644583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C5B-6752-403F-B0E8-E0BFE87C695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3AD-8685-46C2-8022-5DA01FC0E41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22E-501B-4582-8D40-21D6876B276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6798-5C5A-45C8-8AC0-53CAA4F7A02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                            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собенности рейтингового оценивания в современной начальной школе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859280" y="3886200"/>
            <a:ext cx="42847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Выполнила: Заморева Анна иванов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26920" y="0"/>
            <a:ext cx="8317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217440" y="792000"/>
            <a:ext cx="860256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расширить компетентность школьников в области изучения дисциплины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развить у учащихся самостоятельность мышления и способность к самообразованию и саморазвитию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создать условия, учитывающие индивидуальные способности, возможности учащихся, для успешной реализации общих, единых целей обучения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повысить ответственность школьников за результаты своего обучени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325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Цели и задачи введения рейтинговой системы оцени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98100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лово "рейтинг" происходит о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нглийского «to rate» (оценивать) и «rating» (оценка, оценивание)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ейтинг – "накопленная оценка" или "оценка, учитывающая предысторию"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ейтинговая технология оценивания результатов обучения основана на учете накапливаемых оценок в баллах за выполнение различных работ и видов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325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Что такое рейтин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148428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"+" для учащегос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оведение постоянной самодиагностики и самоконтроля учебных достижений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выбора порядка выполнения учебных заданий, самостоятельное планирование их выполнения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авнение уровня своих знаний с уровнем знаний других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стоин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560" y="148428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"+" для учител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циональное планирование учебного процесса, организации индивидуальной и творческой работы учащихс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тимулирование эффективного обуче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своевременно вносить коррективы в организацию учебного процесса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ъективная оценка выполнения каждым учащимся каждого учебного зад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озможность точно и объективно определять итоговую оценку по предмет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стоин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инципы и 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ейтингов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8713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Основные принцип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ка не зависит от характера межличностных отношений учителя и ученика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критерии оценивания обговариваются заранее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ученик сам волен выбирать стратегию деятельности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знание не наказывается, стимулируется процесс познания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ткрытость системы – ученики должны знать "правила игры": знать "стоимость" любой деятельности, знать, как можно получить баллы и как их потерять. Для выполнения этого свойства рейтинговый регламент должен быть доступен ученикам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гибкость рейтинговой системы (и учитель, и ученик могут корректировать свою деятельность в любой момент в нужном направлении)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блочно-модульное структурирование изучаемого материала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Виды рейтинг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По охвату учебного материала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по предмету или по ряду предметов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по предмету общий или отдельно по теоретическим вопросам, отдельно по решению задач и по дополнительным баллам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йтинг временной — за некоторый промежуток времени (четверть, полугодие, год и т.д.) или тематический — по отдельным разделам (темам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По содержанию элементов контрол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тартовый рейтинг - это определение начального уровня знани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екущий рейтинг включает оценку работы ученика на урока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исциплинарный рейтинг включает текущий, промежуточный, итоговый контрол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ворческий рейтинг - это самостоятельная работа ученика во внеурочное врем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76920" indent="-3769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Виды рейтинг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резвычайно популярным является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рейтинг достижений (или рейтинг успешности) –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то успехи каждого ученика, складывающиеся из трех составляющи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академический рейтинг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” (текущие учебные баллы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лимпийский рейтинг” (баллы за участие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 олимпиадах, научно-практических конференциях, конкурсах, соревнованиях любого уровня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лидерский рейтинг”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(участ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общественной деятельности и волонтерских программах).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результаты фиксируются в зачетных книжках обучающихс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недрение рейтинга достижений подразумевает построение индивидуальной образовательной программы (часто выходящей за рамки учебного плана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ые этапы составления рейтин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зделить материал на структурно-логические самостоятельные модули (или логические блоки). Модулем может быть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отдельная тема или раздел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самостоятельный цикл лабораторных работ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индивидуальные домашние зад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индивидуальная самостоятельная работа по выбору ученик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 разделы, выделенные для самостоятельного из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пределить нормативные баллы на все задания и задачи учебного предмета (и правила начисления баллов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становить минимальное количество баллов по каждому виду учебной деятельности, которое должен набрать ученик в ходе об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ставить свод правил и положений, на основе которых будет производиться оценивание – рейтинговый регламен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овать учет успеваемости обучающихся и расчет их рейтинг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0880" indent="-38088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конце четверти выставить общую оценку за работу, представляющую собой сумму рейтинговых оценок за отдельные модул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c00000"/>
              </a:solidFill>
              <a:latin typeface="Times New Roman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179280" y="738360"/>
            <a:ext cx="846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временные требования к качеству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облема оцени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йтинговая система оценки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сти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Прямая со стрелкой 2"/>
          <p:cNvCxnSpPr/>
          <p:nvPr/>
        </p:nvCxnSpPr>
        <p:spPr>
          <a:xfrm>
            <a:off x="4066920" y="2421000"/>
            <a:ext cx="1080" cy="792720"/>
          </a:xfrm>
          <a:prstGeom prst="straightConnector1">
            <a:avLst/>
          </a:prstGeom>
          <a:ln cap="rnd"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19" name="Прямая со стрелкой 6"/>
          <p:cNvCxnSpPr/>
          <p:nvPr/>
        </p:nvCxnSpPr>
        <p:spPr>
          <a:xfrm>
            <a:off x="4066920" y="3715920"/>
            <a:ext cx="1080" cy="793080"/>
          </a:xfrm>
          <a:prstGeom prst="straightConnector1">
            <a:avLst/>
          </a:prstGeom>
          <a:ln cap="rnd"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Методика составления рейтинговых шка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Можно при этом определить уровни усвоения понятий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репродуктивн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данное понятие ученик должен воспроизвести в том виде, в котором оно было озвучено на уроке учителем, записано в учебнике, тетрад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родуктивн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ученик на уроке должен на основе данного понятия выполнить типовые упражнения, ответить на вопросы (то есть понимать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частично-поисковы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– ученик на основе понятия не только выполняет типовые упражнения, но и переносит данное понятие в новые условия для решения нестандартных задач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9360" indent="-369360">
              <a:lnSpc>
                <a:spcPct val="7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творчески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ученик в ходе исследования, мысленного или математического эксперимента, открывает для себя новые знания (понятия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Правила рейтинговой оцен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Самооценка  ученика предшествует учительской оценке. Несовпадение этих двух оценок становится предметом обсуждения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Для оценивания (и самооценивания) выбираются только такие задания, где существует объективный однозначный критерий, и не выбираются те, где неизбежна субъективность оценки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иванию на уроках не подлежат такие качества ребенка, как темп работы, особенности внимания, памяти, восприятия и др. Оценивается выполненная работа, а не ее исполнитель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52800" indent="-3528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ценка инициативы и творчества во всех сферах школьной жизни (и не только школьной) должна стать столь же весомой, как и оценка навыковой стороны обучения. Оценка творческих проявлений ребенка в обязательном порядке оформляется и представляется учителям, учащимся разных классов и родителям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rebuchet MS"/>
              </a:rPr>
              <a:t>Примеры рейтинговых таблиц и шка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5580000" y="3933720"/>
            <a:ext cx="1871640" cy="1943280"/>
          </a:xfrm>
          <a:custGeom>
            <a:avLst/>
            <a:gdLst>
              <a:gd name="textAreaLeft" fmla="*/ 121320 w 1871640"/>
              <a:gd name="textAreaRight" fmla="*/ 1750320 w 1871640"/>
              <a:gd name="textAreaTop" fmla="*/ 121320 h 1943280"/>
              <a:gd name="textAreaBottom" fmla="*/ 1821960 h 1943280"/>
            </a:gdLst>
            <a:ahLst/>
            <a:rect l="textAreaLeft" t="textAreaTop" r="textAreaRight" b="textAreaBottom"/>
            <a:pathLst>
              <a:path w="21600" h="22427">
                <a:moveTo>
                  <a:pt x="0" y="0"/>
                </a:moveTo>
                <a:lnTo>
                  <a:pt x="21600" y="0"/>
                </a:lnTo>
                <a:lnTo>
                  <a:pt x="21600" y="22427"/>
                </a:lnTo>
                <a:lnTo>
                  <a:pt x="0" y="22427"/>
                </a:lnTo>
                <a:close/>
              </a:path>
              <a:path fill="lightenLess" w="21600" h="224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27">
                <a:moveTo>
                  <a:pt x="21600" y="0"/>
                </a:moveTo>
                <a:lnTo>
                  <a:pt x="21600" y="22427"/>
                </a:lnTo>
                <a:lnTo>
                  <a:pt x="20200" y="21027"/>
                </a:lnTo>
                <a:lnTo>
                  <a:pt x="20200" y="1400"/>
                </a:lnTo>
                <a:close/>
              </a:path>
              <a:path fill="darkenLess" w="21600" h="22427">
                <a:moveTo>
                  <a:pt x="21600" y="22427"/>
                </a:moveTo>
                <a:lnTo>
                  <a:pt x="0" y="22427"/>
                </a:lnTo>
                <a:lnTo>
                  <a:pt x="1400" y="21027"/>
                </a:lnTo>
                <a:lnTo>
                  <a:pt x="20200" y="21027"/>
                </a:lnTo>
                <a:close/>
              </a:path>
              <a:path fill="lighten" w="21600" h="22427">
                <a:moveTo>
                  <a:pt x="0" y="224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27"/>
                </a:lnTo>
                <a:close/>
              </a:path>
              <a:path fill="darkenLess" w="21600" h="22427">
                <a:moveTo>
                  <a:pt x="5273" y="4398"/>
                </a:moveTo>
                <a:lnTo>
                  <a:pt x="12271" y="4398"/>
                </a:lnTo>
                <a:lnTo>
                  <a:pt x="16327" y="7897"/>
                </a:lnTo>
                <a:lnTo>
                  <a:pt x="16327" y="18028"/>
                </a:lnTo>
                <a:lnTo>
                  <a:pt x="5273" y="18028"/>
                </a:lnTo>
                <a:close/>
              </a:path>
              <a:path fill="darken" w="21600" h="22427">
                <a:moveTo>
                  <a:pt x="12271" y="4398"/>
                </a:moveTo>
                <a:lnTo>
                  <a:pt x="16327" y="7897"/>
                </a:lnTo>
                <a:lnTo>
                  <a:pt x="12271" y="7897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Основные трудности введения рейтинговой системы на современном этап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возможность перейти полностью на рейтинговую систему оценивания, приходится использовать ее наряду с традиционно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сутствие единой системы рейтинга в школе (есть в отдельных УЗ). Система функционирует эффективно, если все предметы оцениваются на общих основания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удность учета всех действий учеников (напрямую не относящихся к учебному процессу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сутствие преемственности между разными УЗ и образовательными уровн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0" indent="-33840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удоемкость процесса разработки рейтинговых шкал и ведения рейтингового уче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Достоинства данной системы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тметки интуитивно понятны, просты в употреблении, удобны для конкурсов, вступительных экзаменов, статистики, отчет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итывает успешность усвоения стандартного набора зна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Традиционная «пятибалльная» система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 u="sng">
                <a:solidFill>
                  <a:srgbClr val="c00000"/>
                </a:solidFill>
                <a:uFillTx/>
                <a:latin typeface="Times New Roman"/>
              </a:rPr>
              <a:t>Недостатки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 традиционной системы оценивания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1267920"/>
            <a:ext cx="89647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Школьные оценки относительны. Они определяют только то, у кого из обучаемых знания лучше, а у кого – хуже. Абсолютный уровень знаний они не показываю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кольку выставление школьных оценок происходит только в результате мыслительных процессов учителя, то оценки отображают только результат психоаналитического сравнения качества (меры) знаний обучаемы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случайны. Доказательство: оценки отражают как процессы изложения знаний обучаемых, так и процессы их восприятия преподавателем и сравнения их с теми знаниями, которыми он облада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выставляются так, чтобы в идеальных условиях количество пятерок было равно количеству четверок, троек и других оцен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Доказательство: если у всех обучаемых будут оценки только "5" или только "2", то оценка перестанет показывать, у кого знания лучше, у кого хуже. Оценка перестанет давать информацию и станет не нужна. Если же она используется, то только потому, что дает информацию о сравнительных свойствах (знаниях) обучаемых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3640" y="1356840"/>
            <a:ext cx="8569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Идеальные соотношения оценок всегда сдвигаются из-за факторов, влияющих на психологический комфорт преподава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казательство: школьный педагог находится под постоянным влиянием взаимной ревности своих учеников, их родителей и других родственни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5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Школьные оценки не учитывают абсолютного уровня знаний. Поэтому они несопоставимы для разных коллективов преподава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казательство: в одной школе выше уровень требований, ее выпускники, имеющие оценки "4", могут знать предметы лучше, чем выпускники другой школы, имеющие оценки "5"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 Школьные оценки содержат ничтожную информацию об уровне профессиональной подготов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74560" y="1557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всегда есть эталон для сравнения, измерения  и объективного оценивания зна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сутствие целенаправленной работы по развитию у учащихся способностей к самоконтролю и самооценк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нтрольно-оценочный механизм остается целиком и исключительно в руках педагога и направлен на внешний контроль, сопровождаемый соответствующими санкциями, а не на педагогическую поддержку учащихс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f7f7f7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Субъективизм» и «авторитарность» системы контроля и оценив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едостатки традиционной оцено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74560" y="1557000"/>
            <a:ext cx="8569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ет индивидуализации обучения: невозможно оценить реальные достижения каждого конкретного ребенка в сравнении с его предыдущими результат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лая информативность отметки. По отметке часто нельзя судить о действительном уровне знаний и, что немаловажно, невозможно определить вектор дальнейших усил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равмирующий характер отметки, который приводит к снижению познавательного интереса, психологическому дискомфор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едостатки традиционной оцено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557000"/>
            <a:ext cx="914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Она должна отражать даже незначительные изменения в усвоении учебного материала каждым учащимся, ориентироваться на стимулирование его работы в течение всего учебного года и обеспечивать объективность диагностики знаний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Какой должна быть оцен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6:57:42Z</dcterms:created>
  <dc:creator>Света</dc:creator>
  <dc:description/>
  <dc:language>en-US</dc:language>
  <cp:lastModifiedBy>1</cp:lastModifiedBy>
  <dcterms:modified xsi:type="dcterms:W3CDTF">2019-01-11T17:07:42Z</dcterms:modified>
  <cp:revision>27</cp:revision>
  <dc:subject/>
  <dc:title>Слайд 1</dc:title>
</cp:coreProperties>
</file>