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1BD-BA1A-454D-A4A7-C3C38A5F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DEC-5F19-40A5-A593-2385B7BC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1EA-C868-4E58-9E7C-74787133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9D0-57E5-4797-A102-A60DFD6E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D637-6D2B-4D74-B795-0CDCE974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A11-1FBB-4A22-9FAB-0C2FCDC3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91FF-532F-4ECC-9295-2258BF2B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FCC-5F30-411A-872E-ABE0523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D497-2D93-4642-B3AB-6651E93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497-1CA1-496D-93C2-45A8545B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E2C6-2C55-47F6-A931-8B7AC81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080-9F2E-4F59-BE04-FD7B72CE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FA4-8ED8-4618-B8FD-A8575F8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131E-6CBD-44E5-9A37-209EC07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0C09-C3F3-4080-99AD-8006ABA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32B8-8285-4A0D-9155-93AB6C90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BB7-9680-492C-B16D-0AFC8E90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D815-20D4-46E7-8524-7F737BAE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7CDF-63C3-4B20-8FCC-470C176F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C46D-F3E5-4F2D-AF91-26309A7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7799-EDE7-4117-B1EC-0FA11C2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4C36-B7EA-40C9-B49F-76BF2F2C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828-BE0D-4591-A312-F40DDB69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2DED-D312-492F-8FAE-B9703CC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8009-7BF2-4B3F-806A-FD2A1B9D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8C6B-4B7F-4023-A0B3-5152552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E46E-EA0C-4A03-BE80-F553A37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3DF2-3B41-4130-A952-AF7E7F5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F1AB-4E78-47A5-9A4E-0867C036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E0E19-D594-4146-A987-67BAE6E2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5C90-0FD4-4619-AEB8-92045F8C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833A-1F7A-4915-A85C-A5E42B1F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013E-CD80-42F1-97DC-FE7CA67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C2F-C9F8-4D4B-946A-D8094275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4C5B-33BE-42F6-BBA2-F1968BF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7283-E796-4CB8-8F02-D6954AE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15E6-D813-4E88-BB0C-F6677B2E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E1C0-998F-40D7-8C8D-245A44D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5875-CA00-46F1-A4E4-BDD7D26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FF8E-B057-49B8-86C3-3009EBB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87A8-A2D0-4969-B3A5-2331FF82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BAB0-86D4-46CA-87C6-2EA42FD0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1B32-0DDB-465F-AC98-76CBF24C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51A-21E2-4B8D-A0B5-DBFEBD8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DFA-C5F5-43C9-B858-39E429E4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F1D-BCC2-4EF9-BB32-6C4FAB0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EA8-6E6B-43F9-9ACA-295B863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F22-FFC1-4E4D-BBE5-681846D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1ACB-1BEF-4C68-AD88-6F58D3B2841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074-FC81-4B9B-BF37-434560E6B09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55A-671F-4B26-B21A-BD79EE8A3C0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A2B-AC1A-41A1-8329-65AE3FF87C6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                              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собенности рейтингового оценивания в современной начальной школе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859280" y="3886200"/>
            <a:ext cx="42847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Выполнила: Заморева Анна ивановн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26920" y="0"/>
            <a:ext cx="8317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217440" y="792000"/>
            <a:ext cx="860256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155700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расширить компетентность школьников в области изучения дисциплины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развить у учащихся самостоятельность мышления и способность к самообразованию и саморазвитию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создать условия, учитывающие индивидуальные способности, возможности учащихся, для успешной реализации общих, единых целей обучения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повысить ответственность школьников за результаты своего обучени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325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Цели и задачи введения рейтинговой системы оцени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0560" y="98100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лово "рейтинг" происходит о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английского «to rate» (оценивать) и «rating» (оценка, оценивание).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ейтинг – "накопленная оценка" или "оценка, учитывающая предысторию"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ейтинговая технология оценивания результатов обучения основана на учете накапливаемых оценок в баллах за выполнение различных работ и видов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0"/>
            <a:ext cx="9325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Что такое рейтин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560" y="148428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"+" для учащегос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оведение постоянной самодиагностики и самоконтроля учебных достижений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озможность выбора порядка выполнения учебных заданий, самостоятельное планирование их выполнения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авнение уровня своих знаний с уровнем знаний других 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стоинств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ейтингов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50560" y="148428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"+" для учител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циональное планирование учебного процесса, организации индивидуальной и творческой работы учащихс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тимулирование эффективного обуче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озможность своевременно вносить коррективы в организацию учебного процесса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ъективная оценка выполнения каждым учащимся каждого учебного зада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озможность точно и объективно определять итоговую оценку по предмет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стоинств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ейтингов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ринципы и св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ейтингов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8713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Основные принцип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ценка не зависит от характера межличностных отношений учителя и ученика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критерии оценивания обговариваются заранее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ученик сам волен выбирать стратегию деятельности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знание не наказывается, стимулируется процесс познания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ткрытость системы – ученики должны знать "правила игры": знать "стоимость" любой деятельности, знать, как можно получить баллы и как их потерять. Для выполнения этого свойства рейтинговый регламент должен быть доступен ученикам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гибкость рейтинговой системы (и учитель, и ученик могут корректировать свою деятельность в любой момент в нужном направлении)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блочно-модульное структурирование изучаемого материала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Виды рейтинг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По охвату учебного материала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йтинг по предмету или по ряду предметов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йтинг по предмету общий или отдельно по теоретическим вопросам, отдельно по решению задач и по дополнительным баллам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йтинг временной — за некоторый промежуток времени (четверть, полугодие, год и т.д.) или тематический — по отдельным разделам (темам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По содержанию элементов контрол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тартовый рейтинг - это определение начального уровня знаний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екущий рейтинг включает оценку работы ученика на урока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исциплинарный рейтинг включает текущий, промежуточный, итоговый контрол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ворческий рейтинг - это самостоятельная работа ученика во внеурочное врем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Виды рейтинг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резвычайно популярным является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рейтинг достижений (или рейтинг успешности) –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то успехи каждого ученика, складывающиеся из трех составляющих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академический рейтинг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” (текущие учебные баллы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лимпийский рейтинг” (баллы за участие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в олимпиадах, научно-практических конференциях, конкурсах, соревнованиях любого уровня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лидерский рейтинг”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(участ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общественной деятельности и волонтерских программах).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результаты фиксируются в зачетных книжках обучающихс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недрение рейтинга достижений подразумевает построение индивидуальной образовательной программы (часто выходящей за рамки учебного плана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Методика составления рейтинговых шка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ые этапы составления рейтинг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зделить материал на структурно-логические самостоятельные модули (или логические блоки). Модулем может быть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отдельная тема или раздел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самостоятельный цикл лабораторных работ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индивидуальные домашние зада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индивидуальная самостоятельная работа по выбору ученик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разделы, выделенные для самостоятельного из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Методика составления рейтинговых шка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пределить нормативные баллы на все задания и задачи учебного предмета (и правила начисления баллов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становить минимальное количество баллов по каждому виду учебной деятельности, которое должен набрать ученик в ходе об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ставить свод правил и положений, на основе которых будет производиться оценивание – рейтинговый регламен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овать учет успеваемости обучающихся и расчет их рейтинг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конце четверти выставить общую оценку за работу, представляющую собой сумму рейтинговых оценок за отдельные модул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c00000"/>
              </a:solidFill>
              <a:latin typeface="Times New Roman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79280" y="738360"/>
            <a:ext cx="846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временные требования к качеству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облема оцени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ейтинговая система оценки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сти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Прямая со стрелкой 2"/>
          <p:cNvCxnSpPr/>
          <p:nvPr/>
        </p:nvCxnSpPr>
        <p:spPr>
          <a:xfrm>
            <a:off x="4066920" y="2421000"/>
            <a:ext cx="1080" cy="792720"/>
          </a:xfrm>
          <a:prstGeom prst="straightConnector1">
            <a:avLst/>
          </a:prstGeom>
          <a:ln cap="rnd"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19" name="Прямая со стрелкой 6"/>
          <p:cNvCxnSpPr/>
          <p:nvPr/>
        </p:nvCxnSpPr>
        <p:spPr>
          <a:xfrm>
            <a:off x="4066920" y="3715920"/>
            <a:ext cx="1080" cy="793080"/>
          </a:xfrm>
          <a:prstGeom prst="straightConnector1">
            <a:avLst/>
          </a:prstGeom>
          <a:ln cap="rnd"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Методика составления рейтинговых шка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Можно при этом определить уровни усвоения понятий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репродуктивны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данное понятие ученик должен воспроизвести в том виде, в котором оно было озвучено на уроке учителем, записано в учебнике, тетрад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родуктивны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ученик на уроке должен на основе данного понятия выполнить типовые упражнения, ответить на вопросы (то есть понимать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частично-поисковы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– ученик на основе понятия не только выполняет типовые упражнения, но и переносит данное понятие в новые условия для решения нестандартных задач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творчески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ученик в ходе исследования, мысленного или математического эксперимента, открывает для себя новые знания (понятия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Правила рейтинговой оценк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Самооценка  ученика предшествует учительской оценке. Несовпадение этих двух оценок становится предметом обсуждения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Для оценивания (и самооценивания) выбираются только такие задания, где существует объективный однозначный критерий, и не выбираются те, где неизбежна субъективность оценки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цениванию на уроках не подлежат такие качества ребенка, как темп работы, особенности внимания, памяти, восприятия и др. Оценивается выполненная работа, а не ее исполнитель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ценка инициативы и творчества во всех сферах школьной жизни (и не только школьной) должна стать столь же весомой, как и оценка навыковой стороны обучения. Оценка творческих проявлений ребенка в обязательном порядке оформляется и представляется учителям, учащимся разных классов и родителям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rebuchet MS"/>
              </a:rPr>
              <a:t>Примеры рейтинговых таблиц и шка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5580000" y="3933720"/>
            <a:ext cx="1871640" cy="1943280"/>
          </a:xfrm>
          <a:custGeom>
            <a:avLst/>
            <a:gdLst>
              <a:gd name="textAreaLeft" fmla="*/ 121320 w 1871640"/>
              <a:gd name="textAreaRight" fmla="*/ 1750320 w 1871640"/>
              <a:gd name="textAreaTop" fmla="*/ 121320 h 1943280"/>
              <a:gd name="textAreaBottom" fmla="*/ 1821960 h 1943280"/>
            </a:gdLst>
            <a:ahLst/>
            <a:rect l="textAreaLeft" t="textAreaTop" r="textAreaRight" b="textAreaBottom"/>
            <a:pathLst>
              <a:path w="21600" h="22427">
                <a:moveTo>
                  <a:pt x="0" y="0"/>
                </a:moveTo>
                <a:lnTo>
                  <a:pt x="21600" y="0"/>
                </a:lnTo>
                <a:lnTo>
                  <a:pt x="21600" y="22427"/>
                </a:lnTo>
                <a:lnTo>
                  <a:pt x="0" y="22427"/>
                </a:lnTo>
                <a:close/>
              </a:path>
              <a:path fill="lightenLess" w="21600" h="224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27">
                <a:moveTo>
                  <a:pt x="21600" y="0"/>
                </a:moveTo>
                <a:lnTo>
                  <a:pt x="21600" y="22427"/>
                </a:lnTo>
                <a:lnTo>
                  <a:pt x="20200" y="21027"/>
                </a:lnTo>
                <a:lnTo>
                  <a:pt x="20200" y="1400"/>
                </a:lnTo>
                <a:close/>
              </a:path>
              <a:path fill="darkenLess" w="21600" h="22427">
                <a:moveTo>
                  <a:pt x="21600" y="22427"/>
                </a:moveTo>
                <a:lnTo>
                  <a:pt x="0" y="22427"/>
                </a:lnTo>
                <a:lnTo>
                  <a:pt x="1400" y="21027"/>
                </a:lnTo>
                <a:lnTo>
                  <a:pt x="20200" y="21027"/>
                </a:lnTo>
                <a:close/>
              </a:path>
              <a:path fill="lighten" w="21600" h="22427">
                <a:moveTo>
                  <a:pt x="0" y="224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27"/>
                </a:lnTo>
                <a:close/>
              </a:path>
              <a:path fill="darkenLess" w="21600" h="22427">
                <a:moveTo>
                  <a:pt x="5273" y="4398"/>
                </a:moveTo>
                <a:lnTo>
                  <a:pt x="12271" y="4398"/>
                </a:lnTo>
                <a:lnTo>
                  <a:pt x="16327" y="7897"/>
                </a:lnTo>
                <a:lnTo>
                  <a:pt x="16327" y="18028"/>
                </a:lnTo>
                <a:lnTo>
                  <a:pt x="5273" y="18028"/>
                </a:lnTo>
                <a:close/>
              </a:path>
              <a:path fill="darken" w="21600" h="22427">
                <a:moveTo>
                  <a:pt x="12271" y="4398"/>
                </a:moveTo>
                <a:lnTo>
                  <a:pt x="16327" y="7897"/>
                </a:lnTo>
                <a:lnTo>
                  <a:pt x="12271" y="7897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Основные трудности введения рейтинговой системы на современном этап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возможность перейти полностью на рейтинговую систему оценивания, приходится использовать ее наряду с традиционно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сутствие единой системы рейтинга в школе (есть в отдельных УЗ). Система функционирует эффективно, если все предметы оцениваются на общих основания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Трудность учета всех действий учеников (напрямую не относящихся к учебному процессу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сутствие преемственности между разными УЗ и образовательными уровн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Трудоемкость процесса разработки рейтинговых шкал и ведения рейтингового учет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Достоинства данной системы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метки интуитивно понятны, просты в употреблении, удобны для конкурсов, вступительных экзаменов, статистики, отчет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итывает успешность усвоения стандартного набора знан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Традиционная «пятибалльная» система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 u="sng">
                <a:solidFill>
                  <a:srgbClr val="c00000"/>
                </a:solidFill>
                <a:uFillTx/>
                <a:latin typeface="Times New Roman"/>
              </a:rPr>
              <a:t>Недостатки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 традиционной системы оценивания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9280" y="1267920"/>
            <a:ext cx="89647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Школьные оценки относительны. Они определяют только то, у кого из обучаемых знания лучше, а у кого – хуже. Абсолютный уровень знаний они не показываю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кольку выставление школьных оценок происходит только в результате мыслительных процессов учителя, то оценки отображают только результат психоаналитического сравнения качества (меры) знаний обучаемы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Школьные оценки случайны. Доказательство: оценки отражают как процессы изложения знаний обучаемых, так и процессы их восприятия преподавателем и сравнения их с теми знаниями, которыми он облада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Школьные оценки выставляются так, чтобы в идеальных условиях количество пятерок было равно количеству четверок, троек и других оцен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Доказательство: если у всех обучаемых будут оценки только "5" или только "2", то оценка перестанет показывать, у кого знания лучше, у кого хуже. Оценка перестанет давать информацию и станет не нужна. Если же она используется, то только потому, что дает информацию о сравнительных свойствах (знаниях) обучаемых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3640" y="1356840"/>
            <a:ext cx="8569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Идеальные соотношения оценок всегда сдвигаются из-за факторов, влияющих на психологический комфорт преподава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казательство: школьный педагог находится под постоянным влиянием взаимной ревности своих учеников, их родителей и других родственни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5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Школьные оценки не учитывают абсолютного уровня знаний. Поэтому они несопоставимы для разных коллективов преподава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казательство: в одной школе выше уровень требований, ее выпускники, имеющие оценки "4", могут знать предметы лучше, чем выпускники другой школы, имеющие оценки "5"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Школьные оценки содержат ничтожную информацию об уровне профессиональной подготов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74560" y="1557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 всегда есть эталон для сравнения, измерения  и объективного оценивания зна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сутствие целенаправленной работы по развитию у учащихся способностей к самоконтролю и самооценк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нтрольно-оценочный механизм остается целиком и исключительно в руках педагога и направлен на внешний контроль, сопровождаемый соответствующими санкциями, а не на педагогическую поддержку учащихс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Субъективизм» и «авторитарность» системы контроля и оценив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Недостатки традиционной оцено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74560" y="1557000"/>
            <a:ext cx="8569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ет индивидуализации обучения: невозможно оценить реальные достижения каждого конкретного ребенка в сравнении с его предыдущими результат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лая информативность отметки. По отметке часто нельзя судить о действительном уровне знаний и, что немаловажно, невозможно определить вектор дальнейших усил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равмирующий характер отметки, который приводит к снижению познавательного интереса, психологическому дискомфор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Недостатки традиционной оцено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55700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Она должна отражать даже незначительные изменения в усвоении учебного материала каждым учащимся, ориентироваться на стимулирование его работы в течение всего учебного года и обеспечивать объективность диагностики знаний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Какой должна быть оцен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6:57:42Z</dcterms:created>
  <dc:creator>Света</dc:creator>
  <dc:description/>
  <dc:language>en-US</dc:language>
  <cp:lastModifiedBy>1</cp:lastModifiedBy>
  <dcterms:modified xsi:type="dcterms:W3CDTF">2019-01-11T17:07:42Z</dcterms:modified>
  <cp:revision>27</cp:revision>
  <dc:subject/>
  <dc:title>Слайд 1</dc:title>
</cp:coreProperties>
</file>