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36F2-3502-4840-9F2D-AEBBE3BEC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7357-7486-4054-B03A-9A135B1D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121E-DB52-4826-99B2-AB581CE88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D93-95F7-4A3B-95AF-9D076825C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446-9219-4CA7-A2DF-3AF34559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1DD0-0C1F-42BC-9464-FB6BB5015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F92C-E4C0-4AA1-B037-F99CF4C3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ADAE-9DC1-4236-BD8C-8B79DCC20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DE20-872F-4F11-B5D9-0B21017C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0404-53CD-409A-8D69-5EAB4968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F042-8EFB-4FB6-8187-63D1806E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BC3F-8C4D-4A52-949D-EE43B73F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3B24C-B667-468C-8426-47174D3D3B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1244564717_schkoljnaja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 rot="21283800">
            <a:off x="2130120" y="1628280"/>
            <a:ext cx="446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Arial"/>
              </a:rPr>
              <a:t>Родительское собр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 rot="21111000">
            <a:off x="1914120" y="2852640"/>
            <a:ext cx="519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«Особенн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адаптации пятиклассников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1122480" y="620640"/>
            <a:ext cx="692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виды деятельности челове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ериод «детство – юност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604800" y="1747800"/>
            <a:ext cx="572184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ошкольник – 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ладший школьник – у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дросток – отношения со сверстник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оутвер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888159_normal"/>
          <p:cNvPicPr/>
          <p:nvPr/>
        </p:nvPicPr>
        <p:blipFill>
          <a:blip r:embed="rId2"/>
          <a:stretch/>
        </p:blipFill>
        <p:spPr>
          <a:xfrm>
            <a:off x="3780000" y="1628640"/>
            <a:ext cx="1277640" cy="1513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2146004"/>
          <p:cNvPicPr/>
          <p:nvPr/>
        </p:nvPicPr>
        <p:blipFill>
          <a:blip r:embed="rId3"/>
          <a:stretch/>
        </p:blipFill>
        <p:spPr>
          <a:xfrm>
            <a:off x="5259240" y="2924280"/>
            <a:ext cx="1325880" cy="157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9" descr="KidsFunDays"/>
          <p:cNvPicPr/>
          <p:nvPr/>
        </p:nvPicPr>
        <p:blipFill>
          <a:blip r:embed="rId4"/>
          <a:stretch/>
        </p:blipFill>
        <p:spPr>
          <a:xfrm>
            <a:off x="4356000" y="5084640"/>
            <a:ext cx="234972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WordArt 6"/>
          <p:cNvSpPr txBox="1"/>
          <p:nvPr/>
        </p:nvSpPr>
        <p:spPr>
          <a:xfrm>
            <a:off x="1116000" y="692280"/>
            <a:ext cx="691200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блемы школьной адаптаци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190600" y="1413000"/>
            <a:ext cx="430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 изменение условий обуч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830880" y="3284640"/>
            <a:ext cx="3268440" cy="27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чальная 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основной уч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каби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классный коллекти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И треб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воевать авторитет 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ОГО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4793760" y="1989000"/>
            <a:ext cx="3841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еход в 5-й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учителей-предме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кабин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других реб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О разных требов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ново завоевать авторитет 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НОГИХ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4" descr="2408517_3c6c1fa7"/>
          <p:cNvPicPr/>
          <p:nvPr/>
        </p:nvPicPr>
        <p:blipFill>
          <a:blip r:embed="rId2"/>
          <a:stretch/>
        </p:blipFill>
        <p:spPr>
          <a:xfrm>
            <a:off x="2771640" y="191628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5"/>
          <p:cNvSpPr/>
          <p:nvPr/>
        </p:nvSpPr>
        <p:spPr>
          <a:xfrm>
            <a:off x="468360" y="476280"/>
            <a:ext cx="82072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знаки успешной адап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овлетворенность ребенка процессом обуч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легко справляется с программой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довлетворенность межличностными отношениями – с одноклассниками и учителя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знаки дезадапта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сталый, утомлённый внешний вид ребёнк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желание ребёнка делиться своими впечатлениями о проведённом дн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ремление отвлечь взрослого от школьных событий, переключить внимание на другие тем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желания выполнять домашние зада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гативные характеристики в адрес школы, учителей, одноклассни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алобы на те или иные события, связанные со школо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еспокойный сон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удности утреннего пробуждения, вялость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стоянные жалобы на плохое самочувствие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13_2"/>
          <p:cNvPicPr/>
          <p:nvPr/>
        </p:nvPicPr>
        <p:blipFill>
          <a:blip r:embed="rId2"/>
          <a:stretch/>
        </p:blipFill>
        <p:spPr>
          <a:xfrm>
            <a:off x="7308720" y="404640"/>
            <a:ext cx="1405080" cy="933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confused"/>
          <p:cNvPicPr/>
          <p:nvPr/>
        </p:nvPicPr>
        <p:blipFill>
          <a:blip r:embed="rId3"/>
          <a:stretch/>
        </p:blipFill>
        <p:spPr>
          <a:xfrm>
            <a:off x="7596360" y="5300640"/>
            <a:ext cx="1011240" cy="111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68360" y="476280"/>
            <a:ext cx="8280360" cy="59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здание благоприятной семейной атмосф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памятка для родителе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мни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 того, как родители разбудят ребенка, зависит его психологический настрой на весь день. Важно, чтобы ребенок выспался  и  легко проснулся, когда его будят роди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Если у родителей есть возможность дойти до школы вместе с ребенком, не упускайте ее. Совместная дорога - это совместное общение, ненавязчивые сове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итесь встречать детей после уроков. Не стоит первым делом спрашивать: «Какие оценки ты сегодня получил?», лучше задать ней- тральные вопросы: «Что было интересного в школе?», «Чем сегодня занимались?», «Как дела в школе?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уйтесь успехам ребенка. Не раздражайтесь в момент его временных неуда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рпеливо, с интересом слушайте рассказы ребенка о событиях в его жи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бенок должен чувствовать, что он любим. Необходимо исключить из общения окрики, грубые интонации, создайте в семье атмосферу радости, любви и ува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539640" y="692280"/>
            <a:ext cx="8137800" cy="539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этот период родители должны бы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собенно внимательны к свои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Здоровье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забывайте о смене учебной деятельности ребёнка дома, создавайте условия для двигательной активности между выполнением домашних зада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блюдайте за правильной позой во время выполнения домашних заданий, заботьтесь о правильном световом режи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дупреждайте близорукость, искривление позвоночника, тренируйте мелкие мышцы кистей ру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язательно вводите в рацион ребенка витаминные препараты, фрукты и овощ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ганизуйте правильное питание. Заботьтесь о закаливании ребенка, максимальной двигательной активност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спитывайте ответственность ребенка за свое здоровь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539640" y="692280"/>
            <a:ext cx="81378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1258920" y="765000"/>
            <a:ext cx="6121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язык – 6 у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 – 2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атематика – 5 уро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рия – 2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родоведение – 2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зкультура – 3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– 2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остранный язык – 3 у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 – 1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зыка – 1 ур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5T17:50:21Z</dcterms:created>
  <dc:creator>WiZaRd</dc:creator>
  <dc:description/>
  <dc:language>en-US</dc:language>
  <cp:lastModifiedBy>светлана</cp:lastModifiedBy>
  <dcterms:modified xsi:type="dcterms:W3CDTF">2019-01-11T03:13:38Z</dcterms:modified>
  <cp:revision>6</cp:revision>
  <dc:subject/>
  <dc:title>Слайд 1</dc:title>
</cp:coreProperties>
</file>