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319E1-EFB7-444F-8A51-A30D836E3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837B7-452E-4120-98F4-C9B75F3B4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14810-A0A2-4390-A8BC-1D93788C2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C9290-DA45-46E0-9F98-29AC38790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EBFEB-2C84-47B8-9A73-BD270CFCC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72948-7C93-40A9-B98F-FFAE687CA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CCD57-DC08-4767-B255-7C5B0D204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607AE-EDA5-48F2-9BDD-CD37A2B4F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C5D5C-CA0F-470A-B16B-0832FD1FD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3648C-54B0-4E60-BD1B-E455F7464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2EFD6-F141-4992-A9B3-84209DF0E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6F084-1396-4ABC-9F7E-7F19E1F34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0F20F-BD53-49B0-B3AF-AD0EE54FD42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1244564717_schkoljnaja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44" name="Text Box 5"/>
          <p:cNvSpPr/>
          <p:nvPr/>
        </p:nvSpPr>
        <p:spPr>
          <a:xfrm rot="21283800">
            <a:off x="2130120" y="1628280"/>
            <a:ext cx="446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cc00"/>
                </a:solidFill>
                <a:latin typeface="Arial"/>
              </a:rPr>
              <a:t>Родительское собр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6"/>
          <p:cNvSpPr/>
          <p:nvPr/>
        </p:nvSpPr>
        <p:spPr>
          <a:xfrm rot="21111000">
            <a:off x="1914120" y="2852640"/>
            <a:ext cx="5197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         </a:t>
            </a: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«Особенност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адаптации пятиклассников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2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5"/>
          <p:cNvSpPr/>
          <p:nvPr/>
        </p:nvSpPr>
        <p:spPr>
          <a:xfrm>
            <a:off x="1122480" y="620640"/>
            <a:ext cx="6926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сновные виды деятельности человек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период «детство – юность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604800" y="1747800"/>
            <a:ext cx="5721840" cy="35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ошкольник – иг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ладший школьник – уч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дросток – отношения со сверстникам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амоутвержд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7" descr="888159_normal"/>
          <p:cNvPicPr/>
          <p:nvPr/>
        </p:nvPicPr>
        <p:blipFill>
          <a:blip r:embed="rId2"/>
          <a:stretch/>
        </p:blipFill>
        <p:spPr>
          <a:xfrm>
            <a:off x="3780000" y="1628640"/>
            <a:ext cx="1277640" cy="15130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8" descr="2146004"/>
          <p:cNvPicPr/>
          <p:nvPr/>
        </p:nvPicPr>
        <p:blipFill>
          <a:blip r:embed="rId3"/>
          <a:stretch/>
        </p:blipFill>
        <p:spPr>
          <a:xfrm>
            <a:off x="5259240" y="2924280"/>
            <a:ext cx="1325880" cy="15732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9" descr="KidsFunDays"/>
          <p:cNvPicPr/>
          <p:nvPr/>
        </p:nvPicPr>
        <p:blipFill>
          <a:blip r:embed="rId4"/>
          <a:stretch/>
        </p:blipFill>
        <p:spPr>
          <a:xfrm>
            <a:off x="4356000" y="5084640"/>
            <a:ext cx="2349720" cy="13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2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WordArt 6"/>
          <p:cNvSpPr txBox="1"/>
          <p:nvPr/>
        </p:nvSpPr>
        <p:spPr>
          <a:xfrm>
            <a:off x="1116000" y="692280"/>
            <a:ext cx="6912000" cy="59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Проблемы школьной адаптации</a:t>
            </a:r>
            <a:endParaRPr b="0" lang="en-US" sz="20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58" name="Text Box 7"/>
          <p:cNvSpPr/>
          <p:nvPr/>
        </p:nvSpPr>
        <p:spPr>
          <a:xfrm>
            <a:off x="2190600" y="1413000"/>
            <a:ext cx="430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1. изменение условий обучен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8"/>
          <p:cNvSpPr/>
          <p:nvPr/>
        </p:nvSpPr>
        <p:spPr>
          <a:xfrm>
            <a:off x="830880" y="3284640"/>
            <a:ext cx="3268440" cy="27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Начальная шко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ДИН основной учит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ДИН каби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ДИН классный коллекти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ДНИ треб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Завоевать авторитет 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ДНОГО учител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3"/>
          <p:cNvSpPr/>
          <p:nvPr/>
        </p:nvSpPr>
        <p:spPr>
          <a:xfrm>
            <a:off x="4793760" y="1989000"/>
            <a:ext cx="3841200" cy="32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Переход в 5-й кла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НОГО учителей-предметни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НОГО кабине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НОГО других ребя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НОГО разных требова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Заново завоевать авторитет 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НОГИХ учите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4" descr="2408517_3c6c1fa7"/>
          <p:cNvPicPr/>
          <p:nvPr/>
        </p:nvPicPr>
        <p:blipFill>
          <a:blip r:embed="rId2"/>
          <a:stretch/>
        </p:blipFill>
        <p:spPr>
          <a:xfrm>
            <a:off x="2771640" y="1916280"/>
            <a:ext cx="1905120" cy="142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2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Text Box 5"/>
          <p:cNvSpPr/>
          <p:nvPr/>
        </p:nvSpPr>
        <p:spPr>
          <a:xfrm>
            <a:off x="468360" y="476280"/>
            <a:ext cx="820728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Признаки успешной адаптаци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довлетворенность ребенка процессом обучения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ебенок легко справляется с программой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тепень самостоятельности ребенка при выполнении им учебных заданий, готовность прибегнуть к помощи взрослого лишь ПОСЛЕ попыток выполнить задание самому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довлетворенность межличностными отношениями – с одноклассниками и учителями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Признаки дезадаптаци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сталый, утомлённый внешний вид ребёнка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ежелание ребёнка делиться своими впечатлениями о проведённом дне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тремление отвлечь взрослого от школьных событий, переключить внимание на другие темы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ежелания выполнять домашние задания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егативные характеристики в адрес школы, учителей, одноклассников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жалобы на те или иные события, связанные со школо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еспокойный сон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рудности утреннего пробуждения, вялость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стоянные жалобы на плохое самочувствие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6" descr="p13_2"/>
          <p:cNvPicPr/>
          <p:nvPr/>
        </p:nvPicPr>
        <p:blipFill>
          <a:blip r:embed="rId2"/>
          <a:stretch/>
        </p:blipFill>
        <p:spPr>
          <a:xfrm>
            <a:off x="7308720" y="404640"/>
            <a:ext cx="1405080" cy="9334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confused"/>
          <p:cNvPicPr/>
          <p:nvPr/>
        </p:nvPicPr>
        <p:blipFill>
          <a:blip r:embed="rId3"/>
          <a:stretch/>
        </p:blipFill>
        <p:spPr>
          <a:xfrm>
            <a:off x="7596360" y="5300640"/>
            <a:ext cx="1011240" cy="111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2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Text Box 5"/>
          <p:cNvSpPr/>
          <p:nvPr/>
        </p:nvSpPr>
        <p:spPr>
          <a:xfrm>
            <a:off x="468360" y="476280"/>
            <a:ext cx="8280360" cy="59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оздание благоприятной семейной атмосфе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(памятка для родителей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Помнит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т того, как родители разбудят ребенка, зависит его психологический настрой на весь день. Важно, чтобы ребенок выспался  и  легко проснулся, когда его будят родител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Если у родителей есть возможность дойти до школы вместе с ребенком, не упускайте ее. Совместная дорога - это совместное общение, ненавязчивые совет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учитесь встречать детей после уроков. Не стоит первым делом спрашивать: «Какие оценки ты сегодня получил?», лучше задать ней- тральные вопросы: «Что было интересного в школе?», «Чем сегодня занимались?», «Как дела в школе?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адуйтесь успехам ребенка. Не раздражайтесь в момент его временных неудач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ерпеливо, с интересом слушайте рассказы ребенка о событиях в его жизн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ебенок должен чувствовать, что он любим. Необходимо исключить из общения окрики, грубые интонации, создайте в семье атмосферу радости, любви и уваж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2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Text Box 5"/>
          <p:cNvSpPr/>
          <p:nvPr/>
        </p:nvSpPr>
        <p:spPr>
          <a:xfrm>
            <a:off x="539640" y="692280"/>
            <a:ext cx="8137800" cy="53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 этот период родители должны бы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собенно внимательны к своим детя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Здоровье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 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  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е забывайте о смене учебной деятельности ребёнка дома, создавайте условия для двигательной активности между выполнением домашних задани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блюдайте за правильной позой во время выполнения домашних заданий, заботьтесь о правильном световом режим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едупреждайте близорукость, искривление позвоночника, тренируйте мелкие мышцы кистей рук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бязательно вводите в рацион ребенка витаминные препараты, фрукты и овощ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рганизуйте правильное питание. Заботьтесь о закаливании ребенка, максимальной двигательной активности.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оспитывайте ответственность ребенка за свое здоровь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2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Text Box 5"/>
          <p:cNvSpPr/>
          <p:nvPr/>
        </p:nvSpPr>
        <p:spPr>
          <a:xfrm>
            <a:off x="539640" y="692280"/>
            <a:ext cx="81378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5"/>
          <p:cNvSpPr/>
          <p:nvPr/>
        </p:nvSpPr>
        <p:spPr>
          <a:xfrm>
            <a:off x="1258920" y="765000"/>
            <a:ext cx="612144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усский язык – 6 уро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итература – 2 уро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атематика – 5 уро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тория – 2 уро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родоведение – 2 уро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изкультура – 3 уро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хнология – 2 уро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остранный язык – 3 уро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о – 1 ур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узыка – 1 ур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---------------------------------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усский язы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5T17:50:21Z</dcterms:created>
  <dc:creator>WiZaRd</dc:creator>
  <dc:description/>
  <dc:language>en-US</dc:language>
  <cp:lastModifiedBy>светлана</cp:lastModifiedBy>
  <dcterms:modified xsi:type="dcterms:W3CDTF">2019-01-11T03:13:38Z</dcterms:modified>
  <cp:revision>6</cp:revision>
  <dc:subject/>
  <dc:title>Слайд 1</dc:title>
</cp:coreProperties>
</file>