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CBE41-8F04-4494-92BE-6AE8BBA78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AB009-D11C-48B6-9E01-DD08C3E3C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5F9FE-8792-49F4-97B9-0E5670F50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555D3-AC2C-4CB4-8868-6A8567AF6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C401B-637C-4713-BF10-97B678D79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B7481-3665-4C32-B40F-D7238D934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62EAA-8613-4A4D-8B84-129A8D2B0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C824F-1340-45EB-B29D-6A5D7383E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D07DA-E107-483F-B961-AE99BC94D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A00BA-039C-4B83-A8B5-A34B908B4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4C520-DA18-448B-A29A-C1617E488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AE027-216F-4A6F-B0A3-8396DA930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38E297-915D-4C94-9ADB-A09AE0C3FF0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-71280"/>
          <a:ext cx="10078920" cy="8423280"/>
        </p:xfrm>
        <a:graphic>
          <a:graphicData uri="http://schemas.openxmlformats.org/drawingml/2006/table">
            <a:tbl>
              <a:tblPr/>
              <a:tblGrid>
                <a:gridCol w="3358440"/>
                <a:gridCol w="3358440"/>
                <a:gridCol w="3362040"/>
              </a:tblGrid>
              <a:tr h="8423280">
                <a:tc>
                  <a:txBody>
                    <a:bodyPr lIns="90000" rIns="90000" tIns="810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5400" spc="-1" strike="noStrike">
                          <a:solidFill>
                            <a:srgbClr val="ff00ff"/>
                          </a:solidFill>
                          <a:latin typeface="Times New Roman"/>
                          <a:ea typeface="Times New Roman"/>
                        </a:rPr>
                        <a:t>Никому ничего не скажу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95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2200" spc="-1" strike="noStrike">
                          <a:solidFill>
                            <a:srgbClr val="6b0094"/>
                          </a:solidFill>
                          <a:latin typeface="Times New Roman"/>
                          <a:ea typeface="Times New Roman"/>
                        </a:rPr>
                        <a:t>(или рассуждения ребёнка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2200" spc="-1" strike="noStrike">
                          <a:solidFill>
                            <a:srgbClr val="6b0094"/>
                          </a:solidFill>
                          <a:latin typeface="Times New Roman"/>
                          <a:ea typeface="Times New Roman"/>
                        </a:rPr>
                        <a:t>на тему,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2200" spc="-1" strike="noStrike">
                          <a:solidFill>
                            <a:srgbClr val="6b0094"/>
                          </a:solidFill>
                          <a:latin typeface="Times New Roman"/>
                          <a:ea typeface="Times New Roman"/>
                        </a:rPr>
                        <a:t>которую придумали взрослые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d320"/>
                    </a:solidFill>
                  </a:tcPr>
                </a:tc>
                <a:tc>
                  <a:txBody>
                    <a:bodyPr lIns="90000" rIns="90000" tIns="58320" bIns="46800" anchor="t">
                      <a:noAutofit/>
                    </a:bodyPr>
                    <a:p>
                      <a:pPr algn="just">
                        <a:lnSpc>
                          <a:spcPct val="95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рогие мамочка и папочка, встречая меня вечером в раздевалке детского сада или дома, скажите (желательно с улыбкой и хорошим настроением) то, что я больше всего хочу услышать: </a:t>
                      </a: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«Как я рад(а) тебя видеть!»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или </a:t>
                      </a: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«Как я по тебе соскучился(лась)!»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95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 стоит с порога задавать мне сразу много вопросов. При встрече, прежде всего, мне важно обнять и почувствовать вас,  или как бы сказали взрослые – 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«мне важен эмоциональный и тактильный контакт между ребёнком и родителем»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95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Тот,  кто забирает меня, пожалуйста, не спешите домой –  мне очень нравятся прогулки вдвоём по «нашим знакомым местам». Это нужно для того, чтобы мне было легче перестроиться с детского сада на домашнюю обстановку. И при всём уважении к маминым и папиным знакомым, будет лучше если во время нашей, только нашей,  прогулки мои родители не будут отвлекаться на беседы с ними, ведь я так ценю то время «когда мы бываем  вдвоём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aecf00"/>
                    </a:solidFill>
                  </a:tcPr>
                </a:tc>
                <a:tc>
                  <a:txBody>
                    <a:bodyPr lIns="90000" rIns="90000" tIns="58320" bIns="46800" anchor="t">
                      <a:noAutofit/>
                    </a:bodyPr>
                    <a:p>
                      <a:pPr algn="just">
                        <a:lnSpc>
                          <a:spcPct val="95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После садика лучше много не расспрашивать меня о том, что я делал в детском саду. Большинство из нас, я имею ввиду своих ровесников, не любят об этом рассказывать. Конечно, надо спросить, как прошёл день, но не настаивать на подробностях, если нам не хочется о них говорить. Я и все мои друзья из группы, часто не помним  обычных, или как говорят взрослые «рутинных, привычных» событий дня. Я, например,  могу рассказать только о том, что было необычайно интересно и увлекательно. Если взрослых действительно так подробно интересуют произошедшие события, то лучше спросить о них у  воспитателя. Иначе, у нас из-за ваших активных расспросов, может возникнуть представление, что вы недовольны нами, потому, что мы не умеет рассказывать. Тогда, нам вообще не захочется делиться с вами своими переживаниям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83caff"/>
                    </a:solidFill>
                  </a:tcPr>
                </a:tc>
              </a:tr>
            </a:tbl>
          </a:graphicData>
        </a:graphic>
      </p:graphicFrame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60360" y="4441680"/>
            <a:ext cx="2903400" cy="3119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0" y="-71280"/>
          <a:ext cx="10078920" cy="8423280"/>
        </p:xfrm>
        <a:graphic>
          <a:graphicData uri="http://schemas.openxmlformats.org/drawingml/2006/table">
            <a:tbl>
              <a:tblPr/>
              <a:tblGrid>
                <a:gridCol w="3358440"/>
                <a:gridCol w="3358440"/>
                <a:gridCol w="3362040"/>
              </a:tblGrid>
              <a:tr h="8694720">
                <a:tc>
                  <a:txBody>
                    <a:bodyPr lIns="90000" rIns="90000" tIns="5832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обще я очень не люблю, когда, при встрече вечером, со мной начинают грубо разговаривать, нервничать, кричать и делать недовольно замечания. Наверное, взрослые думают, что это полезно для профилактики из воспитательных соображений, или потому что просто так положено делать. Если я действительно нашалил, то лучше сказать – ты неправ, наверное можно было бы поступить вот так…Но спокойно, без поучающего тона, криков и нотаций. Я мечтаю о том, чтобы мамочка и папочка любили меня и ждали встречи со мной, и чтобы встреча наша была радостной.  Мне очень хочется, чтобы взрослые интересовались в первую очередь моими успехами, моими знаниями и достижениями. Хвалили меня за них. Ведь я учусь петь и танцевать, рисовать и лепить и ещё многому-многому другому. </a:t>
                      </a: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Раскрою маленький секрет для взрослых – не обязательно расспрашивать нас напрямую.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d320"/>
                    </a:solidFill>
                  </a:tcPr>
                </a:tc>
                <a:tc>
                  <a:txBody>
                    <a:bodyPr lIns="90000" rIns="90000" tIns="5832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жно попросить нарисовать детский садик и расспросить по рисунку. Или ещё можно придумать так – мамочка или папочка начинают рассказывать о чём-то своём или о себе, например, как у них день прошёл – тут и мне захочется о своём дне в детском саду рассказать. Это как бы по одинаковому получается. И мне и мамочке с папочкой  интересно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95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aecf00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95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 вообще я очень разговорчивым начинаю быть, когда мне хорошо, весело и спокойно. Вот, например, когда я играю или песни с родителями пою, или когда мы загадки друг другу загадываем, или обнимаемся перед сном и мамочка с папочкой говорят, что они любят меня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обще, для меня очень важно, когда мои желания, мечты и рассказы важны для моих родителей и они поддерживают их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83caff"/>
                    </a:solidFill>
                  </a:tcPr>
                </a:tc>
              </a:tr>
            </a:tbl>
          </a:graphicData>
        </a:graphic>
      </p:graphicFrame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769080" y="71280"/>
            <a:ext cx="3166920" cy="27352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672000" y="4309920"/>
            <a:ext cx="2808000" cy="28180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6-24T05:40:27Z</dcterms:created>
  <dc:creator/>
  <dc:description/>
  <dc:language>en-US</dc:language>
  <cp:lastModifiedBy/>
  <cp:revision>0</cp:revision>
  <dc:subject/>
  <dc:title/>
</cp:coreProperties>
</file>