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5FB-E0DF-4B84-A104-E06D64E2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EDC-3F5E-4EFF-8228-96BA02A8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D59-A27D-4598-BB26-03C7BD34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854-9D74-47DA-B1C2-A6619961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CF8-4821-4EFE-9EF5-160F98C9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C41-1B89-402D-987F-FD5B4421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07D-2106-4C2E-BE87-407D09D5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290-88CE-446C-AD0A-D307AD36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CE7-8E00-4803-9EAF-B3ACC626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72B-26AB-4CAD-A2D7-6FE9E7C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341-0C26-4ACE-B89B-AAE2891F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033-C4E0-41C7-BF9B-C394C68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3BA5D-CD23-4E57-BCDC-6ABA9D3AEA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71280"/>
          <a:ext cx="10078920" cy="8423280"/>
        </p:xfrm>
        <a:graphic>
          <a:graphicData uri="http://schemas.openxmlformats.org/drawingml/2006/table">
            <a:tbl>
              <a:tblPr/>
              <a:tblGrid>
                <a:gridCol w="3358440"/>
                <a:gridCol w="3358440"/>
                <a:gridCol w="3362040"/>
              </a:tblGrid>
              <a:tr h="842328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Никому ничего не скаж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6b0094"/>
                          </a:solidFill>
                          <a:latin typeface="Times New Roman"/>
                          <a:ea typeface="Times New Roman"/>
                        </a:rPr>
                        <a:t>(или рассуждения ребён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6b0094"/>
                          </a:solidFill>
                          <a:latin typeface="Times New Roman"/>
                          <a:ea typeface="Times New Roman"/>
                        </a:rPr>
                        <a:t>на тему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6b0094"/>
                          </a:solidFill>
                          <a:latin typeface="Times New Roman"/>
                          <a:ea typeface="Times New Roman"/>
                        </a:rPr>
                        <a:t>которую придумали взрослы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d32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гие мамочка и папочка, встречая меня вечером в раздевалке детского сада или дома, скажите (желательно с улыбкой и хорошим настроением) то, что я больше всего хочу услышать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ак я рад(а) тебя видеть!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ак я по тебе соскучился(лась)!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тоит с порога задавать мне сразу много вопросов. При встрече, прежде всего, мне важно обнять и почувствовать вас,  или как бы сказали взрослые –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не важен эмоциональный и тактильный контакт между ребёнком и родителем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от,  кто забирает меня, пожалуйста, не спешите домой –  мне очень нравятся прогулки вдвоём по «нашим знакомым местам». Это нужно для того, чтобы мне было легче перестроиться с детского сада на домашнюю обстановку. И при всём уважении к маминым и папиным знакомым, будет лучше если во время нашей, только нашей,  прогулки мои родители не будут отвлекаться на беседы с ними, ведь я так ценю то время «когда мы бываем  вдвоё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сле садика лучше много не расспрашивать меня о том, что я делал в детском саду. Большинство из нас, я имею ввиду своих ровесников, не любят об этом рассказывать. Конечно, надо спросить, как прошёл день, но не настаивать на подробностях, если нам не хочется о них говорить. Я и все мои друзья из группы, часто не помним  обычных, или как говорят взрослые «рутинных, привычных» событий дня. Я, например,  могу рассказать только о том, что было необычайно интересно и увлекательно. Если взрослых действительно так подробно интересуют произошедшие события, то лучше спросить о них у  воспитателя. Иначе, у нас из-за ваших активных расспросов, может возникнуть представление, что вы недовольны нами, потому, что мы не умеет рассказывать. Тогда, нам вообще не захочется делиться с вами своими переживан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0360" y="4441680"/>
            <a:ext cx="2903400" cy="31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-71280"/>
          <a:ext cx="10078920" cy="8423280"/>
        </p:xfrm>
        <a:graphic>
          <a:graphicData uri="http://schemas.openxmlformats.org/drawingml/2006/table">
            <a:tbl>
              <a:tblPr/>
              <a:tblGrid>
                <a:gridCol w="3358440"/>
                <a:gridCol w="3358440"/>
                <a:gridCol w="3362040"/>
              </a:tblGrid>
              <a:tr h="86947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обще я очень не люблю, когда, при встрече вечером, со мной начинают грубо разговаривать, нервничать, кричать и делать недовольно замечания. Наверное, взрослые думают, что это полезно для профилактики из воспитательных соображений, или потому что просто так положено делать. Если я действительно нашалил, то лучше сказать – ты неправ, наверное можно было бы поступить вот так…Но спокойно, без поучающего тона, криков и нотаций. Я мечтаю о том, чтобы мамочка и папочка любили меня и ждали встречи со мной, и чтобы встреча наша была радостной.  Мне очень хочется, чтобы взрослые интересовались в первую очередь моими успехами, моими знаниями и достижениями. Хвалили меня за них. Ведь я учусь петь и танцевать, рисовать и лепить и ещё многому-многому другому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скрою маленький секрет для взрослых – не обязательно расспрашивать нас напрямую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d32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попросить нарисовать детский садик и расспросить по рисунку. Или ещё можно придумать так – мамочка или папочка начинают рассказывать о чём-то своём или о себе, например, как у них день прошёл – тут и мне захочется о своём дне в детском саду рассказать. Это как бы по одинаковому получается. И мне и мамочке с папочкой  интерес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 вообще я очень разговорчивым начинаю быть, когда мне хорошо, весело и спокойно. Вот, например, когда я играю или песни с родителями пою, или когда мы загадки друг другу загадываем, или обнимаемся перед сном и мамочка с папочкой говорят, что они любят меня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обще, для меня очень важно, когда мои желания, мечты и рассказы важны для моих родителей и они поддерживают 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69080" y="71280"/>
            <a:ext cx="3166920" cy="27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72000" y="4309920"/>
            <a:ext cx="2808000" cy="281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5:40:27Z</dcterms:created>
  <dc:creator/>
  <dc:description/>
  <dc:language>en-US</dc:language>
  <cp:lastModifiedBy/>
  <cp:revision>0</cp:revision>
  <dc:subject/>
  <dc:title/>
</cp:coreProperties>
</file>