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B26-C87B-4345-B43C-BC5955AF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7B3-305D-4EB0-95D8-19D229C8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225-AF25-4F28-8104-F664F284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1E1-F916-422C-805D-84443BE4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A48-714A-42D2-9051-7C2DDF69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C46-A9C8-49A1-9D73-0C5045B6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0AD-5536-4142-BE02-996F9CEF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1D1-AF26-48E0-A2CF-2BFD65FB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F54-E78C-41A9-B8A4-BFD5513B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8C2-F298-4D10-B070-C5A026E6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A92-072B-48C4-B67E-D10707BC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CDF-EFB7-4771-9C9E-BD3741CB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7319-9E1D-45AE-8C3E-FA6994A780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32000" y="620640"/>
            <a:ext cx="38876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0000"/>
                </a:solidFill>
                <a:latin typeface="Times New Roman"/>
              </a:rPr>
              <a:t>100 лет</a:t>
            </a: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со дня рождения Константина Михайловича Симон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заголовок слай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wwwccvnuko_9679787_19655410"/>
          <p:cNvPicPr/>
          <p:nvPr/>
        </p:nvPicPr>
        <p:blipFill>
          <a:blip r:embed="rId1"/>
          <a:stretch/>
        </p:blipFill>
        <p:spPr>
          <a:xfrm>
            <a:off x="395280" y="404640"/>
            <a:ext cx="468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00000"/>
                </a:solidFill>
                <a:latin typeface="Times New Roman"/>
              </a:rPr>
              <a:t>«Родина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C:\Users\user\Desktop\24395514_1941_68a.jpg"/>
          <p:cNvPicPr/>
          <p:nvPr/>
        </p:nvPicPr>
        <p:blipFill>
          <a:blip r:embed="rId1"/>
          <a:stretch/>
        </p:blipFill>
        <p:spPr>
          <a:xfrm>
            <a:off x="539640" y="1125360"/>
            <a:ext cx="3527640" cy="2980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user\Desktop\marija_jaremchuk_ballada_o_materi.jpg"/>
          <p:cNvPicPr/>
          <p:nvPr/>
        </p:nvPicPr>
        <p:blipFill>
          <a:blip r:embed="rId2"/>
          <a:stretch/>
        </p:blipFill>
        <p:spPr>
          <a:xfrm>
            <a:off x="2987640" y="4221000"/>
            <a:ext cx="2952720" cy="223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user\Desktop\132877307915.jpg"/>
          <p:cNvPicPr/>
          <p:nvPr/>
        </p:nvPicPr>
        <p:blipFill>
          <a:blip r:embed="rId3"/>
          <a:stretch/>
        </p:blipFill>
        <p:spPr>
          <a:xfrm>
            <a:off x="5003640" y="1197000"/>
            <a:ext cx="3240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Times New Roman"/>
              </a:rPr>
              <a:t>«Через двадцать лет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Содержимое 3" descr="bec802b88c17064e4db494b54b6affea.jpg"/>
          <p:cNvPicPr/>
          <p:nvPr/>
        </p:nvPicPr>
        <p:blipFill>
          <a:blip r:embed="rId1"/>
          <a:stretch/>
        </p:blipFill>
        <p:spPr>
          <a:xfrm>
            <a:off x="468360" y="1052640"/>
            <a:ext cx="2808360" cy="3873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ser\Desktop\Великая-Отечественная-Война-34.jpg"/>
          <p:cNvPicPr/>
          <p:nvPr/>
        </p:nvPicPr>
        <p:blipFill>
          <a:blip r:embed="rId2"/>
          <a:stretch/>
        </p:blipFill>
        <p:spPr>
          <a:xfrm>
            <a:off x="4067280" y="1700280"/>
            <a:ext cx="4249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Буйничское поле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емориальный комплекс, расположенный юго-восточнее Могилёва (город на востоке Белоруссии), вблизи деревни Буйничи. Возле Буйничей в 1941 году во время обороны Могилёва проходили ожесточённые бои 172-й стрелковой дивиз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98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Константин Симонов. Остаюсь военным писателем..mp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137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Великая Отечественная Война. 1941 - 1945. Документальная хроника..mp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79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900000" y="4365720"/>
            <a:ext cx="2160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Юный Константин Сим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istorii-tjazhelaja-voda-konstantin-simonov-1979_1"/>
          <p:cNvPicPr/>
          <p:nvPr/>
        </p:nvPicPr>
        <p:blipFill>
          <a:blip r:embed="rId1"/>
          <a:stretch/>
        </p:blipFill>
        <p:spPr>
          <a:xfrm>
            <a:off x="684360" y="692280"/>
            <a:ext cx="266364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3708360" y="1197000"/>
            <a:ext cx="4537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276720" y="476280"/>
            <a:ext cx="5688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онстантин (Кирилл) Михайлович Симонов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родился 15(28) ноября 1915 года в Петрограде. </a:t>
            </a:r>
            <a:br>
              <a:rPr sz="2800"/>
            </a:b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Мать – Александра Леонидовна Иванишева. </a:t>
            </a:r>
            <a:br>
              <a:rPr sz="2800"/>
            </a:b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Отец пропал без вести на фронте в Первую мировую войн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142x130,fs-RUMKIN,19,Rum-19_033"/>
          <p:cNvPicPr/>
          <p:nvPr/>
        </p:nvPicPr>
        <p:blipFill>
          <a:blip r:embed="rId2"/>
          <a:stretch/>
        </p:blipFill>
        <p:spPr>
          <a:xfrm>
            <a:off x="6659640" y="4005360"/>
            <a:ext cx="2017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652640"/>
            <a:ext cx="79930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20000"/>
                </a:solidFill>
                <a:latin typeface="Times New Roman"/>
              </a:rPr>
              <a:t>«Атмосфера нашего дома и атмосфера военной жизни породили во мне привязанность к армии и вообще ко всему военному, привязанность, соединенную с уважением. Это детское, не вполне осознанное чувство, как потом оказалось, вошло в плоть и кровь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кс"/>
          <p:cNvPicPr/>
          <p:nvPr/>
        </p:nvPicPr>
        <p:blipFill>
          <a:blip r:embed="rId1"/>
          <a:stretch/>
        </p:blipFill>
        <p:spPr>
          <a:xfrm>
            <a:off x="2987640" y="404640"/>
            <a:ext cx="3062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1939 </a:t>
            </a:r>
            <a:r>
              <a:rPr b="1" lang="ru-RU" sz="2800" spc="-1" strike="noStrike">
                <a:solidFill>
                  <a:srgbClr val="b00000"/>
                </a:solidFill>
                <a:latin typeface="Times New Roman"/>
              </a:rPr>
              <a:t>г. – боевые действия у реки Халкин-Гол. Прибывал в качестве сотрудника газеты «Героическая красноармейска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600x600,fs-RUMKIN,02,Rum-Per-02"/>
          <p:cNvPicPr/>
          <p:nvPr/>
        </p:nvPicPr>
        <p:blipFill>
          <a:blip r:embed="rId1"/>
          <a:stretch/>
        </p:blipFill>
        <p:spPr>
          <a:xfrm>
            <a:off x="611280" y="2776680"/>
            <a:ext cx="3744720" cy="3666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"/>
          <p:cNvPicPr/>
          <p:nvPr/>
        </p:nvPicPr>
        <p:blipFill>
          <a:blip r:embed="rId2"/>
          <a:stretch/>
        </p:blipFill>
        <p:spPr>
          <a:xfrm>
            <a:off x="4572000" y="1989000"/>
            <a:ext cx="417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066920" y="404640"/>
            <a:ext cx="439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b00000"/>
                </a:solidFill>
                <a:latin typeface="Times New Roman"/>
              </a:rPr>
              <a:t>«Хорошо это или плохо, но, очевидно, я до сих пор был и продолжаю оставаться военным писателем, и мой долг заранее  предупредить читателя, что, открывая любой из шести томов, он будет снова и снова встречаться с войной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43545c523ee47744041b25face6715cd"/>
          <p:cNvPicPr/>
          <p:nvPr/>
        </p:nvPicPr>
        <p:blipFill>
          <a:blip r:embed="rId1"/>
          <a:stretch/>
        </p:blipFill>
        <p:spPr>
          <a:xfrm>
            <a:off x="468360" y="765000"/>
            <a:ext cx="3537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«Ты помнишь, Алёша,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дороги Смоленщин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Объект 5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60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Поэма «Пять страниц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:\Users\user\Desktop\0_6e688_58fa49de_orig.jpg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user\Desktop\18882020.jpg"/>
          <p:cNvPicPr/>
          <p:nvPr/>
        </p:nvPicPr>
        <p:blipFill>
          <a:blip r:embed="rId2"/>
          <a:stretch/>
        </p:blipFill>
        <p:spPr>
          <a:xfrm>
            <a:off x="4716360" y="1341360"/>
            <a:ext cx="367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«Жди меня…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611280" y="1442880"/>
            <a:ext cx="763272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«Жди меня, и я вернусь…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457200" y="1846440"/>
            <a:ext cx="2952720" cy="4033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3452760" cy="2592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3"/>
          <a:stretch/>
        </p:blipFill>
        <p:spPr>
          <a:xfrm>
            <a:off x="4716360" y="3789360"/>
            <a:ext cx="3600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1:24:37Z</dcterms:created>
  <dc:creator>Елена</dc:creator>
  <dc:description/>
  <dc:language>en-US</dc:language>
  <cp:lastModifiedBy>user</cp:lastModifiedBy>
  <dcterms:modified xsi:type="dcterms:W3CDTF">2018-11-30T18:52:01Z</dcterms:modified>
  <cp:revision>34</cp:revision>
  <dc:subject/>
  <dc:title>Слайд 1</dc:title>
</cp:coreProperties>
</file>