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D241-5D86-4D93-9A1A-496A655A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732D-9836-4AD1-9CD2-188B4AF1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5899-D00C-475A-9B24-B969A0E8F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E0EB-8DA3-4716-864A-C00E49E31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C197-3870-4B42-AB8D-4DE5AC31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56FB-1454-48E6-A89B-977794C4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6FA2-7583-471D-A060-DBE19DAE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FBAA-A10D-4186-B51C-2A95CFA5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4B9F-F3A8-4E7E-8A2F-88DFA741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3240-320D-499B-BBEB-275BA20A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94AB-CFB3-48F7-AAC1-064AD3F7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BDB4-8841-4048-9FAE-86353D86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194B-6008-496F-85D8-5274E3BCFD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32000" y="620640"/>
            <a:ext cx="388764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20000"/>
                </a:solidFill>
                <a:latin typeface="Times New Roman"/>
              </a:rPr>
              <a:t>100 лет</a:t>
            </a:r>
            <a:r>
              <a:rPr b="1" lang="ru-RU" sz="4400" spc="-1" strike="noStrike">
                <a:solidFill>
                  <a:srgbClr val="82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820000"/>
                </a:solidFill>
                <a:latin typeface="Times New Roman"/>
              </a:rPr>
              <a:t>со дня рождения Константина Михайловича Симоно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заголовок слай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wwwccvnuko_9679787_19655410"/>
          <p:cNvPicPr/>
          <p:nvPr/>
        </p:nvPicPr>
        <p:blipFill>
          <a:blip r:embed="rId1"/>
          <a:stretch/>
        </p:blipFill>
        <p:spPr>
          <a:xfrm>
            <a:off x="395280" y="404640"/>
            <a:ext cx="4681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00000"/>
                </a:solidFill>
                <a:latin typeface="Times New Roman"/>
              </a:rPr>
              <a:t>«Родина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C:\Users\user\Desktop\24395514_1941_68a.jpg"/>
          <p:cNvPicPr/>
          <p:nvPr/>
        </p:nvPicPr>
        <p:blipFill>
          <a:blip r:embed="rId1"/>
          <a:stretch/>
        </p:blipFill>
        <p:spPr>
          <a:xfrm>
            <a:off x="539640" y="1125360"/>
            <a:ext cx="3527640" cy="2980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Users\user\Desktop\marija_jaremchuk_ballada_o_materi.jpg"/>
          <p:cNvPicPr/>
          <p:nvPr/>
        </p:nvPicPr>
        <p:blipFill>
          <a:blip r:embed="rId2"/>
          <a:stretch/>
        </p:blipFill>
        <p:spPr>
          <a:xfrm>
            <a:off x="2987640" y="4221000"/>
            <a:ext cx="2952720" cy="2232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Users\user\Desktop\132877307915.jpg"/>
          <p:cNvPicPr/>
          <p:nvPr/>
        </p:nvPicPr>
        <p:blipFill>
          <a:blip r:embed="rId3"/>
          <a:stretch/>
        </p:blipFill>
        <p:spPr>
          <a:xfrm>
            <a:off x="5003640" y="1197000"/>
            <a:ext cx="3240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00000"/>
                </a:solidFill>
                <a:latin typeface="Times New Roman"/>
              </a:rPr>
              <a:t>«Через двадцать лет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Содержимое 3" descr="bec802b88c17064e4db494b54b6affea.jpg"/>
          <p:cNvPicPr/>
          <p:nvPr/>
        </p:nvPicPr>
        <p:blipFill>
          <a:blip r:embed="rId1"/>
          <a:stretch/>
        </p:blipFill>
        <p:spPr>
          <a:xfrm>
            <a:off x="468360" y="1052640"/>
            <a:ext cx="2808360" cy="3873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user\Desktop\Великая-Отечественная-Война-34.jpg"/>
          <p:cNvPicPr/>
          <p:nvPr/>
        </p:nvPicPr>
        <p:blipFill>
          <a:blip r:embed="rId2"/>
          <a:stretch/>
        </p:blipFill>
        <p:spPr>
          <a:xfrm>
            <a:off x="4067280" y="1700280"/>
            <a:ext cx="4249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Times New Roman"/>
              </a:rPr>
              <a:t>Буйничское поле 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–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мемориальный комплекс, расположенный юго-восточнее Могилёва (город на востоке Белоруссии), вблизи деревни Буйничи. Возле Буйничей в 1941 году во время обороны Могилёва проходили ожесточённые бои 172-й стрелковой дивиз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Объект 3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6985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Константин Симонов. Остаюсь военным писателем..mp4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81374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3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Великая Отечественная Война. 1941 - 1945. Документальная хроника..mp4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11280" y="1773000"/>
            <a:ext cx="7920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к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900000" y="4365720"/>
            <a:ext cx="21607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Юный Константин Симон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5" descr="istorii-tjazhelaja-voda-konstantin-simonov-1979_1"/>
          <p:cNvPicPr/>
          <p:nvPr/>
        </p:nvPicPr>
        <p:blipFill>
          <a:blip r:embed="rId1"/>
          <a:stretch/>
        </p:blipFill>
        <p:spPr>
          <a:xfrm>
            <a:off x="684360" y="692280"/>
            <a:ext cx="2663640" cy="3456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3708360" y="1197000"/>
            <a:ext cx="4537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3276720" y="476280"/>
            <a:ext cx="5688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Константин (Кирилл) Михайлович Симонов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 родился 15(28) ноября 1915 года в Петрограде. </a:t>
            </a:r>
            <a:br>
              <a:rPr sz="2800"/>
            </a:b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Мать – Александра Леонидовна Иванишева. </a:t>
            </a:r>
            <a:br>
              <a:rPr sz="2800"/>
            </a:b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Отец пропал без вести на фронте в Первую мировую войну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8" descr="142x130,fs-RUMKIN,19,Rum-19_033"/>
          <p:cNvPicPr/>
          <p:nvPr/>
        </p:nvPicPr>
        <p:blipFill>
          <a:blip r:embed="rId2"/>
          <a:stretch/>
        </p:blipFill>
        <p:spPr>
          <a:xfrm>
            <a:off x="6659640" y="4005360"/>
            <a:ext cx="20178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4652640"/>
            <a:ext cx="799308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20000"/>
                </a:solidFill>
                <a:latin typeface="Times New Roman"/>
              </a:rPr>
              <a:t>«Атмосфера нашего дома и атмосфера военной жизни породили во мне привязанность к армии и вообще ко всему военному, привязанность, соединенную с уважением. Это детское, не вполне осознанное чувство, как потом оказалось, вошло в плоть и кровь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кс"/>
          <p:cNvPicPr/>
          <p:nvPr/>
        </p:nvPicPr>
        <p:blipFill>
          <a:blip r:embed="rId1"/>
          <a:stretch/>
        </p:blipFill>
        <p:spPr>
          <a:xfrm>
            <a:off x="2987640" y="404640"/>
            <a:ext cx="30621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00000"/>
                </a:solidFill>
                <a:latin typeface="Times New Roman"/>
              </a:rPr>
              <a:t>1939 </a:t>
            </a:r>
            <a:r>
              <a:rPr b="1" lang="ru-RU" sz="2800" spc="-1" strike="noStrike">
                <a:solidFill>
                  <a:srgbClr val="b00000"/>
                </a:solidFill>
                <a:latin typeface="Times New Roman"/>
              </a:rPr>
              <a:t>г. – боевые действия у реки Халкин-Гол. Прибывал в качестве сотрудника газеты «Героическая красноармейская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600x600,fs-RUMKIN,02,Rum-Per-02"/>
          <p:cNvPicPr/>
          <p:nvPr/>
        </p:nvPicPr>
        <p:blipFill>
          <a:blip r:embed="rId1"/>
          <a:stretch/>
        </p:blipFill>
        <p:spPr>
          <a:xfrm>
            <a:off x="611280" y="2776680"/>
            <a:ext cx="3744720" cy="3666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i"/>
          <p:cNvPicPr/>
          <p:nvPr/>
        </p:nvPicPr>
        <p:blipFill>
          <a:blip r:embed="rId2"/>
          <a:stretch/>
        </p:blipFill>
        <p:spPr>
          <a:xfrm>
            <a:off x="4572000" y="1989000"/>
            <a:ext cx="41767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066920" y="404640"/>
            <a:ext cx="4392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b00000"/>
                </a:solidFill>
                <a:latin typeface="Times New Roman"/>
              </a:rPr>
              <a:t>	</a:t>
            </a:r>
            <a:r>
              <a:rPr b="1" i="1" lang="ru-RU" sz="3000" spc="-1" strike="noStrike">
                <a:solidFill>
                  <a:srgbClr val="b00000"/>
                </a:solidFill>
                <a:latin typeface="Times New Roman"/>
              </a:rPr>
              <a:t>«Хорошо это или плохо, но, очевидно, я до сих пор был и продолжаю оставаться военным писателем, и мой долг заранее  предупредить читателя, что, открывая любой из шести томов, он будет снова и снова встречаться с войной»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43545c523ee47744041b25face6715cd"/>
          <p:cNvPicPr/>
          <p:nvPr/>
        </p:nvPicPr>
        <p:blipFill>
          <a:blip r:embed="rId1"/>
          <a:stretch/>
        </p:blipFill>
        <p:spPr>
          <a:xfrm>
            <a:off x="468360" y="765000"/>
            <a:ext cx="35370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«Ты помнишь, Алёша, </a:t>
            </a:r>
            <a:br>
              <a:rPr sz="3600"/>
            </a:b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дороги Смоленщины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Объект 5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4608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Поэма «Пять страниц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C:\Users\user\Desktop\0_6e688_58fa49de_orig.jpg"/>
          <p:cNvPicPr/>
          <p:nvPr/>
        </p:nvPicPr>
        <p:blipFill>
          <a:blip r:embed="rId1"/>
          <a:stretch/>
        </p:blipFill>
        <p:spPr>
          <a:xfrm>
            <a:off x="539640" y="1341360"/>
            <a:ext cx="3600720" cy="4824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C:\Users\user\Desktop\18882020.jpg"/>
          <p:cNvPicPr/>
          <p:nvPr/>
        </p:nvPicPr>
        <p:blipFill>
          <a:blip r:embed="rId2"/>
          <a:stretch/>
        </p:blipFill>
        <p:spPr>
          <a:xfrm>
            <a:off x="4716360" y="1341360"/>
            <a:ext cx="3672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«Жди меня…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611280" y="1442880"/>
            <a:ext cx="763272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«Жди меня, и я вернусь…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Рисунок 2" descr=""/>
          <p:cNvPicPr/>
          <p:nvPr/>
        </p:nvPicPr>
        <p:blipFill>
          <a:blip r:embed="rId1"/>
          <a:stretch/>
        </p:blipFill>
        <p:spPr>
          <a:xfrm>
            <a:off x="457200" y="1846440"/>
            <a:ext cx="2952720" cy="40338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5" descr=""/>
          <p:cNvPicPr/>
          <p:nvPr/>
        </p:nvPicPr>
        <p:blipFill>
          <a:blip r:embed="rId2"/>
          <a:stretch/>
        </p:blipFill>
        <p:spPr>
          <a:xfrm>
            <a:off x="3924360" y="1125360"/>
            <a:ext cx="3452760" cy="25927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6" descr=""/>
          <p:cNvPicPr/>
          <p:nvPr/>
        </p:nvPicPr>
        <p:blipFill>
          <a:blip r:embed="rId3"/>
          <a:stretch/>
        </p:blipFill>
        <p:spPr>
          <a:xfrm>
            <a:off x="4716360" y="3789360"/>
            <a:ext cx="36007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01:24:37Z</dcterms:created>
  <dc:creator>Елена</dc:creator>
  <dc:description/>
  <dc:language>en-US</dc:language>
  <cp:lastModifiedBy>user</cp:lastModifiedBy>
  <dcterms:modified xsi:type="dcterms:W3CDTF">2018-11-30T18:52:01Z</dcterms:modified>
  <cp:revision>34</cp:revision>
  <dc:subject/>
  <dc:title>Слайд 1</dc:title>
</cp:coreProperties>
</file>