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048-4E4A-4B28-9475-C33D44EC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A3A-7606-4FFC-B383-0F37EE77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4FB-358F-47FC-9309-0F6E45E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5D6-6BAA-487B-884B-63E3E898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B7D-E8AE-4478-852A-73F1FB86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4F3-B4FA-47FC-A6BA-FDF4C11F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7E4-3D6B-44E2-942D-E165CEC6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39D-85F9-452D-AD8A-5333D23C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3EB3-AE5A-49BA-ACF2-40EA3C9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45D-DB5A-4559-AAC8-BA06A99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C84-B267-4BDF-A980-21DACDD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82B-E134-43C4-9479-63014361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E89-C2AD-42B0-8845-8CC4C88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7E7-2A0C-48FC-96A9-8BD9CE8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6AD1-A2B1-4575-8A52-FCCB0339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1D41-73AE-4CF7-BB30-4F74D4B0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D457-22E6-4C5D-B0D6-1B98BFAE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559-7678-44FA-8421-BE399194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7E0-480D-4DFC-A355-FA534C0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9F2-B657-454A-8F26-96EA7F4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E1D-756C-4175-A798-59B12DD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C87-9506-4ED0-97B9-085CAD0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773-D626-468A-835A-8674B7F4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4F9-B406-41EC-8B2A-3A88AFF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FD9-BF16-484C-A449-E0CDE7C44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748-456B-41F5-AD9B-A22EDC0FA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 Black"/>
              </a:rPr>
              <a:t>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5714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АУ СОШ с.Озё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Дедух Татья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йся: Ворожбицкий П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Admin\Мои документы\Мои рисунки\картинки про химию\анимашки по химии\анмашка по химии.gif"/>
          <p:cNvPicPr/>
          <p:nvPr/>
        </p:nvPicPr>
        <p:blipFill>
          <a:blip r:embed="rId1"/>
          <a:stretch/>
        </p:blipFill>
        <p:spPr>
          <a:xfrm>
            <a:off x="304920" y="15238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Задумайтесь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9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синтетического каучука — одно из великих достижений ХХ века. Однако, как и многие другие, оно принесло не только пользу. Ежегодно в мире выбрасывается до 100 млн использованных автопокрышек. В естественных условиях они разлагаются не менее ста лет, а при сжигании выделяют чрезвычай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е г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4076640" y="2004840"/>
            <a:ext cx="369576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Синтетический 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695760" cy="4724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76640" y="1143000"/>
            <a:ext cx="369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В. Лебед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аданию партии химик Сергей Лебедев придумал, как синтезировать каучук из спирта. Но до массового производства искусственной резины не дожил — он умер от т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учук – органическое вещество, то есть, соединение, где содержится углерод и водород. Каучук – это высокомолекулярное вещество, полимер. Выделяют природный и синтетический каучуки. В основе этих веществ находятся диеновые углевод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1732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 Black"/>
              </a:rPr>
              <a:t>Свойств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емпературе жидкого воздуха –195°C он жёсткий и прозрачный; от 0 ° до 10 °C — хрупкий и уже непрозрачный, а при 20 °C — мягкий, упругий и полупрозрачный. При нагреве свыше 50 °C он становится пластичным и липким; при температуре 80 °C натуральный каучук теряет эласт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120 °C — превращается в смолоподобную жидкость, после застывания которой уже невозможно получить первоначальный продукт. Если поднять температуру до 200—250 °C, то каучук разлагается с образованием ряда газообразных и жидки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70 году британский химик Джозеф Пристли (Joseph Priestley) впервые нашёл  применение натуральному каучуку: он обнаружил, что каучук может стирать то, что написано графитовым карандашом. Тогда такие куски каучука называли гуммиэластиком («смолой эластичной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Синтетический каучу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первых советских заводов по производству синтетического каучука. Долгие годы он был секретным и проходил в документах как "Завод литеры Б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3795840" y="990720"/>
            <a:ext cx="3938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Виды синтетических каучуко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696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1248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римен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70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стики из натурального кауч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19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4033800" cy="241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317988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6248520" y="50292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486400" y="304920"/>
            <a:ext cx="2286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покры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рименение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42900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абры и щё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3689640" cy="3781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5410080" y="4343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ер на натуральном каучу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2895480" y="3962520"/>
            <a:ext cx="219420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993240" y="54100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с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2971800" y="1066680"/>
            <a:ext cx="25146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4-04-24T12:58:5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