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7.jpeg" ContentType="image/jpeg"/>
  <Override PartName="/ppt/media/image1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0.jpeg" ContentType="image/jpeg"/>
  <Override PartName="/ppt/media/image2.gif" ContentType="image/gif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6159-2646-48FE-9ED1-7B8FDCE6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BCF3-9484-4A35-AA16-147CA8B5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7967-15C3-4968-9005-07B6B7015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8F91-C627-47C6-8963-53DBF6BB5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FD8F-99DB-4AA6-96BA-6FC1A5EC0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09CA-E2D1-4109-A282-90289B6C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7282-99CB-4465-B845-98A376F7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22E5-2DE3-46CC-B5DC-FD08F5FD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AE3A-D9AE-4631-9AB3-019BD23D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062F-4C4E-4A5B-A605-648357F4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D19D-C1F7-4000-BFDD-4A4C7B2C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6A09-8015-42C9-B806-3C6A9649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B536-09CC-4738-8DB7-8C33ADE2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CA20-4669-4C44-81FA-4D17D156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E084-4272-4372-BDA0-FCC81876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D5A8-FD9F-45DC-B046-03B93C877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4F33-35F0-4D55-A9CF-B93412F4F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7E9B-D46F-4F88-848C-EDB39836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AF16-FD26-4D2E-AAAE-0A943334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F15A-7AE3-4360-B456-9D38A729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B895-9EDE-46AD-9D65-48BE1EE9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63FA-0672-4742-B52A-9B5C01EF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81DC-67FD-4325-BC8B-D8852AF7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49C3-2217-4657-AF51-81D3A068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abitbetter\bamboo.gif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67A4-341C-4EB5-893C-3595485BDD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abitbetter\bamboo.gif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B383-4DAA-433F-B70F-4C6AFA9AAD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62481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Arial Black"/>
              </a:rPr>
              <a:t>КАУЧУК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438280" y="571464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АУ СОШ с.Озёр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: Дедух Татьяна Михай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ающийся: Ворожбицкий П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C:\Documents and Settings\Admin\Мои документы\Мои рисунки\картинки про химию\анимашки по химии\анмашка по химии.gif"/>
          <p:cNvPicPr/>
          <p:nvPr/>
        </p:nvPicPr>
        <p:blipFill>
          <a:blip r:embed="rId1"/>
          <a:stretch/>
        </p:blipFill>
        <p:spPr>
          <a:xfrm>
            <a:off x="304920" y="1523880"/>
            <a:ext cx="63244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31248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 Black"/>
              </a:rPr>
              <a:t>Задумайтесь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3695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ение синтетического каучука — одно из великих достижений ХХ века. Однако, как и многие другие, оно принесло не только пользу. Ежегодно в мире выбрасывается до 100 млн использованных автопокрышек. В естественных условиях они разлагаются не менее ста лет, а при сжигании выделяют чрезвычай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редные га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4076640" y="2004840"/>
            <a:ext cx="369576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 Black"/>
              </a:rPr>
              <a:t>Синтетический каучук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88" name="Picture 10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3695760" cy="47242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76640" y="1143000"/>
            <a:ext cx="3695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 В. Лебед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заданию партии химик Сергей Лебедев придумал, как синтезировать каучук из спирта. Но до массового производства искусственной резины не дожил — он умер от ти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 Black"/>
              </a:rPr>
              <a:t>каучук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240" y="14475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учук – органическое вещество, то есть, соединение, где содержится углерод и водород. Каучук – это высокомолекулярное вещество, полимер. Выделяют природный и синтетический каучуки. В основе этих веществ находятся диеновые углеводо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517320"/>
            <a:ext cx="746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00"/>
                </a:solidFill>
                <a:latin typeface="Arial Black"/>
              </a:rPr>
              <a:t>Свойства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температуре жидкого воздуха –195°C он жёсткий и прозрачный; от 0 ° до 10 °C — хрупкий и уже непрозрачный, а при 20 °C — мягкий, упругий и полупрозрачный. При нагреве свыше 50 °C он становится пластичным и липким; при температуре 80 °C натуральный каучук теряет эластич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120 °C — превращается в смолоподобную жидкость, после застывания которой уже невозможно получить первоначальный продукт. Если поднять температуру до 200—250 °C, то каучук разлагается с образованием ряда газообразных и жидких проду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51920" y="456840"/>
            <a:ext cx="3886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770 году британский химик Джозеф Пристли (Joseph Priestley) впервые нашёл  применение натуральному каучуку: он обнаружил, что каучук может стирать то, что написано графитовым карандашом. Тогда такие куски каучука называли гуммиэластиком («смолой эластичной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1"/>
          <a:stretch/>
        </p:blipFill>
        <p:spPr>
          <a:xfrm>
            <a:off x="4114800" y="1295280"/>
            <a:ext cx="3695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31248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 Black"/>
              </a:rPr>
              <a:t>Синтетический каучук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ин из первых советских заводов по производству синтетического каучука. Долгие годы он был секретным и проходил в документах как "Завод литеры Б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1"/>
          <a:stretch/>
        </p:blipFill>
        <p:spPr>
          <a:xfrm>
            <a:off x="3795840" y="990720"/>
            <a:ext cx="39384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 Black"/>
              </a:rPr>
              <a:t>Виды синтетических каучуков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76960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312480"/>
            <a:ext cx="4876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 Black"/>
              </a:rPr>
              <a:t>Применение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370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стики из натурального кауч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228600" y="3581280"/>
            <a:ext cx="3505320" cy="1906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4038480" y="990720"/>
            <a:ext cx="4033800" cy="2414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3"/>
          <a:stretch/>
        </p:blipFill>
        <p:spPr>
          <a:xfrm>
            <a:off x="3886200" y="3505320"/>
            <a:ext cx="3179880" cy="31795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0"/>
          <p:cNvSpPr/>
          <p:nvPr/>
        </p:nvSpPr>
        <p:spPr>
          <a:xfrm>
            <a:off x="6248520" y="5029200"/>
            <a:ext cx="14475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в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5486400" y="304920"/>
            <a:ext cx="2286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покрыш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 Black"/>
              </a:rPr>
              <a:t>Применение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3429000" cy="21495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3581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вабры и щёт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2"/>
          <a:stretch/>
        </p:blipFill>
        <p:spPr>
          <a:xfrm>
            <a:off x="5181480" y="685800"/>
            <a:ext cx="3689640" cy="37814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8"/>
          <p:cNvSpPr/>
          <p:nvPr/>
        </p:nvSpPr>
        <p:spPr>
          <a:xfrm>
            <a:off x="5410080" y="43434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вер на натуральном каучук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3"/>
          <a:stretch/>
        </p:blipFill>
        <p:spPr>
          <a:xfrm>
            <a:off x="2895480" y="3962520"/>
            <a:ext cx="2194200" cy="28954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0"/>
          <p:cNvSpPr/>
          <p:nvPr/>
        </p:nvSpPr>
        <p:spPr>
          <a:xfrm>
            <a:off x="993240" y="541008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асл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11" descr=""/>
          <p:cNvPicPr/>
          <p:nvPr/>
        </p:nvPicPr>
        <p:blipFill>
          <a:blip r:embed="rId4"/>
          <a:stretch/>
        </p:blipFill>
        <p:spPr>
          <a:xfrm>
            <a:off x="2971800" y="1066680"/>
            <a:ext cx="251460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Pack by SPecialiST</cp:lastModifiedBy>
  <dcterms:modified xsi:type="dcterms:W3CDTF">2014-04-24T12:58:59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