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D36-EFDE-480E-B43D-0988A262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C755-99AC-4550-A136-82C1EDD9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79E4-158D-4483-8EA7-32EA071D7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8CD9-CB74-44D8-BA0E-450A4689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BB83-2FB9-491C-9341-301C169E2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B4CC-D2DA-4E47-9287-4928A149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BB5DE-F2DC-4DF5-B7F7-2D18C531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1ECE-515F-4FAC-B083-25D1E8D4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A4A3E-DE7F-41CB-B063-7626A5A5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1752-BD36-4A0B-B707-FF1B345BE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A81A-6B99-42F5-BE1D-0C498E66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3134-1B42-4D25-8272-E5C1A98C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D651C-5DBC-4013-BBD7-DF647E96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FD6D8-43DE-49F1-962F-BBCBC806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7A02C-EEFD-4C0F-8945-1050D67A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7ED4-969F-47BF-B294-953EE713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7167-63A2-49C0-8B8D-FCE5C09E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F6D-98DE-4DD7-BD71-329BE4D9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DA5E-06B4-4590-B381-F9DC8FCD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7336-F1E7-4747-8796-05477ACB1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ABA-D80B-4819-96CA-7ACC78D4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85B9-B672-4382-8356-15F9CCC4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16A-6DA9-4C94-84C7-035D9D81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E41E-3F0E-4890-9342-2A40B948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9320" cy="6849720"/>
            <a:chOff x="0" y="0"/>
            <a:chExt cx="9139320" cy="6849720"/>
          </a:xfrm>
        </p:grpSpPr>
        <p:sp>
          <p:nvSpPr>
            <p:cNvPr id="1" name="Freeform 2"/>
            <p:cNvSpPr/>
            <p:nvPr/>
          </p:nvSpPr>
          <p:spPr>
            <a:xfrm>
              <a:off x="2875680" y="4461480"/>
              <a:ext cx="6263280" cy="23882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6388560" y="5756400"/>
              <a:ext cx="2750400" cy="10933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0"/>
              <a:ext cx="8853480" cy="54705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7844040" y="0"/>
              <a:ext cx="1294920" cy="437760"/>
            </a:xfrm>
            <a:prstGeom prst="pie">
              <a:avLst/>
            </a:prstGeom>
            <a:gradFill rotWithShape="0">
              <a:gsLst>
                <a:gs pos="0">
                  <a:srgbClr val="962d2d"/>
                </a:gs>
                <a:gs pos="50000">
                  <a:srgbClr val="800000"/>
                </a:gs>
                <a:gs pos="100000">
                  <a:srgbClr val="96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3148920"/>
              <a:ext cx="9139320" cy="33296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61640"/>
              <a:ext cx="3112200" cy="2007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0"/>
              <a:ext cx="7473960" cy="4604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0"/>
              <a:ext cx="5988600" cy="373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0"/>
              <a:ext cx="4655160" cy="2929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80720" y="4518360"/>
              <a:ext cx="2369160" cy="323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750600" y="4928040"/>
              <a:ext cx="1080" cy="144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750600" y="4928040"/>
              <a:ext cx="1080" cy="144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4"/>
            <p:cNvGrpSpPr/>
            <p:nvPr/>
          </p:nvGrpSpPr>
          <p:grpSpPr>
            <a:xfrm>
              <a:off x="304560" y="3624840"/>
              <a:ext cx="1988640" cy="1463400"/>
              <a:chOff x="304560" y="3624840"/>
              <a:chExt cx="1988640" cy="1463400"/>
            </a:xfrm>
          </p:grpSpPr>
          <p:sp>
            <p:nvSpPr>
              <p:cNvPr id="14" name="Freeform 15"/>
              <p:cNvSpPr/>
              <p:nvPr/>
            </p:nvSpPr>
            <p:spPr>
              <a:xfrm>
                <a:off x="646920" y="4774320"/>
                <a:ext cx="74160" cy="900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446480" y="3624840"/>
                <a:ext cx="513360" cy="256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304560" y="3624840"/>
                <a:ext cx="1988640" cy="1463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1084680" y="4298400"/>
                <a:ext cx="74520" cy="1234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19"/>
              <p:cNvSpPr/>
              <p:nvPr/>
            </p:nvSpPr>
            <p:spPr>
              <a:xfrm>
                <a:off x="2036160" y="4081320"/>
                <a:ext cx="236160" cy="66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>
                <a:off x="1807920" y="3862440"/>
                <a:ext cx="264960" cy="2188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>
                <a:off x="1503000" y="3672000"/>
                <a:ext cx="179280" cy="180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>
                <a:off x="1779480" y="4090680"/>
                <a:ext cx="104400" cy="95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>
                <a:off x="1494000" y="4242960"/>
                <a:ext cx="255240" cy="283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>
                <a:off x="1168560" y="4384080"/>
                <a:ext cx="115560" cy="853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989640" y="4583880"/>
                <a:ext cx="18720" cy="853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780120" y="4793400"/>
                <a:ext cx="75600" cy="1137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693000" y="4802400"/>
                <a:ext cx="456480" cy="1332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312920" y="4764600"/>
                <a:ext cx="104400" cy="1713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580320" y="4935960"/>
                <a:ext cx="122040" cy="66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789480" y="5021640"/>
                <a:ext cx="104400" cy="47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1332000" y="4631400"/>
                <a:ext cx="28440" cy="95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865800" y="4793400"/>
                <a:ext cx="9000" cy="28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846720" y="4669560"/>
                <a:ext cx="47160" cy="1234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856080" y="4821480"/>
                <a:ext cx="37800" cy="378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5"/>
              <p:cNvSpPr/>
              <p:nvPr/>
            </p:nvSpPr>
            <p:spPr>
              <a:xfrm>
                <a:off x="1270080" y="4253760"/>
                <a:ext cx="340920" cy="3423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6"/>
              <p:cNvSpPr/>
              <p:nvPr/>
            </p:nvSpPr>
            <p:spPr>
              <a:xfrm>
                <a:off x="849960" y="4299840"/>
                <a:ext cx="335880" cy="2840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1644480" y="4140000"/>
                <a:ext cx="101160" cy="1249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1374840" y="3920760"/>
                <a:ext cx="217080" cy="3279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1295640" y="3978000"/>
                <a:ext cx="102600" cy="3517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C3FB46-7777-4C1C-8FFB-B8B425D4BD90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0"/>
            <a:ext cx="9139320" cy="6849720"/>
            <a:chOff x="0" y="0"/>
            <a:chExt cx="9139320" cy="6849720"/>
          </a:xfrm>
        </p:grpSpPr>
        <p:sp>
          <p:nvSpPr>
            <p:cNvPr id="81" name="Freeform 2"/>
            <p:cNvSpPr/>
            <p:nvPr/>
          </p:nvSpPr>
          <p:spPr>
            <a:xfrm>
              <a:off x="2875680" y="4461480"/>
              <a:ext cx="6263280" cy="23882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6388560" y="5756400"/>
              <a:ext cx="2750400" cy="10933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8853480" cy="54705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7844040" y="0"/>
              <a:ext cx="1294920" cy="437760"/>
            </a:xfrm>
            <a:prstGeom prst="pie">
              <a:avLst/>
            </a:prstGeom>
            <a:gradFill rotWithShape="0">
              <a:gsLst>
                <a:gs pos="0">
                  <a:srgbClr val="962d2d"/>
                </a:gs>
                <a:gs pos="50000">
                  <a:srgbClr val="800000"/>
                </a:gs>
                <a:gs pos="100000">
                  <a:srgbClr val="96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0" y="3148920"/>
              <a:ext cx="9139320" cy="33296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161640"/>
              <a:ext cx="3112200" cy="2007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0" y="0"/>
              <a:ext cx="7473960" cy="4604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0" y="0"/>
              <a:ext cx="5988600" cy="373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0"/>
              <a:ext cx="4655160" cy="2929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180720" y="4518360"/>
              <a:ext cx="2369160" cy="323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750600" y="4928040"/>
              <a:ext cx="1080" cy="144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3"/>
            <p:cNvSpPr/>
            <p:nvPr/>
          </p:nvSpPr>
          <p:spPr>
            <a:xfrm>
              <a:off x="750600" y="4928040"/>
              <a:ext cx="1080" cy="144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4"/>
            <p:cNvGrpSpPr/>
            <p:nvPr/>
          </p:nvGrpSpPr>
          <p:grpSpPr>
            <a:xfrm>
              <a:off x="304560" y="3624840"/>
              <a:ext cx="1988640" cy="1463400"/>
              <a:chOff x="304560" y="3624840"/>
              <a:chExt cx="1988640" cy="1463400"/>
            </a:xfrm>
          </p:grpSpPr>
          <p:sp>
            <p:nvSpPr>
              <p:cNvPr id="94" name="Freeform 15"/>
              <p:cNvSpPr/>
              <p:nvPr/>
            </p:nvSpPr>
            <p:spPr>
              <a:xfrm>
                <a:off x="646920" y="4774320"/>
                <a:ext cx="74160" cy="900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>
                <a:off x="1446480" y="3624840"/>
                <a:ext cx="513360" cy="256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7"/>
              <p:cNvSpPr/>
              <p:nvPr/>
            </p:nvSpPr>
            <p:spPr>
              <a:xfrm>
                <a:off x="304560" y="3624840"/>
                <a:ext cx="1988640" cy="1463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1084680" y="4298400"/>
                <a:ext cx="74520" cy="1234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>
                <a:off x="2036160" y="4081320"/>
                <a:ext cx="236160" cy="66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0"/>
              <p:cNvSpPr/>
              <p:nvPr/>
            </p:nvSpPr>
            <p:spPr>
              <a:xfrm>
                <a:off x="1807920" y="3862440"/>
                <a:ext cx="264960" cy="2188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>
                <a:off x="1503000" y="3672000"/>
                <a:ext cx="179280" cy="180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2"/>
              <p:cNvSpPr/>
              <p:nvPr/>
            </p:nvSpPr>
            <p:spPr>
              <a:xfrm>
                <a:off x="1779480" y="4090680"/>
                <a:ext cx="104400" cy="95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>
                <a:off x="1494000" y="4242960"/>
                <a:ext cx="255240" cy="283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4"/>
              <p:cNvSpPr/>
              <p:nvPr/>
            </p:nvSpPr>
            <p:spPr>
              <a:xfrm>
                <a:off x="1168560" y="4384080"/>
                <a:ext cx="115560" cy="853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>
                <a:off x="989640" y="4583880"/>
                <a:ext cx="18720" cy="853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780120" y="4793400"/>
                <a:ext cx="75600" cy="1137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>
                <a:off x="693000" y="4802400"/>
                <a:ext cx="456480" cy="1332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1312920" y="4764600"/>
                <a:ext cx="104400" cy="1713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>
                <a:off x="580320" y="4935960"/>
                <a:ext cx="122040" cy="66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0"/>
              <p:cNvSpPr/>
              <p:nvPr/>
            </p:nvSpPr>
            <p:spPr>
              <a:xfrm>
                <a:off x="789480" y="5021640"/>
                <a:ext cx="104400" cy="47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1"/>
              <p:cNvSpPr/>
              <p:nvPr/>
            </p:nvSpPr>
            <p:spPr>
              <a:xfrm>
                <a:off x="1332000" y="4631400"/>
                <a:ext cx="28440" cy="95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2"/>
              <p:cNvSpPr/>
              <p:nvPr/>
            </p:nvSpPr>
            <p:spPr>
              <a:xfrm>
                <a:off x="865800" y="4793400"/>
                <a:ext cx="9000" cy="28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3"/>
              <p:cNvSpPr/>
              <p:nvPr/>
            </p:nvSpPr>
            <p:spPr>
              <a:xfrm>
                <a:off x="846720" y="4669560"/>
                <a:ext cx="47160" cy="1234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>
                <a:off x="856080" y="4821480"/>
                <a:ext cx="37800" cy="378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5"/>
              <p:cNvSpPr/>
              <p:nvPr/>
            </p:nvSpPr>
            <p:spPr>
              <a:xfrm>
                <a:off x="1270080" y="4253760"/>
                <a:ext cx="340920" cy="3423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6"/>
              <p:cNvSpPr/>
              <p:nvPr/>
            </p:nvSpPr>
            <p:spPr>
              <a:xfrm>
                <a:off x="849960" y="4299840"/>
                <a:ext cx="335880" cy="2840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7"/>
              <p:cNvSpPr/>
              <p:nvPr/>
            </p:nvSpPr>
            <p:spPr>
              <a:xfrm>
                <a:off x="1644480" y="4140000"/>
                <a:ext cx="101160" cy="1249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8"/>
              <p:cNvSpPr/>
              <p:nvPr/>
            </p:nvSpPr>
            <p:spPr>
              <a:xfrm>
                <a:off x="1374840" y="3920760"/>
                <a:ext cx="217080" cy="3279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9"/>
              <p:cNvSpPr/>
              <p:nvPr/>
            </p:nvSpPr>
            <p:spPr>
              <a:xfrm>
                <a:off x="1295640" y="3978000"/>
                <a:ext cx="102600" cy="3517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213270-BE45-4C73-B474-1088FF72E448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556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ценарий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портивного мероприят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500200" y="5445000"/>
            <a:ext cx="63198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готовила и провела 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изической культуры МБОУ «СОШ №5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номарева М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3"/>
          <p:cNvSpPr txBox="1"/>
          <p:nvPr/>
        </p:nvSpPr>
        <p:spPr>
          <a:xfrm>
            <a:off x="1438200" y="2892600"/>
            <a:ext cx="6267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Весёлые старты"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КУРС №3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 Болото»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ерейти  «болото», не замочив ноги, используя по два круга - таблетки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47344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ОНКУРС №4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Разминка для ума»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За каждый правильный ответ даётся 1 балл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82296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каких вредных привычк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 слышал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 Обобщ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вы думаете почему люд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дут борьбу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вредными привычка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 Обобщ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бы вы поставил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тивове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губным привычкам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 Обобщ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ие простудные заболева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 знаете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 Обобщ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надо делать, чтобы не болеть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2000160"/>
            <a:ext cx="506412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633680"/>
            <a:ext cx="822960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КУРС №5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Плечо друга»</a:t>
            </a:r>
            <a:br>
              <a:rPr sz="24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ег по залу, положив руку на плечо впереди стоящему участнику.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о время бега по команде поменять руку, не отрываясь друг от друга.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275000" cy="3206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4859280" y="3500280"/>
            <a:ext cx="39877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024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Конкурс №6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«Юмористическая эстафета» </a:t>
            </a:r>
            <a:br>
              <a:rPr sz="20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- 1 ученик  раскладывает на полу 7 теннисных мячей.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- 2 ученик  одевает  большого размера майку, бежит  до стойки берёт веник, скачет  на нём верхом обратно, передаёт веник третьему участнику.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- 3 ученик с помощью веника собирает мячи в корзину.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Выигрывает команда быстрее выполнившая задание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670560" cy="2698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435640" y="2060640"/>
            <a:ext cx="3602160" cy="2701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2771640" y="4365720"/>
            <a:ext cx="360216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32040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КУРС №7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Мы с товарищем вдвоём»</a:t>
            </a:r>
            <a:br>
              <a:rPr sz="24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Один участник катит обруч, другой – в этот момент пробегает в нём.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322880" cy="324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494240" y="2997360"/>
            <a:ext cx="4649760" cy="35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КУРС №8</a:t>
            </a:r>
            <a:br>
              <a:rPr sz="24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«Комбинированная эстафета»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1 - Пролезть сквозь мешок.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 – Сделать кувырок.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3 – Проползти по гимнастической скамейки.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Обратно вернуться бегом, передать эстафету другу.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одведение итогов.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Награждение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52920" cy="3414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34808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ортивное мероприятие 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водилось в рамках акции: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«СПОРТ- как альтернатива</a:t>
            </a:r>
            <a:br>
              <a:rPr sz="4800"/>
            </a:b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пагубным привычкам»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1800" y="6572160"/>
            <a:ext cx="889308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568080"/>
            <a:ext cx="82296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Цель: воспитывать привычку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здорового образа жизни.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Укреплять физическое и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сихическое здоровье детей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597280" cy="40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Задачи:</a:t>
            </a:r>
            <a:br>
              <a:rPr sz="40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развивать двигательную активность детей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формировать привычки к выполнению физических упражнений,   укрепляющих  здоровье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воспитывать желание побеждать в себе 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свои отрицательные привычки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формировать культуру здоровья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воспитывать нравственную культуру общения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формировать ценности здоровья и  здорового образа жизни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воспитывать чувство ответственности каждого в коллективе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сплочение детского коллектива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прививать интерес к занятиям спортом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6472080"/>
            <a:ext cx="82296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3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Зал украшен  воздушными шарами с надписями: «Спорт»,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Победа», «Мир», «Здоровье», и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лакатами «Спорт – лучшее лекарство от хвори»,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Кто со спортом дружит, тот никогда не тужит»,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Если в семье нашей мир и лад, значит в ней есть спортивный уклад»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892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Дети заходят в спортза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о музыку и делятся на две команды.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ОМАНДА «Силачи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Девиз: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«Быть сильным, здоровым, умелым и сильным считаем нашим главным делом!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-25365" t="0" r="0" b="0"/>
          <a:stretch/>
        </p:blipFill>
        <p:spPr>
          <a:xfrm>
            <a:off x="539640" y="2637000"/>
            <a:ext cx="669456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ОМАНДА «Неунывающие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Девиз: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«Спорт мы любим, с ним мы дружим – доктор  будет нам не нужен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32944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248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КОНКУРС №1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«Эстафета для команд»</a:t>
            </a:r>
            <a:br>
              <a:rPr sz="20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ажав мяч между коленями, прыжками перемещаться до лежащего гимнастического обруча, положив мяч в него, взять скакалку, возвращаться назад прыгая на ней. Передать скакалку следующему участнику. Он выполняет тоже самое только наоборот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5245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КОНКУРС №2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«Гонка мячей»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Игроки передают мяч за спиной обеими руками рядом стоящему партнёру. Последний участник с мячом перебегает и становится первы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473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05:14Z</dcterms:created>
  <dc:creator>SamLab.ws</dc:creator>
  <dc:description/>
  <dc:language>en-US</dc:language>
  <cp:lastModifiedBy>Пользователь</cp:lastModifiedBy>
  <dcterms:modified xsi:type="dcterms:W3CDTF">2015-01-14T20:29:04Z</dcterms:modified>
  <cp:revision>12</cp:revision>
  <dc:subject/>
  <dc:title>Сценарий  спортивного мероприятия</dc:title>
</cp:coreProperties>
</file>