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F094-7A6A-49AE-BA60-D54BA665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78EC-0835-4795-A967-26F4A7B4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3CE6-DAEE-4F8A-9EF4-8DFBD98FA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FE31-F2AB-4E42-A0FD-095D88E67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E1355-01D8-42B8-A396-4FEBBEEE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62427-1C81-4874-94CF-F26737126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E5CB-0C6F-47E0-AADA-511CEE4C6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570DD-4A1D-48FE-88EC-1B0DD08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2E53-B19C-45AC-BBD7-B4566EDB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B310-B2F5-4014-82D3-B64FACCE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60B8-E0A7-4C89-BB93-F40060B56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91F0-C4B9-4AB1-A69F-B30B952B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902D-5244-4E6C-9DCD-14B166B9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97C2-1116-4385-A4F4-D3A46CBAA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C9470-4F4C-4A74-996C-B2E9A4B59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C130C-6544-49ED-9C15-2576D6113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6390-DF6F-4461-AB2A-758326E4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9719-C7DA-4836-BC21-8AE6627B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17C2-66FB-4693-8320-21D57690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FD6D-ACBF-4B48-98D7-65A88C95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-1764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F231-0B00-4388-8AA9-932213EF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1AE3-F417-46B7-BA36-9EF13CFE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E273-C56B-4289-B489-443965C8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20DD-E54E-4E7B-BB24-5029D693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0"/>
            <a:ext cx="9139320" cy="6849720"/>
            <a:chOff x="0" y="0"/>
            <a:chExt cx="9139320" cy="6849720"/>
          </a:xfrm>
        </p:grpSpPr>
        <p:sp>
          <p:nvSpPr>
            <p:cNvPr id="1" name="Freeform 2"/>
            <p:cNvSpPr/>
            <p:nvPr/>
          </p:nvSpPr>
          <p:spPr>
            <a:xfrm>
              <a:off x="2875680" y="4461480"/>
              <a:ext cx="6263280" cy="23882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6388560" y="5756400"/>
              <a:ext cx="2750400" cy="10933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0"/>
              <a:ext cx="8853480" cy="54705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7844040" y="0"/>
              <a:ext cx="1294920" cy="437760"/>
            </a:xfrm>
            <a:prstGeom prst="pie">
              <a:avLst/>
            </a:pr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6"/>
            <p:cNvSpPr/>
            <p:nvPr/>
          </p:nvSpPr>
          <p:spPr>
            <a:xfrm>
              <a:off x="0" y="3148920"/>
              <a:ext cx="9139320" cy="33296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7"/>
            <p:cNvSpPr/>
            <p:nvPr/>
          </p:nvSpPr>
          <p:spPr>
            <a:xfrm>
              <a:off x="0" y="161640"/>
              <a:ext cx="3112200" cy="2007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0" y="0"/>
              <a:ext cx="7473960" cy="4604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0" y="0"/>
              <a:ext cx="5988600" cy="373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0"/>
            <p:cNvSpPr/>
            <p:nvPr/>
          </p:nvSpPr>
          <p:spPr>
            <a:xfrm>
              <a:off x="0" y="0"/>
              <a:ext cx="4655160" cy="2929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1"/>
            <p:cNvSpPr/>
            <p:nvPr/>
          </p:nvSpPr>
          <p:spPr>
            <a:xfrm>
              <a:off x="180720" y="4518360"/>
              <a:ext cx="2369160" cy="323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2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3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Group 14"/>
            <p:cNvGrpSpPr/>
            <p:nvPr/>
          </p:nvGrpSpPr>
          <p:grpSpPr>
            <a:xfrm>
              <a:off x="304560" y="3624840"/>
              <a:ext cx="1988640" cy="1463400"/>
              <a:chOff x="304560" y="3624840"/>
              <a:chExt cx="1988640" cy="1463400"/>
            </a:xfrm>
          </p:grpSpPr>
          <p:sp>
            <p:nvSpPr>
              <p:cNvPr id="14" name="Freeform 15"/>
              <p:cNvSpPr/>
              <p:nvPr/>
            </p:nvSpPr>
            <p:spPr>
              <a:xfrm>
                <a:off x="646920" y="4774320"/>
                <a:ext cx="74160" cy="900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Freeform 16"/>
              <p:cNvSpPr/>
              <p:nvPr/>
            </p:nvSpPr>
            <p:spPr>
              <a:xfrm>
                <a:off x="1446480" y="3624840"/>
                <a:ext cx="513360" cy="256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Freeform 17"/>
              <p:cNvSpPr/>
              <p:nvPr/>
            </p:nvSpPr>
            <p:spPr>
              <a:xfrm>
                <a:off x="304560" y="3624840"/>
                <a:ext cx="1988640" cy="1463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Freeform 18"/>
              <p:cNvSpPr/>
              <p:nvPr/>
            </p:nvSpPr>
            <p:spPr>
              <a:xfrm>
                <a:off x="1084680" y="4298400"/>
                <a:ext cx="7452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Freeform 19"/>
              <p:cNvSpPr/>
              <p:nvPr/>
            </p:nvSpPr>
            <p:spPr>
              <a:xfrm>
                <a:off x="2036160" y="4081320"/>
                <a:ext cx="236160" cy="66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Freeform 20"/>
              <p:cNvSpPr/>
              <p:nvPr/>
            </p:nvSpPr>
            <p:spPr>
              <a:xfrm>
                <a:off x="1807920" y="3862440"/>
                <a:ext cx="264960" cy="2188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Freeform 21"/>
              <p:cNvSpPr/>
              <p:nvPr/>
            </p:nvSpPr>
            <p:spPr>
              <a:xfrm>
                <a:off x="1503000" y="3672000"/>
                <a:ext cx="179280" cy="180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>
                <a:off x="1779480" y="4090680"/>
                <a:ext cx="10440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>
                <a:off x="1494000" y="4242960"/>
                <a:ext cx="255240" cy="283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>
                <a:off x="1168560" y="4384080"/>
                <a:ext cx="11556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>
                <a:off x="989640" y="4583880"/>
                <a:ext cx="1872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6"/>
              <p:cNvSpPr/>
              <p:nvPr/>
            </p:nvSpPr>
            <p:spPr>
              <a:xfrm>
                <a:off x="780120" y="4793400"/>
                <a:ext cx="75600" cy="1137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7"/>
              <p:cNvSpPr/>
              <p:nvPr/>
            </p:nvSpPr>
            <p:spPr>
              <a:xfrm>
                <a:off x="693000" y="4802400"/>
                <a:ext cx="456480" cy="1332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8"/>
              <p:cNvSpPr/>
              <p:nvPr/>
            </p:nvSpPr>
            <p:spPr>
              <a:xfrm>
                <a:off x="1312920" y="4764600"/>
                <a:ext cx="104400" cy="1713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29"/>
              <p:cNvSpPr/>
              <p:nvPr/>
            </p:nvSpPr>
            <p:spPr>
              <a:xfrm>
                <a:off x="580320" y="4935960"/>
                <a:ext cx="122040" cy="66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0"/>
              <p:cNvSpPr/>
              <p:nvPr/>
            </p:nvSpPr>
            <p:spPr>
              <a:xfrm>
                <a:off x="789480" y="5021640"/>
                <a:ext cx="104400" cy="47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1"/>
              <p:cNvSpPr/>
              <p:nvPr/>
            </p:nvSpPr>
            <p:spPr>
              <a:xfrm>
                <a:off x="1332000" y="4631400"/>
                <a:ext cx="2844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2"/>
              <p:cNvSpPr/>
              <p:nvPr/>
            </p:nvSpPr>
            <p:spPr>
              <a:xfrm>
                <a:off x="865800" y="4793400"/>
                <a:ext cx="9000" cy="28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3"/>
              <p:cNvSpPr/>
              <p:nvPr/>
            </p:nvSpPr>
            <p:spPr>
              <a:xfrm>
                <a:off x="846720" y="4669560"/>
                <a:ext cx="4716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4"/>
              <p:cNvSpPr/>
              <p:nvPr/>
            </p:nvSpPr>
            <p:spPr>
              <a:xfrm>
                <a:off x="856080" y="4821480"/>
                <a:ext cx="37800" cy="378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Freeform 35"/>
              <p:cNvSpPr/>
              <p:nvPr/>
            </p:nvSpPr>
            <p:spPr>
              <a:xfrm>
                <a:off x="1270080" y="4253760"/>
                <a:ext cx="340920" cy="3423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Freeform 36"/>
              <p:cNvSpPr/>
              <p:nvPr/>
            </p:nvSpPr>
            <p:spPr>
              <a:xfrm>
                <a:off x="849960" y="4299840"/>
                <a:ext cx="335880" cy="2840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7"/>
              <p:cNvSpPr/>
              <p:nvPr/>
            </p:nvSpPr>
            <p:spPr>
              <a:xfrm>
                <a:off x="1644480" y="4140000"/>
                <a:ext cx="101160" cy="1249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8"/>
              <p:cNvSpPr/>
              <p:nvPr/>
            </p:nvSpPr>
            <p:spPr>
              <a:xfrm>
                <a:off x="1374840" y="3920760"/>
                <a:ext cx="217080" cy="327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39"/>
              <p:cNvSpPr/>
              <p:nvPr/>
            </p:nvSpPr>
            <p:spPr>
              <a:xfrm>
                <a:off x="1295640" y="3978000"/>
                <a:ext cx="102600" cy="3517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-1764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FCD2F40-D407-434E-BA39-BA2A7907BBBA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1"/>
          <p:cNvGrpSpPr/>
          <p:nvPr/>
        </p:nvGrpSpPr>
        <p:grpSpPr>
          <a:xfrm>
            <a:off x="0" y="0"/>
            <a:ext cx="9139320" cy="6849720"/>
            <a:chOff x="0" y="0"/>
            <a:chExt cx="9139320" cy="6849720"/>
          </a:xfrm>
        </p:grpSpPr>
        <p:sp>
          <p:nvSpPr>
            <p:cNvPr id="81" name="Freeform 2"/>
            <p:cNvSpPr/>
            <p:nvPr/>
          </p:nvSpPr>
          <p:spPr>
            <a:xfrm>
              <a:off x="2875680" y="4461480"/>
              <a:ext cx="6263280" cy="23882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3"/>
            <p:cNvSpPr/>
            <p:nvPr/>
          </p:nvSpPr>
          <p:spPr>
            <a:xfrm>
              <a:off x="6388560" y="5756400"/>
              <a:ext cx="2750400" cy="109332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0" y="0"/>
              <a:ext cx="8853480" cy="54705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7844040" y="0"/>
              <a:ext cx="1294920" cy="437760"/>
            </a:xfrm>
            <a:prstGeom prst="pie">
              <a:avLst/>
            </a:prstGeom>
            <a:gradFill rotWithShape="0">
              <a:gsLst>
                <a:gs pos="0">
                  <a:srgbClr val="962d2d"/>
                </a:gs>
                <a:gs pos="50000">
                  <a:srgbClr val="800000"/>
                </a:gs>
                <a:gs pos="100000">
                  <a:srgbClr val="962d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0" y="3148920"/>
              <a:ext cx="9139320" cy="332964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161640"/>
              <a:ext cx="3112200" cy="20073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0" y="0"/>
              <a:ext cx="7473960" cy="460440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0" y="0"/>
              <a:ext cx="5988600" cy="373896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0"/>
              <a:ext cx="4655160" cy="2929680"/>
            </a:xfrm>
            <a:prstGeom prst="pi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180720" y="4518360"/>
              <a:ext cx="2369160" cy="323640"/>
            </a:xfrm>
            <a:prstGeom prst="pi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Rectangle 12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Rectangle 13"/>
            <p:cNvSpPr/>
            <p:nvPr/>
          </p:nvSpPr>
          <p:spPr>
            <a:xfrm>
              <a:off x="750600" y="4928040"/>
              <a:ext cx="1080" cy="144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Group 14"/>
            <p:cNvGrpSpPr/>
            <p:nvPr/>
          </p:nvGrpSpPr>
          <p:grpSpPr>
            <a:xfrm>
              <a:off x="304560" y="3624840"/>
              <a:ext cx="1988640" cy="1463400"/>
              <a:chOff x="304560" y="3624840"/>
              <a:chExt cx="1988640" cy="1463400"/>
            </a:xfrm>
          </p:grpSpPr>
          <p:sp>
            <p:nvSpPr>
              <p:cNvPr id="94" name="Freeform 15"/>
              <p:cNvSpPr/>
              <p:nvPr/>
            </p:nvSpPr>
            <p:spPr>
              <a:xfrm>
                <a:off x="646920" y="4774320"/>
                <a:ext cx="74160" cy="9000"/>
              </a:xfrm>
              <a:prstGeom prst="pie">
                <a:avLst/>
              </a:pr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Freeform 16"/>
              <p:cNvSpPr/>
              <p:nvPr/>
            </p:nvSpPr>
            <p:spPr>
              <a:xfrm>
                <a:off x="1446480" y="3624840"/>
                <a:ext cx="513360" cy="256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Freeform 17"/>
              <p:cNvSpPr/>
              <p:nvPr/>
            </p:nvSpPr>
            <p:spPr>
              <a:xfrm>
                <a:off x="304560" y="3624840"/>
                <a:ext cx="1988640" cy="146340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Freeform 18"/>
              <p:cNvSpPr/>
              <p:nvPr/>
            </p:nvSpPr>
            <p:spPr>
              <a:xfrm>
                <a:off x="1084680" y="4298400"/>
                <a:ext cx="7452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Freeform 19"/>
              <p:cNvSpPr/>
              <p:nvPr/>
            </p:nvSpPr>
            <p:spPr>
              <a:xfrm>
                <a:off x="2036160" y="4081320"/>
                <a:ext cx="236160" cy="6638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Freeform 20"/>
              <p:cNvSpPr/>
              <p:nvPr/>
            </p:nvSpPr>
            <p:spPr>
              <a:xfrm>
                <a:off x="1807920" y="3862440"/>
                <a:ext cx="264960" cy="2188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Freeform 21"/>
              <p:cNvSpPr/>
              <p:nvPr/>
            </p:nvSpPr>
            <p:spPr>
              <a:xfrm>
                <a:off x="1503000" y="3672000"/>
                <a:ext cx="179280" cy="1807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Freeform 22"/>
              <p:cNvSpPr/>
              <p:nvPr/>
            </p:nvSpPr>
            <p:spPr>
              <a:xfrm>
                <a:off x="1779480" y="4090680"/>
                <a:ext cx="10440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Freeform 23"/>
              <p:cNvSpPr/>
              <p:nvPr/>
            </p:nvSpPr>
            <p:spPr>
              <a:xfrm>
                <a:off x="1494000" y="4242960"/>
                <a:ext cx="255240" cy="2836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Freeform 24"/>
              <p:cNvSpPr/>
              <p:nvPr/>
            </p:nvSpPr>
            <p:spPr>
              <a:xfrm>
                <a:off x="1168560" y="4384080"/>
                <a:ext cx="11556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Freeform 25"/>
              <p:cNvSpPr/>
              <p:nvPr/>
            </p:nvSpPr>
            <p:spPr>
              <a:xfrm>
                <a:off x="989640" y="4583880"/>
                <a:ext cx="18720" cy="8532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Freeform 26"/>
              <p:cNvSpPr/>
              <p:nvPr/>
            </p:nvSpPr>
            <p:spPr>
              <a:xfrm>
                <a:off x="780120" y="4793400"/>
                <a:ext cx="75600" cy="1137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Freeform 27"/>
              <p:cNvSpPr/>
              <p:nvPr/>
            </p:nvSpPr>
            <p:spPr>
              <a:xfrm>
                <a:off x="693000" y="4802400"/>
                <a:ext cx="456480" cy="1332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Freeform 28"/>
              <p:cNvSpPr/>
              <p:nvPr/>
            </p:nvSpPr>
            <p:spPr>
              <a:xfrm>
                <a:off x="1312920" y="4764600"/>
                <a:ext cx="104400" cy="1713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Freeform 29"/>
              <p:cNvSpPr/>
              <p:nvPr/>
            </p:nvSpPr>
            <p:spPr>
              <a:xfrm>
                <a:off x="580320" y="4935960"/>
                <a:ext cx="122040" cy="662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Freeform 30"/>
              <p:cNvSpPr/>
              <p:nvPr/>
            </p:nvSpPr>
            <p:spPr>
              <a:xfrm>
                <a:off x="789480" y="5021640"/>
                <a:ext cx="104400" cy="4716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" bIns="72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Freeform 31"/>
              <p:cNvSpPr/>
              <p:nvPr/>
            </p:nvSpPr>
            <p:spPr>
              <a:xfrm>
                <a:off x="1332000" y="4631400"/>
                <a:ext cx="28440" cy="9504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Freeform 32"/>
              <p:cNvSpPr/>
              <p:nvPr/>
            </p:nvSpPr>
            <p:spPr>
              <a:xfrm>
                <a:off x="865800" y="4793400"/>
                <a:ext cx="9000" cy="280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Freeform 33"/>
              <p:cNvSpPr/>
              <p:nvPr/>
            </p:nvSpPr>
            <p:spPr>
              <a:xfrm>
                <a:off x="846720" y="4669560"/>
                <a:ext cx="47160" cy="12348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34"/>
              <p:cNvSpPr/>
              <p:nvPr/>
            </p:nvSpPr>
            <p:spPr>
              <a:xfrm>
                <a:off x="856080" y="4821480"/>
                <a:ext cx="37800" cy="37800"/>
              </a:xfrm>
              <a:prstGeom prst="pi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35"/>
              <p:cNvSpPr/>
              <p:nvPr/>
            </p:nvSpPr>
            <p:spPr>
              <a:xfrm>
                <a:off x="1270080" y="4253760"/>
                <a:ext cx="340920" cy="3423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36"/>
              <p:cNvSpPr/>
              <p:nvPr/>
            </p:nvSpPr>
            <p:spPr>
              <a:xfrm>
                <a:off x="849960" y="4299840"/>
                <a:ext cx="335880" cy="28404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37"/>
              <p:cNvSpPr/>
              <p:nvPr/>
            </p:nvSpPr>
            <p:spPr>
              <a:xfrm>
                <a:off x="1644480" y="4140000"/>
                <a:ext cx="101160" cy="1249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38"/>
              <p:cNvSpPr/>
              <p:nvPr/>
            </p:nvSpPr>
            <p:spPr>
              <a:xfrm>
                <a:off x="1374840" y="3920760"/>
                <a:ext cx="217080" cy="32796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39"/>
              <p:cNvSpPr/>
              <p:nvPr/>
            </p:nvSpPr>
            <p:spPr>
              <a:xfrm>
                <a:off x="1295640" y="3978000"/>
                <a:ext cx="102600" cy="351720"/>
              </a:xfrm>
              <a:prstGeom prst="pie">
                <a:avLst/>
              </a:pr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09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E9DBC93-BAA8-4EBD-B1A6-756129D89022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85560"/>
            <a:ext cx="77724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ценарий 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спортивного мероприятия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500200" y="5445000"/>
            <a:ext cx="63198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дготовила и провела 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физической культуры МБОУ «СОШ №5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</a:rPr>
              <a:t>Пономарева М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WordArt 3"/>
          <p:cNvSpPr txBox="1"/>
          <p:nvPr/>
        </p:nvSpPr>
        <p:spPr>
          <a:xfrm>
            <a:off x="1438200" y="2892600"/>
            <a:ext cx="6267600" cy="107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Весёлые старты"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3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 Болото»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ерейти  «болото», не замочив ноги, используя по два круга - таблетки 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835280" y="2133720"/>
            <a:ext cx="547344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НКУРС №4</a:t>
            </a:r>
            <a:br>
              <a:rPr sz="28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Разминка для ума»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За каждый правильный ответ даётся 1 балл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340000" y="1628280"/>
            <a:ext cx="822960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 каких вредных привычках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 слышал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 вы думаете почему люди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едут борьбу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 вредными привычками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бы вы поставили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 противовес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агубным привычкам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кие простудные заболевания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 знаете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 Обобщить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Что надо делать, чтобы не болеть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веты детей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0" y="2000160"/>
            <a:ext cx="5064120" cy="37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-1633680"/>
            <a:ext cx="8229600" cy="347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5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Плечо друга»</a:t>
            </a:r>
            <a:br>
              <a:rPr sz="24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Бег по залу, положив руку на плечо впереди стоящему участнику.</a:t>
            </a:r>
            <a:br>
              <a:rPr sz="18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Во время бега по команде поменять руку, не отрываясь друг от друга. 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4275000" cy="3206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"/>
          <p:cNvPicPr/>
          <p:nvPr/>
        </p:nvPicPr>
        <p:blipFill>
          <a:blip r:embed="rId2"/>
          <a:stretch/>
        </p:blipFill>
        <p:spPr>
          <a:xfrm>
            <a:off x="4859280" y="3500280"/>
            <a:ext cx="398772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30240"/>
            <a:ext cx="82296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онкурс №6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Юмористическая эстафета» </a:t>
            </a:r>
            <a:br>
              <a:rPr sz="20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- 1 ученик  раскладывает на полу 7 теннисных мячей.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- 2 ученик  одевает  большого размера майку, бежит  до стойки берёт веник, скачет  на нём верхом обратно, передаёт веник третьему участнику.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- 3 ученик с помощью веника собирает мячи в корзину.</a:t>
            </a:r>
            <a:br>
              <a:rPr sz="1600"/>
            </a:br>
            <a:r>
              <a:rPr b="1" lang="ru-RU" sz="1600" spc="-1" strike="noStrike">
                <a:solidFill>
                  <a:srgbClr val="ffff99"/>
                </a:solidFill>
                <a:latin typeface="Arial"/>
              </a:rPr>
              <a:t>Выигрывает команда быстрее выполнившая задание.</a:t>
            </a:r>
            <a:endParaRPr b="0" lang="en-US" sz="16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79280" y="1989000"/>
            <a:ext cx="3670560" cy="26989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5435640" y="2060640"/>
            <a:ext cx="3602160" cy="27018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3"/>
          <a:stretch/>
        </p:blipFill>
        <p:spPr>
          <a:xfrm>
            <a:off x="2771640" y="4365720"/>
            <a:ext cx="3602160" cy="270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320400"/>
            <a:ext cx="82296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7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«Мы с товарищем вдвоём»</a:t>
            </a:r>
            <a:br>
              <a:rPr sz="24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Один участник катит обруч, другой – в этот момент пробегает в нём.</a:t>
            </a:r>
            <a:br>
              <a:rPr sz="2000"/>
            </a:b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4322880" cy="32414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4494240" y="2997360"/>
            <a:ext cx="4649760" cy="35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9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КОНКУРС №8</a:t>
            </a:r>
            <a:br>
              <a:rPr sz="24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Комбинированная эстафета»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1 - Пролезть сквозь мешок.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2 – Сделать кувырок.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3 – Проползти по гимнастической скамейки.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Обратно вернуться бегом, передать эстафету другу.</a:t>
            </a:r>
            <a:r>
              <a:rPr b="0" lang="ru-RU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524560" cy="414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дведение итогов.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Награждение.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4552920" cy="34146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3" descr=""/>
          <p:cNvPicPr/>
          <p:nvPr/>
        </p:nvPicPr>
        <p:blipFill>
          <a:blip r:embed="rId2"/>
          <a:stretch/>
        </p:blipFill>
        <p:spPr>
          <a:xfrm>
            <a:off x="4500720" y="3357720"/>
            <a:ext cx="434808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Спортивное мероприятие </a:t>
            </a:r>
            <a:br>
              <a:rPr sz="4400"/>
            </a:br>
            <a:r>
              <a:rPr b="0" lang="ru-RU" sz="4400" spc="-1" strike="noStrike">
                <a:solidFill>
                  <a:srgbClr val="ffff99"/>
                </a:solidFill>
                <a:latin typeface="Arial"/>
              </a:rPr>
              <a:t>проводилось в рамках акции:</a:t>
            </a:r>
            <a:br>
              <a:rPr sz="4400"/>
            </a:br>
            <a:br>
              <a:rPr sz="4400"/>
            </a:b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«СПОРТ- как альтернатива</a:t>
            </a:r>
            <a:br>
              <a:rPr sz="4800"/>
            </a:br>
            <a:r>
              <a:rPr b="1" lang="ru-RU" sz="4800" spc="-1" strike="noStrike">
                <a:solidFill>
                  <a:srgbClr val="ffff99"/>
                </a:solidFill>
                <a:latin typeface="Arial"/>
              </a:rPr>
              <a:t>пагубным привычкам»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-1800" y="6572160"/>
            <a:ext cx="889308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568080"/>
            <a:ext cx="822960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Цель: воспитывать привычку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здорового образа жизни.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Укреплять физическое и 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сихическое здоровье детей.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1692360" y="2492280"/>
            <a:ext cx="5597280" cy="403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9600" cy="55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fff99"/>
                </a:solidFill>
                <a:latin typeface="Arial"/>
              </a:rPr>
              <a:t>Задачи:</a:t>
            </a:r>
            <a:br>
              <a:rPr sz="40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развивать двигательную активность детей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формировать привычки к выполнению физических упражнений,   укрепляющих  здоровье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воспитывать желание побеждать в себе 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свои отрицательные привычки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формировать культуру здоровья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воспитывать нравственную культуру общения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формировать ценности здоровья и  здорового образа жизни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воспитывать чувство ответственности каждого в коллективе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сплочение детского коллектива;</a:t>
            </a:r>
            <a:br>
              <a:rPr sz="2400"/>
            </a:b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- прививать интерес к занятиям спортом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6472080"/>
            <a:ext cx="82296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636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Зал украшен  воздушными шарами с надписями: «Спорт»,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Победа», «Мир», «Здоровье», и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плакатами «Спорт – лучшее лекарство от хвори»,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Кто со спортом дружит, тот никогда не тужит»,</a:t>
            </a:r>
            <a:br>
              <a:rPr sz="4000"/>
            </a:br>
            <a:r>
              <a:rPr b="0" lang="ru-RU" sz="4000" spc="-1" strike="noStrike">
                <a:solidFill>
                  <a:srgbClr val="ffff99"/>
                </a:solidFill>
                <a:latin typeface="Arial"/>
              </a:rPr>
              <a:t>«Если в семье нашей мир и лад, значит в ней есть спортивный уклад».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-89280"/>
            <a:ext cx="8229600" cy="26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ти заходят в спортза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по музыку и делятся на две команды.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МАНДА «Силачи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виз: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«Быть сильным, здоровым, умелым и сильным считаем нашим главным делом!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-25365" t="0" r="0" b="0"/>
          <a:stretch/>
        </p:blipFill>
        <p:spPr>
          <a:xfrm>
            <a:off x="539640" y="2637000"/>
            <a:ext cx="6694560" cy="400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КОМАНДА «Неунывающие»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Девиз:</a:t>
            </a:r>
            <a:br>
              <a:rPr sz="2800"/>
            </a:br>
            <a:r>
              <a:rPr b="1" lang="ru-RU" sz="2800" spc="-1" strike="noStrike">
                <a:solidFill>
                  <a:srgbClr val="ffff99"/>
                </a:solidFill>
                <a:latin typeface="Arial"/>
              </a:rPr>
              <a:t>«Спорт мы любим, с ним мы дружим – доктор  будет нам не нужен»</a:t>
            </a: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329440" cy="399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248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ОНКУРС №1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Эстафета для команд»</a:t>
            </a:r>
            <a:br>
              <a:rPr sz="2000"/>
            </a:br>
            <a:r>
              <a:rPr b="1" lang="ru-RU" sz="1800" spc="-1" strike="noStrike">
                <a:solidFill>
                  <a:srgbClr val="ffff99"/>
                </a:solidFill>
                <a:latin typeface="Arial"/>
              </a:rPr>
              <a:t>Зажав мяч между коленями, прыжками перемещаться до лежащего гимнастического обруча, положив мяч в него, взять скакалку, возвращаться назад прыгая на ней. Передать скакалку следующему участнику. Он выполняет тоже самое только наоборот</a:t>
            </a:r>
            <a:endParaRPr b="0" lang="en-US" sz="1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5245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1000"/>
            <a:ext cx="8229600" cy="16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КОНКУРС №2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«Гонка мячей»</a:t>
            </a:r>
            <a:br>
              <a:rPr sz="2000"/>
            </a:br>
            <a:r>
              <a:rPr b="1" lang="ru-RU" sz="2000" spc="-1" strike="noStrike">
                <a:solidFill>
                  <a:srgbClr val="ffff99"/>
                </a:solidFill>
                <a:latin typeface="Arial"/>
              </a:rPr>
              <a:t>Игроки передают мяч за спиной обеими руками рядом стоящему партнёру. Последний участник с мячом перебегает и становится первым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54738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17:05:14Z</dcterms:created>
  <dc:creator>SamLab.ws</dc:creator>
  <dc:description/>
  <dc:language>en-US</dc:language>
  <cp:lastModifiedBy>Пользователь</cp:lastModifiedBy>
  <dcterms:modified xsi:type="dcterms:W3CDTF">2015-01-14T20:29:04Z</dcterms:modified>
  <cp:revision>12</cp:revision>
  <dc:subject/>
  <dc:title>Сценарий  спортивного мероприятия</dc:title>
</cp:coreProperties>
</file>