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100-22DB-4380-9606-62E0FAB3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C21-BB85-4408-956F-1B296CA4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7A0-1F5A-459B-85F0-1D3D805E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050-6395-41BC-827C-89CE8373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DF8-9349-4BD1-B58A-760C680D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3C96-430B-4059-A54E-872FF48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33D6-92C9-484D-AB3D-CE17210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0CA-483C-411D-9715-9C0B45F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8A4-E5BE-4854-8362-63CE126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446-206B-4748-BA48-38BB157E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CDC2-298C-40F0-AA40-AE0AC91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A7E-1570-4675-9EF2-AB549C9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0C4-E945-4D1A-852C-71344EE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08A-30CB-41AA-9E49-E8A8A32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1BE-698D-4488-8254-F442525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F03-63FD-4A2E-AC24-A24B5F94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3F87-4101-48CC-978C-C8236718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DCC-B05F-4C3A-A9CA-5196477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BBC-01FB-47C8-91CD-A356908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470-A620-48C9-9FA2-43B9587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572-6BF8-48BE-8A39-B6B2756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C9D-8348-4BEA-ACB7-DE6B3B4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9E3-EE29-4581-92BC-17B638F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5C8-9CCB-4729-9F74-C59A1E3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80C-BFB0-441A-8B99-52D89B23C6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713-B05F-4E97-B45C-3A1AE582F1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Black"/>
              </a:rPr>
              <a:t>Тема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Сопоставление невербальных средств общения рус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с аналогичными средствами английского языка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867280" y="4365720"/>
            <a:ext cx="266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Ученица 8 «а»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МОБУ СОШ №27 г.Якут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Никкарь 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Ксенофонтова Т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аралингв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Экстралингв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9880" y="0"/>
            <a:ext cx="33577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 Black"/>
              </a:rPr>
              <a:t>Кин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Bookman Old Style"/>
              </a:rPr>
              <a:t>Улыб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-60480" y="603360"/>
            <a:ext cx="921096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Ж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-60480" y="566640"/>
            <a:ext cx="93441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Проксе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ookman Old Style"/>
              </a:rPr>
              <a:t>Выв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64296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ходе решения задач проекта мы установили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вербальный язык, как и вербальный зависит от типа культуры и н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то время как вербальный язык используется для передачи информации, невербальный показывает эмоции и чув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ная особенностей невербального общения у разных народов, можно легко попасть впросак. Во избежание этого необходимо изучать не только вербальный язык данной национальной культуры, но и невербальный в виде жестов, мимики и телодвижений, норм поведения.</a:t>
            </a: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заключение мы можем сделать вывод о том, что 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ть чужую страну можно только отказавшись от привычки мерить всё на свой аршин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ругими словами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ты в Риме, поступай как римлянин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ктуальность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Book Antiqua"/>
              </a:rPr>
              <a:t>При изучении иностранного языка мы учим слова, выражения, грамматику, учимся понимать речь собеседника и разговаривать. Но кроме вербального общения, существует ещё и невербальное общение. Также как и языки разных народов, невербальный язык отличается. Поэтому при живом общении с носителем языка важно знать невербальную сторону его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3" descr=""/>
          <p:cNvPicPr/>
          <p:nvPr/>
        </p:nvPicPr>
        <p:blipFill>
          <a:blip r:embed="rId1"/>
          <a:stretch/>
        </p:blipFill>
        <p:spPr>
          <a:xfrm>
            <a:off x="-139680" y="2103480"/>
            <a:ext cx="944892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3" descr=""/>
          <p:cNvPicPr/>
          <p:nvPr/>
        </p:nvPicPr>
        <p:blipFill>
          <a:blip r:embed="rId1"/>
          <a:stretch/>
        </p:blipFill>
        <p:spPr>
          <a:xfrm>
            <a:off x="268200" y="689040"/>
            <a:ext cx="8667720" cy="58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55440" y="176040"/>
            <a:ext cx="922320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Bookman Old Style"/>
              </a:rPr>
              <a:t>Как мы понимаем собеседни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3643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редача информации происходит за счет вербальных средств (только слов) на 7%, за счет звуковых средств (включая тон голоса, интонацию звука) на 38%, и за счет невербальных средств на 5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3276720" y="1488960"/>
          <a:ext cx="586728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88960"/>
                    <a:ext cx="586728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Bookman Old Style"/>
              </a:rPr>
              <a:t>Виды коммуникации (общ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85840" y="1143000"/>
            <a:ext cx="4032000" cy="15717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ерб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человеческая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естественный звуково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714920" y="1143000"/>
            <a:ext cx="4248000" cy="1500120"/>
          </a:xfrm>
          <a:prstGeom prst="rect">
            <a:avLst/>
          </a:prstGeom>
          <a:solidFill>
            <a:srgbClr val="ff99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Неверб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коммун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57120" y="2857680"/>
            <a:ext cx="3925800" cy="1071360"/>
          </a:xfrm>
          <a:prstGeom prst="rect">
            <a:avLst/>
          </a:prstGeom>
          <a:solidFill>
            <a:srgbClr val="ffff66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Кинетика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жес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мимика и пантоми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543640" y="3714840"/>
            <a:ext cx="3529080" cy="141912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аралингвистика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качество голо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его диапаз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т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920" y="5286240"/>
            <a:ext cx="3929040" cy="12859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Экстралингвистика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включение в речь пау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плача, см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714920" y="5643720"/>
            <a:ext cx="4071960" cy="982440"/>
          </a:xfrm>
          <a:prstGeom prst="rect">
            <a:avLst/>
          </a:prstGeom>
          <a:solidFill>
            <a:srgbClr val="66ff33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Визуальный контакт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Bookman Old Style"/>
              </a:rPr>
              <a:t>«контакт гл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715080" y="2643120"/>
            <a:ext cx="331920" cy="10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4857840" y="2714760"/>
            <a:ext cx="1069920" cy="29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4000320" y="2643120"/>
            <a:ext cx="157140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H="1">
            <a:off x="4285800" y="2643120"/>
            <a:ext cx="93348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14200" y="4214880"/>
            <a:ext cx="3786480" cy="85716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оксемика -</a:t>
            </a: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пространств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4000680" y="2714760"/>
            <a:ext cx="1357200" cy="17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Знаменитый оратор древности Демосфен на вопрос, что нужно для хорошего оратора, ответил так: 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Жесты, жесты и жесты</a:t>
            </a: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!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ÐÐ°ÑÑÐ¸Ð½ÐºÐ¸ Ð¿Ð¾ Ð·Ð°Ð¿ÑÐ¾ÑÑ Ð´ÐµÐ¼Ð¾ÑÑÐµÐ½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329080" y="928800"/>
            <a:ext cx="327852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4" descr=""/>
          <p:cNvPicPr/>
          <p:nvPr/>
        </p:nvPicPr>
        <p:blipFill>
          <a:blip r:embed="rId1"/>
          <a:stretch/>
        </p:blipFill>
        <p:spPr>
          <a:xfrm>
            <a:off x="-189000" y="-291960"/>
            <a:ext cx="9491760" cy="72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3:58:06Z</dcterms:created>
  <dc:creator>Samsung</dc:creator>
  <dc:description/>
  <dc:language>en-US</dc:language>
  <cp:lastModifiedBy>КТВ</cp:lastModifiedBy>
  <dcterms:modified xsi:type="dcterms:W3CDTF">2018-11-17T03:44:29Z</dcterms:modified>
  <cp:revision>66</cp:revision>
  <dc:subject/>
  <dc:title>Тема исследования «Сопоставление невербальных средств общения русского языка с аналогичными средствами английского языка»</dc:title>
</cp:coreProperties>
</file>