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B82-CC16-4743-870A-76A50EB4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409-60BF-4147-A261-2B99A4A2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27C-C1EA-4059-9215-046A1FE7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2D8-CE26-4E86-9608-CE632A4C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72EC-5F83-4D1C-9E5B-6AAEA903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46EC-F409-4B2D-942D-3260DDB9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F59B-E2BC-432C-B88D-5DA445EF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FDE9-ED07-4C8C-9E75-C457F240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886C-1CFC-4089-917F-7DF3E522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DF03-7A6E-4ED3-BF75-A65455BB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2D2E-7C16-4A38-B336-045D4F78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4AB-2BD4-4729-9B63-4F0F66B1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9DBC-BEB3-4B71-8E5B-EE2EBBB9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F9D-3293-4E51-BDF7-71FB91B1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1CFA-F50D-43A7-9928-3F996167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8761-5598-4CF4-BDD4-2EE954ED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D503-215D-483F-8358-30B746CD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701-7EC1-4AD2-A772-627BA1F1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805-9D4D-4F33-9794-93BA25C8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130-F2C0-4039-9ECF-5B7748C1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4DC-6BA4-42BC-BF21-D3B2E9CA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5AE-CD2D-4205-990F-D39CD8F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D91-4595-4B73-BC95-756EEF3B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45C-B7D1-4085-BCC2-61A05463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3271-B5F0-456C-B8DF-4F27C37561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93E2-C8D9-4E28-83EB-325F81F2088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Black"/>
              </a:rPr>
              <a:t>Тема исследовани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Сопоставление невербальных средств общения русского языка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с аналогичными средствами английского языка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867280" y="4365720"/>
            <a:ext cx="266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Ученица 8 «а» кла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МОБУ СОШ №27 г.Якут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Никкарь Анаста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Bookman Old Style"/>
              </a:rPr>
              <a:t>Ксенофонтова Т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Паралингв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2160" cy="60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Экстралингв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3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2160" cy="60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99880" y="0"/>
            <a:ext cx="33577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Arial Black"/>
              </a:rPr>
              <a:t>Кин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9156960" cy="62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580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Bookman Old Style"/>
              </a:rPr>
              <a:t>Улыб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-60480" y="603360"/>
            <a:ext cx="9210960" cy="62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7092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Же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"/>
          <p:cNvPicPr/>
          <p:nvPr/>
        </p:nvPicPr>
        <p:blipFill>
          <a:blip r:embed="rId1"/>
          <a:stretch/>
        </p:blipFill>
        <p:spPr>
          <a:xfrm>
            <a:off x="-60480" y="566640"/>
            <a:ext cx="9344160" cy="62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Проксе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хема 3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9156960" cy="62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ookman Old Style"/>
              </a:rPr>
              <a:t>Вывод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64296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 ходе решения задач проекта мы установили следующе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вербальный язык, как и вербальный зависит от типа культуры и н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то время как вербальный язык используется для передачи информации, невербальный показывает эмоции и чув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зная особенностей невербального общения у разных народов, можно легко попасть впросак. Во избежание этого необходимо изучать не только вербальный язык данной национальной культуры, но и невербальный в виде жестов, мимики и телодвижений, норм поведения.</a:t>
            </a: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заключение мы можем сделать вывод о том, что 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знать чужую страну можно только отказавшись от привычки мерить всё на свой аршин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ругими словами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ты в Риме, поступай как римлянин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Актуальность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Book Antiqua"/>
              </a:rPr>
              <a:t>При изучении иностранного языка мы учим слова, выражения, грамматику, учимся понимать речь собеседника и разговаривать. Но кроме вербального общения, существует ещё и невербальное общение. Также как и языки разных народов, невербальный язык отличается. Поэтому при живом общении с носителем языка важно знать невербальную сторону его язы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3" descr=""/>
          <p:cNvPicPr/>
          <p:nvPr/>
        </p:nvPicPr>
        <p:blipFill>
          <a:blip r:embed="rId1"/>
          <a:stretch/>
        </p:blipFill>
        <p:spPr>
          <a:xfrm>
            <a:off x="-139680" y="2103480"/>
            <a:ext cx="944892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3" descr=""/>
          <p:cNvPicPr/>
          <p:nvPr/>
        </p:nvPicPr>
        <p:blipFill>
          <a:blip r:embed="rId1"/>
          <a:stretch/>
        </p:blipFill>
        <p:spPr>
          <a:xfrm>
            <a:off x="268200" y="689040"/>
            <a:ext cx="8667720" cy="581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-55440" y="176040"/>
            <a:ext cx="922320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Bookman Old Style"/>
              </a:rPr>
              <a:t>Как мы понимаем собеседни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3643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ередача информации происходит за счет вербальных средств (только слов) на 7%, за счет звуковых средств (включая тон голоса, интонацию звука) на 38%, и за счет невербальных средств на 5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3276720" y="1488960"/>
          <a:ext cx="5867280" cy="479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488960"/>
                    <a:ext cx="586728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Bookman Old Style"/>
              </a:rPr>
              <a:t>Виды коммуникации (обще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85840" y="1143000"/>
            <a:ext cx="4032000" cy="157176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ерб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коммуникация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Bookman Old Style"/>
              </a:rPr>
              <a:t>человеческая ре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Bookman Old Style"/>
              </a:rPr>
              <a:t>естественный звуково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4714920" y="1143000"/>
            <a:ext cx="4248000" cy="1500120"/>
          </a:xfrm>
          <a:prstGeom prst="rect">
            <a:avLst/>
          </a:prstGeom>
          <a:solidFill>
            <a:srgbClr val="ff99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Неверб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коммун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57120" y="2857680"/>
            <a:ext cx="3925800" cy="1071360"/>
          </a:xfrm>
          <a:prstGeom prst="rect">
            <a:avLst/>
          </a:prstGeom>
          <a:solidFill>
            <a:srgbClr val="ffff66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Кинетика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жес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Bookman Old Style"/>
              </a:rPr>
              <a:t>мимика и пантоми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543640" y="3714840"/>
            <a:ext cx="3529080" cy="141912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Паралингвистика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Bookman Old Style"/>
              </a:rPr>
              <a:t>качество голо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Bookman Old Style"/>
              </a:rPr>
              <a:t>его диапаз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Bookman Old Style"/>
              </a:rPr>
              <a:t>т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920" y="5286240"/>
            <a:ext cx="3929040" cy="12859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Экстралингвистика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Bookman Old Style"/>
              </a:rPr>
              <a:t>включение в речь пау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Bookman Old Style"/>
              </a:rPr>
              <a:t>плача, см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4714920" y="5643720"/>
            <a:ext cx="4071960" cy="982440"/>
          </a:xfrm>
          <a:prstGeom prst="rect">
            <a:avLst/>
          </a:prstGeom>
          <a:solidFill>
            <a:srgbClr val="66ff33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man Old Style"/>
              </a:rPr>
              <a:t>Визуальный контакт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Bookman Old Style"/>
              </a:rPr>
              <a:t>«контакт гл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6715080" y="2643120"/>
            <a:ext cx="331920" cy="10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 flipH="1">
            <a:off x="4857840" y="2714760"/>
            <a:ext cx="1069920" cy="29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H="1">
            <a:off x="4000320" y="2643120"/>
            <a:ext cx="1571400" cy="250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H="1">
            <a:off x="4285800" y="2643120"/>
            <a:ext cx="93348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214200" y="4214880"/>
            <a:ext cx="3786480" cy="85716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роксемика -</a:t>
            </a:r>
            <a:r>
              <a:rPr b="0" lang="ru-RU" sz="2400" spc="-1" strike="noStrike">
                <a:solidFill>
                  <a:srgbClr val="632523"/>
                </a:solidFill>
                <a:latin typeface="Bookman Old Style"/>
              </a:rPr>
              <a:t>пространств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 flipH="1">
            <a:off x="4000680" y="2714760"/>
            <a:ext cx="1357200" cy="178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45007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Bookman Old Style"/>
              </a:rPr>
              <a:t>Знаменитый оратор древности Демосфен на вопрос, что нужно для хорошего оратора, ответил так: </a:t>
            </a: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Bookman Old Style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Жесты, жесты и жесты</a:t>
            </a:r>
            <a:r>
              <a:rPr b="0" lang="ru-RU" sz="2800" spc="-1" strike="noStrike">
                <a:solidFill>
                  <a:srgbClr val="008000"/>
                </a:solidFill>
                <a:latin typeface="Bookman Old Style"/>
              </a:rPr>
              <a:t>!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ÐÐ°ÑÑÐ¸Ð½ÐºÐ¸ Ð¿Ð¾ Ð·Ð°Ð¿ÑÐ¾ÑÑ Ð´ÐµÐ¼Ð¾ÑÑÐµÐ½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5329080" y="928800"/>
            <a:ext cx="327852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хема 4" descr=""/>
          <p:cNvPicPr/>
          <p:nvPr/>
        </p:nvPicPr>
        <p:blipFill>
          <a:blip r:embed="rId1"/>
          <a:stretch/>
        </p:blipFill>
        <p:spPr>
          <a:xfrm>
            <a:off x="-189000" y="-291960"/>
            <a:ext cx="9491760" cy="72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03:58:06Z</dcterms:created>
  <dc:creator>Samsung</dc:creator>
  <dc:description/>
  <dc:language>en-US</dc:language>
  <cp:lastModifiedBy>КТВ</cp:lastModifiedBy>
  <dcterms:modified xsi:type="dcterms:W3CDTF">2018-11-17T03:44:29Z</dcterms:modified>
  <cp:revision>66</cp:revision>
  <dc:subject/>
  <dc:title>Тема исследования «Сопоставление невербальных средств общения русского языка с аналогичными средствами английского языка»</dc:title>
</cp:coreProperties>
</file>