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C5F-686B-4CF7-BB9A-DD41F905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8F5-CEDF-4DA1-8FDD-2CD5450C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368-DB05-4A46-BD5D-5162BBD6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F6B-1D3E-4545-9FA0-6BB0A128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D21-7B87-4CA4-9D2F-1B461414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4A1-1F9F-4FC0-A8A1-C0C0B198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DC4-A108-45F6-9FAC-F22E2BC2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517-0832-4CD0-94C8-E5BCFBE3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62E-A7E3-4C91-B347-C4C0C5F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2E3-23DB-42BF-995F-79977A83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4C5-DE22-46D2-80D1-0BB3674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C62-F6F7-41D7-A391-95046E81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2432-DA84-4574-9956-2AFB88577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:\Documents and Settings\Aida\Рабочий стол\Рисунок1.jpg"/>
          <p:cNvPicPr/>
          <p:nvPr/>
        </p:nvPicPr>
        <p:blipFill>
          <a:blip r:embed="rId2"/>
          <a:stretch/>
        </p:blipFill>
        <p:spPr>
          <a:xfrm>
            <a:off x="928800" y="1143000"/>
            <a:ext cx="7215120" cy="528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3"/>
          <a:stretch/>
        </p:blipFill>
        <p:spPr>
          <a:xfrm>
            <a:off x="642960" y="571680"/>
            <a:ext cx="11430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14200" y="-1357200"/>
            <a:ext cx="8715600" cy="8358120"/>
          </a:xfrm>
          <a:prstGeom prst="rect">
            <a:avLst/>
          </a:prstGeom>
          <a:ln w="0">
            <a:noFill/>
          </a:ln>
        </p:spPr>
      </p:pic>
      <p:sp>
        <p:nvSpPr>
          <p:cNvPr id="83" name="Freeform 26"/>
          <p:cNvSpPr/>
          <p:nvPr/>
        </p:nvSpPr>
        <p:spPr>
          <a:xfrm flipV="1" rot="11467200">
            <a:off x="694440" y="2561760"/>
            <a:ext cx="3025800" cy="1587600"/>
          </a:xfrm>
          <a:prstGeom prst="pie">
            <a:avLst/>
          </a:pr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14166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7"/>
          <p:cNvSpPr/>
          <p:nvPr/>
        </p:nvSpPr>
        <p:spPr>
          <a:xfrm rot="20677200">
            <a:off x="5362200" y="2831760"/>
            <a:ext cx="3133800" cy="1461960"/>
          </a:xfrm>
          <a:prstGeom prst="pie">
            <a:avLst/>
          </a:prstGeom>
          <a:gradFill rotWithShape="0">
            <a:gsLst>
              <a:gs pos="0">
                <a:srgbClr val="00b1f0"/>
              </a:gs>
              <a:gs pos="100000">
                <a:srgbClr val="00526f"/>
              </a:gs>
            </a:gsLst>
            <a:lin ang="3624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Group 38" descr=""/>
          <p:cNvPicPr/>
          <p:nvPr/>
        </p:nvPicPr>
        <p:blipFill>
          <a:blip r:embed="rId3"/>
          <a:stretch/>
        </p:blipFill>
        <p:spPr>
          <a:xfrm>
            <a:off x="706320" y="-19080"/>
            <a:ext cx="7712280" cy="6896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4"/>
          <p:cNvSpPr/>
          <p:nvPr/>
        </p:nvSpPr>
        <p:spPr>
          <a:xfrm rot="19476600">
            <a:off x="5151960" y="186228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4"/>
          <p:cNvSpPr/>
          <p:nvPr/>
        </p:nvSpPr>
        <p:spPr>
          <a:xfrm rot="5400000">
            <a:off x="3887280" y="14061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3"/>
          <p:cNvSpPr/>
          <p:nvPr/>
        </p:nvSpPr>
        <p:spPr>
          <a:xfrm>
            <a:off x="288000" y="21420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Цветок  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7715160" cy="170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:\Documents and Settings\Aida\Рабочий стол\Рисунок18.jpg"/>
          <p:cNvPicPr/>
          <p:nvPr/>
        </p:nvPicPr>
        <p:blipFill>
          <a:blip r:embed="rId3"/>
          <a:stretch/>
        </p:blipFill>
        <p:spPr>
          <a:xfrm>
            <a:off x="1571760" y="2500200"/>
            <a:ext cx="6181560" cy="186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4"/>
          <a:stretch/>
        </p:blipFill>
        <p:spPr>
          <a:xfrm>
            <a:off x="642960" y="4643280"/>
            <a:ext cx="7643880" cy="17686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214200" y="2071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Люди на свет рождаются разными: непохожими, своеобраз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142920" y="428616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Чтобы других ты смог понимать, нужно терпенье в себе восп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3158640" y="50004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Вертушк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367080" y="5000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Дерево 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3143160" y="1285920"/>
            <a:ext cx="42865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3" descr=""/>
          <p:cNvPicPr/>
          <p:nvPr/>
        </p:nvPicPr>
        <p:blipFill>
          <a:blip r:embed="rId2"/>
          <a:stretch/>
        </p:blipFill>
        <p:spPr>
          <a:xfrm>
            <a:off x="500040" y="428760"/>
            <a:ext cx="2016000" cy="588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3"/>
          <a:stretch/>
        </p:blipFill>
        <p:spPr>
          <a:xfrm>
            <a:off x="6643800" y="428760"/>
            <a:ext cx="2030400" cy="600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2641680" y="785880"/>
            <a:ext cx="3787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785880" y="2643120"/>
            <a:ext cx="742932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3"/>
          <a:stretch/>
        </p:blipFill>
        <p:spPr>
          <a:xfrm>
            <a:off x="785880" y="500040"/>
            <a:ext cx="7358040" cy="1935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357120" y="471492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ость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– признание, уважение и соблюдение прав и свобод всех людей без различения социальных, классовых, религиозных, этнических и иных особ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357120" y="40719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2239200" y="428760"/>
            <a:ext cx="49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Основные черты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8760" y="1143000"/>
          <a:ext cx="8429400" cy="3244680"/>
        </p:xfrm>
        <a:graphic>
          <a:graphicData uri="http://schemas.openxmlformats.org/drawingml/2006/table">
            <a:tbl>
              <a:tblPr/>
              <a:tblGrid>
                <a:gridCol w="4143240"/>
                <a:gridCol w="4286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лерантная л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олерантная л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ажение мне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жела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нор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ние что-нибудь делать вмест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го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имание и приня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ерп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ткость, снисходи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небрежение, раздра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верие, гуманиз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душие, цин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зн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рессив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1357200" y="4643280"/>
            <a:ext cx="63975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285840" y="71424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терпимый и терпелив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читающийся с чужими мнениями и интере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меющий решать конфликты путем убежд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заимопо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ветливый и заботливый, вежливый и деликат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важающий окружающих и уважаемый 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важающий права свои и других, умеющий слуша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лыша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заботливый, сострадающий, поддерживающ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атриот своей школы, города, России, заботящийся об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оцвет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человек, берегущий природу и куль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трудолюбивый, успешный, независимый, счастл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715840" y="2858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ая 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8588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264312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4"/>
          <a:stretch/>
        </p:blipFill>
        <p:spPr>
          <a:xfrm>
            <a:off x="457200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6429240" y="5929200"/>
            <a:ext cx="18478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642960" y="3071880"/>
            <a:ext cx="7786800" cy="335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571680" y="3143160"/>
            <a:ext cx="7929360" cy="32860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428760" y="714240"/>
            <a:ext cx="850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 мое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се терпимые и терпелив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здоровые, добрые, любя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важающие, понимающие, поддерживающие друг др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кружающие друг друга забо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нимательные, отзывчивые, интересующиеся плана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заботами друг др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спешные, независимые, счастли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213360" y="28584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285840" y="785880"/>
            <a:ext cx="8858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 моем посё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охожие доброжелательные, вежливые, наряд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лицы, дворы и парки чистые, ухоже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ка и воздух чистые, природа здоров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школа просторная, светл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чителя умные, добрые, справедливые, понимающ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меющие поддержать, любящие свое дело, свою работу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детей, знающие и понимающие интересы уче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чащиеся доброжелательные, уважающие друг друга и вс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отрудников школы, умеющие слушать и слыш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онимающие и поддерживающие друг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5716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271476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4"/>
          <a:stretch/>
        </p:blipFill>
        <p:spPr>
          <a:xfrm>
            <a:off x="4643280" y="59292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5"/>
          <a:stretch/>
        </p:blipFill>
        <p:spPr>
          <a:xfrm>
            <a:off x="6500880" y="5929200"/>
            <a:ext cx="1847880" cy="5796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>
            <a:off x="2927520" y="35712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ый посё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6"/>
          <a:stretch/>
        </p:blipFill>
        <p:spPr>
          <a:xfrm>
            <a:off x="1000080" y="4357800"/>
            <a:ext cx="70009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714680" y="2857680"/>
            <a:ext cx="5072040" cy="3084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"/>
          <p:cNvSpPr/>
          <p:nvPr/>
        </p:nvSpPr>
        <p:spPr>
          <a:xfrm>
            <a:off x="-214200" y="642960"/>
            <a:ext cx="9501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 моей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ласть справедливая, профессиональная, ответстве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заботящаяся о своих граждан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народ здоровый, доброжелательный, трудолюбив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беспеченный, заботящийся о процветании своей ст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се граждане – патриоты своей страны, свобод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уважающие права свои и других, ценящие добрососед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тношения, мир и согласие, право каждого быть самим соб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страна сотрудничает с другими странами мира, сохра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ир и дружбу во вс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3073680" y="28584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Толерантная 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785880" y="5929200"/>
            <a:ext cx="1919160" cy="579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4"/>
          <a:stretch/>
        </p:blipFill>
        <p:spPr>
          <a:xfrm>
            <a:off x="2643120" y="5929200"/>
            <a:ext cx="1919520" cy="579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5"/>
          <a:stretch/>
        </p:blipFill>
        <p:spPr>
          <a:xfrm>
            <a:off x="4572000" y="5929200"/>
            <a:ext cx="1919160" cy="57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6"/>
          <a:stretch/>
        </p:blipFill>
        <p:spPr>
          <a:xfrm>
            <a:off x="6429240" y="5929200"/>
            <a:ext cx="19195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398680" y="3786120"/>
            <a:ext cx="4030560" cy="239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Рисунок3.jpg"/>
          <p:cNvPicPr/>
          <p:nvPr/>
        </p:nvPicPr>
        <p:blipFill>
          <a:blip r:embed="rId3"/>
          <a:stretch/>
        </p:blipFill>
        <p:spPr>
          <a:xfrm>
            <a:off x="2500200" y="3714840"/>
            <a:ext cx="4143600" cy="2816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42920" y="871560"/>
            <a:ext cx="87152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tolerance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tolerance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(английский) – готовность быть терпимым, снисходи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рпим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649600" y="35712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Что  такое толерант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04292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H:\Documents and Settings\Aida\Рабочий стол\Рисунок6.jpg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1857240" y="642960"/>
            <a:ext cx="5429520" cy="50022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361960" y="3571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ы строим культуру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14200" y="55044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Мы больше получим, чем отдадим, если будем чаще вспоминать про то, что нас соединяет, про то, что человек становится Человеком только благодаря другому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:\Documents and Settings\Aida\Рабочий стол\толерантность\tolerance.jpg"/>
          <p:cNvPicPr/>
          <p:nvPr/>
        </p:nvPicPr>
        <p:blipFill>
          <a:blip r:embed="rId2"/>
          <a:stretch/>
        </p:blipFill>
        <p:spPr>
          <a:xfrm>
            <a:off x="2252520" y="357120"/>
            <a:ext cx="4867560" cy="46436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"/>
          <p:cNvSpPr/>
          <p:nvPr/>
        </p:nvSpPr>
        <p:spPr>
          <a:xfrm>
            <a:off x="285840" y="51436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Наша земля – это место, где мы можем любить друг друга, соблюдать традиции и продолжать  историю Планеты 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3714840" y="3571920"/>
            <a:ext cx="2071440" cy="18921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601920" y="2143080"/>
            <a:ext cx="781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85716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271476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5"/>
          <a:stretch/>
        </p:blipFill>
        <p:spPr>
          <a:xfrm>
            <a:off x="464328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6"/>
          <a:stretch/>
        </p:blipFill>
        <p:spPr>
          <a:xfrm>
            <a:off x="6500880" y="6000840"/>
            <a:ext cx="18478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3" descr=""/>
          <p:cNvPicPr/>
          <p:nvPr/>
        </p:nvPicPr>
        <p:blipFill>
          <a:blip r:embed="rId2"/>
          <a:stretch/>
        </p:blipFill>
        <p:spPr>
          <a:xfrm>
            <a:off x="353880" y="4780080"/>
            <a:ext cx="8508960" cy="17668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3359520" y="42861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Использованные ресурс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H:\Documents and Settings\Aida\Рабочий стол\Рисунок2.jpg"/>
          <p:cNvPicPr/>
          <p:nvPr/>
        </p:nvPicPr>
        <p:blipFill>
          <a:blip r:embed="rId3"/>
          <a:stretch/>
        </p:blipFill>
        <p:spPr>
          <a:xfrm>
            <a:off x="2556000" y="836640"/>
            <a:ext cx="3535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285840" y="3995640"/>
            <a:ext cx="85723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«…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Толерантность - это обязанность способствовать утверждению прав человека,.. демократии и правопорядка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(Декларация принципов толерантности, утвержденная резолюцией 5.61 Генеральной конференции ЮНЕСКО от 16 ноября 1995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785960" y="642960"/>
            <a:ext cx="5143320" cy="3409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848680" y="21420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олеран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:\Documents and Settings\Aida\Рабочий стол\Рисунок5.jpg"/>
          <p:cNvPicPr/>
          <p:nvPr/>
        </p:nvPicPr>
        <p:blipFill>
          <a:blip r:embed="rId2"/>
          <a:stretch/>
        </p:blipFill>
        <p:spPr>
          <a:xfrm>
            <a:off x="6286680" y="428616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1428840" y="500040"/>
            <a:ext cx="5286240" cy="447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28800" y="4074840"/>
            <a:ext cx="7073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"/>
              </a:rPr>
              <a:t>Толерантность - это дружба</a:t>
            </a:r>
            <a:r>
              <a:rPr b="1" i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345600" y="71424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олерантность - это милосер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25880" y="2214720"/>
            <a:ext cx="70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Толерантность - это состр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37280" y="300024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Толерантность - это ув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213560" y="150012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Толерантность - это доброта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355320" y="528624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олерантность - это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643040" y="857160"/>
            <a:ext cx="5688000" cy="4071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285920" y="50007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Толерантность - это гармония в многообраз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552840" y="1676520"/>
            <a:ext cx="1857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Tole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1214280" y="1000080"/>
            <a:ext cx="646920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5"/>
          <a:stretch/>
        </p:blipFill>
        <p:spPr>
          <a:xfrm>
            <a:off x="714240" y="642960"/>
            <a:ext cx="7429680" cy="4500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571680" y="528624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Толерантности способствуют: знания, открытость, общение и свобода мыслей, совести, убеж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2336760" cy="32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:\Documents and Settings\Aida\Рабочий стол\Рисунок4.jpg"/>
          <p:cNvPicPr/>
          <p:nvPr/>
        </p:nvPicPr>
        <p:blipFill>
          <a:blip r:embed="rId3"/>
          <a:stretch/>
        </p:blipFill>
        <p:spPr>
          <a:xfrm>
            <a:off x="3214800" y="1643040"/>
            <a:ext cx="2473200" cy="33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4"/>
          <a:stretch/>
        </p:blipFill>
        <p:spPr>
          <a:xfrm>
            <a:off x="6072120" y="857160"/>
            <a:ext cx="2470320" cy="335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H:\Documents and Settings\Aida\Рабочий стол\Рисунок1.jpg"/>
          <p:cNvPicPr/>
          <p:nvPr/>
        </p:nvPicPr>
        <p:blipFill>
          <a:blip r:embed="rId5"/>
          <a:stretch/>
        </p:blipFill>
        <p:spPr>
          <a:xfrm>
            <a:off x="3214800" y="1571760"/>
            <a:ext cx="2811240" cy="38574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1580400" y="5643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Толерантность – путь к миру и согла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6"/>
          <a:stretch/>
        </p:blipFill>
        <p:spPr>
          <a:xfrm>
            <a:off x="571680" y="857160"/>
            <a:ext cx="226512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Documents and Settings\Aida\Рабочий стол\Рисунок1.jpg"/>
          <p:cNvPicPr/>
          <p:nvPr/>
        </p:nvPicPr>
        <p:blipFill>
          <a:blip r:embed="rId7"/>
          <a:stretch/>
        </p:blipFill>
        <p:spPr>
          <a:xfrm>
            <a:off x="6072120" y="785880"/>
            <a:ext cx="25005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H:\Documents and Settings\Aida\Рабочий стол\Рисунок4.jpg"/>
          <p:cNvPicPr/>
          <p:nvPr/>
        </p:nvPicPr>
        <p:blipFill>
          <a:blip r:embed="rId2"/>
          <a:stretch/>
        </p:blipFill>
        <p:spPr>
          <a:xfrm>
            <a:off x="3357720" y="3357720"/>
            <a:ext cx="2336760" cy="157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:\Documents and Settings\Aida\Рабочий стол\Рисунок5.jpg"/>
          <p:cNvPicPr/>
          <p:nvPr/>
        </p:nvPicPr>
        <p:blipFill>
          <a:blip r:embed="rId3"/>
          <a:stretch/>
        </p:blipFill>
        <p:spPr>
          <a:xfrm>
            <a:off x="2928960" y="2714760"/>
            <a:ext cx="3500280" cy="224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4"/>
          <a:stretch/>
        </p:blipFill>
        <p:spPr>
          <a:xfrm>
            <a:off x="2571840" y="2571840"/>
            <a:ext cx="4071960" cy="271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5"/>
          <a:stretch/>
        </p:blipFill>
        <p:spPr>
          <a:xfrm>
            <a:off x="1428840" y="2071800"/>
            <a:ext cx="6143400" cy="4354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714240" y="50004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Быть толерантным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– означает уважать других, невзирая на различия. Это означает быть внимательным к другим и обращать внимание на то, что нас сближ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"/>
          <p:cNvPicPr/>
          <p:nvPr/>
        </p:nvPicPr>
        <p:blipFill>
          <a:blip r:embed="rId2"/>
          <a:stretch/>
        </p:blipFill>
        <p:spPr>
          <a:xfrm>
            <a:off x="1785960" y="1357200"/>
            <a:ext cx="5695920" cy="385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:\Documents and Settings\Aida\Рабочий стол\Рисунок13.jpg"/>
          <p:cNvPicPr/>
          <p:nvPr/>
        </p:nvPicPr>
        <p:blipFill>
          <a:blip r:embed="rId3"/>
          <a:stretch/>
        </p:blipFill>
        <p:spPr>
          <a:xfrm>
            <a:off x="1500120" y="1214280"/>
            <a:ext cx="6254640" cy="437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4"/>
          <a:stretch/>
        </p:blipFill>
        <p:spPr>
          <a:xfrm>
            <a:off x="857160" y="571680"/>
            <a:ext cx="7315200" cy="5022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810080" y="578736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Все – мы разные, все мы – рав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7:21:25Z</dcterms:created>
  <dc:creator>Александрова З.В. (Aida_Alex) </dc:creator>
  <dc:description>http://aida.ucoz.ru</dc:description>
  <dc:language>en-US</dc:language>
  <cp:lastModifiedBy>user</cp:lastModifiedBy>
  <dcterms:modified xsi:type="dcterms:W3CDTF">2014-08-30T18:27:45Z</dcterms:modified>
  <cp:revision>267</cp:revision>
  <dc:subject>классный час</dc:subject>
  <dc:title>Планета Толератности</dc:title>
</cp:coreProperties>
</file>