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16A-CB29-4026-B729-148B3120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457-E4BC-4F10-B0AF-CB667F83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F9F-7F63-4376-A8E0-B8D62B2E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23D-CEB0-42E5-A089-C0B37ECB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4AF-5B73-4AE5-9AFE-2D520991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FB8-022C-4509-BB33-7A5AF200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072-9A2B-43B3-81FB-0D9F84DA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057-30EF-4085-B424-DF0E166D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05D-4076-40D6-8ABD-B5E2F4C4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FF2-7E61-4B77-ADD6-FBF315B4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8D1-0506-4A58-B6F9-66B163C4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2BC-FEBE-49CD-9640-3E671DAD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073C-36A3-4F27-A51F-E1C2CFF1C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BrushType"/>
              </a:rPr>
              <a:t>Викторина по сказкам</a:t>
            </a:r>
            <a:br>
              <a:rPr sz="5400"/>
            </a:br>
            <a:r>
              <a:rPr b="0" lang="en-US" sz="5400" spc="-1" strike="noStrike">
                <a:solidFill>
                  <a:srgbClr val="008000"/>
                </a:solidFill>
                <a:latin typeface="BrushType"/>
              </a:rPr>
              <a:t>А.С.Пушк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57150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432432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2081160" y="333360"/>
            <a:ext cx="1296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0000ff"/>
              </a:buClr>
              <a:buFont typeface="Brush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Какие слова приговаривал Балда, наказывая по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за жадность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96960" y="2708280"/>
            <a:ext cx="5517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BrushType"/>
              </a:rPr>
              <a:t>("Не гонялся бы ты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BrushType"/>
              </a:rPr>
              <a:t> </a:t>
            </a:r>
            <a:r>
              <a:rPr b="0" lang="en-US" sz="4400" spc="-1" strike="noStrike">
                <a:solidFill>
                  <a:srgbClr val="cc3300"/>
                </a:solidFill>
                <a:latin typeface="BrushType"/>
              </a:rPr>
              <a:t>поп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BrushType"/>
              </a:rPr>
              <a:t>за дешевизной")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16360" y="260280"/>
            <a:ext cx="3479760" cy="4876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0" r="0" b="43"/>
          <a:stretch/>
        </p:blipFill>
        <p:spPr>
          <a:xfrm rot="20529000">
            <a:off x="611280" y="2204640"/>
            <a:ext cx="3133800" cy="3683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rcRect l="0" t="0" r="-104" b="142"/>
          <a:stretch/>
        </p:blipFill>
        <p:spPr>
          <a:xfrm rot="1635600">
            <a:off x="5292360" y="2349000"/>
            <a:ext cx="3089160" cy="3651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1170000" y="5734080"/>
            <a:ext cx="114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- К какой сказке относятся эти иллюстрац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 rot="678000">
            <a:off x="4716360" y="980640"/>
            <a:ext cx="3772080" cy="5486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21223200">
            <a:off x="324000" y="907560"/>
            <a:ext cx="400032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Назовите имена герое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616572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BrushType"/>
              </a:rPr>
              <a:t>Шамаханская цар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6308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ushType"/>
              </a:rPr>
              <a:t>Царь Дад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40"/>
                            </p:stCondLst>
                            <p:childTnLst>
                              <p:par>
                                <p:cTn id="27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06080" y="620640"/>
            <a:ext cx="11885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- В каких сказках Пушкина встречаются числ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1484280"/>
            <a:ext cx="7353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Font typeface="Brush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Прочитайте строчки, используя эти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(3, 7, 30, 33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63400" y="3141720"/>
            <a:ext cx="1230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rushType"/>
              </a:rPr>
              <a:t>1) 3 девицы под окном.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rushType"/>
              </a:rPr>
              <a:t>2) Они жили в ветхой землянке ровно 30 лет и 3 года.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rushType"/>
              </a:rPr>
              <a:t>3) 33 богатыря в чешуе, как жар, горя.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rushType"/>
              </a:rPr>
              <a:t>4) Входят 7 богатырей, 7 румяных усачей.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rushType"/>
              </a:rPr>
              <a:t>5) От 3-го щелчка вышибло ум у старика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997360"/>
            <a:ext cx="8640720" cy="3671640"/>
          </a:xfrm>
          <a:prstGeom prst="rect">
            <a:avLst/>
          </a:prstGeom>
          <a:gradFill rotWithShape="0">
            <a:gsLst>
              <a:gs pos="0">
                <a:srgbClr val="fbdf53"/>
              </a:gs>
              <a:gs pos="100000">
                <a:srgbClr val="736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3300"/>
                </a:solidFill>
                <a:uFillTx/>
                <a:latin typeface="BrushType"/>
              </a:rPr>
              <a:t>Домашнее задание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ushType"/>
              </a:rPr>
              <a:t>    </a:t>
            </a: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Составить кроссворд, состоящий из персонажей сказок Пушкина, чтобы получилась фамил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великого русского поэт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081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2411280" y="4581360"/>
            <a:ext cx="2089440" cy="1872000"/>
          </a:xfrm>
          <a:prstGeom prst="wedgeEllipseCallout">
            <a:avLst>
              <a:gd name="adj1" fmla="val -83967"/>
              <a:gd name="adj2" fmla="val -21250"/>
            </a:avLst>
          </a:prstGeom>
          <a:solidFill>
            <a:srgbClr val="d57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«Сказка о мёртвой царевне и семи богатыр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43280" y="-747720"/>
            <a:ext cx="3168720" cy="2997360"/>
          </a:xfrm>
          <a:prstGeom prst="star5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каз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золо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у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393800">
            <a:off x="2410920" y="2923920"/>
            <a:ext cx="3168720" cy="273528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Сказка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ыбак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ыбк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9675800">
            <a:off x="4500360" y="2491920"/>
            <a:ext cx="3168360" cy="27352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«Сказка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Ца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алтан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8720" y="1844640"/>
            <a:ext cx="2158920" cy="1871640"/>
          </a:xfrm>
          <a:prstGeom prst="wedgeEllipseCallout">
            <a:avLst>
              <a:gd name="adj1" fmla="val -84486"/>
              <a:gd name="adj2" fmla="val -32189"/>
            </a:avLst>
          </a:prstGeom>
          <a:solidFill>
            <a:srgbClr val="80ec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казка о Попе и работнике его Балд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4269000">
            <a:off x="1763280" y="1269360"/>
            <a:ext cx="2521080" cy="2232360"/>
          </a:xfrm>
          <a:custGeom>
            <a:avLst/>
            <a:gdLst>
              <a:gd name="textAreaLeft" fmla="*/ 592560 w 2521080"/>
              <a:gd name="textAreaRight" fmla="*/ 1927080 w 2521080"/>
              <a:gd name="textAreaTop" fmla="*/ 262440 h 2232360"/>
              <a:gd name="textAreaBottom" fmla="*/ 1400400 h 223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b83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Руслан и Людми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890880" cy="468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791160" cy="4753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В очень известной поэме А.С.Пушкина есть 24 строчки, где одно и то же слово встречается 14 раз. Назовите это слово и поэму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2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2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-  У лукоморья стоит дерево, по которому ходит кот. Какой кот - сибирский или бухарский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58920" y="2203560"/>
            <a:ext cx="67690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- Что говорит кот, когда идет по дубу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3281400" cy="524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27640" y="2565360"/>
            <a:ext cx="3960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(Идет направо - песнь заводит, налево - сказку говорит)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- Какими словами начинается сказка о рыбаке и рыбке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547640"/>
            <a:ext cx="5184720" cy="41356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447800" y="2133720"/>
            <a:ext cx="5405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4d00"/>
                </a:solidFill>
                <a:latin typeface="BrushType"/>
              </a:rPr>
              <a:t>(Жил ста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4d00"/>
                </a:solidFill>
                <a:latin typeface="BrushType"/>
              </a:rPr>
              <a:t> </a:t>
            </a:r>
            <a:r>
              <a:rPr b="0" lang="en-US" sz="4400" spc="-1" strike="noStrike">
                <a:solidFill>
                  <a:srgbClr val="e64d00"/>
                </a:solidFill>
                <a:latin typeface="BrushType"/>
              </a:rPr>
              <a:t>со своею старух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4d00"/>
                </a:solidFill>
                <a:latin typeface="BrushType"/>
              </a:rPr>
              <a:t> </a:t>
            </a:r>
            <a:r>
              <a:rPr b="0" lang="en-US" sz="4400" spc="-1" strike="noStrike">
                <a:solidFill>
                  <a:srgbClr val="e64d00"/>
                </a:solidFill>
                <a:latin typeface="BrushType"/>
              </a:rPr>
              <a:t>у сам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4d00"/>
                </a:solidFill>
                <a:latin typeface="BrushType"/>
              </a:rPr>
              <a:t>синего моря)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Сколько лет вместе прожили старик со старухой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-958" b="-33"/>
          <a:stretch/>
        </p:blipFill>
        <p:spPr>
          <a:xfrm rot="20490600">
            <a:off x="539640" y="1125000"/>
            <a:ext cx="3210120" cy="3703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-39" b="99"/>
          <a:stretch/>
        </p:blipFill>
        <p:spPr>
          <a:xfrm rot="1268400">
            <a:off x="5312880" y="1150560"/>
            <a:ext cx="3106800" cy="3705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65680" y="4724280"/>
            <a:ext cx="652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BrushType"/>
              </a:rPr>
              <a:t>(Ровно 30 лет и 3 года)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072880" y="5589720"/>
            <a:ext cx="1348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Назовите эпизоды, изображенные на иллюстраци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8120" y="115920"/>
            <a:ext cx="897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Font typeface="Brush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Озаглавьте иллюстрацию словами из сказки.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-100" b="98"/>
          <a:stretch/>
        </p:blipFill>
        <p:spPr>
          <a:xfrm rot="21282000">
            <a:off x="324000" y="1484280"/>
            <a:ext cx="4070160" cy="4680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51800" y="907920"/>
            <a:ext cx="64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- Вспомните прави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BrushType"/>
              </a:rPr>
              <a:t>название сказ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2421000"/>
            <a:ext cx="55432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BrushType"/>
              </a:rPr>
              <a:t>("Сказка о царе Салтан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BrushType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BrushType"/>
              </a:rPr>
              <a:t>о сыне е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BrushType"/>
              </a:rPr>
              <a:t>славном и могуч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BrushType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BrushType"/>
              </a:rPr>
              <a:t>богатыре князе Гвидоне Салтанович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BrushType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BrushType"/>
              </a:rPr>
              <a:t>и о прекрасной царевне Лебеди".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f53"/>
            </a:gs>
            <a:gs pos="100000">
              <a:srgbClr val="7366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857520" y="404640"/>
            <a:ext cx="1013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Font typeface="Brush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BrushType"/>
              </a:rPr>
              <a:t>Кто помогал князю Гвидону навести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BrushType"/>
              </a:rPr>
              <a:t>родного отц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360600" cy="5327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1433160" y="2852640"/>
            <a:ext cx="1132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BrushType"/>
              </a:rPr>
              <a:t>- В кого превращала царевн</a:t>
            </a:r>
            <a:r>
              <a:rPr b="0" lang="en-US" sz="4000" spc="-1" strike="noStrike">
                <a:solidFill>
                  <a:srgbClr val="fbdf53"/>
                </a:solidFill>
                <a:latin typeface="BrushType"/>
              </a:rPr>
              <a:t>а Лебедь князя?</a:t>
            </a:r>
            <a:r>
              <a:rPr b="0" lang="en-US" sz="1800" spc="-1" strike="noStrike">
                <a:solidFill>
                  <a:srgbClr val="fbdf5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515520" y="4941720"/>
            <a:ext cx="63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ushType"/>
              </a:rPr>
              <a:t>( Комар, муха, шмель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3:55:07Z</dcterms:created>
  <dc:creator>Sergey</dc:creator>
  <dc:description/>
  <dc:language>en-US</dc:language>
  <cp:lastModifiedBy>HOME</cp:lastModifiedBy>
  <dcterms:modified xsi:type="dcterms:W3CDTF">2009-05-26T18:15:52Z</dcterms:modified>
  <cp:revision>19</cp:revision>
  <dc:subject/>
  <dc:title>Викторина по сказкам А.С.Пушкина</dc:title>
</cp:coreProperties>
</file>