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668-E5D4-457A-9D39-88A331C2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15C-F4C6-4012-9E08-AE6B805B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DF6-69F2-4676-8AF8-962409C4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FD6-827C-4C19-A1E8-45327FDB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5C7-2228-4EA6-834C-388BFE3A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FE5-6B6E-4016-90BD-710C8719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C65-2C71-4993-8B7C-322EBA02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17F-8BB2-46DF-88EA-0E10E86A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3E9-55A7-4D41-B3BE-9BCEC718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4FC-DC5D-4272-8E5F-ED315BA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250-0B32-4545-BDEA-AD3450CD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9FE-0000-4644-A131-93C701B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6D25-2206-42F8-A967-DF4B71D81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BrushType"/>
              </a:rPr>
              <a:t>Викторина по сказкам</a:t>
            </a:r>
            <a:br>
              <a:rPr sz="5400"/>
            </a:br>
            <a:r>
              <a:rPr b="0" lang="en-US" sz="5400" spc="-1" strike="noStrike">
                <a:solidFill>
                  <a:srgbClr val="008000"/>
                </a:solidFill>
                <a:latin typeface="BrushType"/>
              </a:rPr>
              <a:t>А.С.Пушк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7150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432432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2081160" y="333360"/>
            <a:ext cx="1296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ff"/>
              </a:buClr>
              <a:buFont typeface="Brush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Какие слова приговаривал Балда, наказывая по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за жадност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96960" y="2708280"/>
            <a:ext cx="5517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BrushType"/>
              </a:rPr>
              <a:t>("Не гонялся бы т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BrushType"/>
              </a:rPr>
              <a:t> </a:t>
            </a:r>
            <a:r>
              <a:rPr b="0" lang="en-US" sz="4400" spc="-1" strike="noStrike">
                <a:solidFill>
                  <a:srgbClr val="cc3300"/>
                </a:solidFill>
                <a:latin typeface="BrushType"/>
              </a:rPr>
              <a:t>поп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BrushType"/>
              </a:rPr>
              <a:t>за дешевизной")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3479760" cy="4876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0" b="43"/>
          <a:stretch/>
        </p:blipFill>
        <p:spPr>
          <a:xfrm rot="20529000">
            <a:off x="611280" y="2204640"/>
            <a:ext cx="3133800" cy="3683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0" r="-104" b="142"/>
          <a:stretch/>
        </p:blipFill>
        <p:spPr>
          <a:xfrm rot="1635600">
            <a:off x="5292360" y="2349000"/>
            <a:ext cx="3089160" cy="3651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1170000" y="5734080"/>
            <a:ext cx="11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- К какой сказке относятся эти иллюстра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678000">
            <a:off x="4716360" y="980640"/>
            <a:ext cx="3772080" cy="5486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1223200">
            <a:off x="324000" y="907560"/>
            <a:ext cx="400032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Назовите имена герое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616572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rushType"/>
              </a:rPr>
              <a:t>Шамаханская ца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6308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ushType"/>
              </a:rPr>
              <a:t>Царь Да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40"/>
                            </p:stCondLst>
                            <p:childTnLst>
                              <p:par>
                                <p:cTn id="2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06080" y="620640"/>
            <a:ext cx="1188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- В каких сказках Пушкина встречаются чис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484280"/>
            <a:ext cx="7353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Brush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Прочитайте строчки, используя эти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(3, 7, 30, 33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63400" y="3141720"/>
            <a:ext cx="1230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1) 3 девицы под окном.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2) Они жили в ветхой землянке ровно 30 лет и 3 года.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3) 33 богатыря в чешуе, как жар, горя.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4) Входят 7 богатырей, 7 румяных усачей.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5) От 3-го щелчка вышибло ум у старик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997360"/>
            <a:ext cx="8640720" cy="3671640"/>
          </a:xfrm>
          <a:prstGeom prst="rect">
            <a:avLst/>
          </a:prstGeom>
          <a:gradFill rotWithShape="0">
            <a:gsLst>
              <a:gs pos="0">
                <a:srgbClr val="fbdf53"/>
              </a:gs>
              <a:gs pos="100000">
                <a:srgbClr val="736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3300"/>
                </a:solidFill>
                <a:uFillTx/>
                <a:latin typeface="BrushType"/>
              </a:rPr>
              <a:t>Домашнее задание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ushType"/>
              </a:rPr>
              <a:t>    </a:t>
            </a: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Составить кроссворд, состоящий из персонажей сказок Пушкина, чтобы получилась фамил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великого русского поэ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081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411280" y="4581360"/>
            <a:ext cx="2089440" cy="1872000"/>
          </a:xfrm>
          <a:prstGeom prst="wedgeEllipseCallout">
            <a:avLst>
              <a:gd name="adj1" fmla="val -83967"/>
              <a:gd name="adj2" fmla="val -21250"/>
            </a:avLst>
          </a:prstGeom>
          <a:solidFill>
            <a:srgbClr val="d57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«Сказка о мёртвой царевне и семи богатыр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-747720"/>
            <a:ext cx="3168720" cy="2997360"/>
          </a:xfrm>
          <a:prstGeom prst="star5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каз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золо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у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393800">
            <a:off x="2410920" y="2923920"/>
            <a:ext cx="3168720" cy="273528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казк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ыбак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ыбк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9675800">
            <a:off x="4500360" y="2491920"/>
            <a:ext cx="3168360" cy="2735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«Сказка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Ца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алта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844640"/>
            <a:ext cx="2158920" cy="1871640"/>
          </a:xfrm>
          <a:prstGeom prst="wedgeEllipseCallout">
            <a:avLst>
              <a:gd name="adj1" fmla="val -84486"/>
              <a:gd name="adj2" fmla="val -32189"/>
            </a:avLst>
          </a:prstGeom>
          <a:solidFill>
            <a:srgbClr val="80ec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казка о Попе и работнике его Бал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4269000">
            <a:off x="1763280" y="1269360"/>
            <a:ext cx="2521080" cy="2232360"/>
          </a:xfrm>
          <a:custGeom>
            <a:avLst/>
            <a:gdLst>
              <a:gd name="textAreaLeft" fmla="*/ 592560 w 2521080"/>
              <a:gd name="textAreaRight" fmla="*/ 1927080 w 2521080"/>
              <a:gd name="textAreaTop" fmla="*/ 262440 h 2232360"/>
              <a:gd name="textAreaBottom" fmla="*/ 1400400 h 223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b83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услан и Людми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890880" cy="468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79116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В очень известной поэме А.С.Пушкина есть 24 строчки, где одно и то же слово встречается 14 раз. Назовите это слово и поэму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2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2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-  У лукоморья стоит дерево, по которому ходит кот. Какой кот - сибирский или бухарский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58920" y="2203560"/>
            <a:ext cx="67690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- Что говорит кот, когда идет по дубу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281400" cy="524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27640" y="2565360"/>
            <a:ext cx="396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(Идет направо - песнь заводит, налево - сказку говорит)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- Какими словами начинается сказка о рыбаке и рыбке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547640"/>
            <a:ext cx="5184720" cy="4135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447800" y="2133720"/>
            <a:ext cx="540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(Жил ста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 </a:t>
            </a: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со своею старух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 </a:t>
            </a: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у сам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синего моря)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Сколько лет вместе прожили старик со старухой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-958" b="-33"/>
          <a:stretch/>
        </p:blipFill>
        <p:spPr>
          <a:xfrm rot="20490600">
            <a:off x="539640" y="1125000"/>
            <a:ext cx="3210120" cy="3703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-39" b="99"/>
          <a:stretch/>
        </p:blipFill>
        <p:spPr>
          <a:xfrm rot="1268400">
            <a:off x="5312880" y="1150560"/>
            <a:ext cx="3106800" cy="370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65680" y="4724280"/>
            <a:ext cx="652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BrushType"/>
              </a:rPr>
              <a:t>(Ровно 30 лет и 3 года)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072880" y="5589720"/>
            <a:ext cx="134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Назовите эпизоды, изображенные на иллюстраци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8120" y="115920"/>
            <a:ext cx="897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Brush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Озаглавьте иллюстрацию словами из сказки.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-100" b="98"/>
          <a:stretch/>
        </p:blipFill>
        <p:spPr>
          <a:xfrm rot="21282000">
            <a:off x="324000" y="1484280"/>
            <a:ext cx="4070160" cy="468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51800" y="907920"/>
            <a:ext cx="64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- Вспомните прави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название сказ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2421000"/>
            <a:ext cx="55432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("Сказка о царе Салтан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о сыне е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славном и могуч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богатыре князе Гвидоне Салтанович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и о прекрасной царевне Лебеди".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857520" y="404640"/>
            <a:ext cx="1013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Brush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BrushType"/>
              </a:rPr>
              <a:t>Кто помогал князю Гвидону навест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BrushType"/>
              </a:rPr>
              <a:t>родного отц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360600" cy="5327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1433160" y="2852640"/>
            <a:ext cx="1132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BrushType"/>
              </a:rPr>
              <a:t>- В кого превращала царевн</a:t>
            </a:r>
            <a:r>
              <a:rPr b="0" lang="en-US" sz="4000" spc="-1" strike="noStrike">
                <a:solidFill>
                  <a:srgbClr val="fbdf53"/>
                </a:solidFill>
                <a:latin typeface="BrushType"/>
              </a:rPr>
              <a:t>а Лебедь князя?</a:t>
            </a:r>
            <a:r>
              <a:rPr b="0" lang="en-US" sz="18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515520" y="4941720"/>
            <a:ext cx="63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( Комар, муха, шмель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3:55:07Z</dcterms:created>
  <dc:creator>Sergey</dc:creator>
  <dc:description/>
  <dc:language>en-US</dc:language>
  <cp:lastModifiedBy>HOME</cp:lastModifiedBy>
  <dcterms:modified xsi:type="dcterms:W3CDTF">2009-05-26T18:15:52Z</dcterms:modified>
  <cp:revision>19</cp:revision>
  <dc:subject/>
  <dc:title>Викторина по сказкам А.С.Пушкина</dc:title>
</cp:coreProperties>
</file>