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F717-F476-4364-91A1-29F16196D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CE0E-4300-42C2-94A8-8C69C04F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DF93-8878-4A5E-A816-59C5483BB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724F-E057-47BE-A89A-EFE91F7CC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0898-1AA2-4ED5-AB72-6D5B2A315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083DB-00EB-4904-916C-31E4B05B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FAE5-2526-46E0-9658-5979861B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715F-42DA-41B4-A735-953E2D74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DBE6-5412-4095-A002-092624300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7666-10A5-402F-97CC-AC3A1921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621F-2277-4471-B066-C7040D92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512E-5CD6-4E4A-8A2E-F1E8A91F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8ED57-7C51-4680-BDEA-1CB72B0A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DF64C-5EA1-45FD-BA37-09C9C5F8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767D-E953-421F-B5C9-4C300223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EE43-668F-4C54-B711-8FF74BD02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2377-57BD-4604-B167-964CB3F4F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372CC-9E28-4512-A2BF-F6AA9E707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25444-AC99-4DDC-82F2-26B71783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1C2ED-158D-4A27-B3CB-01CE2823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27133-9157-48C9-9A19-F5E98865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CD020-DA91-4BC2-B107-58F8789D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4839-D1FC-4FDF-A01E-697CCDE6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860BF-7246-4AB1-94C7-69548273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F657A-8F5B-473C-8885-1044FFF7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A1EBF-415A-4237-84FC-C87C9290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72273-0C23-4356-85DD-3B4AFF81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B866C-DC86-4FC4-A4ED-D0E391B1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FCB18-D43C-40D2-AA80-9D98FF88C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83EED-CD80-43F7-841C-AD81A451C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B91C4-07D4-40B8-A12C-BC2AFC948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D2C67-494B-4D66-AE18-2D2EFF9B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1763E-3A9D-4C91-8212-05A469E9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A9F0-AF2E-4FE3-840E-ED10F61A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2C356-6A8B-470F-BD8D-2330ED77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5F68F-73FE-4218-8190-047766FE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71323-CC8E-4AAF-AA69-297BD692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747C4-346C-47E6-8368-7DC89961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7652F-C119-4508-BE2B-F2126508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761C9-5D9B-4606-8297-88453858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41C9C-DC76-4F0D-B100-C6A02AC4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677A5-6A5B-47DF-A03F-63BBD800D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FFA1D-8C04-41F2-BB20-80AF6B79A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A013F-2457-4584-9F75-FBD566C81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306A-0176-463E-A94C-5AF9594E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8F592-7353-4987-815C-0C2B729A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3215D-5D1D-449F-A448-E00FDB50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0D894-14E4-4363-A5D8-7D196A87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D25FA-A4FB-4317-AF9A-1BE65F02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DC1F3-679B-4760-88A8-A2199C03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2A627-04F1-48E6-82F6-9199960A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1990C-2170-4BF9-B4D1-BE819B6A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01268-2662-4483-843A-E3B054B3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456FE-B926-473E-AF07-403D6C73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0D73F-CB5A-48D9-9CF6-2C92A9821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0DE1-7757-4435-8D4B-1720812B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90EEC-BAEA-41A6-AEAF-E56881394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C91F4-2FCC-49B7-B35E-0E64E1AEC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2AA1A-3985-4662-B5EF-6A8FD816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7AB3D-97B5-40E8-AE8C-F246C1F5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49614-453A-4F55-A1EC-7E44B821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7CF06-7442-4AA5-80B5-91FE8097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F2826-BD6D-4BCC-81E1-9E8BF152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91EB8-9CA2-4668-A285-A3CBE3C7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BF830-AF31-40C5-BC15-CCD8275F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F34A8-BF9E-4D04-8197-E6AD5B2C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7823-20CC-44CB-8265-DFAFF3E5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33CDC-0265-4B5E-A9E6-34CE362F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F9C75-9B05-4887-AC2E-92F8DA5A6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D0F19-3CDE-42AE-A18C-AB75C29BF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E1E3B-E2F9-447F-B578-DD2DD0F56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92FE2-CB39-41F6-9C91-1AECDA0F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7E8F6-493C-44C0-B4ED-E432B301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CCA0A-4B2F-4BEE-BE6C-23D91141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3E06A-B695-45D8-87B4-C45FA0A9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18683-9D35-4F1E-9C47-66AC64C4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698C3-9F61-4A52-9B87-57C37E5B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59F5-DE27-46BA-BC91-41F30A92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FC5BA-C5DF-45C8-9E82-611E2429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61E39-D60B-45CA-93AA-2E5C1595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DDFF9-435C-4025-9DDE-204657CB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D0409-A6FF-4DE7-B86E-9E071E683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13965-2294-4EA2-9FB8-81280D532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9DE32-81FB-4AB8-A6AD-2DDE290E0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118E3-AAC3-4F71-BA17-857E4C7E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0292F-324F-4D94-96F6-3AE7EEDC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2E07E-4104-480F-A591-D68DAC5E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E5506-DFBF-4A4D-AB8E-1D3A37FB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B82D-EB00-47C3-9A15-F433BD42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BC2E1-421E-400F-98FF-E190DFD8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73DD5-6326-4A79-A9C1-9C14C210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CD54E-EA9C-420C-9C3D-206F4815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E761D-D662-400D-AFDA-9C9F2C46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E0E85-BE64-4DBA-B1EB-3B1CEA59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F2DC5-9D2E-4BDC-979E-03295540A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1262D-CFCA-4BF3-B325-7FC621D15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51A9-A325-4258-AB0B-0718EA296057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56D5-B737-4E11-A191-E92B5063C7C9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878C-FBB5-4047-B9DF-8EFF156BE182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DC84-8455-4140-95E5-DF7C1AF01670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0042-3271-43AF-9C01-9239BC96C640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3F78-6B20-4770-82D8-E7C8F29DD7A9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6065-3932-4C27-9DAE-70443374ED8D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2CF8-79ED-42EF-A425-BBA13CF80F2E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3" descr=""/>
          <p:cNvPicPr/>
          <p:nvPr/>
        </p:nvPicPr>
        <p:blipFill>
          <a:blip r:embed="rId1"/>
          <a:stretch/>
        </p:blipFill>
        <p:spPr>
          <a:xfrm>
            <a:off x="291960" y="268200"/>
            <a:ext cx="8547120" cy="22370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5" descr="р19"/>
          <p:cNvPicPr/>
          <p:nvPr/>
        </p:nvPicPr>
        <p:blipFill>
          <a:blip r:embed="rId2"/>
          <a:stretch/>
        </p:blipFill>
        <p:spPr>
          <a:xfrm>
            <a:off x="5572080" y="3071880"/>
            <a:ext cx="32004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500040" y="228600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пасибо за внимание.</a:t>
            </a:r>
            <a:endParaRPr b="0" lang="en-US" sz="4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Заголовок 2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Заголовок 2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242560" cy="14508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первоклассник"/>
          <p:cNvPicPr/>
          <p:nvPr/>
        </p:nvPicPr>
        <p:blipFill>
          <a:blip r:embed="rId2"/>
          <a:stretch/>
        </p:blipFill>
        <p:spPr>
          <a:xfrm>
            <a:off x="4786200" y="2071800"/>
            <a:ext cx="381024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ытого типа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 предписанными ответами, когда необходимо выбрать из предложенных вариантов ответа тот или иной вариант)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ого типа 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 свободными ответами, когда необходимо самостоятельно дописать слово, предложение, знак и т.д.)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Заголовок 2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5885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веди в кружок правильный ответ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нчание служит для     образования новых слов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     Нет 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ги пишутся с другими словами слитно, а приставки –раздельно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     Нет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едини линиями слова и вопросы, на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торые они отвечают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чик                         что?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ыбался                       какой?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о                           что делал?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лый                        что сделал?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нул                            кто?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                       какая?    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Заголовок 2" descr=""/>
          <p:cNvPicPr/>
          <p:nvPr/>
        </p:nvPicPr>
        <p:blipFill>
          <a:blip r:embed="rId1"/>
          <a:stretch/>
        </p:blipFill>
        <p:spPr>
          <a:xfrm>
            <a:off x="420840" y="268200"/>
            <a:ext cx="82962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3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мя существительное – это …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речи, которая отвечает на вопрос что?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речи, которая отвечает на вопрос кто?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речи, которая отвечает на вопросы что? и кто?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речи, которая отвечает на вопросы что?  кто? и обозначает предмет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кажи правильный порядок слов в предложении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осенний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кружит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листья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ветер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опавшие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23451    2)52413    3)14253  4)31254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Заголовок 2" descr=""/>
          <p:cNvPicPr/>
          <p:nvPr/>
        </p:nvPicPr>
        <p:blipFill>
          <a:blip r:embed="rId1"/>
          <a:stretch/>
        </p:blipFill>
        <p:spPr>
          <a:xfrm>
            <a:off x="244440" y="268200"/>
            <a:ext cx="86439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ставь нужное слово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ца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глаголами пишется ____ .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полни предложение словом из словаря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бушка набросила на плечи тёплый ____.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пиши правильный и точный ответ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гол – это ___________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ффикс – это изменяемая часть слова, стоящая после корня и служащая для _____________________________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5T18:54:33Z</dcterms:created>
  <dc:creator>Yka_30 </dc:creator>
  <dc:description/>
  <dc:language>en-US</dc:language>
  <cp:lastModifiedBy>Yka_30 </cp:lastModifiedBy>
  <dcterms:modified xsi:type="dcterms:W3CDTF">2015-11-05T19:52:19Z</dcterms:modified>
  <cp:revision>13</cp:revision>
  <dc:subject/>
  <dc:title>Всё в твоих руках</dc:title>
</cp:coreProperties>
</file>