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9EE-347E-4332-8C2A-660E97FB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385-3575-4391-9987-01C5A4CE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480-6237-4C45-BA81-32484C99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6BB-8E88-45AC-A247-43F10809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0D88-CFD9-4684-A8C4-02211547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C18E-E238-4E76-B64A-0F61A7C7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3772-C2A3-470B-A957-238719BC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77F0-32F4-4FEC-B808-CD8EE6B1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538A-FD3F-4032-B7DB-EB7C6FCC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6D5F-E814-4337-81BD-623247C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4347-4B79-446D-8CAD-CC464D4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DA6-1BFF-48B1-9D9A-C7F88C61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00DD-9F60-4E14-8831-96DA5884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4E25-C5BD-46DA-96C1-4D14E28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26AD-1FCD-47C8-A631-C4B5F3C1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F28-AD09-438D-B076-6D5CD03D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4803-071D-428C-9B28-EE067346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9B86-5428-4883-8239-B72A1C42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06F4-586B-47D5-BFAA-1AC6CEE7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1B41-87DB-4F17-8A43-1F6FD12C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2818-077B-4FFF-8280-6C94927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0618-3550-4C9A-AD7A-50900789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C57-E151-4F8D-AF7C-D4A709E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4A0B-234A-4358-910C-DC2853F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0278-9AFC-4B8A-8FCC-B460059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7646-8CA2-48F4-90E0-1285015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1199-BB6B-4BF8-A81A-4D57C143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56C6-7EC3-4C15-BE1F-7800E87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9D55-D695-4563-B171-CCFD48E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2602-366D-4092-B93D-07332D12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9CDE-78B9-41F9-8BD2-B70FCC2F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0452-F33D-4D60-A1FA-FEA2B78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0A16-20DE-452E-B53A-1212E8F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EB3-2D20-4CF5-917D-229F96C0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78D5-672F-491C-BA56-5C9982B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00AFF-D954-45D5-A188-8534B5B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3BF0-E914-4A2B-A531-AC44F3D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0829-0388-4593-B89A-248D40A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1DFE-64A7-46A6-90B9-4D7E3BAE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AEF5-AE64-466B-99EA-FE494B0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7CEF-493B-4736-87F0-F687DBD9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F5E8-7D72-4F58-A851-84CD7604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54FE-E585-4EFD-B4C6-B2038667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1D92-CAFF-46DC-BBBC-A236F5E1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212-1131-44A0-B11A-7E76FD5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0D9E1-C5C7-4430-8E94-6A7620E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B5D9-497A-45B9-801A-F969403E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01B09-A1BB-4A9C-B853-C8324DB8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2004-A494-4E3B-9F26-2329850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7361-2980-4168-9760-63243978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56C9-CC97-4E57-A378-0019858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BD3A-BE03-4714-90DA-F8ECCAE6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4D24-2504-437C-AAD4-264CBCA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F0D1-B1EF-460E-9CFD-9C0B1D3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42EF-D375-4C6E-83C3-706F866C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CAA-C046-458F-B954-312D903D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85B7-0B3C-401C-B553-F872FC92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73B3-0E76-4DEE-AA86-13857ACF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222E-07FF-4827-99A9-2A09C878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1083-6D4A-47D7-ABA0-DBE03D7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BD2E6-8C5A-468A-B894-C22F618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CF7E-CBDE-4504-AA07-A022BC82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2386-B219-4920-B5F2-CC0E7976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6D9B-2BC5-422A-9338-D351043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B2892-4452-4C1B-9B2E-B2F21C6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4ACB-5802-4AC1-BF5F-C131AE1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4A2-662B-4B19-87BA-AD98675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0287-BACA-474E-9A89-59FA834A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5A16-8FA7-4779-B0FD-AD7AA6D8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77C5-7BC2-4F23-A7AD-F120E45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3353-933B-42B6-AEB3-CBF6512E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66B8-E4CC-4617-90DC-87123A15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EB8B-11FF-4AD2-A159-B154735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13ABC-DFA0-4279-A779-8980B36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0879-CAEB-4B62-8842-55974426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7B0B-103B-4C02-A041-30D2874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EE2A9-F7BB-43A8-9AB5-00810A5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588-E047-4925-8467-04AF1CD1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BC1B-55FA-4D34-A9A9-782E35B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4F5F-0558-4481-A3CF-99C1A64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2D22-A005-4FEA-AC89-A28B30F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8FA0-5563-4BC1-8671-00B967CE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B690-86C5-47C3-9FD0-5464EE63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2392B-43AC-4192-A3C1-0307C466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31A1-F3D0-4F88-B09E-C868EBF8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3F4C7-1A81-4CAE-A894-D1C78572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19223-366C-49B5-9C81-E98E483E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6F8E-56B8-4334-BD66-0EF60969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F0D-F89F-4D1C-AA5F-0A99A778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9B72-8038-4F32-98C5-0DDB84C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60039-8BBF-46E7-8160-1AF0B96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C13B-21BD-4A3A-9036-ACE356DB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72B9B-E2EB-4243-B9A3-BE6D2E9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AD1B-1C11-46BE-8CA8-FE2B1EE6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1355-92C6-43BB-BEB6-9513D88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0F7F6-774C-4689-B3D9-9B745C94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FF47-9BB4-4093-8974-1F573E6C710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F3A-19AF-47BE-B94C-91BA4427362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E2DF-6537-4AD4-B0E6-BA02E09C7DE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52D-D5E5-4F9B-859D-0C9B63E6CBB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164-767B-4412-9A0D-8756DE1C9FB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18F1-9118-4CAF-B061-CD80F44D554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72E2-9307-41D4-B308-F09B0196A22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27A8-CA72-4320-A1F3-A6E6C47E0DB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547120" cy="2237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р19"/>
          <p:cNvPicPr/>
          <p:nvPr/>
        </p:nvPicPr>
        <p:blipFill>
          <a:blip r:embed="rId2"/>
          <a:stretch/>
        </p:blipFill>
        <p:spPr>
          <a:xfrm>
            <a:off x="5572080" y="3071880"/>
            <a:ext cx="32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00040" y="22860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первоклассник"/>
          <p:cNvPicPr/>
          <p:nvPr/>
        </p:nvPicPr>
        <p:blipFill>
          <a:blip r:embed="rId2"/>
          <a:stretch/>
        </p:blipFill>
        <p:spPr>
          <a:xfrm>
            <a:off x="4786200" y="2071800"/>
            <a:ext cx="38102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ого тип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редписанными ответами, когда необходимо выбрать из предложенных вариантов ответа тот или иной вариант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го типа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 свободными ответами, когда необходимо самостоятельно дописать слово, предложение, знак и т.д.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588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веди в кружок правильный отве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служит для     образования новых слов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пишутся с другими словами слитно, а приставки –раздельно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едини линиями слова и вопросы, на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торые они отвечают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                        что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лся                       какой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                          что делал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ый                        что сделал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ул                            кто?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                       какая?    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296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я существительное – это …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 что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 кто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ы что? и кто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твечает на вопросы что?  кто? и обозначает предмет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ажи правильный порядок слов в предложении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сенний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ружит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истья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етер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опавшие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23451    2)52413    3)14253  4)31254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643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тавь нужное слово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глаголами пишется ____ 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 предложение словом из словаря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 набросила на плечи тёплый ____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пиши правильный и точный отве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– это ___________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 – это изменяемая часть слова, стоящая после корня и служащая для _____________________________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18:54:33Z</dcterms:created>
  <dc:creator>Yka_30 </dc:creator>
  <dc:description/>
  <dc:language>en-US</dc:language>
  <cp:lastModifiedBy>Yka_30 </cp:lastModifiedBy>
  <dcterms:modified xsi:type="dcterms:W3CDTF">2015-11-05T19:52:19Z</dcterms:modified>
  <cp:revision>13</cp:revision>
  <dc:subject/>
  <dc:title>Всё в твоих руках</dc:title>
</cp:coreProperties>
</file>