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FA60-1FE5-4334-87D4-D67F59E81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2AC-B831-49D7-A322-962E2B1DB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FDD-915B-4641-9F45-C25A4C7A35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841-967C-40B4-888A-0BDF140F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F04-1A53-461B-9460-13BF9AC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3FF-4F0A-4FBF-A2CA-54CFA93D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092-5769-494D-B2C9-94B91CB1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9E9D-7A13-44C6-AAC0-0587EAF6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084-85D6-4B55-B751-6D63F20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EC3-BEB7-4747-A62E-24217B92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58DE-58F7-40CA-A93A-A9E884AE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5C69-E521-48CF-9C65-D9622097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49A7-C578-4069-8371-178E4DB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25D-6887-4B14-9972-5630F02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11E-4345-4EDB-94F4-0FC5703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17CA-941A-45E2-B5E4-CE23F5A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81F1-A802-4EF2-BE0A-4D9856E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9B3-9B5C-4950-86DF-0202927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4B68-E9A2-4941-B4D4-5CE51C6D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D461-912F-4CA4-92CB-1F1508B4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4A2B-8D57-45F1-95A7-80E9FFF1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069D-DD8A-4FB2-AF46-E4E25F1A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0CB2-4250-4C5D-A009-F998A9A2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093B-0304-42F0-9D61-D0A9ACA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7812-6DB4-4FE9-885C-D07F9E88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DC6-165B-4EE4-9184-0D75C55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E352-6675-422D-99F9-7036ED6E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0261-E905-4658-BEFF-07A2854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53BB-E25A-47F3-982C-972C14A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F20D-E7BE-405C-ADBD-2823898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04AF-CF07-4ED6-A49C-9ABF413C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4827-3AF7-4CC0-88E8-D2C2B9CA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6045-E8B2-4391-AE5F-3742F9E6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A71E-BB9B-4089-BBFA-74BD133B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56C0-AEAF-4580-9C96-E42AF22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69FC-4F80-49ED-AFC9-8621878D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AED-5A1D-482E-A908-09F826D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16D0-7372-4DE4-BF8A-8C67338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72B6-069E-4DF2-A537-9192B57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70DD-41C5-4BCF-BD7E-D2F4629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28E7-0FFF-4D12-B2D2-E9FEC03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AA61-43CA-4552-9EE0-CD53E28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64E1-83AB-4774-AC23-D2A9611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F3C2-1843-4DE7-9655-4F57B8D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1212-4742-46CC-A016-A00EC77A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0958-A571-401E-8784-1818115D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B1D-E818-4B94-B461-D75EC0C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C98-4818-4D69-804F-20031079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C6F-94BD-4B80-BBA4-0E9749E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FC1-9510-4C49-A390-B7AB5D1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758-0F9C-41F9-B221-40E03A1A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D07-CD22-4690-82E0-52491878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20CC-6078-4CC1-8F31-2556D5F1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0CF-8185-41D6-B180-A8E5ACBF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0E0-51A2-410A-B6D6-227F1168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566640" y="66600"/>
            <a:ext cx="7961400" cy="2328840"/>
          </a:xfrm>
          <a:prstGeom prst="rect">
            <a:avLst/>
          </a:prstGeom>
          <a:ln w="0">
            <a:noFill/>
          </a:ln>
        </p:spPr>
      </p:pic>
      <p:sp>
        <p:nvSpPr>
          <p:cNvPr id="174" name="Подзаголовок 2"/>
          <p:cNvSpPr/>
          <p:nvPr/>
        </p:nvSpPr>
        <p:spPr>
          <a:xfrm>
            <a:off x="357120" y="4572000"/>
            <a:ext cx="85010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Мордви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Ольга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МБОУ ОШ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C:\Documents and Settings\Екатерина\Мои документы\Мои рисунки\img_items48060e83a3714.jpg"/>
          <p:cNvPicPr/>
          <p:nvPr/>
        </p:nvPicPr>
        <p:blipFill>
          <a:blip r:embed="rId2"/>
          <a:stretch/>
        </p:blipFill>
        <p:spPr>
          <a:xfrm>
            <a:off x="1143000" y="2643120"/>
            <a:ext cx="1430280" cy="1800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C:\Documents and Settings\Екатерина\Мои документы\Мои рисунки\vk_big.jpg"/>
          <p:cNvPicPr/>
          <p:nvPr/>
        </p:nvPicPr>
        <p:blipFill>
          <a:blip r:embed="rId3"/>
          <a:stretch/>
        </p:blipFill>
        <p:spPr>
          <a:xfrm>
            <a:off x="2643120" y="2143080"/>
            <a:ext cx="12700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C:\Documents and Settings\Екатерина\Мои документы\Мои рисунки\16975259_0405.jpg"/>
          <p:cNvPicPr/>
          <p:nvPr/>
        </p:nvPicPr>
        <p:blipFill>
          <a:blip r:embed="rId4"/>
          <a:stretch/>
        </p:blipFill>
        <p:spPr>
          <a:xfrm>
            <a:off x="4284720" y="2349360"/>
            <a:ext cx="121752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C:\Documents and Settings\Екатерина\Мои документы\Мои рисунки\ph_l_589.jpg"/>
          <p:cNvPicPr/>
          <p:nvPr/>
        </p:nvPicPr>
        <p:blipFill>
          <a:blip r:embed="rId5"/>
          <a:stretch/>
        </p:blipFill>
        <p:spPr>
          <a:xfrm>
            <a:off x="5786280" y="2071800"/>
            <a:ext cx="111132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9" descr="C:\Documents and Settings\Екатерина\Мои документы\Мои рисунки\DCAF7LWKPCAFF9AFACAVBYOYWCA3STBLICAP4RYWWCAVSZSHXCAM263JDCA6X7P24CAY6KTSTCA63TO1HCAJFVB2TCAQN8IBTCA1N5U5GCAGW40VTCACBWUTKCAIS4G5QCAOX5S2PCAVK2C3BCASOM281.jpg"/>
          <p:cNvPicPr/>
          <p:nvPr/>
        </p:nvPicPr>
        <p:blipFill>
          <a:blip r:embed="rId6"/>
          <a:stretch/>
        </p:blipFill>
        <p:spPr>
          <a:xfrm>
            <a:off x="7215120" y="2857680"/>
            <a:ext cx="1260720" cy="1618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186000" cy="359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549680" y="1989000"/>
            <a:ext cx="3256200" cy="3603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МУРЗИ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052640"/>
            <a:ext cx="5987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Мурзилки началась в 1879 году, когда канадский художник Палмер Кокс создал серию рисунков о брауни - это самые ближайшие родственники домовых, небольшие человечки, ростом около 90 сантиметров, схожи с маленькими эльф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оричневыми нечёсаными волосами и ярко-голубыми глазами. Кожа у них преимущественно светлая, хотя цвет кожи брауни зависит от места, где они обитают и от того, чем они питаются. Эти существа приходят ночью и доделывают то, что не успели слуги. Так в 1881 году в журнале «Wide Awake» появились именно те самые брауни, которые начали триумфальное шествие сначала по Америке, а потом и по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732720" y="1265400"/>
            <a:ext cx="193176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6049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Мурзилка и его друзья появились на страницах журнала «Задушевное слово» в 1887 году в сказке «Мальчик – с пальчик, девочка – с ноготок». Автором этой сказки была известная писательница Анна Борисовна Хвольсон, а иллюстрациями служили рисунки художника Палмера Ко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й раз о Мурзилке вспомнили в 1924 году, когда  создавался новый детский журнал. Кому-то из основателей вспомнилось это имя и его приняли практически единогласно. Но не помещать же на обложку домового! Поэтому Мурзилкой стал рыжий беспородный щенок, который всюду сопровождал своего хозяина - мальчика Петь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78128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осуществовал щенок не долго - скоро он исчез, да и Петька впоследствии сошел со страниц журнала. И в 1937 году художник Аминадав Каневский по просьбе редакции нарисовал на свет некое пушистое существо желтого цвета, под именем Мурзи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725560" cy="298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Поиграем в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997360" cy="370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ТОШКА И КОМП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ётся с января 1999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ёлый и любознательный щенок Тошка станет верным другом для всех любителей животных. На страницах журнала он расскажет о диких животных, о породах кошек, собак и лошадей, о секретах воспитания и ухода за самыми разными домашними любимцами: от попугайчиков до тарак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с Тошкой читатели отправятся в путешествия, узнают тайны и секреты животных, сделают полезные и забавные по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номере журнала Николай Дроздов проводит увлекательный конкурс «В мире животных», а победителей ждут замечательные призы — книги, диски, кассеты. А ещё Тошка загадывает загадки, предлагает кроссворды и головоломки, рассказывает и показывает фотоистории. Центральный разворот журнала — постер — уникальные авторские фотографи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372360" y="5157720"/>
            <a:ext cx="1081080" cy="151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Тошкин те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565360" cy="3097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25ad"/>
                </a:solidFill>
                <a:latin typeface="Monotype Corsiva"/>
              </a:rPr>
              <a:t>КОЛЛЕКЦИЯ И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980640"/>
            <a:ext cx="822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1 года выходит журнал для взрослых, а с 2004 – журнал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очный журнал для умелых ребят. В нём представлены поделки с описанием работ и схемами разного уровня и сложности на любой вкус: поделки из бумаги: аппликация, оригами, маски; забавная кулинария; фигурки из теста и сладкой мастики; украшения для дома; природная мастерская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5148360" y="4135320"/>
            <a:ext cx="165420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541440" y="5300640"/>
            <a:ext cx="1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Забавная кулин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P8280514"/>
          <p:cNvPicPr/>
          <p:nvPr/>
        </p:nvPicPr>
        <p:blipFill>
          <a:blip r:embed="rId1"/>
          <a:stretch/>
        </p:blipFill>
        <p:spPr>
          <a:xfrm>
            <a:off x="1908000" y="1700280"/>
            <a:ext cx="5534280" cy="3672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ЧИТАЙТЕ ЖУРНАЛЫ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таются новые ав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прочитать интересные, познавательные и поучительные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игры, загадки, ребусы, кроссвор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 прекрасных руб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комиксы, стихи, рассказы,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йти новых др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48052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25ad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93520" y="1600200"/>
            <a:ext cx="3086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3933360"/>
            <a:ext cx="50306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с конца 18 века до 1917 года в разное время издавалось более 100 детских и юношеских жур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32080" y="1600200"/>
            <a:ext cx="30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1840" y="1052280"/>
            <a:ext cx="855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журнал появился во Франции в 17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ем журнала, появившегося в январе 1665 года стал советник парижского парламента Дени де Салло. Он был первым, кто счел необходимым освещать наиболее примечательные события, происходившие в мир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1915920" cy="251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333000"/>
            <a:ext cx="8226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мотрите, чи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Журналы,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траницы жур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Очень бог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Рисунки, кроссвор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Раскраски, задач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 всё это здор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 увлек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Monotype Corsiva"/>
              </a:rPr>
              <a:t>Я желаю вам интересных встреч на страницах журнал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6295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Иванович Новиков родился в 1744 году близ города Москвы. Он – писатель, журналист, книгоиздатель. Новиков большое внимание уделял распространению знаний и воспитанию молодёжи. Он даже создал целую программу воспитания. Новиков – книгоиздатель. За 15 лет (с 1777г. по 1789г.) больше трети всех книг в России были изданы под его руководством. Но книг для детей в те годы почти не было. Детям нечего было читать. И вот Николай Иванович Новиков создаёт первый в России детский журнал “Детское чтение для сердца и разума”. Этот журнал издавался 4 года с 1785 по 17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журнале печатались рассказы двух видов: для “воспитания сердца”, т.е. нравоучительные, и для “обогащения ума”, где были сведения по истории, географии и другим на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1509480" cy="23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708360" y="4471920"/>
            <a:ext cx="147312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6300720" y="4435560"/>
            <a:ext cx="1524240" cy="234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ВЕСЁЛЫЕ КАРТИ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ется ежемесячно с сентября 1956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4755960" cy="334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260280"/>
            <a:ext cx="8226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и героями журнала стали маленькие весёлые человечки, герои сказок — Незнайка, Чиполлино, Буратино. Однако их оказалось маловато, и решено было придумать ещё двоих. На свет появились Карандаш — художник с волшебным карандашом вместо носа: всё, что он нарисует, в ту же секунду оживёт, и Самоделкин, у которого вместо носа винтик, ручки-ножки — пружинки, сам он весь железненький и за одну секунду может всё, что угодно почи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021120" cy="2089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РУБРИКА «Загадки, кроссворды, шутки, лабиринт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42920" y="1508040"/>
            <a:ext cx="2210040" cy="302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24285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НЕПО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рнал выходит с 2009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екрет для всех вокру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еда – лучший дру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еда - журнал для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 ждут увлекательное путешествие, познавательные истории, сказки, лабиринты, раскраски и вырезалки. А так же увлекательные игры, развивающие мышление и внимание головоломки, ребусы, загадки, кроссворды, юмор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35872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Стереогла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981000"/>
            <a:ext cx="8226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стереокартинок чрезвычайно полезно для глазных мышц, поэтому это увлекательное занятие называют спортом для глаз. Разглядывая эти изображения, ты не только получишь удовольствие, но и снимешь с глазных мышц накопившееся до этого напряжение. Стереоизображения – это тренажёр для глазных мышц, который поможет тебе сохранить бесценный дар –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4545000" y="4508640"/>
            <a:ext cx="331776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РОЗОВЫЙ СЛ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выходит с января 200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й, занимательный красочный журнал для детей с большим количеством игрового и познавательного материала. Поможет развить память, внимание, мышление, воображение, творческие способности и другие навыки, необходимые для успешной учебы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1871640" cy="2241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40:40Z</dcterms:created>
  <dc:creator>Дружная семейка</dc:creator>
  <dc:description/>
  <dc:language>en-US</dc:language>
  <cp:lastModifiedBy>Владелец</cp:lastModifiedBy>
  <dcterms:modified xsi:type="dcterms:W3CDTF">2019-01-11T12:24:57Z</dcterms:modified>
  <cp:revision>11</cp:revision>
  <dc:subject/>
  <dc:title>Слайд 1</dc:title>
</cp:coreProperties>
</file>