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28.png" ContentType="image/png"/>
  <Override PartName="/ppt/media/image2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26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365A-E0D0-43BC-B38E-51AAAA9B36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46E5-EAE1-4BD9-9A48-6A2EC9376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088E-75E9-4BEC-91C0-3878C86CE9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71D-82AB-471D-81CB-8ED97B7B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6EE-A946-46AA-B8D3-429CC2A5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338-9E6E-48DB-BB23-B47CFC90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727-2730-4ACF-9722-340D14E6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6D8C-2E90-433C-A783-376E0F40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149B-8FDB-4505-B993-38C10FA4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A7C4-2CFA-43F9-9098-8F831935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42B7-A6A6-43C7-9603-AE0B5996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C085-D283-4C3E-A755-1BA784D4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3B62-39F3-4D39-A0C3-9BF50A37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E2DB-A3B5-4D79-B893-80A96EDA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3E6-0B8B-4ED0-AFB8-5E5E51FC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438B-2BE3-4A87-A45D-1AE9530C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055E-9FD2-42C9-8CA0-3DF0B678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AF15-021D-4D6A-9AB8-A6850B9E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A20B-145C-4A3F-BBC3-8BEBAB6C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8DD2-243D-4589-9D1E-2111DB9B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16525-7CF7-4251-8FA6-4D8CD9C4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AC408-55CC-4618-BA7C-E524C689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7A19-66D0-4216-A6BE-866C8830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10E2A-BC6B-4DEF-8C3A-128B716F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23EDD-0911-4BCB-94AC-89FE58FD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A26-DFEB-4339-9D26-CFA76AE8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60C45-D773-413F-85C1-E07CF327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023B2-9168-40A6-B30B-452A2DAD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9C8D9-81C9-4A7C-950E-BF6A438D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40265-01AC-4F5E-A206-C070D984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B8BA2-70CC-4D2F-8D23-9B4D792E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251A0-38A4-4E12-A2B5-4A25711D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C3C91-06C9-43C0-B37F-5C5ECF03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0486F-C7D5-48F9-A188-0195CF93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CA196-AF39-4679-92D0-2F4278D0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33397-159B-459B-A1FE-183F0D2B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923-E4E9-4F22-8748-BD6E33D3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9A9F9-5626-44CE-823E-D8A6BA81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106FC-EE82-403A-B684-872748AD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4AED9-1F19-4C62-8FD1-F93B0565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57966-A3A6-46EB-A0FC-D7E85856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A3F50-4FEA-46A1-BA6E-12295560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DAF8B-67F1-43B1-AF8E-922E96A7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5CD96-B4A9-4B20-AF21-D437374A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96047-4A5F-4AA3-B682-322ACEB1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8DD4A-F537-4978-85E5-803F3440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E3C-4C23-4AC2-9463-1FE5824F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46E-57B4-4194-A567-5C810B0D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18F-0082-4130-B4C6-65D52D42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5BA-34E0-444D-8D4E-559BD6BA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14A3-1F65-4054-9000-1113091A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6136-B96E-42E2-B192-42819966D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9117-EA7E-4460-A4C4-8CF5FF6FF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1A59-980E-49CC-9FB8-4076CFB84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90B9-B25C-483A-85B8-43231FD0D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3" descr=""/>
          <p:cNvPicPr/>
          <p:nvPr/>
        </p:nvPicPr>
        <p:blipFill>
          <a:blip r:embed="rId1"/>
          <a:stretch/>
        </p:blipFill>
        <p:spPr>
          <a:xfrm>
            <a:off x="566640" y="66600"/>
            <a:ext cx="7961400" cy="2328840"/>
          </a:xfrm>
          <a:prstGeom prst="rect">
            <a:avLst/>
          </a:prstGeom>
          <a:ln w="0">
            <a:noFill/>
          </a:ln>
        </p:spPr>
      </p:pic>
      <p:sp>
        <p:nvSpPr>
          <p:cNvPr id="174" name="Подзаголовок 2"/>
          <p:cNvSpPr/>
          <p:nvPr/>
        </p:nvSpPr>
        <p:spPr>
          <a:xfrm>
            <a:off x="357120" y="4572000"/>
            <a:ext cx="85010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Мордвин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Ольга Александ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entury Gothic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entury Gothic"/>
                <a:ea typeface="Arial"/>
              </a:rPr>
              <a:t>МБОУ ОШ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5" descr="C:\Documents and Settings\Екатерина\Мои документы\Мои рисунки\img_items48060e83a3714.jpg"/>
          <p:cNvPicPr/>
          <p:nvPr/>
        </p:nvPicPr>
        <p:blipFill>
          <a:blip r:embed="rId2"/>
          <a:stretch/>
        </p:blipFill>
        <p:spPr>
          <a:xfrm>
            <a:off x="1143000" y="2643120"/>
            <a:ext cx="1430280" cy="18003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6" descr="C:\Documents and Settings\Екатерина\Мои документы\Мои рисунки\vk_big.jpg"/>
          <p:cNvPicPr/>
          <p:nvPr/>
        </p:nvPicPr>
        <p:blipFill>
          <a:blip r:embed="rId3"/>
          <a:stretch/>
        </p:blipFill>
        <p:spPr>
          <a:xfrm>
            <a:off x="2643120" y="2143080"/>
            <a:ext cx="1270080" cy="18003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7" descr="C:\Documents and Settings\Екатерина\Мои документы\Мои рисунки\16975259_0405.jpg"/>
          <p:cNvPicPr/>
          <p:nvPr/>
        </p:nvPicPr>
        <p:blipFill>
          <a:blip r:embed="rId4"/>
          <a:stretch/>
        </p:blipFill>
        <p:spPr>
          <a:xfrm>
            <a:off x="4284720" y="2349360"/>
            <a:ext cx="1217520" cy="18003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C:\Documents and Settings\Екатерина\Мои документы\Мои рисунки\ph_l_589.jpg"/>
          <p:cNvPicPr/>
          <p:nvPr/>
        </p:nvPicPr>
        <p:blipFill>
          <a:blip r:embed="rId5"/>
          <a:stretch/>
        </p:blipFill>
        <p:spPr>
          <a:xfrm>
            <a:off x="5786280" y="2071800"/>
            <a:ext cx="1111320" cy="1800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9" descr="C:\Documents and Settings\Екатерина\Мои документы\Мои рисунки\DCAF7LWKPCAFF9AFACAVBYOYWCA3STBLICAP4RYWWCAVSZSHXCAM263JDCA6X7P24CAY6KTSTCA63TO1HCAJFVB2TCAQN8IBTCA1N5U5GCAGW40VTCACBWUTKCAIS4G5QCAOX5S2PCAVK2C3BCASOM281.jpg"/>
          <p:cNvPicPr/>
          <p:nvPr/>
        </p:nvPicPr>
        <p:blipFill>
          <a:blip r:embed="rId6"/>
          <a:stretch/>
        </p:blipFill>
        <p:spPr>
          <a:xfrm>
            <a:off x="7215120" y="2857680"/>
            <a:ext cx="1260720" cy="1618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186000" cy="3598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4549680" y="1989000"/>
            <a:ext cx="3256200" cy="3603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25ad"/>
                </a:solidFill>
                <a:latin typeface="Monotype Corsiva"/>
              </a:rPr>
              <a:t>МУРЗИ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5400" y="1052640"/>
            <a:ext cx="59878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 Мурзилки началась в 1879 году, когда канадский художник Палмер Кокс создал серию рисунков о брауни - это самые ближайшие родственники домовых, небольшие человечки, ростом около 90 сантиметров, схожи с маленькими эльф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коричневыми нечёсаными волосами и ярко-голубыми глазами. Кожа у них преимущественно светлая, хотя цвет кожи брауни зависит от места, где они обитают и от того, чем они питаются. Эти существа приходят ночью и доделывают то, что не успели слуги. Так в 1881 году в журнале «Wide Awake» появились именно те самые брауни, которые начали триумфальное шествие сначала по Америке, а потом и по всему ми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6732720" y="1265400"/>
            <a:ext cx="1931760" cy="309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6049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Мурзилка и его друзья появились на страницах журнала «Задушевное слово» в 1887 году в сказке «Мальчик – с пальчик, девочка – с ноготок». Автором этой сказки была известная писательница Анна Борисовна Хвольсон, а иллюстрациями служили рисунки художника Палмера Кок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едующий раз о Мурзилке вспомнили в 1924 году, когда  создавался новый детский журнал. Кому-то из основателей вспомнилось это имя и его приняли практически единогласно. Но не помещать же на обложку домового! Поэтому Мурзилкой стал рыжий беспородный щенок, который всюду сопровождал своего хозяина - мальчика Петь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6948360" y="404640"/>
            <a:ext cx="1781280" cy="2808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просуществовал щенок не долго - скоро он исчез, да и Петька впоследствии сошел со страниц журнала. И в 1937 году художник Аминадав Каневский по просьбе редакции нарисовал на свет некое пушистое существо желтого цвета, под именем Мурзи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725560" cy="2987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УБРИКА «Поиграем в сло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2997360" cy="3708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25ad"/>
                </a:solidFill>
                <a:latin typeface="Monotype Corsiva"/>
              </a:rPr>
              <a:t>ТОШКА И КОМП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даётся с января 1999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ёлый и любознательный щенок Тошка станет верным другом для всех любителей животных. На страницах журнала он расскажет о диких животных, о породах кошек, собак и лошадей, о секретах воспитания и ухода за самыми разными домашними любимцами: от попугайчиков до тарака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есте с Тошкой читатели отправятся в путешествия, узнают тайны и секреты животных, сделают полезные и забавные под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номере журнала Николай Дроздов проводит увлекательный конкурс «В мире животных», а победителей ждут замечательные призы — книги, диски, кассеты. А ещё Тошка загадывает загадки, предлагает кроссворды и головоломки, рассказывает и показывает фотоистории. Центральный разворот журнала — постер — уникальные авторские фотографии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6372360" y="5157720"/>
            <a:ext cx="1081080" cy="1511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УБРИКА «Тошкин тес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132000" y="1700280"/>
            <a:ext cx="2565360" cy="3097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25ad"/>
                </a:solidFill>
                <a:latin typeface="Monotype Corsiva"/>
              </a:rPr>
              <a:t>КОЛЛЕКЦИЯ ИД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980640"/>
            <a:ext cx="8226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1 года выходит журнал для взрослых, а с 2004 – журнал дл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очный журнал для умелых ребят. В нём представлены поделки с описанием работ и схемами разного уровня и сложности на любой вкус: поделки из бумаги: аппликация, оригами, маски; забавная кулинария; фигурки из теста и сладкой мастики; украшения для дома; природная мастерская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5148360" y="4135320"/>
            <a:ext cx="1654200" cy="2232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541440" y="5300640"/>
            <a:ext cx="1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УБРИКА «Забавная кулина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P8280514"/>
          <p:cNvPicPr/>
          <p:nvPr/>
        </p:nvPicPr>
        <p:blipFill>
          <a:blip r:embed="rId1"/>
          <a:stretch/>
        </p:blipFill>
        <p:spPr>
          <a:xfrm>
            <a:off x="1908000" y="1700280"/>
            <a:ext cx="5534280" cy="3672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80"/>
                </a:solidFill>
                <a:latin typeface="Arial"/>
              </a:rPr>
              <a:t>ЧИТАЙТЕ ЖУРНАЛЫ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рнала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чатаются новые ав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рна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прочитать интересные, познавательные и поучительные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рна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ть игры, загадки, ребусы, кроссвор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рна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ного прекрасных руб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рна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ть комиксы, стихи, рассказы, 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рна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найти новых друз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48052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25ad"/>
                </a:solidFill>
                <a:latin typeface="Arial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93520" y="1600200"/>
            <a:ext cx="30862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5640" y="3933360"/>
            <a:ext cx="50306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с конца 18 века до 1917 года в разное время издавалось более 100 детских и юношеских журн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932080" y="1600200"/>
            <a:ext cx="308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91840" y="1052280"/>
            <a:ext cx="8551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журнал появился во Франции в 17 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телем журнала, появившегося в январе 1665 года стал советник парижского парламента Дени де Салло. Он был первым, кто счел необходимым освещать наиболее примечательные события, происходившие в мире на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372360" y="3213000"/>
            <a:ext cx="1915920" cy="2519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333000"/>
            <a:ext cx="82263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Смотрите, чи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Журналы, ребя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Страницы жур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Очень бог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Рисунки, кроссвор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Раскраски, задачк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И всё это здоро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И увлекате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Monotype Corsiva"/>
              </a:rPr>
              <a:t>Я желаю вам интересных встреч на страницах журнал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86295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лай Иванович Новиков родился в 1744 году близ города Москвы. Он – писатель, журналист, книгоиздатель. Новиков большое внимание уделял распространению знаний и воспитанию молодёжи. Он даже создал целую программу воспитания. Новиков – книгоиздатель. За 15 лет (с 1777г. по 1789г.) больше трети всех книг в России были изданы под его руководством. Но книг для детей в те годы почти не было. Детям нечего было читать. И вот Николай Иванович Новиков создаёт первый в России детский журнал “Детское чтение для сердца и разума”. Этот журнал издавался 4 года с 1785 по 178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журнале печатались рассказы двух видов: для “воспитания сердца”, т.е. нравоучительные, и для “обогащения ума”, где были сведения по истории, географии и другим нау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1509480" cy="2340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3708360" y="4471920"/>
            <a:ext cx="1473120" cy="234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6300720" y="4435560"/>
            <a:ext cx="1524240" cy="2341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25ad"/>
                </a:solidFill>
                <a:latin typeface="Monotype Corsiva"/>
              </a:rPr>
              <a:t>ВЕСЁЛЫЕ КАРТИН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ается ежемесячно с сентября 1956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4755960" cy="334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260280"/>
            <a:ext cx="8226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ми героями журнала стали маленькие весёлые человечки, герои сказок — Незнайка, Чиполлино, Буратино. Однако их оказалось маловато, и решено было придумать ещё двоих. На свет появились Карандаш — художник с волшебным карандашом вместо носа: всё, что он нарисует, в ту же секунду оживёт, и Самоделкин, у которого вместо носа винтик, ручки-ножки — пружинки, сам он весь железненький и за одну секунду может всё, что угодно почин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4859280" y="4292640"/>
            <a:ext cx="3021120" cy="2089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88640"/>
            <a:ext cx="822636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РУБРИКА «Загадки, кроссворды, шутки, лабиринты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42920" y="1508040"/>
            <a:ext cx="2210040" cy="302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2428560" cy="3024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25ad"/>
                </a:solidFill>
                <a:latin typeface="Monotype Corsiva"/>
              </a:rPr>
              <a:t>НЕПОСЕ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рнал выходит с 2009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екрет для всех вокруг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седа – лучший друг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седа - журнал для де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с ждут увлекательное путешествие, познавательные истории, сказки, лабиринты, раскраски и вырезалки. А так же увлекательные игры, развивающие мышление и внимание головоломки, ребусы, загадки, кроссворды, юмор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2358720" cy="3168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УБРИКА «Стереоглаз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5400" y="981000"/>
            <a:ext cx="8226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ние стереокартинок чрезвычайно полезно для глазных мышц, поэтому это увлекательное занятие называют спортом для глаз. Разглядывая эти изображения, ты не только получишь удовольствие, но и снимешь с глазных мышц накопившееся до этого напряжение. Стереоизображения – это тренажёр для глазных мышц, который поможет тебе сохранить бесценный дар – з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4545000" y="4508640"/>
            <a:ext cx="3317760" cy="1728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25ad"/>
                </a:solidFill>
                <a:latin typeface="Monotype Corsiva"/>
              </a:rPr>
              <a:t>РОЗОВЫЙ СЛ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выходит с января 200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ющий, занимательный красочный журнал для детей с большим количеством игрового и познавательного материала. Поможет развить память, внимание, мышление, воображение, творческие способности и другие навыки, необходимые для успешной учебы в шко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"/>
          <p:cNvPicPr/>
          <p:nvPr/>
        </p:nvPicPr>
        <p:blipFill>
          <a:blip r:embed="rId1"/>
          <a:stretch/>
        </p:blipFill>
        <p:spPr>
          <a:xfrm>
            <a:off x="6372360" y="4365720"/>
            <a:ext cx="1871640" cy="2241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7:40:40Z</dcterms:created>
  <dc:creator>Дружная семейка</dc:creator>
  <dc:description/>
  <dc:language>en-US</dc:language>
  <cp:lastModifiedBy>Владелец</cp:lastModifiedBy>
  <dcterms:modified xsi:type="dcterms:W3CDTF">2019-01-11T12:24:57Z</dcterms:modified>
  <cp:revision>11</cp:revision>
  <dc:subject/>
  <dc:title>Слайд 1</dc:title>
</cp:coreProperties>
</file>