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wmf" ContentType="image/x-wmf"/>
  <Override PartName="/ppt/media/image14.jpeg" ContentType="image/jpeg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wmf" ContentType="image/x-wmf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A1CE-B9EE-40AD-BE68-4CEA9CD5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A481-A6F3-40BA-982D-4AA5EC5E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8704-82C9-43FD-8AE6-96883811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994B-7556-4EF8-B698-35F21BCF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959-A4C0-4ECE-9ED5-C8768EAB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9AF8-C3D6-48C6-AE60-C6863F48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4378-8A24-4A2A-AF81-C4E79E29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53FA-86A6-432E-BC12-9FC36183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186C-B148-4BEB-8606-DF557C3F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1644-24C7-4C94-B626-B23DFA24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92FD-D3B7-4DD2-879B-8D908AB2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35A-5B63-470C-98D7-58E8F655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F23C-AEB5-4851-88B6-5D68B44117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solidFill>
            <a:srgbClr val="c0504d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3" name="Object 2"/>
          <p:cNvGraphicFramePr/>
          <p:nvPr/>
        </p:nvGraphicFramePr>
        <p:xfrm>
          <a:off x="762120" y="1600200"/>
          <a:ext cx="761976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6197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v_mire_zhivotnyh.mp3" descr=""/>
          <p:cNvPicPr/>
          <p:nvPr/>
        </p:nvPicPr>
        <p:blipFill>
          <a:blip r:embed="rId3"/>
          <a:stretch/>
        </p:blipFill>
        <p:spPr>
          <a:xfrm>
            <a:off x="457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772400" cy="4724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51811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alibri"/>
              </a:rPr>
              <a:t>Дуб</a:t>
            </a: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Calibri"/>
              </a:rPr>
              <a:t>черешчатый</a:t>
            </a: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Дуб достигает высоты 40-50м, 100-150см в диаметре. Живет 100-500 лет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135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Calibri"/>
              </a:rPr>
              <a:t>Сосна обыкновенна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В благоприятных условиях сосна живет до 400 лет, достигая 48 метров высоты и 1 метра толщин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4754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5105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Calibri"/>
              </a:rPr>
              <a:t>  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Calibri"/>
              </a:rPr>
              <a:t>Береза бородавчата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Береза дает человеку много лекарственных продуктов. Но не забудьте, что одна большая береза, поврежденная топором, может потерять за весну до 200 л сок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4906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609480" y="51814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                                                     </a:t>
            </a:r>
            <a:r>
              <a:rPr b="1" lang="ru-RU" sz="2000" spc="-1" strike="noStrike">
                <a:solidFill>
                  <a:srgbClr val="003300"/>
                </a:solidFill>
                <a:latin typeface="Calibri"/>
              </a:rPr>
              <a:t>Ель обыкновенна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Это дерево знакомо всем с детства. Вместе с ним  под Новый год приходит сказка. В сумрачном еловом лесу верится, что именно здесь живут Баба-Яга, Леший и другие герои сказок. Ель растет 150—200 лет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211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         </a:t>
            </a:r>
            <a:r>
              <a:rPr b="1" lang="ru-RU" sz="2000" spc="-1" strike="noStrike">
                <a:solidFill>
                  <a:srgbClr val="003300"/>
                </a:solidFill>
                <a:latin typeface="Calibri"/>
              </a:rPr>
              <a:t>Тополь серебристый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Тополь «чемпион» по поглощению углекислого газа, пыли, снижает летом температуру воздуха на 15-30%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4678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57200" y="5105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Calibri"/>
              </a:rPr>
              <a:t>Липа мелколистна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Одно взрослое дерево липы дает в среднем 70 кг меда, а гектар липняка – 1 т меда. Живет дерево 300-400 лет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4373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48006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                          </a:t>
            </a: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Осин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Цветет в апреле-мае до распускания листьев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           </a:t>
            </a: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Живет 80-100 ле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i-tmb-0x" descr="http://im0-tub.yandex.net/i?id=12503023-04-24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095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еспублика Татарстан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Содержимое 3" descr="http://www.lesgazeta.ru/5844_tatarstan.jpg"/>
          <p:cNvPicPr/>
          <p:nvPr/>
        </p:nvPicPr>
        <p:blipFill>
          <a:blip r:embed="rId1"/>
          <a:stretch/>
        </p:blipFill>
        <p:spPr>
          <a:xfrm>
            <a:off x="380880" y="1371600"/>
            <a:ext cx="8363160" cy="4876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еверная часть республики – Предкамье, находится в лесной зоне, Закамье и Предволжье - в лесостепной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сновные массивы лесов расположены в бассейнах рек Вятка, Зея, Шешма, Черемшана. Покрытая лесом площадь (тыс. га) и процент лесистости составляют, соответственно 986 и 16,3. Леса, в основном лиственные - дуб, липа, клён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1 марта в мире отмечается Международный день леса (World Forest Day) -  введенный сорок лет назад как повод для информирования общественности о важности лесов для жителей Земли. Впервые решение о проведении Международного дня леса было принято Европейской конфедерацией сельского хозяйства в 1971 году;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10000">
    <p:pull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Содержимое 3" descr="http://www.lesgazeta.ru/9710_bashkorstan.jpg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6172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Леса Татарстан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есные площади представлены условно-коренными, вторично-производными и искусственно созданными лесами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щий запас древесины - 145 млн. м3, доля гарей от общей площади лесов - 0,223%, доля вырубок - 2,62%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НАШИ ЛЕС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Содержимое 3" descr="http://www.lesgazeta.ru/8723_ust.jp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Л ЕС – НАШЕ БОГАТСТВО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еса - первой и второй группы. Площадь леса первой группы 433,1 тыс. га, или 38,6% от всей площади лесов. В число первой группы входят леса природно-заповедного фонда, занимающие 29,0 тыс. га. Леса второй группы - это леса, расположенные в районах с высокой плотностью населения. Их площадь - 689,0 тыс. г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Содержимое 3" descr="http://www.lesgazeta.ru/6640_-avk.-p..gif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Берегите природу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3" name="Object 2"/>
          <p:cNvGraphicFramePr/>
          <p:nvPr/>
        </p:nvGraphicFramePr>
        <p:xfrm>
          <a:off x="533520" y="1752480"/>
          <a:ext cx="8153280" cy="4191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1532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5000"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6143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2703600" y="5300640"/>
            <a:ext cx="36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оставляй мусор в природ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mb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Содержимое 3" descr="Слово о лесе. Отрывок из книги «Леса России».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2481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ОСЛОВИЦЫ О ЛЕСЕ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ес да вода поле красит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ес и вода  - брат и сестр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еса от ветра защищают, урожаю помогают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едорубленный лес скоро вырастает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ково в лес кликнешь, таково и откликнетс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лес не по груши, а по еловые шишк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Содержимое 3" descr="main_big.jpg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58212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Содержимое 3" descr="1.jpg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821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равила поведения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 природе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икогда не наноси вред природ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е убивай зверей и птиц, сохраняй жизнь всем, кто попадается в природ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е губи деревья (не ломай, не делай надписей, не собирай сок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е разжигай костров в лесу, не делай новых кострищ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БЕРЕГИ  ПРИРОДУ!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е мусори на месте своего отдых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 меру бери дары природ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е прокладывай новых тропинок в лес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чись наблюдать в природ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чись слушать голоса  природы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е шуми на прогулках, не пугай животных – наших меньших братьев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Содержимое 3" descr="Слово о лесе. Отрывок из книги «Леса России».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095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Друзья мои! Возьмите посох свой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Идите в лес, бродите по долина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          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А. С. Пушкин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 самого раннего детства лес входит в жизнь человека как таинственный волшебник, добрый и надежный друг. Он — постоянный спутник русских сказок и былин, соучастник нашей богатой истории. Он всегда связывается с понятием Родин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лощадь лесов и лесные ресурс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еса - основной тип растительности России, они занимают 45% ее территори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еса играют огромную роль в экономике России как источники древесины и многих видов сырья - растительного (смолы, грибы, ягоды, лекарственные растения) и животного (мясо, меха, ценные лекарственные растения…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i-main-pic" descr="Картинка 45 из 24493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Содержимое 3" descr="Значение лесов России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5943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Значение лесов Росси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еса России составляют почти четверть лесного покрова планеты, что делает их уникальным природным образованием не только национального, но и глобального масштаба. Они являются центральным компонентом стабильности биосферы на континентальном масштабе, хранителем и защитником биоразнообразия. 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ЭТО ИНТЕРЕСНО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5000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Эндже</dc:creator>
  <dc:description/>
  <dc:language>en-US</dc:language>
  <cp:lastModifiedBy>Эндже</cp:lastModifiedBy>
  <dcterms:modified xsi:type="dcterms:W3CDTF">2019-01-12T15:01:1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