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6.jpeg" ContentType="image/jpeg"/>
  <Override PartName="/ppt/media/image5.jpeg" ContentType="image/jpeg"/>
  <Override PartName="/ppt/media/image4.jpeg" ContentType="image/jpeg"/>
  <Override PartName="/ppt/media/image24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9.wmf" ContentType="image/x-wmf"/>
  <Override PartName="/ppt/media/image14.jpeg" ContentType="image/jpeg"/>
  <Override PartName="/ppt/media/image16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wmf" ContentType="image/x-wmf"/>
  <Override PartName="/ppt/media/image17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9F0A2-764C-4FC4-8A86-EA5451716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37EE8-CAB2-47B1-A59D-3AF597ED4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B0EDE-08A0-416F-90CD-BC7F6FC1A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4CDDF-FCD3-47F4-AC8B-53412CA18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54DE7-6B09-4C53-85B5-0CCD60558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86195-B418-4973-96C4-6B24ADECD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BDB34-A548-4315-80A7-FC64ED129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2528C-47B4-4889-A19A-F5CF4F3AA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2EB74-BC93-4979-B3A3-2487B5F67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ECF46-D625-47A9-853B-0A7CDCD07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FCA1A-C866-4170-88EC-FD8E5F7E9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CC097-9DB2-4B7E-967D-1ECBF3650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E928E-DEF9-4C78-B22D-F65884A4207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304920"/>
            <a:ext cx="8229600" cy="5821200"/>
          </a:xfrm>
          <a:prstGeom prst="rect">
            <a:avLst/>
          </a:prstGeom>
          <a:solidFill>
            <a:srgbClr val="c0504d"/>
          </a:solidFill>
          <a:ln w="93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43" name="Object 2"/>
          <p:cNvGraphicFramePr/>
          <p:nvPr/>
        </p:nvGraphicFramePr>
        <p:xfrm>
          <a:off x="762120" y="1600200"/>
          <a:ext cx="7619760" cy="449568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00200"/>
                    <a:ext cx="7619760" cy="449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v_mire_zhivotnyh.mp3" descr=""/>
          <p:cNvPicPr/>
          <p:nvPr/>
        </p:nvPicPr>
        <p:blipFill>
          <a:blip r:embed="rId3"/>
          <a:stretch/>
        </p:blipFill>
        <p:spPr>
          <a:xfrm>
            <a:off x="457200" y="6324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ull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4" descr=""/>
          <p:cNvPicPr/>
          <p:nvPr/>
        </p:nvPicPr>
        <p:blipFill>
          <a:blip r:embed="rId1"/>
          <a:stretch/>
        </p:blipFill>
        <p:spPr>
          <a:xfrm>
            <a:off x="685800" y="380880"/>
            <a:ext cx="7772400" cy="472464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71600" y="5181120"/>
            <a:ext cx="640080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Calibri"/>
              </a:rPr>
              <a:t>Дуб</a:t>
            </a:r>
            <a:r>
              <a:rPr b="1" lang="ru-RU" sz="2800" spc="-1" strike="noStrike">
                <a:solidFill>
                  <a:srgbClr val="0033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3300"/>
                </a:solidFill>
                <a:latin typeface="Calibri"/>
              </a:rPr>
              <a:t>черешчатый</a:t>
            </a:r>
            <a:r>
              <a:rPr b="1" lang="ru-RU" sz="2800" spc="-1" strike="noStrike">
                <a:solidFill>
                  <a:srgbClr val="0033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Calibri"/>
              </a:rPr>
              <a:t>Дуб достигает высоты 40-50м, 100-150см в диаметре. Живет 100-500 лет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med" advTm="5000">
    <p:wheel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4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51354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 txBox="1"/>
          <p:nvPr/>
        </p:nvSpPr>
        <p:spPr>
          <a:xfrm>
            <a:off x="457200" y="5486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                          </a:t>
            </a:r>
            <a:r>
              <a:rPr b="1" lang="ru-RU" sz="2400" spc="-1" strike="noStrike">
                <a:solidFill>
                  <a:srgbClr val="003300"/>
                </a:solidFill>
                <a:latin typeface="Calibri"/>
              </a:rPr>
              <a:t>Сосна обыкновенная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Calibri"/>
              </a:rPr>
              <a:t>В благоприятных условиях сосна живет до 400 лет, достигая 48 метров высоты и 1 метра толщины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med" advTm="5000">
    <p:wheel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4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47545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 txBox="1"/>
          <p:nvPr/>
        </p:nvSpPr>
        <p:spPr>
          <a:xfrm>
            <a:off x="457200" y="5105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00"/>
                </a:solidFill>
                <a:latin typeface="Calibri"/>
              </a:rPr>
              <a:t>                                         </a:t>
            </a:r>
            <a:r>
              <a:rPr b="1" lang="ru-RU" sz="2400" spc="-1" strike="noStrike">
                <a:solidFill>
                  <a:srgbClr val="003300"/>
                </a:solidFill>
                <a:latin typeface="Calibri"/>
              </a:rPr>
              <a:t>Береза бородавчатая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     </a:t>
            </a:r>
            <a:r>
              <a:rPr b="0" lang="ru-RU" sz="2000" spc="-1" strike="noStrike">
                <a:solidFill>
                  <a:srgbClr val="800000"/>
                </a:solidFill>
                <a:latin typeface="Calibri"/>
              </a:rPr>
              <a:t>Береза дает человеку много лекарственных продуктов. Но не забудьте, что одна большая береза, поврежденная топором, может потерять за весну до 200 л сока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med" advTm="5000">
    <p:wheel spokes="3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4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49068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 txBox="1"/>
          <p:nvPr/>
        </p:nvSpPr>
        <p:spPr>
          <a:xfrm>
            <a:off x="609480" y="51814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                                                      </a:t>
            </a:r>
            <a:r>
              <a:rPr b="1" lang="ru-RU" sz="2000" spc="-1" strike="noStrike">
                <a:solidFill>
                  <a:srgbClr val="003300"/>
                </a:solidFill>
                <a:latin typeface="Calibri"/>
              </a:rPr>
              <a:t>Ель обыкновенная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    </a:t>
            </a:r>
            <a:r>
              <a:rPr b="0" lang="ru-RU" sz="1600" spc="-1" strike="noStrike">
                <a:solidFill>
                  <a:srgbClr val="800000"/>
                </a:solidFill>
                <a:latin typeface="Calibri"/>
              </a:rPr>
              <a:t>Это дерево знакомо всем с детства. Вместе с ним  под Новый год приходит сказка. В сумрачном еловом лесу верится, что именно здесь живут Баба-Яга, Леший и другие герои сказок. Ель растет 150—200 лет.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med" advTm="5000">
    <p:wheel spokes="2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52117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 txBox="1"/>
          <p:nvPr/>
        </p:nvSpPr>
        <p:spPr>
          <a:xfrm>
            <a:off x="457200" y="5486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                          </a:t>
            </a:r>
            <a:r>
              <a:rPr b="1" lang="ru-RU" sz="2000" spc="-1" strike="noStrike">
                <a:solidFill>
                  <a:srgbClr val="003300"/>
                </a:solidFill>
                <a:latin typeface="Calibri"/>
              </a:rPr>
              <a:t>Тополь серебристый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ru-RU" sz="2000" spc="-1" strike="noStrike">
                <a:solidFill>
                  <a:srgbClr val="800000"/>
                </a:solidFill>
                <a:latin typeface="Calibri"/>
              </a:rPr>
              <a:t>Тополь «чемпион» по поглощению углекислого газа, пыли, снижает летом температуру воздуха на 15-30%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med" advTm="5000">
    <p:wheel spokes="1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4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46782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 txBox="1"/>
          <p:nvPr/>
        </p:nvSpPr>
        <p:spPr>
          <a:xfrm>
            <a:off x="457200" y="5105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                            </a:t>
            </a:r>
            <a:r>
              <a:rPr b="1" lang="ru-RU" sz="2400" spc="-1" strike="noStrike">
                <a:solidFill>
                  <a:srgbClr val="003300"/>
                </a:solidFill>
                <a:latin typeface="Calibri"/>
              </a:rPr>
              <a:t>Липа мелколистная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Calibri"/>
              </a:rPr>
              <a:t>Одно взрослое дерево липы дает в среднем 70 кг меда, а гектар липняка – 1 т меда. Живет дерево 300-400 лет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med" advTm="5000"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4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437364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 txBox="1"/>
          <p:nvPr/>
        </p:nvSpPr>
        <p:spPr>
          <a:xfrm>
            <a:off x="457200" y="480060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                                   </a:t>
            </a:r>
            <a:r>
              <a:rPr b="1" lang="ru-RU" sz="2800" spc="-1" strike="noStrike">
                <a:solidFill>
                  <a:srgbClr val="003300"/>
                </a:solidFill>
                <a:latin typeface="Calibri"/>
              </a:rPr>
              <a:t>Осина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         </a:t>
            </a:r>
            <a:r>
              <a:rPr b="0" lang="ru-RU" sz="2000" spc="-1" strike="noStrike">
                <a:solidFill>
                  <a:srgbClr val="800000"/>
                </a:solidFill>
                <a:latin typeface="Calibri"/>
              </a:rPr>
              <a:t>Цветет в апреле-мае до распускания листьев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Calibri"/>
              </a:rPr>
              <a:t>           </a:t>
            </a:r>
            <a:r>
              <a:rPr b="0" lang="ru-RU" sz="2000" spc="-1" strike="noStrike">
                <a:solidFill>
                  <a:srgbClr val="800000"/>
                </a:solidFill>
                <a:latin typeface="Calibri"/>
              </a:rPr>
              <a:t>Живет 80-100 лет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med" advTm="5000"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6" name="i-tmb-0x" descr="http://im0-tub.yandex.net/i?id=12503023-04-24"/>
          <p:cNvPicPr/>
          <p:nvPr/>
        </p:nvPicPr>
        <p:blipFill>
          <a:blip r:embed="rId1"/>
          <a:stretch/>
        </p:blipFill>
        <p:spPr>
          <a:xfrm>
            <a:off x="457200" y="304920"/>
            <a:ext cx="8229600" cy="609588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Республика Татарстан.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8" name="Содержимое 3" descr="http://www.lesgazeta.ru/5844_tatarstan.jpg"/>
          <p:cNvPicPr/>
          <p:nvPr/>
        </p:nvPicPr>
        <p:blipFill>
          <a:blip r:embed="rId1"/>
          <a:stretch/>
        </p:blipFill>
        <p:spPr>
          <a:xfrm>
            <a:off x="380880" y="1371600"/>
            <a:ext cx="8363160" cy="487692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Северная часть республики – Предкамье, находится в лесной зоне, Закамье и Предволжье - в лесостепной.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Основные массивы лесов расположены в бассейнах рек Вятка, Зея, Шешма, Черемшана. Покрытая лесом площадь (тыс. га) и процент лесистости составляют, соответственно 986 и 16,3. Леса, в основном лиственные - дуб, липа, клён.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med" advTm="5000">
    <p:wipe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            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21 марта в мире отмечается Международный день леса (World Forest Day) -  введенный сорок лет назад как повод для информирования общественности о важности лесов для жителей Земли. Впервые решение о проведении Международного дня леса было принято Европейской конфедерацией сельского хозяйства в 1971 году;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med" advTm="10000">
    <p:pull dir="l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2" name="Содержимое 3" descr="http://www.lesgazeta.ru/9710_bashkorstan.jpg"/>
          <p:cNvPicPr/>
          <p:nvPr/>
        </p:nvPicPr>
        <p:blipFill>
          <a:blip r:embed="rId1"/>
          <a:stretch/>
        </p:blipFill>
        <p:spPr>
          <a:xfrm>
            <a:off x="457200" y="304920"/>
            <a:ext cx="8153280" cy="61722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7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Леса Татарстана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Лесные площади представлены условно-коренными, вторично-производными и искусственно созданными лесами.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Общий запас древесины - 145 млн. м3, доля гарей от общей площади лесов - 0,223%, доля вырубок - 2,62%.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med" advTm="5000">
    <p:blinds dir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НАШИ ЛЕСА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6" name="Содержимое 3" descr="http://www.lesgazeta.ru/8723_ust.jpg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blinds dir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Л ЕС – НАШЕ БОГАТСТВО.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Леса - первой и второй группы. Площадь леса первой группы 433,1 тыс. га, или 38,6% от всей площади лесов. В число первой группы входят леса природно-заповедного фонда, занимающие 29,0 тыс. га. Леса второй группы - это леса, расположенные в районах с высокой плотностью населения. Их площадь - 689,0 тыс. га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med" advTm="5000">
    <p:zoom dir="in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0" name="Содержимое 3" descr="http://www.lesgazeta.ru/6640_-avk.-p..gif"/>
          <p:cNvPicPr/>
          <p:nvPr/>
        </p:nvPicPr>
        <p:blipFill>
          <a:blip r:embed="rId1"/>
          <a:stretch/>
        </p:blipFill>
        <p:spPr>
          <a:xfrm>
            <a:off x="457200" y="304920"/>
            <a:ext cx="8229600" cy="61722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Берегите природу!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93" name="Object 2"/>
          <p:cNvGraphicFramePr/>
          <p:nvPr/>
        </p:nvGraphicFramePr>
        <p:xfrm>
          <a:off x="533520" y="1752480"/>
          <a:ext cx="8153280" cy="41911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9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752480"/>
                    <a:ext cx="8153280" cy="41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 advTm="5000">
    <p:checker dir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8" descr=""/>
          <p:cNvPicPr/>
          <p:nvPr/>
        </p:nvPicPr>
        <p:blipFill>
          <a:blip r:embed="rId1"/>
          <a:stretch/>
        </p:blipFill>
        <p:spPr>
          <a:xfrm>
            <a:off x="533520" y="380880"/>
            <a:ext cx="8153280" cy="6143760"/>
          </a:xfrm>
          <a:prstGeom prst="rect">
            <a:avLst/>
          </a:prstGeom>
          <a:ln w="0">
            <a:noFill/>
          </a:ln>
        </p:spPr>
      </p:pic>
      <p:sp>
        <p:nvSpPr>
          <p:cNvPr id="96" name="Text Box 9"/>
          <p:cNvSpPr/>
          <p:nvPr/>
        </p:nvSpPr>
        <p:spPr>
          <a:xfrm>
            <a:off x="2703600" y="5300640"/>
            <a:ext cx="368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е оставляй мусор в природе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5000">
    <p:comb dir="horz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9" name="Picture 4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8382240" cy="601992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comb dir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1" name="Содержимое 3" descr="Слово о лесе. Отрывок из книги «Леса России»."/>
          <p:cNvPicPr/>
          <p:nvPr/>
        </p:nvPicPr>
        <p:blipFill>
          <a:blip r:embed="rId1"/>
          <a:stretch/>
        </p:blipFill>
        <p:spPr>
          <a:xfrm>
            <a:off x="457200" y="304920"/>
            <a:ext cx="8229600" cy="624816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cover dir="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ПОСЛОВИЦЫ О ЛЕСЕ.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Лес да вода поле красит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Лес и вода  - брат и сестра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Леса от ветра защищают, урожаю помогают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Недорубленный лес скоро вырастает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Каково в лес кликнешь, таково и откликнется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В лес не по груши, а по еловые шишки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med" advTm="5000">
    <p:cover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8" name="Содержимое 3" descr="main_big.jpg"/>
          <p:cNvPicPr/>
          <p:nvPr/>
        </p:nvPicPr>
        <p:blipFill>
          <a:blip r:embed="rId1"/>
          <a:stretch/>
        </p:blipFill>
        <p:spPr>
          <a:xfrm>
            <a:off x="380880" y="304920"/>
            <a:ext cx="8305920" cy="582120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pull dir="lu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5" name="Содержимое 3" descr="1.jpg"/>
          <p:cNvPicPr/>
          <p:nvPr/>
        </p:nvPicPr>
        <p:blipFill>
          <a:blip r:embed="rId1"/>
          <a:stretch/>
        </p:blipFill>
        <p:spPr>
          <a:xfrm>
            <a:off x="457200" y="304920"/>
            <a:ext cx="8229600" cy="58212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cover dir="u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Правила поведения 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в природе.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Никогда не наноси вред природе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Не убивай зверей и птиц, сохраняй жизнь всем, кто попадается в природе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Не губи деревья (не ломай, не делай надписей, не собирай сок)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Не разжигай костров в лесу, не делай новых кострищ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med" advTm="5000">
    <p:dissolv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ffff"/>
                </a:solidFill>
                <a:latin typeface="Calibri"/>
              </a:rPr>
              <a:t>БЕРЕГИ  ПРИРОДУ!</a:t>
            </a:r>
            <a:endParaRPr b="0" lang="en-US" sz="7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   </a:t>
            </a: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Не мусори на месте своего отдыха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В меру бери дары природы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Не прокладывай новых тропинок в лесу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Учись наблюдать в природе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Учись слушать голоса  природы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Не шуми на прогулках, не пугай животных – наших меньших братьев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med" advTm="5000">
    <p:circl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11" name="Содержимое 3" descr="Слово о лесе. Отрывок из книги «Леса России»."/>
          <p:cNvPicPr/>
          <p:nvPr/>
        </p:nvPicPr>
        <p:blipFill>
          <a:blip r:embed="rId1"/>
          <a:stretch/>
        </p:blipFill>
        <p:spPr>
          <a:xfrm>
            <a:off x="380880" y="304920"/>
            <a:ext cx="8305920" cy="609588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Calibri"/>
              </a:rPr>
              <a:t>     </a:t>
            </a:r>
            <a:r>
              <a:rPr b="1" i="1" lang="ru-RU" sz="3200" spc="-1" strike="noStrike">
                <a:solidFill>
                  <a:srgbClr val="ffffff"/>
                </a:solidFill>
                <a:latin typeface="Calibri"/>
              </a:rPr>
              <a:t>Друзья мои! Возьмите посох свой,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1" i="1" lang="ru-RU" sz="3200" spc="-1" strike="noStrike">
                <a:solidFill>
                  <a:srgbClr val="ffffff"/>
                </a:solidFill>
                <a:latin typeface="Calibri"/>
              </a:rPr>
              <a:t>Идите в лес, бродите по долинам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Calibri"/>
              </a:rPr>
              <a:t>                                              </a:t>
            </a:r>
            <a:r>
              <a:rPr b="1" i="1" lang="ru-RU" sz="3200" spc="-1" strike="noStrike">
                <a:solidFill>
                  <a:srgbClr val="ffffff"/>
                </a:solidFill>
                <a:latin typeface="Calibri"/>
              </a:rPr>
              <a:t>А. С. Пушкин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С самого раннего детства лес входит в жизнь человека как таинственный волшебник, добрый и надежный друг. Он — постоянный спутник русских сказок и былин, соучастник нашей богатой истории. Он всегда связывается с понятием Родина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med" advTm="5000">
    <p:pull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Площадь лесов и лесные ресурсы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Леса - основной тип растительности России, они занимают 45% ее территории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Леса играют огромную роль в экономике России как источники древесины и многих видов сырья - растительного (смолы, грибы, ягоды, лекарственные растения) и животного (мясо, меха, ценные лекарственные растения… 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med" advTm="5000">
    <p:pull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4" name="i-main-pic" descr="Картинка 45 из 24493"/>
          <p:cNvPicPr/>
          <p:nvPr/>
        </p:nvPicPr>
        <p:blipFill>
          <a:blip r:embed="rId1"/>
          <a:stretch/>
        </p:blipFill>
        <p:spPr>
          <a:xfrm>
            <a:off x="533520" y="380880"/>
            <a:ext cx="8153280" cy="571500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6" name="Содержимое 3" descr="Значение лесов России"/>
          <p:cNvPicPr/>
          <p:nvPr/>
        </p:nvPicPr>
        <p:blipFill>
          <a:blip r:embed="rId1"/>
          <a:stretch/>
        </p:blipFill>
        <p:spPr>
          <a:xfrm>
            <a:off x="533520" y="380880"/>
            <a:ext cx="8076960" cy="59436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wheel spokes="1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Значение лесов России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Леса России составляют почти четверть лесного покрова планеты, что делает их уникальным природным образованием не только национального, но и глобального масштаба. Они являются центральным компонентом стабильности биосферы на континентальном масштабе, хранителем и защитником биоразнообразия.  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med" advTm="5000">
    <p:wheel spokes="2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905120"/>
            <a:ext cx="7772400" cy="283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   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ffff"/>
                </a:solidFill>
                <a:latin typeface="Calibri"/>
              </a:rPr>
              <a:t>ЭТО ИНТЕРЕСНО</a:t>
            </a:r>
            <a:endParaRPr b="0" lang="en-US" sz="6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med" advTm="5000">
    <p:wheel spokes="3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Эндже</dc:creator>
  <dc:description/>
  <dc:language>en-US</dc:language>
  <cp:lastModifiedBy>Эндже</cp:lastModifiedBy>
  <dcterms:modified xsi:type="dcterms:W3CDTF">2019-01-12T15:01:15Z</dcterms:modified>
  <cp:revision>2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