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BA8-2A18-46CE-90CC-A84E4D56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14D-415C-491E-8988-A3D5D63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8DDA1-9D97-4410-8081-223063C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84989-B3B9-426E-BC87-0E559980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5CB2-5A89-4413-A846-B883201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0EA3-BF4B-42BD-A077-A3FB31D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38DE-4B4D-4EE6-A306-222D67B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62FBB-5F14-4BCD-AC7D-198A0509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2E705-1F89-4B17-BBFD-AEC696C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FB2E0-B1C9-437B-A245-E279892E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DEA30-D1B6-4707-AEA7-216F0A8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E03-A46D-4D5F-B708-9D67C38D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F0F-6C56-455E-971C-FE797C6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E002-D7DE-4E5F-A078-7AA833D5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DB5-736D-43E8-9A06-3252C81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0518-952C-494E-BB0B-268601E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A5A-1005-4BF6-ACA2-D431AF2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276-CCD1-48A1-8BAC-F0AB12C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0E49-FD1E-4CFB-ACDF-6A2D442B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4BB2-C242-4A8C-85B2-2519EFE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7C0-F872-4B6D-8D4D-8ACDDE6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42E-B93D-4CAD-9ADC-09EFB57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8EC0-9C9E-48F7-8DC7-7B779A1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4CE8-09CA-4CBB-95D1-9315DE5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5EA2-912D-4DDE-B9AA-ED6AE6EA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FC7-C543-4E88-8FB8-DCA9F02E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E297-0ACF-492E-B994-77C74BAF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9388-7B5B-4B0D-B287-4C07B09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9DB1-542F-4D68-B6FC-9A4BB88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EC16-6E16-48AD-A230-54E52ABF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F4C2-D39C-46E2-BA28-85DB930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FFB-A009-4396-9D27-FF6FBB7D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D59B-75A5-4A97-BAB8-5F31A1F2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4D10-4F6D-4BD2-9B79-58B6479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E19C-F967-4505-81EB-8F31181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290D-95A8-4767-8A7F-C299FD3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E3C7-3B84-4E5B-B94D-40665A1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9C5A-2F5E-4EA8-A388-78C297BB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0E9B-2D7E-46B9-9E4C-76158315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A432-86BB-411B-A97E-3F9C1660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A34D-078E-4B90-BE10-D2E75AF7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CECF-3311-472A-B8E8-B491260A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A64-CF40-465B-AD75-1ECFAAB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6633-2756-4FCD-AB61-E62869C9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B55C-0CAE-467E-BFF1-718B978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DDE7-FA24-44DA-863A-23E2DD9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EC35-2220-44FB-B053-7E774DF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DC0D-FC06-49A1-910C-4F2CB32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7A9F-E6DE-4C3F-BE00-45251D01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2263-9644-4C66-978E-AC40D7D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DCB6-B55C-441A-894E-0D8462C6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7FFC-B0BE-4CF5-834A-1E99A251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B0D2-CAE8-4F0D-BBEE-629CE97C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B88-34A4-444D-9C10-E3BC743C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91D58-0128-43AD-8177-E883ACA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12196-7452-4581-B1BD-28AFCD0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CC4B-1574-4922-BECC-35AA4198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7543-DA73-4CB0-AB86-68FB7D8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2332-625A-4F40-8A3B-76247EF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70FB-F831-4620-982A-602007F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216E-0662-4F91-9AFA-6147BA2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8CDC-6B72-42B0-8ED0-B9CF96D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21BA-6D37-46EC-BF89-E3DDF9D6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750E-FFAE-4F47-9684-309A323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072-00ED-4414-A50E-2240418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DA36-EB8A-415E-B505-D871E652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935D-BE7D-4AE6-97A0-215D5B48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86A8-B55E-4760-A645-0B0D464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127B-2DB0-44B6-9AF8-FF28746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5F85-45A3-44A9-8236-EE321AE4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1084-8DC0-4050-BEA1-A310C5E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EFC4-B5D7-4E47-9AB7-D5FE02CE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39EA-0871-41F6-A03E-C82B0847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D1B4-8BDC-4B79-BF83-30D13A0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F7C4-A9A7-41DF-84B4-07333E6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86D-78BD-405E-BCDB-1B68492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8923-3E33-4FE9-A711-A731F15D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CEE3-3862-40F2-9FE3-33936BE9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9D83-0996-4224-AF22-0B0AE2A9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036B-CC8B-4003-B946-0C686AF5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A7C1-3951-455C-98B1-99B68BBD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4525-7C85-4A6D-9B04-DB49093E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FADE-38B7-4100-8BA5-06E7A0A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FD65-C7DE-4F93-A548-F4047362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09C8-86DF-4CF1-8677-B665B484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325C-493E-4851-8473-AC08414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F91-DBC7-4186-8A10-FE40425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6F4C-E657-43E3-858F-F45D0F4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DF06-D39B-4790-B504-7189361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BB6B6-22B9-4F9F-BD80-F2C4B0B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5499-6B89-47A0-B429-480DBF7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39BA-8569-49C4-B72C-0FACEFA1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6AAB2-99DD-488B-8E78-A66F85E3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A0D8F-413A-404E-9B1F-5B55A70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E5E7C-C9E4-4EFE-B740-D74BC988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0CB37-DE28-420D-8E27-C87A691F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3E3DB-0A61-4648-BAE6-1AA99EDC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E62-B08A-433B-8761-ADA0C9F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2E431-6067-4ABE-A752-BFBB7F9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755AE-BB1D-4245-939D-32A97AF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056D1-948A-4D52-8788-116BD24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6A68F-A373-4BC8-863D-E59586B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88E93-DA12-4962-9992-720A863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8AED6-28E7-4C3B-BA21-E66100A6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90136-B3F8-4E58-A8D4-7B7FB927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7A5FD-335A-4194-9ECC-194FAAD6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CD5B-6960-4D29-9163-2E839348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4340-4A6D-446F-A5E5-C5F6B25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64A-DF14-4210-9F92-038D4F6FA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507F-FF90-4F3D-A9AB-D512B7B3A8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532-4332-4CB0-B7B8-D70662EDC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117F-015E-47B5-B913-CA619C5FB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0D8-D25A-4585-81D4-8718A64C0F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B52-070A-4B11-845C-3A1C5FDD62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EE7B-6B58-4E68-90E9-B2B579CC13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E0B-BEA3-4848-9CF9-ABD86F405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5DD0-6AAC-4AB9-BB58-8205F33800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Донская ос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00000" y="3357360"/>
            <a:ext cx="734544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изобразительного искусства в 6 класс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Прямоугольник 1"/>
          <p:cNvSpPr/>
          <p:nvPr/>
        </p:nvSpPr>
        <p:spPr>
          <a:xfrm>
            <a:off x="3348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Костюрина Вера Алексеевна учитель первой котегории МБОУ ЕСОШ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олотым ковром стелятся опавшие листь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4" descr="Изображение 793"/>
          <p:cNvPicPr/>
          <p:nvPr/>
        </p:nvPicPr>
        <p:blipFill>
          <a:blip r:embed="rId1"/>
          <a:stretch/>
        </p:blipFill>
        <p:spPr>
          <a:xfrm>
            <a:off x="-914400" y="1557360"/>
            <a:ext cx="109728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асив осенний ле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2916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ылая по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й очарованье приятна мне твоя прощальная краса и пышные природы увяданья. В багрец и золото одетые лес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4" descr="253"/>
          <p:cNvPicPr/>
          <p:nvPr/>
        </p:nvPicPr>
        <p:blipFill>
          <a:blip r:embed="rId1"/>
          <a:stretch/>
        </p:blipFill>
        <p:spPr>
          <a:xfrm>
            <a:off x="2916360" y="1989000"/>
            <a:ext cx="6035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ловно сто солнц выстроились в ряды пышные клен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nature_269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4" descr="Изображение 691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реди еще зеленой листвы, будто языки пламени, стоят красавицы осины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4" descr="Изображение 7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4" descr="Изображение 747"/>
          <p:cNvPicPr/>
          <p:nvPr/>
        </p:nvPicPr>
        <p:blipFill>
          <a:blip r:embed="rId1"/>
          <a:stretch/>
        </p:blipFill>
        <p:spPr>
          <a:xfrm>
            <a:off x="-852480" y="-228600"/>
            <a:ext cx="108489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олодые березки и осины любуются своим отражением в воде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Picture 4" descr="Изображение 775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675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но разноцветные корабли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шат в свое последнее плаванье опавшие ли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4" descr="2"/>
          <p:cNvPicPr/>
          <p:nvPr/>
        </p:nvPicPr>
        <p:blipFill>
          <a:blip r:embed="rId1"/>
          <a:stretch/>
        </p:blipFill>
        <p:spPr>
          <a:xfrm>
            <a:off x="0" y="1658880"/>
            <a:ext cx="94489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4" descr="J018163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7:43:06Z</dcterms:created>
  <dc:creator>1</dc:creator>
  <dc:description/>
  <dc:language>en-US</dc:language>
  <cp:lastModifiedBy>1</cp:lastModifiedBy>
  <dcterms:modified xsi:type="dcterms:W3CDTF">2019-01-12T17:42:33Z</dcterms:modified>
  <cp:revision>6</cp:revision>
  <dc:subject/>
  <dc:title>Золотые краски осени</dc:title>
</cp:coreProperties>
</file>