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4C0-4447-4913-AE9D-C9014A33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470-B502-4CEE-8992-91FE48DB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23F39-8A4F-4FB3-BDCB-4EBE9D60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FEAD9-8E1A-4A66-834C-A2B5427C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C8184-4711-428F-B7E6-05E5FC21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C4C98-1860-4B00-89D7-9543EB2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BAA51-B08E-4548-A439-9A59D64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8A475-5AEE-408A-9715-A675BF8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2ACFE-2F1E-4AF9-8BD2-05AE0551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DA82-41C6-46EC-8D4C-75A2DF8C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C5597-7CB3-44E5-8616-00177435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FC1-38D0-4FBA-8135-B6E6F823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A75-E12F-4792-9DF0-0F9BC60C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8066-4E4F-4F20-977A-F2E47974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009A-2EC4-4922-9A6A-42E8F04C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59EC-3823-4B96-81C9-F2B3345C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D23E-7586-4FB3-9393-B8FDE0F5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5011-352E-4A7A-AE2E-F295623D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EFA3-40E3-452D-8315-DE15855B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982F-F317-4E6A-893A-3D1C475A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7E4-B273-4A28-B1B6-CE1D441F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340B-ECCD-4D06-BF76-A4BD03D2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AB33-05E6-43BA-B1E8-72E4FDD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E6F4-D6D5-4264-A77C-41B0F353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DFD4-8AA0-4F83-86E6-8115E651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CF60-5369-49D2-B6C3-60F4B2D7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E214-6D34-41B3-9BB8-59363FFB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935F-865F-42A9-91DD-77A63234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44B4-33B2-4762-8412-5FDBD617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9FB1-B56F-4ADD-B4C2-D8870FFA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2B14-CA2E-44C5-AEB4-5C523044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468-E25A-4E08-918E-D14EAED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354AE-4579-4422-AD8F-714F8E41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515B-439C-4622-93C0-FE345B8A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178B-817A-46E8-9DCD-2771264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A374-CB9F-475F-AEC7-1F299443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003E-28EF-41B6-A38E-426D9DBF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C7D4C-4C8D-4D85-B01B-9CA7E406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F7E60-9130-4E0B-8592-E996EF1D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3CF2-394E-4513-8869-6AF873B9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EE98A-3CDD-490C-A77C-BB70E453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7E772-8E30-4200-8060-6F5AE4FC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6E9-EE49-4F3A-B8B3-A2518BF0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1A1E-1962-4B37-80D5-2C2A128B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AC9A-E033-49C8-AC3F-6C4487DE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8A6B-513B-45E5-ABB7-565080E9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53E5-DBEC-4FCB-9824-25C6A214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8602C-A2FE-4CCA-B87D-774271B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1D3B-5808-49D1-96B4-D48ADA1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6FD9-2ABF-4425-8810-49F2A3D4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748E-6898-427F-B8FE-966ED265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8DC7-AB85-4AF3-8406-865C554A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AFA36-8775-40C8-B3D0-12CDB9C2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8F5-7797-47F0-A8E4-2A05B6EA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87D83-6D03-40AC-AD52-5120782C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9FC6-2053-415D-9BF1-A635A2FA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8CAA4-89F0-41D8-95FB-AE4BCD1C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0663-E16A-4E08-A721-F482EBD6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BAAF-E28B-49D1-B6DE-A656B1B4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F716-AF48-4BF5-8A4B-1470FD29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4230E-EDD1-4B68-9B2C-497EAEC6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111CF-1C22-4A44-8B86-CB5546B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07A1-65AA-4CB8-AD42-72744E8B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D8112-FF81-4AB4-B292-AFFA9014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892-E9D5-4B5B-98EF-359B0DD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62A0-3C63-45C8-A293-F6C260FB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0B6AC-13CB-40C6-9C99-D3D25A83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5F92-88B3-4F81-BB00-2AEA977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429A8-7CD2-47DF-87C1-5999F49D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B833E-9EDF-4A45-85E5-7FF0897E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B78B-2F74-470D-BD3A-D115344E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6121B-1974-48F7-8F76-14DFA2B7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EEBA2-14A0-4757-A58B-1FA458AA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B07C4-3309-4C91-BFD8-82A7F79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32AC-EF7B-4714-9A8B-1305D5D9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190-7458-43C2-B7C5-1231D5E1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51C3A-7C6D-489C-9BF7-A4712691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0FBBB-16EB-4366-9018-349F3C3A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49B2-B09C-4A93-A35B-681C9768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09AAF-AFEB-4813-BB2D-D4AB0BB1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9CF1-9367-4176-8F0D-1D3594F6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C3D46-C03D-41C9-895A-89243411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A4EFB-FEB5-4DAD-A7C2-E8370716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663BF-7514-48BC-AF41-41D31386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7CD3C-7B99-49C6-A7D0-DE4FA555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B1474-FDBA-4BCE-8E1E-1E89100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F63-72A1-411A-83C4-1927C1E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4BEE1-6EEE-48A9-BAA1-29D401CE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8C7C3-CEC4-4240-925C-9A3B6B3F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F5DAD-BABF-4E59-8DE1-5B2FC8D8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1125-F7DE-4027-B315-7375B64C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23133-92FC-4D47-A79E-AC92A30C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1B8AD9-AE35-435C-ADB1-77F8D841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F21EDD-1D6E-4126-8446-DA4D0EA6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7741F-4118-46FF-AFE0-18D080C5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7879E4-99CC-4A7D-9AC2-F6D29DF4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2577A-DB0F-4B6A-A381-99CD9181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560-0CDC-4281-AEA3-B84F375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3925C-2414-406C-BED7-5D4AB1D2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CCA05-B527-408D-AF5E-E7FBF072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E7151-EF6E-4F71-B10E-A7763EB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40531-8FB7-41E7-B395-3ABA9DD2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D40CC-F322-4BD8-AFAD-A8C57F11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015F3-9BFA-4D38-A402-144CDDAA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47279-76BD-40EF-8908-C82E5CEE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D0A96-A809-44B2-964F-94F3FF88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9FB47-D1B0-40B6-9091-1C259E3D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8219F-C0B5-4D5B-9719-F7EF431B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D40E-F7D7-4A2E-B5EA-AC5974A082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A7D2-351A-40C4-84CA-CC7D56EC3D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4005-C619-46CD-A503-D5C556739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C04-05FB-45E4-BEAA-016FD708F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94E4-46EE-45DB-9520-E4A3389B04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ECF6-C5C6-4324-94B9-076A75A0FD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9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C201-B889-47A2-A99A-D366C88255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201-5ADE-43B6-866F-C54C68352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E25A-7B30-4C72-92F2-57FF329BCA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Донская осен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900000" y="3357360"/>
            <a:ext cx="734544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изобразительного искусства в 6 класс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Прямоугольник 1"/>
          <p:cNvSpPr/>
          <p:nvPr/>
        </p:nvSpPr>
        <p:spPr>
          <a:xfrm>
            <a:off x="3348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Костюрина Вера Алексеевна учитель первой котегории МБОУ ЕСОШ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олотым ковром стелятся опавшие листь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4" descr="Изображение 793"/>
          <p:cNvPicPr/>
          <p:nvPr/>
        </p:nvPicPr>
        <p:blipFill>
          <a:blip r:embed="rId1"/>
          <a:stretch/>
        </p:blipFill>
        <p:spPr>
          <a:xfrm>
            <a:off x="-914400" y="1557360"/>
            <a:ext cx="109728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расив осенний ле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2916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нылая пор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чей очарованье приятна мне твоя прощальная краса и пышные природы увяданья. В багрец и золото одетые леса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4" descr="253"/>
          <p:cNvPicPr/>
          <p:nvPr/>
        </p:nvPicPr>
        <p:blipFill>
          <a:blip r:embed="rId1"/>
          <a:stretch/>
        </p:blipFill>
        <p:spPr>
          <a:xfrm>
            <a:off x="2916360" y="1989000"/>
            <a:ext cx="6035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Словно сто солнц выстроились в ряды пышные клены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nature_269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4" descr="Изображение 691"/>
          <p:cNvPicPr/>
          <p:nvPr/>
        </p:nvPicPr>
        <p:blipFill>
          <a:blip r:embed="rId1"/>
          <a:stretch/>
        </p:blipFill>
        <p:spPr>
          <a:xfrm>
            <a:off x="11160" y="0"/>
            <a:ext cx="913284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реди еще зеленой листвы, будто языки пламени, стоят красавицы осины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4" descr="Изображение 746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4" descr="Изображение 747"/>
          <p:cNvPicPr/>
          <p:nvPr/>
        </p:nvPicPr>
        <p:blipFill>
          <a:blip r:embed="rId1"/>
          <a:stretch/>
        </p:blipFill>
        <p:spPr>
          <a:xfrm>
            <a:off x="-852480" y="-228600"/>
            <a:ext cx="108489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олодые березки и осины любуются своим отражением в воде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Picture 4" descr="Изображение 775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6756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вно разноцветные кораблик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шат в свое последнее плаванье опавшие лис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Picture 4" descr="2"/>
          <p:cNvPicPr/>
          <p:nvPr/>
        </p:nvPicPr>
        <p:blipFill>
          <a:blip r:embed="rId1"/>
          <a:stretch/>
        </p:blipFill>
        <p:spPr>
          <a:xfrm>
            <a:off x="0" y="1658880"/>
            <a:ext cx="94489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Picture 4" descr="J0181636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7:43:06Z</dcterms:created>
  <dc:creator>1</dc:creator>
  <dc:description/>
  <dc:language>en-US</dc:language>
  <cp:lastModifiedBy>1</cp:lastModifiedBy>
  <dcterms:modified xsi:type="dcterms:W3CDTF">2019-01-12T17:42:33Z</dcterms:modified>
  <cp:revision>6</cp:revision>
  <dc:subject/>
  <dc:title>Золотые краски осени</dc:title>
</cp:coreProperties>
</file>