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EA36-92F5-4FEC-829F-DF8AED662A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C36C-F724-493F-97E2-1163F91E4F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9205-9444-4105-8261-6CC14F76E1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64D-45ED-44DC-9367-9BB64628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BB0-10D6-40E3-B493-A51CDB6B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ABA-CD18-4312-8F76-C661C37B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0C7-FF56-4465-A707-053E14E9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3980-D740-464D-844D-2D4B5FDA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AD0A-E60E-4346-8355-0352CAE2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3D98-CF7B-4FB8-AF61-A2FBCD70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A6EE-ED03-4BF6-AE66-056719C2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890C-8FC9-42B7-8B8F-0BB827C4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AA35-0688-4058-95F8-8D7D2BEC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3601-C6AD-455A-A053-0728C7F1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3BD-3C33-4173-A977-3305E690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5E71-CFF6-42C3-9328-0019882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7BB6-E3CB-4ED9-AD05-C00DEC0C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5C59-7415-4924-AC3B-3AA35957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D6BD-A031-44AE-BC0B-B4D340B6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1E21-0C50-4041-B9EA-C0C8C822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BCC29-3F07-4AC1-A7A5-A878CE5C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82AC4-A070-45F6-B5FC-E345102B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54E7A-9003-4DF3-84DC-CBA010AA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5675F-46A5-4342-AFEE-FCBCA3BA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08BC-3EA2-4D41-9FE7-C3C9E619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273-1E35-4085-B24D-F0095C46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34BE-96D3-440D-BD48-8234D12B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3616-68BD-43E6-BC63-A9F80075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3C51-9895-4407-8FE0-6DD1C011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03D3-5384-4AA6-8B70-ECB73290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07FCA-7263-470C-9293-FD046A06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2B0DC-A525-4CD1-B083-44EF4594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887D-FCDC-4700-B67A-D3296F41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EC6EA-0C47-4213-9CAB-D0802C81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39BF1-A679-45E7-B465-DA93053B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2FD48-BC31-4BAA-9911-53826F0F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7E9-AC75-40DD-B996-E5EDFDAF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8EF21-711E-4229-8BE8-77BE555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41C27-2085-4551-9E37-00040A58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1F75A-85A3-4391-8BEB-09587A8C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00831-0066-4998-8CF0-E753141F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EEA83-3DAD-4B83-9F94-70477D7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01792-06B7-4EAD-B258-7CEDB987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8E9C7-5666-490D-A58F-C680EF43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D7328-6227-46F6-A5D3-54E23B43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8154B-F31D-4249-A832-445E1735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84A55-44E9-4086-96B7-C7D6E1DF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0E5-4106-454E-B4AE-F96E7C7D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FF115-317D-4081-871E-371D8881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3F090-66B1-43E0-9B37-23D1BAF1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5BB4A-6CA6-4AFC-B595-5A69A365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19237-B191-4450-BC5B-F2D68D38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F3A3E-2A9A-466F-8F3C-C1B617A7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FC9FB-D472-4735-9DE2-124CE81F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F99D5-9415-4A31-8192-6BB21F81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35D54-BBC6-4AA6-8F00-485C7468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4BA46-1EBE-4432-940B-E640E6BE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BB48A-CCD6-4681-9991-17C59B25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258-A636-4A0E-AB8A-86A18961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97F26-82E0-450A-8CF1-DBAD45F8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4B543-B961-4CD0-9DF9-BCEE2D9D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3CF09-5756-405A-AF1B-870EB95E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020BB-4DA2-411E-8AC5-2C5AF400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71AB0-7A59-4841-AF49-8E69CE4C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ACC08-F8CA-456A-BC70-88C0B69C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1DB75-E7B4-4C8E-9FFB-9F1D5115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6754F-811F-48EE-A8EE-653F0B70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CFCCC-7AE8-4A72-9288-1951E284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FBA80-4504-400E-A49A-4BC0D223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47C-9E91-4460-8A4C-AB1E5FEA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12C88-46A3-4101-AE95-CEF7D8E6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AF068-065F-4988-B4F4-75FF36AC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38427-5F24-4E48-91A3-5F0E163B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3D1C0-BF07-4F1C-A958-45F8BD3D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ADE0E-3C35-49C5-A83A-350D5BBD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AC691-F251-4C48-884B-4BD1E48C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F715B-2456-4871-B2EE-21868D34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B8D80-4A08-497D-9ED3-F4857D0D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B553B-1E7B-4929-AF64-80D99850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E1570-3335-4A41-9FA7-189ABEAE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612-0673-4617-B27E-31B3ACDE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5683A-B450-488D-A482-4575E9B3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59879-80F9-4F19-AB20-FCB8F9CC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31D2B-07C0-4715-99FE-1F070282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2543D-39EE-451B-98B9-ECF3370C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0DA6D-D90B-4C7F-AE6B-1E3367E0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05D-7B99-4391-896C-3E01F912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6047-B109-4857-84FE-F96058534EA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E4CD-19D5-4DA9-A5F7-EAF77BBB668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AC08-3D05-4BC6-A4FC-EB91E0974E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CEBC-A968-4513-8268-A997B84630F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D688-DDF0-43DE-9205-E8B18257017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52C1-2B19-4760-B31D-B0571A06AA6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F597-67A2-48F0-8226-F96A0B6C1B9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13840"/>
            <a:ext cx="74073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изический диктант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928800"/>
            <a:ext cx="7407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1.Раздел физики, изучающий причины изменения скорости тел называется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2.Изменение скорости тела всегда вызывается действием на него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3.Система отсчета, в которой ускорение тела определяется только действием на него других тел называется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4.Система отсчета, в которой неверно основное утверждение механики называется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5.Тело, размерами которого в условии рассматриваемой задачи можно пренебречь, называется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6.Тело, на которое не действуют другие тела, называется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изический диктант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7.Следующее выражение: существуют такие системы отсчета, относительно которых свободные тела движутся равномерно и прямолинейно , носит название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8.Единицей какой физической величины является ньютон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9.Прибор для измерения силы называется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04:40:25Z</dcterms:created>
  <dc:creator>Котенок</dc:creator>
  <dc:description/>
  <dc:language>en-US</dc:language>
  <cp:lastModifiedBy>куркин</cp:lastModifiedBy>
  <dcterms:modified xsi:type="dcterms:W3CDTF">2010-10-23T04:57:40Z</dcterms:modified>
  <cp:revision>2</cp:revision>
  <dc:subject/>
  <dc:title>Физический диктант.</dc:title>
</cp:coreProperties>
</file>