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4E2-EDCD-4304-8204-ED1DA483CD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70F0-3ADC-4641-A0E2-BD8D487AC6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B870-455B-44EC-A8AC-B495D8DAE5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3C5-0803-41ED-B861-318E3760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885-D534-4594-9580-E3E8CBB5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CE0-9E53-4453-9EA8-67AC89F6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A51-F85A-4605-A5FE-BCBE219A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C5B6-5BF7-4344-B340-B79FEFDE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E4AF-65B6-4ED5-9999-D960302F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972-A09B-4128-9499-F9E06060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4085-F765-49D0-83CE-2E64A94D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10BE-78BF-4770-84EC-6E4F522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5094-E3A8-4C58-A94B-F8C45668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5939-6EA1-4FB7-B746-4F4E5B5D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1B9-2A29-40B9-8B5D-808D3D14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3A56-FDB8-42C7-A09A-FD01851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FD35-AFB6-4394-8512-7FAE1B4F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A39D-5C8D-4C6C-9023-5C6FBB9D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4D68-92C5-43EA-8D5F-3278312A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F81B-D197-4DDA-9B7A-0EA74890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D0B9-822C-4DBA-A42B-E76F3E14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D3B7-A69A-4B31-9989-B797F249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3952-9A2A-4746-A4F6-7C9548E1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0306-B400-48AF-88BF-437DF78E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6AF4-64D8-436D-91A6-23FAA0A5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F53-2BFF-4801-8704-D5545555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3A2D-EAE2-4A0E-8368-DF16BF7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8653-82C1-48FD-BD44-9E55976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484A-8911-47EC-9CE6-CA45896D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BBB1-8BFE-4CE6-BBCB-BF726BFA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3862E-2F6E-4D93-ACF3-1A0C935E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B92D-2BD2-432C-A3FF-A3F27A79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F81C-76C4-4051-9F77-B3A0091B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D0BC-999B-4EAB-BF66-4B243FF8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F5DE8-E844-448B-A4B0-005F73B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0788-132B-48D8-B5FE-268C61EF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E6F-2B92-4582-A88D-24D86AF4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0B25-980F-4E35-A20B-31F19D8C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05338-DCF3-421E-9545-63F093E9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C5E2-E711-4D1A-8C74-D6C7660F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51E8-92E4-44CE-954E-4D71F75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60D0-2BC8-46FC-B396-D9D63A5E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6842-99C7-4DE4-BCBB-0FF502B4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F70FD-18A1-4007-BE63-C6CEC356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C39C-7261-44C5-A5A0-4A3627A0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41DF-183C-4D77-BC63-C197CEEB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3ED8-007D-470B-BD6B-F61A2BB2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06D-E920-488F-9FA1-DDA48649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74DE-5866-4705-B344-BDB08688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31AF6-299E-4B86-9C21-D7D9347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35602-6730-45AF-95D9-837F0473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FA05-126F-41EC-BCA5-0F50A7CB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59B94-D9A2-4344-A671-E5420850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33536-5ADE-485D-A5A5-6A8A5634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DFE8C-EE1E-4FC4-83CF-767486C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89C69-C511-4A2C-999B-F5D5D41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05CDD-DA4C-40C2-91C2-C5A04CF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C899E-3506-4921-9B18-FEF8DA2B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3F2-FA4B-418F-A879-EBFA28D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56D67-7796-4240-AD6D-749B0C4A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16E5-3787-4446-AC0E-DB948073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BDFC9-8139-4231-A35B-5AC3458C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ABBA6-8340-49A6-876B-E367C12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A1EF2-3DDD-48C7-95E1-2EC9CB81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5CA0-69D5-4CCF-95F9-009285D2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AD880-1D0B-4FB5-8F00-6222365A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489C-2B2E-4289-AE49-B67D496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F178-E6E9-4369-B11C-4B6E1FAA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6E82A-0622-4C40-BE00-D325B0A0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0E1-F869-4B6D-B910-5632C4B7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9F0A9-F0E5-4BD0-A6CE-C29EC456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FE68E-B693-464B-89BB-CABFB4DA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0482B-C15B-403F-8531-5723ECB7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E7653-186D-4DD6-8C3A-383C743A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E7318-866D-4570-AF88-7529C0F0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DDDD6-BC02-4FE7-80D3-FC730D79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42AE2-AB9B-405D-B997-425FD256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AE6B7-6972-406F-8D34-4192EB1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F1009-650A-4F99-B330-2BFFB7A3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AE076-B5CE-4CBD-84D8-AF708B7B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68D-9FB4-4501-8C1F-DE0BABC6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3C5B0-C613-41DF-9C4E-E352DD2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5111C-8DBB-4A00-A174-4E0104E4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86245-FD78-4C56-B9C3-81316540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151BE-7F10-449C-8134-7E6C7170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36216-A755-41DB-B620-32882515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A25-6C9C-449D-9EB8-5824172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63A1-071F-445B-9A02-F2A269A77B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7997-61B3-4424-BAD1-D154BDCB95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D7AF-D614-4F1D-9039-D031EAD9D2F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B3E9-48BC-4BE0-8E12-04D506C8A94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F43F-95C8-4C61-A210-92B3AAA0A6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CC72-289C-4D7C-81D6-D5A7A6768E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1826-39F9-49DC-BD29-DBB5AD1E83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13840"/>
            <a:ext cx="74073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изический диктант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928800"/>
            <a:ext cx="7407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.Раздел физики, изучающий причины изменения скорости тел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2.Изменение скорости тела всегда вызывается действием на него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3.Система отсчета, в которой ускорение тела определяется только действием на него других тел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4.Система отсчета, в которой неверно основное утверждение механики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5.Тело, размерами которого в условии рассматриваемой задачи можно пренебречь,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6.Тело, на которое не действуют другие тела,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изический диктант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7.Следующее выражение: существуют такие системы отсчета, относительно которых свободные тела движутся равномерно и прямолинейно , носит название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8.Единицей какой физической величины является ньютон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9.Прибор для измерения силы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4:40:25Z</dcterms:created>
  <dc:creator>Котенок</dc:creator>
  <dc:description/>
  <dc:language>en-US</dc:language>
  <cp:lastModifiedBy>куркин</cp:lastModifiedBy>
  <dcterms:modified xsi:type="dcterms:W3CDTF">2010-10-23T04:57:40Z</dcterms:modified>
  <cp:revision>2</cp:revision>
  <dc:subject/>
  <dc:title>Физический диктант.</dc:title>
</cp:coreProperties>
</file>