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B93-4646-4FC7-91F1-AD837BAA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A4D-CB58-45AA-A0E7-19735385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16C-BDEF-4DB9-967D-04CBCE49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F21-3A04-42D8-BEBD-79E3C478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D6B-7C75-4DFB-8BFF-1DE962A6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B72-C688-4808-849C-149B81B6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9FD-9A16-4F3D-BB1B-DADA176A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A19-1782-47CC-AA95-D97E273E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856-1C31-4582-8201-780528D3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AEF-8D72-4892-BC25-73AC4DD7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0B3-F3B0-4AC0-BFE4-84EE934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6DC-002C-416A-AFEC-4A1398BB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Text Box 7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Text Box 10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F20B-F3A1-4319-9AB9-79A3EB411DB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гиена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 - сосудистой системы.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ервая помощь при кровотечениях.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14368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хоман  Яна Равилье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№ 1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slide_2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img6.jpg"/>
          <p:cNvPicPr/>
          <p:nvPr/>
        </p:nvPicPr>
        <p:blipFill>
          <a:blip r:embed="rId1"/>
          <a:stretch/>
        </p:blipFill>
        <p:spPr>
          <a:xfrm>
            <a:off x="642960" y="357120"/>
            <a:ext cx="78580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Условия нормальной работы сердца:</a:t>
            </a:r>
            <a:endParaRPr b="0" lang="en-US" sz="33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468360" y="1341360"/>
            <a:ext cx="316692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зические упраж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468360" y="2349360"/>
            <a:ext cx="266544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ильный тру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468360" y="3357720"/>
            <a:ext cx="3024000" cy="50292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ый образ жизн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95280" y="4437000"/>
            <a:ext cx="331164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оевременный отды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859280" y="1484280"/>
            <a:ext cx="3816360" cy="4967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лучшается снаб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д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слородом и питательны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ествам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вается сердеч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шца 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вается объе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овоток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3851280" y="148428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3348000" y="234936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3635280" y="3429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3851280" y="450864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324000" y="5589720"/>
            <a:ext cx="3889080" cy="5032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каз от вредных привыч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4356000" y="566100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:\скачанные файлы.jpg"/>
          <p:cNvPicPr/>
          <p:nvPr/>
        </p:nvPicPr>
        <p:blipFill>
          <a:blip r:embed="rId1"/>
          <a:stretch/>
        </p:blipFill>
        <p:spPr>
          <a:xfrm>
            <a:off x="428760" y="714240"/>
            <a:ext cx="819612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:\1432880358_ostanovka-arterialnogo-kro.jpg"/>
          <p:cNvPicPr/>
          <p:nvPr/>
        </p:nvPicPr>
        <p:blipFill>
          <a:blip r:embed="rId1"/>
          <a:stretch/>
        </p:blipFill>
        <p:spPr>
          <a:xfrm>
            <a:off x="1000080" y="144360"/>
            <a:ext cx="721512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:\Kak-osushhestvlyaetsya-ostanovka-venoznogo-krovotecheniya-1.jpg"/>
          <p:cNvPicPr/>
          <p:nvPr/>
        </p:nvPicPr>
        <p:blipFill>
          <a:blip r:embed="rId1"/>
          <a:stretch/>
        </p:blipFill>
        <p:spPr>
          <a:xfrm>
            <a:off x="1859040" y="87480"/>
            <a:ext cx="535608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phpKreNUO_0_4.jpeg"/>
          <p:cNvPicPr/>
          <p:nvPr/>
        </p:nvPicPr>
        <p:blipFill>
          <a:blip r:embed="rId1"/>
          <a:stretch/>
        </p:blipFill>
        <p:spPr>
          <a:xfrm>
            <a:off x="428760" y="857160"/>
            <a:ext cx="83390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Используемые 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Интернет- ресурсы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files.school-collection.edu.ru/dlrstore/92798a68-f28e-40ba-ac38-e1d08e10cf6b/%5BBIO8_03-21%5D_%5BMV_01%5D.wmv   Работа при повышенной нагрузке тренированного и нетренированного сердца, изменение при этом сердечного выброса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files.school-collection.edu.ru/dlrstore/5215708b-e108-46ee-806c-6c3f8b859d36/%5BBIO8_03-21%5D_%5BMV_04%5D.wmv  Доказательство вреда курения (влияние курения на скорость кровотока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files.school-collection.edu.ru/dlrstore/668f081a-ace6-402d-b7f0-1e9611eded3f/%5BBIO8_03-21%5D_%5BPD_05%5D.jpg  Сердце в состоянии ожирен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14960" y="277200"/>
            <a:ext cx="3471840" cy="15706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53" name="Picture 2" descr="E:\ссс.jpg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5929560"/>
          </a:xfrm>
          <a:prstGeom prst="rect">
            <a:avLst/>
          </a:prstGeom>
          <a:ln w="9360">
            <a:solidFill>
              <a:srgbClr val="77d9e8"/>
            </a:solidFill>
            <a:miter/>
          </a:ln>
        </p:spPr>
      </p:pic>
      <p:sp>
        <p:nvSpPr>
          <p:cNvPr id="54" name="Ink 4"/>
          <p:cNvSpPr/>
          <p:nvPr/>
        </p:nvSpPr>
        <p:spPr>
          <a:xfrm>
            <a:off x="6607080" y="1197000"/>
            <a:ext cx="2679840" cy="88920"/>
          </a:xfrm>
          <a:custGeom>
            <a:avLst/>
            <a:gdLst/>
            <a:ahLst/>
            <a:rect l="l" t="t" r="r" b="b"/>
            <a:pathLst>
              <a:path w="7443" h="249">
                <a:moveTo>
                  <a:pt x="18355" y="3324"/>
                </a:moveTo>
                <a:lnTo>
                  <a:pt x="18355" y="3324"/>
                </a:lnTo>
              </a:path>
              <a:path w="7443" h="249">
                <a:moveTo>
                  <a:pt x="25797" y="3572"/>
                </a:moveTo>
                <a:lnTo>
                  <a:pt x="25797" y="357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Ink 5"/>
          <p:cNvSpPr/>
          <p:nvPr/>
        </p:nvSpPr>
        <p:spPr>
          <a:xfrm>
            <a:off x="5180040" y="1125360"/>
            <a:ext cx="3490920" cy="731880"/>
          </a:xfrm>
          <a:custGeom>
            <a:avLst/>
            <a:gdLst/>
            <a:ahLst/>
            <a:rect l="l" t="t" r="r" b="b"/>
            <a:pathLst>
              <a:path w="9699" h="2035">
                <a:moveTo>
                  <a:pt x="18281" y="3324"/>
                </a:moveTo>
                <a:cubicBezTo>
                  <a:pt x="18147" y="3310"/>
                  <a:pt x="18022" y="3301"/>
                  <a:pt x="17884" y="3299"/>
                </a:cubicBezTo>
                <a:cubicBezTo>
                  <a:pt x="17554" y="3295"/>
                  <a:pt x="17213" y="3288"/>
                  <a:pt x="16892" y="3324"/>
                </a:cubicBezTo>
                <a:cubicBezTo>
                  <a:pt x="16848" y="3329"/>
                  <a:pt x="16747" y="3339"/>
                  <a:pt x="16694" y="3349"/>
                </a:cubicBezTo>
                <a:cubicBezTo>
                  <a:pt x="16643" y="3359"/>
                  <a:pt x="16506" y="3397"/>
                  <a:pt x="16495" y="3398"/>
                </a:cubicBezTo>
                <a:cubicBezTo>
                  <a:pt x="16291" y="3415"/>
                  <a:pt x="16065" y="3402"/>
                  <a:pt x="15875" y="3423"/>
                </a:cubicBezTo>
                <a:cubicBezTo>
                  <a:pt x="15833" y="3428"/>
                  <a:pt x="15794" y="3441"/>
                  <a:pt x="15751" y="3448"/>
                </a:cubicBezTo>
                <a:cubicBezTo>
                  <a:pt x="15679" y="3460"/>
                  <a:pt x="15598" y="3469"/>
                  <a:pt x="15528" y="3473"/>
                </a:cubicBezTo>
                <a:cubicBezTo>
                  <a:pt x="15442" y="3478"/>
                  <a:pt x="15353" y="3487"/>
                  <a:pt x="15280" y="3497"/>
                </a:cubicBezTo>
                <a:cubicBezTo>
                  <a:pt x="15200" y="3508"/>
                  <a:pt x="15133" y="3517"/>
                  <a:pt x="15056" y="3522"/>
                </a:cubicBezTo>
                <a:cubicBezTo>
                  <a:pt x="14983" y="3527"/>
                  <a:pt x="14914" y="3517"/>
                  <a:pt x="14858" y="3522"/>
                </a:cubicBezTo>
                <a:cubicBezTo>
                  <a:pt x="14776" y="3529"/>
                  <a:pt x="14771" y="3526"/>
                  <a:pt x="14709" y="3547"/>
                </a:cubicBezTo>
                <a:cubicBezTo>
                  <a:pt x="14627" y="3575"/>
                  <a:pt x="14635" y="3566"/>
                  <a:pt x="14585" y="3621"/>
                </a:cubicBezTo>
                <a:cubicBezTo>
                  <a:pt x="14550" y="3659"/>
                  <a:pt x="14560" y="3706"/>
                  <a:pt x="14536" y="3746"/>
                </a:cubicBezTo>
                <a:cubicBezTo>
                  <a:pt x="14520" y="3773"/>
                  <a:pt x="14502" y="3781"/>
                  <a:pt x="14486" y="3820"/>
                </a:cubicBezTo>
                <a:cubicBezTo>
                  <a:pt x="14462" y="3880"/>
                  <a:pt x="14453" y="3915"/>
                  <a:pt x="14436" y="3994"/>
                </a:cubicBezTo>
                <a:cubicBezTo>
                  <a:pt x="14425" y="4046"/>
                  <a:pt x="14422" y="4107"/>
                  <a:pt x="14412" y="4167"/>
                </a:cubicBezTo>
                <a:cubicBezTo>
                  <a:pt x="14405" y="4212"/>
                  <a:pt x="14387" y="4237"/>
                  <a:pt x="14387" y="4291"/>
                </a:cubicBezTo>
                <a:cubicBezTo>
                  <a:pt x="14387" y="4355"/>
                  <a:pt x="14384" y="4413"/>
                  <a:pt x="14412" y="4465"/>
                </a:cubicBezTo>
                <a:cubicBezTo>
                  <a:pt x="14429" y="4497"/>
                  <a:pt x="14532" y="4505"/>
                  <a:pt x="14536" y="4514"/>
                </a:cubicBezTo>
                <a:cubicBezTo>
                  <a:pt x="14561" y="4569"/>
                  <a:pt x="14546" y="4659"/>
                  <a:pt x="14585" y="4713"/>
                </a:cubicBezTo>
                <a:cubicBezTo>
                  <a:pt x="14626" y="4769"/>
                  <a:pt x="14746" y="4801"/>
                  <a:pt x="14784" y="4837"/>
                </a:cubicBezTo>
                <a:cubicBezTo>
                  <a:pt x="14893" y="4941"/>
                  <a:pt x="14970" y="4995"/>
                  <a:pt x="15131" y="5060"/>
                </a:cubicBezTo>
                <a:cubicBezTo>
                  <a:pt x="15200" y="5088"/>
                  <a:pt x="15233" y="5088"/>
                  <a:pt x="15304" y="5110"/>
                </a:cubicBezTo>
                <a:cubicBezTo>
                  <a:pt x="15363" y="5128"/>
                  <a:pt x="15348" y="5120"/>
                  <a:pt x="15404" y="5135"/>
                </a:cubicBezTo>
                <a:cubicBezTo>
                  <a:pt x="15469" y="5153"/>
                  <a:pt x="15507" y="5153"/>
                  <a:pt x="15577" y="5159"/>
                </a:cubicBezTo>
                <a:cubicBezTo>
                  <a:pt x="15880" y="5186"/>
                  <a:pt x="16261" y="5197"/>
                  <a:pt x="16545" y="5110"/>
                </a:cubicBezTo>
                <a:cubicBezTo>
                  <a:pt x="16695" y="5064"/>
                  <a:pt x="16815" y="5037"/>
                  <a:pt x="16966" y="5011"/>
                </a:cubicBezTo>
                <a:cubicBezTo>
                  <a:pt x="17082" y="4991"/>
                  <a:pt x="17225" y="4968"/>
                  <a:pt x="17338" y="4961"/>
                </a:cubicBezTo>
                <a:cubicBezTo>
                  <a:pt x="17578" y="4947"/>
                  <a:pt x="17818" y="4953"/>
                  <a:pt x="18058" y="4936"/>
                </a:cubicBezTo>
                <a:cubicBezTo>
                  <a:pt x="18146" y="4930"/>
                  <a:pt x="18219" y="4920"/>
                  <a:pt x="18306" y="4911"/>
                </a:cubicBezTo>
                <a:cubicBezTo>
                  <a:pt x="18385" y="4903"/>
                  <a:pt x="18449" y="4891"/>
                  <a:pt x="18529" y="4887"/>
                </a:cubicBezTo>
                <a:cubicBezTo>
                  <a:pt x="18645" y="4881"/>
                  <a:pt x="18777" y="4907"/>
                  <a:pt x="18876" y="4911"/>
                </a:cubicBezTo>
                <a:cubicBezTo>
                  <a:pt x="19573" y="4939"/>
                  <a:pt x="20268" y="4887"/>
                  <a:pt x="20960" y="4887"/>
                </a:cubicBezTo>
                <a:cubicBezTo>
                  <a:pt x="21106" y="4887"/>
                  <a:pt x="21277" y="4867"/>
                  <a:pt x="21406" y="4862"/>
                </a:cubicBezTo>
                <a:cubicBezTo>
                  <a:pt x="21571" y="4856"/>
                  <a:pt x="21717" y="4835"/>
                  <a:pt x="21878" y="4812"/>
                </a:cubicBezTo>
                <a:cubicBezTo>
                  <a:pt x="21939" y="4803"/>
                  <a:pt x="21988" y="4790"/>
                  <a:pt x="22051" y="4787"/>
                </a:cubicBezTo>
                <a:cubicBezTo>
                  <a:pt x="22180" y="4780"/>
                  <a:pt x="22326" y="4767"/>
                  <a:pt x="22448" y="4762"/>
                </a:cubicBezTo>
                <a:cubicBezTo>
                  <a:pt x="22728" y="4750"/>
                  <a:pt x="23012" y="4762"/>
                  <a:pt x="23292" y="4762"/>
                </a:cubicBezTo>
                <a:cubicBezTo>
                  <a:pt x="23360" y="4702"/>
                  <a:pt x="23229" y="4738"/>
                  <a:pt x="23366" y="4663"/>
                </a:cubicBezTo>
                <a:cubicBezTo>
                  <a:pt x="23441" y="4622"/>
                  <a:pt x="23493" y="4615"/>
                  <a:pt x="23564" y="4589"/>
                </a:cubicBezTo>
                <a:cubicBezTo>
                  <a:pt x="23618" y="4569"/>
                  <a:pt x="23612" y="4583"/>
                  <a:pt x="23664" y="4564"/>
                </a:cubicBezTo>
                <a:cubicBezTo>
                  <a:pt x="23727" y="4542"/>
                  <a:pt x="23718" y="4520"/>
                  <a:pt x="23763" y="4490"/>
                </a:cubicBezTo>
                <a:cubicBezTo>
                  <a:pt x="23815" y="4455"/>
                  <a:pt x="23792" y="4443"/>
                  <a:pt x="23862" y="4390"/>
                </a:cubicBezTo>
                <a:cubicBezTo>
                  <a:pt x="23918" y="4348"/>
                  <a:pt x="23977" y="4316"/>
                  <a:pt x="24011" y="4266"/>
                </a:cubicBezTo>
                <a:cubicBezTo>
                  <a:pt x="24058" y="4198"/>
                  <a:pt x="24073" y="4170"/>
                  <a:pt x="24085" y="4093"/>
                </a:cubicBezTo>
                <a:cubicBezTo>
                  <a:pt x="24105" y="3963"/>
                  <a:pt x="24060" y="3910"/>
                  <a:pt x="23986" y="3820"/>
                </a:cubicBezTo>
                <a:cubicBezTo>
                  <a:pt x="23939" y="3763"/>
                  <a:pt x="23862" y="3734"/>
                  <a:pt x="23812" y="3696"/>
                </a:cubicBezTo>
                <a:cubicBezTo>
                  <a:pt x="23755" y="3653"/>
                  <a:pt x="23729" y="3626"/>
                  <a:pt x="23664" y="3597"/>
                </a:cubicBezTo>
                <a:cubicBezTo>
                  <a:pt x="23581" y="3559"/>
                  <a:pt x="23583" y="3604"/>
                  <a:pt x="23490" y="3547"/>
                </a:cubicBezTo>
                <a:cubicBezTo>
                  <a:pt x="23425" y="3507"/>
                  <a:pt x="23408" y="3459"/>
                  <a:pt x="23341" y="3423"/>
                </a:cubicBezTo>
                <a:cubicBezTo>
                  <a:pt x="23298" y="3400"/>
                  <a:pt x="23260" y="3395"/>
                  <a:pt x="23217" y="3373"/>
                </a:cubicBezTo>
                <a:cubicBezTo>
                  <a:pt x="23168" y="3347"/>
                  <a:pt x="23097" y="3314"/>
                  <a:pt x="23044" y="3299"/>
                </a:cubicBezTo>
                <a:cubicBezTo>
                  <a:pt x="22962" y="3275"/>
                  <a:pt x="22903" y="3248"/>
                  <a:pt x="22845" y="3225"/>
                </a:cubicBezTo>
                <a:cubicBezTo>
                  <a:pt x="22808" y="3210"/>
                  <a:pt x="22758" y="3212"/>
                  <a:pt x="22721" y="3200"/>
                </a:cubicBezTo>
                <a:cubicBezTo>
                  <a:pt x="22628" y="3169"/>
                  <a:pt x="22590" y="3155"/>
                  <a:pt x="22473" y="3150"/>
                </a:cubicBezTo>
                <a:cubicBezTo>
                  <a:pt x="21502" y="3108"/>
                  <a:pt x="20422" y="3039"/>
                  <a:pt x="19472" y="3150"/>
                </a:cubicBezTo>
                <a:cubicBezTo>
                  <a:pt x="19396" y="3159"/>
                  <a:pt x="19321" y="3157"/>
                  <a:pt x="19248" y="3175"/>
                </a:cubicBezTo>
                <a:cubicBezTo>
                  <a:pt x="19244" y="3176"/>
                  <a:pt x="19230" y="3219"/>
                  <a:pt x="19174" y="3225"/>
                </a:cubicBezTo>
                <a:cubicBezTo>
                  <a:pt x="19043" y="3240"/>
                  <a:pt x="18848" y="3238"/>
                  <a:pt x="18752" y="3249"/>
                </a:cubicBezTo>
                <a:cubicBezTo>
                  <a:pt x="18665" y="3259"/>
                  <a:pt x="18588" y="3254"/>
                  <a:pt x="18504" y="3274"/>
                </a:cubicBezTo>
                <a:cubicBezTo>
                  <a:pt x="18461" y="3285"/>
                  <a:pt x="18398" y="3313"/>
                  <a:pt x="18355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ffffff"/>
                </a:solidFill>
                <a:latin typeface="Calibri"/>
              </a:rPr>
              <a:t>Гигиена</a:t>
            </a:r>
            <a:br>
              <a:rPr sz="6300"/>
            </a:br>
            <a:r>
              <a:rPr b="0" lang="ru-RU" sz="6300" spc="-1" strike="noStrike">
                <a:solidFill>
                  <a:srgbClr val="ffffff"/>
                </a:solidFill>
                <a:latin typeface="Calibri"/>
              </a:rPr>
              <a:t> сердечно - сосудистой системы.</a:t>
            </a:r>
            <a:br>
              <a:rPr sz="6300"/>
            </a:br>
            <a:r>
              <a:rPr b="0" lang="ru-RU" sz="6300" spc="-1" strike="noStrike">
                <a:solidFill>
                  <a:srgbClr val="ffffff"/>
                </a:solidFill>
                <a:latin typeface="Calibri"/>
              </a:rPr>
              <a:t> Первая помощь при кровотечениях.</a:t>
            </a:r>
            <a:endParaRPr b="0" lang="en-US" sz="63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57" name="Picture 3" descr="E:\3-10-300x180.jpg"/>
          <p:cNvPicPr/>
          <p:nvPr/>
        </p:nvPicPr>
        <p:blipFill>
          <a:blip r:embed="rId1"/>
          <a:stretch/>
        </p:blipFill>
        <p:spPr>
          <a:xfrm>
            <a:off x="2857680" y="478620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78688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Ишемия сердца</a:t>
            </a: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– мышечная недостаточность сердц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Инфаркт миокарда</a:t>
            </a: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– образование тромба в кровеносных сосудах сердц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Инсульт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сужение сосудов головного мозг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Гипертон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овышенное артериальное давление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nstantia"/>
              </a:rPr>
              <a:t>Гипотон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ониженное артериальное давление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По данным статистики  в Ставропольском кра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Есть над чем задуматься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71600" y="1935000"/>
            <a:ext cx="50720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7г. смертность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рака – 13,5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сердечно - сосудистых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болеваний – 61,5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2" name="Picture 5" descr="AMIDEA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76360" y="2928960"/>
            <a:ext cx="12049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571920" y="642600"/>
            <a:ext cx="5572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ение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тики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хая экология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динамия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3143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E:\Chelovecheskie-serdca.jpg"/>
          <p:cNvPicPr/>
          <p:nvPr/>
        </p:nvPicPr>
        <p:blipFill>
          <a:blip r:embed="rId1"/>
          <a:stretch/>
        </p:blipFill>
        <p:spPr>
          <a:xfrm>
            <a:off x="214200" y="214200"/>
            <a:ext cx="5357880" cy="37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[BIO8_03-21]_[PD_05]"/>
          <p:cNvPicPr/>
          <p:nvPr/>
        </p:nvPicPr>
        <p:blipFill>
          <a:blip r:embed="rId2"/>
          <a:stretch/>
        </p:blipFill>
        <p:spPr>
          <a:xfrm>
            <a:off x="5715000" y="3057480"/>
            <a:ext cx="3429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28760" y="571320"/>
            <a:ext cx="81439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ствует повышению частоты сердечных сокращени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ышает давлен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ышает свёртываемость крови, что ускоряет образование тромбо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ает сосуд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img5.jpg"/>
          <p:cNvPicPr/>
          <p:nvPr/>
        </p:nvPicPr>
        <p:blipFill>
          <a:blip r:embed="rId1"/>
          <a:stretch/>
        </p:blipFill>
        <p:spPr>
          <a:xfrm>
            <a:off x="500040" y="785880"/>
            <a:ext cx="8167680" cy="45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6:57:19Z</dcterms:created>
  <dc:creator>1</dc:creator>
  <dc:description/>
  <dc:language>en-US</dc:language>
  <cp:lastModifiedBy>Admin</cp:lastModifiedBy>
  <dcterms:modified xsi:type="dcterms:W3CDTF">2019-01-12T09:42:46Z</dcterms:modified>
  <cp:revision>12</cp:revision>
  <dc:subject/>
  <dc:title>СЕРДЦ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