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F3F-D347-46B8-8E9C-07BC971B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F83-DC17-46CA-8568-FBFB7AC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2B9-7754-49FD-AB0B-A9D29636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D52-EB57-46CB-B0B6-4FDA8D66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678B-5A6E-4B8D-A74C-8E3A39F9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68A56-73CD-4519-AB82-290703D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938EE-54E1-4513-82D0-49FB8EB4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0E078-0715-4B1B-81D5-4D7F9222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0109B-B96A-49D0-B31E-C7A9C46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673BC-2BBA-40A4-AB6F-D0DC6757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500F4-E85E-44E1-9151-198925B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AD1-DB97-47C3-8D67-12DDC12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C245E-5070-4112-9754-129C798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A38B2-1B57-4A69-948A-672CCFDD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1C6FD-6CEB-466E-8257-E048F8BF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8E728-CEAC-4351-9142-4FB0F03A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0D01C-69C3-4C23-B5D7-D19E971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FE4-66DC-4573-84A5-58676146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84C-BA15-4DF3-8990-09246D1D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4EE-983B-405D-AB3F-0C1605A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FB9-CEA8-4C7A-949E-F43A5D3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173-F517-4466-9043-E0C4D33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609-DA1F-40E2-A7D0-B807EDBB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747-CC96-49F7-AEE7-8ACBB64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CBD-A46C-4EBB-8772-3007695826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D10C-28E6-468E-84E6-E849747FD3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Горы Краснодарского кра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Волженин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авказские горы – самые высокие горы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громном перешейке между Черным и Каспийским морем расположились величественные горы Большого Кавказа. Это самая южная часть российской территории. По гребням Главного Кавказского хребта проходит граница РФ со странами Закавказ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кавказ"/>
          <p:cNvPicPr/>
          <p:nvPr/>
        </p:nvPicPr>
        <p:blipFill>
          <a:blip r:embed="rId1"/>
          <a:stretch/>
        </p:blipFill>
        <p:spPr>
          <a:xfrm>
            <a:off x="4762440" y="2419200"/>
            <a:ext cx="381024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ра Эльбр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грандиозная и высокая часть всей горной системы – Центральный Кавказ. В Центральном Кавказе находится самая высокая вершина – двуглавы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льбру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тухший вулкан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эльбрус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ра Казбе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збек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торая по высоте горная вершина Кавказа. Высота составляет 50033 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казбек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ки Кавка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 Кавказа делятся на равнинные и горные. Особенно многочисленны бурные горные реки, основным источником питания которых служат снега и лед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горная река"/>
          <p:cNvPicPr/>
          <p:nvPr/>
        </p:nvPicPr>
        <p:blipFill>
          <a:blip r:embed="rId1"/>
          <a:stretch/>
        </p:blipFill>
        <p:spPr>
          <a:xfrm>
            <a:off x="4643280" y="1600200"/>
            <a:ext cx="388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рек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ек воет, дик и злоб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 утесистых равни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е бег его подобен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терек"/>
          <p:cNvPicPr/>
          <p:nvPr/>
        </p:nvPicPr>
        <p:blipFill>
          <a:blip r:embed="rId1"/>
          <a:stretch/>
        </p:blipFill>
        <p:spPr>
          <a:xfrm>
            <a:off x="4356000" y="1844640"/>
            <a:ext cx="433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бань в верхнем и нижнем тече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12" descr="21e2cde43722"/>
          <p:cNvPicPr/>
          <p:nvPr/>
        </p:nvPicPr>
        <p:blipFill>
          <a:blip r:embed="rId1"/>
          <a:stretch/>
        </p:blipFill>
        <p:spPr>
          <a:xfrm>
            <a:off x="395280" y="2276640"/>
            <a:ext cx="4038480" cy="350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кубань"/>
          <p:cNvPicPr/>
          <p:nvPr/>
        </p:nvPicPr>
        <p:blipFill>
          <a:blip r:embed="rId2"/>
          <a:stretch/>
        </p:blipFill>
        <p:spPr>
          <a:xfrm>
            <a:off x="4648320" y="1484280"/>
            <a:ext cx="40384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990720" y="5943600"/>
            <a:ext cx="761976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ные широколиственн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371600" y="5257800"/>
            <a:ext cx="6934320" cy="685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ков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057400" y="4648320"/>
            <a:ext cx="571500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шанн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666880" y="4038480"/>
            <a:ext cx="46483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лово-пихтов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352680" y="3429000"/>
            <a:ext cx="327672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бальпийские 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886200" y="2819520"/>
            <a:ext cx="2438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ьпийские 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343400" y="2209680"/>
            <a:ext cx="175248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е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ь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льпийские луг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8" descr="альплуг"/>
          <p:cNvPicPr/>
          <p:nvPr/>
        </p:nvPicPr>
        <p:blipFill>
          <a:blip r:embed="rId1"/>
          <a:stretch/>
        </p:blipFill>
        <p:spPr>
          <a:xfrm>
            <a:off x="5170320" y="1600200"/>
            <a:ext cx="3434040" cy="449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луг 2"/>
          <p:cNvPicPr/>
          <p:nvPr/>
        </p:nvPicPr>
        <p:blipFill>
          <a:blip r:embed="rId2"/>
          <a:stretch/>
        </p:blipFill>
        <p:spPr>
          <a:xfrm>
            <a:off x="539640" y="1628640"/>
            <a:ext cx="3961080" cy="217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луг 3"/>
          <p:cNvPicPr/>
          <p:nvPr/>
        </p:nvPicPr>
        <p:blipFill>
          <a:blip r:embed="rId3"/>
          <a:stretch/>
        </p:blipFill>
        <p:spPr>
          <a:xfrm>
            <a:off x="476280" y="3924360"/>
            <a:ext cx="3998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29:10Z</dcterms:created>
  <dc:creator>Admin</dc:creator>
  <dc:description/>
  <dc:language>en-US</dc:language>
  <cp:lastModifiedBy>Светлана</cp:lastModifiedBy>
  <dcterms:modified xsi:type="dcterms:W3CDTF">2019-01-12T11:38:28Z</dcterms:modified>
  <cp:revision>3</cp:revision>
  <dc:subject/>
  <dc:title>Горы Краснодарского края</dc:title>
</cp:coreProperties>
</file>