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86AE-B090-4EB7-AC5F-B442DB6C3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DAC9-DF18-427E-92B8-2DC0D072D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8823-2F42-44D8-AED6-0F6AD7127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C5E7-4770-4ADB-A2E4-75B2E38FE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CEE389-B4ED-4B52-A867-88CD491EA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B3F220-9E9A-4CD0-A822-F630943E5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5F6016-28D4-4615-825D-8D5ED76EA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BB425C-768D-4D05-B620-71B6AE9CA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7FF997-3019-48AE-8A30-5DC44E954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CD466D-D1F1-4110-A329-DE0648E32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18B364-C8CE-417C-923F-633E49BE1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9991-D64E-40D9-9FD9-D4CD50F33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528B42-A411-4B02-B947-191E6DBEA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35EC79-D59B-4E20-BD8D-65C1F6CA4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D4DB72-8B65-4779-BA68-EF2179195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CB9212-EA52-4C7D-8551-33F564197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657F5A-3488-42AA-8EBE-0347895B0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B7F6-73BF-4EFB-B28F-E3313415D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A757-8E05-41A9-B299-7F153401E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4EDB-C391-4714-B63A-91EC63CCA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2600-70F0-4519-A200-9C482488D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CA83-DF4E-4F56-A78B-2651E17C7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4FFF-94FE-4438-B95D-3B1989D97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D28D-FE64-4719-AE47-830F8A7E1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>
                <a:gd name="textAreaLeft" fmla="*/ 0 w 5143320"/>
                <a:gd name="textAreaRight" fmla="*/ 5143680 w 51433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>
                  <a:gd name="textAreaLeft" fmla="*/ 0 w 1581120"/>
                  <a:gd name="textAreaRight" fmla="*/ 1581480 w 1581120"/>
                  <a:gd name="textAreaTop" fmla="*/ 0 h 846000"/>
                  <a:gd name="textAreaBottom" fmla="*/ 846360 h 846000"/>
                </a:gdLst>
                <a:ahLst/>
                <a:rect l="textAreaLeft" t="textAreaTop" r="textAreaRight" b="textAreaBottom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>
                  <a:gd name="textAreaLeft" fmla="*/ 0 w 600120"/>
                  <a:gd name="textAreaRight" fmla="*/ 600480 w 60012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>
                  <a:gd name="textAreaLeft" fmla="*/ 0 w 246240"/>
                  <a:gd name="textAreaRight" fmla="*/ 246240 w 2462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>
                <a:gd name="textAreaLeft" fmla="*/ 0 w 6311880"/>
                <a:gd name="textAreaRight" fmla="*/ 6312240 w 631188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8F5BB-1A27-4795-8ED2-3D11C47111AF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F7A40-B179-4462-9AE3-7B690DE6F6C5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e3e3ff"/>
                </a:solidFill>
                <a:latin typeface="Arial"/>
              </a:rPr>
              <a:t>Горы Краснодарского края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читель: Волженина С.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БОУ СОШ №3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Кавказские горы – самые высокие горы России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 огромном перешейке между Черным и Каспийским морем расположились величественные горы Большого Кавказа. Это самая южная часть российской территории. По гребням Главного Кавказского хребта проходит граница РФ со странами Закавказь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7" descr="кавказ"/>
          <p:cNvPicPr/>
          <p:nvPr/>
        </p:nvPicPr>
        <p:blipFill>
          <a:blip r:embed="rId1"/>
          <a:stretch/>
        </p:blipFill>
        <p:spPr>
          <a:xfrm>
            <a:off x="4762440" y="2419200"/>
            <a:ext cx="3810240" cy="36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Гора Эльбрус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иболее грандиозная и высокая часть всей горной системы – Центральный Кавказ. В Центральном Кавказе находится самая высокая вершина – двуглавый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Эльбрус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(потухший вулкан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7" descr="эльбрус"/>
          <p:cNvPicPr/>
          <p:nvPr/>
        </p:nvPicPr>
        <p:blipFill>
          <a:blip r:embed="rId1"/>
          <a:stretch/>
        </p:blipFill>
        <p:spPr>
          <a:xfrm>
            <a:off x="4648320" y="1628640"/>
            <a:ext cx="4038480" cy="43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Гора Казбек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азбек,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вторая по высоте горная вершина Кавказа. Высота составляет 50033 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7" descr="казбек"/>
          <p:cNvPicPr/>
          <p:nvPr/>
        </p:nvPicPr>
        <p:blipFill>
          <a:blip r:embed="rId1"/>
          <a:stretch/>
        </p:blipFill>
        <p:spPr>
          <a:xfrm>
            <a:off x="4648320" y="1628640"/>
            <a:ext cx="4038480" cy="43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Реки Кавказа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еки Кавказа делятся на равнинные и горные. Особенно многочисленны бурные горные реки, основным источником питания которых служат снега и ледник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Picture 7" descr="горная река"/>
          <p:cNvPicPr/>
          <p:nvPr/>
        </p:nvPicPr>
        <p:blipFill>
          <a:blip r:embed="rId1"/>
          <a:stretch/>
        </p:blipFill>
        <p:spPr>
          <a:xfrm>
            <a:off x="4643280" y="1600200"/>
            <a:ext cx="388944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Терек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ерек воет, дик и злобе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еж утесистых равнин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уре бег его подобен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.Ю. Лермонт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7" descr="терек"/>
          <p:cNvPicPr/>
          <p:nvPr/>
        </p:nvPicPr>
        <p:blipFill>
          <a:blip r:embed="rId1"/>
          <a:stretch/>
        </p:blipFill>
        <p:spPr>
          <a:xfrm>
            <a:off x="4356000" y="1844640"/>
            <a:ext cx="433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Кубань в верхнем и нижнем течении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40" name="Picture 12" descr="21e2cde43722"/>
          <p:cNvPicPr/>
          <p:nvPr/>
        </p:nvPicPr>
        <p:blipFill>
          <a:blip r:embed="rId1"/>
          <a:stretch/>
        </p:blipFill>
        <p:spPr>
          <a:xfrm>
            <a:off x="395280" y="2276640"/>
            <a:ext cx="4038480" cy="35017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1" descr="кубань"/>
          <p:cNvPicPr/>
          <p:nvPr/>
        </p:nvPicPr>
        <p:blipFill>
          <a:blip r:embed="rId2"/>
          <a:stretch/>
        </p:blipFill>
        <p:spPr>
          <a:xfrm>
            <a:off x="4648320" y="1484280"/>
            <a:ext cx="4038480" cy="38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6"/>
          <p:cNvSpPr/>
          <p:nvPr/>
        </p:nvSpPr>
        <p:spPr>
          <a:xfrm>
            <a:off x="990720" y="5943600"/>
            <a:ext cx="7619760" cy="6094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Горные широколиственные лес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Rectangle 7"/>
          <p:cNvSpPr/>
          <p:nvPr/>
        </p:nvSpPr>
        <p:spPr>
          <a:xfrm>
            <a:off x="1371600" y="5257800"/>
            <a:ext cx="6934320" cy="68580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уковые лес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Rectangle 8"/>
          <p:cNvSpPr/>
          <p:nvPr/>
        </p:nvSpPr>
        <p:spPr>
          <a:xfrm>
            <a:off x="2057400" y="4648320"/>
            <a:ext cx="5715000" cy="6094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мешанные лес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9"/>
          <p:cNvSpPr/>
          <p:nvPr/>
        </p:nvSpPr>
        <p:spPr>
          <a:xfrm>
            <a:off x="2666880" y="4038480"/>
            <a:ext cx="4648320" cy="60984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Елово-пихтовые лес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Rectangle 10"/>
          <p:cNvSpPr/>
          <p:nvPr/>
        </p:nvSpPr>
        <p:spPr>
          <a:xfrm>
            <a:off x="3352680" y="3429000"/>
            <a:ext cx="3276720" cy="6094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убальпийские луг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Rectangle 11"/>
          <p:cNvSpPr/>
          <p:nvPr/>
        </p:nvSpPr>
        <p:spPr>
          <a:xfrm>
            <a:off x="3886200" y="2819520"/>
            <a:ext cx="2438280" cy="6094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льпийские луг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Rectangle 12"/>
          <p:cNvSpPr/>
          <p:nvPr/>
        </p:nvSpPr>
        <p:spPr>
          <a:xfrm>
            <a:off x="4343400" y="2209680"/>
            <a:ext cx="1752480" cy="60984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не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Льд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Альпийские луг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50" name="Picture 8" descr="альплуг"/>
          <p:cNvPicPr/>
          <p:nvPr/>
        </p:nvPicPr>
        <p:blipFill>
          <a:blip r:embed="rId1"/>
          <a:stretch/>
        </p:blipFill>
        <p:spPr>
          <a:xfrm>
            <a:off x="5170320" y="1600200"/>
            <a:ext cx="3434040" cy="44956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9" descr="луг 2"/>
          <p:cNvPicPr/>
          <p:nvPr/>
        </p:nvPicPr>
        <p:blipFill>
          <a:blip r:embed="rId2"/>
          <a:stretch/>
        </p:blipFill>
        <p:spPr>
          <a:xfrm>
            <a:off x="539640" y="1628640"/>
            <a:ext cx="3961080" cy="21718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0" descr="луг 3"/>
          <p:cNvPicPr/>
          <p:nvPr/>
        </p:nvPicPr>
        <p:blipFill>
          <a:blip r:embed="rId3"/>
          <a:stretch/>
        </p:blipFill>
        <p:spPr>
          <a:xfrm>
            <a:off x="476280" y="3924360"/>
            <a:ext cx="3998880" cy="21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1T00:29:10Z</dcterms:created>
  <dc:creator>Admin</dc:creator>
  <dc:description/>
  <dc:language>en-US</dc:language>
  <cp:lastModifiedBy>Светлана</cp:lastModifiedBy>
  <dcterms:modified xsi:type="dcterms:W3CDTF">2019-01-12T11:38:28Z</dcterms:modified>
  <cp:revision>3</cp:revision>
  <dc:subject/>
  <dc:title>Горы Краснодарского края</dc:title>
</cp:coreProperties>
</file>