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C473-3A82-4836-8317-4BA55EA04C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C354-8B4E-4D95-AF3E-94365C4D1C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1C5A-0A0C-4DB8-B167-0260E7B9E1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D0D8-D548-45C2-9240-CF08909F16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4C6A-BD2D-4AD7-BA20-46DDC5401B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DB74-5DEE-4F65-A1C7-ED8A7B6299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E375-57EB-4321-B15A-58B146DF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667B-F96C-4F13-8104-28CD535F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4F18-631A-4E79-A97C-64AAEFC9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C742-28CA-4249-91BB-45E268FF1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EE5F-CFCC-4525-B6F0-5024B950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117E-F732-43DC-8EEE-306B6B32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B2C-DF76-47F1-864E-1D7A29B0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5822-F505-4C25-A3BA-AD31333F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E0C3-FD77-4EF7-ABF1-4FFAEAAF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BCB0-AFAF-46BA-84BF-4889ECF0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F00-B21C-4091-BD0D-43EF995D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63A96-9719-44D4-A9F9-20F09D0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CE76-3ABD-4EE8-8BD0-0A34137F27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изация познавательной деятельности учащихся на уроках географ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7" descr=""/>
          <p:cNvPicPr/>
          <p:nvPr/>
        </p:nvPicPr>
        <p:blipFill>
          <a:blip r:embed="rId1"/>
          <a:stretch/>
        </p:blipFill>
        <p:spPr>
          <a:xfrm rot="21001800">
            <a:off x="395280" y="2133360"/>
            <a:ext cx="3868920" cy="290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опыта работы учителя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КОУ «Михайловская средняя общеобразовательная школа имени Героя Советского Союза В.Ф.Нестерова» Черемисиновского района К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бровкиной Елены Василь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8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E87B-2891-40BC-9508-B6E80464CE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9867-C2ED-4142-AD71-1ACBC9B36B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425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Так, например, при изучении раздела «Африка» в 7 классе, учащимся предлагаются задания исследовательского характера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Используя физическую и тектоническую карты Африки определить, что произойдет с Африканской платформой, если процессы раздвижения, происходящие в зоне разломов в Восточной Африке будут усиливать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С чем связано образование алмазов в Африк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На уроках в 8 классе при изучении темы «Природные зоны» предлагаются вопросы исследовательского характе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Возможно ли земледелие в зоне вечной мерзлоты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Как человек должен учитывать взаимосвязь между природой и климатом при создании заповедников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роках экономической географии учащимся 9 класса предлагаются задания проектного характер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1412640"/>
            <a:ext cx="44989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имер, на вы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Предложите пути выхода из кризиса на территории Кур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Предложите пути выхода из демографического кризи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оставьте проект  переработки мусора на территории К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11640" y="184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7A26-09FF-4662-A571-02A7718B10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В своей работе использую технологию поэтапного формирования умственных действий П.Я.Гальпери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изучении темы «Климат Африки» в 7 классе   учащимся предлагаются задания в ходе которых, используя климатическую карту, они поэтапно должны определит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ие воздушные массы формируются на материк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каких поясах атмосферного давления находится Афр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эти пояса давления влияют на распределение осадков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CBAC-258E-404A-B332-EC118661C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281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спользую элементы индивидуальных заданий на уроках географии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10 классе, при изучении раздела «Зарубежная Европа»  учащимся предлагаю  задания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1D306-94AE-46F6-BEF1-E80ED836B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Физическая карта Европы"/>
          <p:cNvPicPr/>
          <p:nvPr/>
        </p:nvPicPr>
        <p:blipFill>
          <a:blip r:embed="rId1"/>
          <a:stretch/>
        </p:blipFill>
        <p:spPr>
          <a:xfrm>
            <a:off x="71280" y="685800"/>
            <a:ext cx="514368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Oval 4"/>
          <p:cNvSpPr/>
          <p:nvPr/>
        </p:nvSpPr>
        <p:spPr>
          <a:xfrm>
            <a:off x="5854680" y="549360"/>
            <a:ext cx="2500200" cy="91440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ЭГ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257440" y="1844640"/>
            <a:ext cx="2625120" cy="368280"/>
          </a:xfrm>
          <a:prstGeom prst="rect">
            <a:avLst/>
          </a:prstGeom>
          <a:solidFill>
            <a:srgbClr val="ff9900">
              <a:alpha val="32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орское 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0640" y="2421000"/>
            <a:ext cx="3121920" cy="368280"/>
          </a:xfrm>
          <a:prstGeom prst="rect">
            <a:avLst/>
          </a:prstGeom>
          <a:solidFill>
            <a:srgbClr val="66ffff">
              <a:alpha val="47000"/>
            </a:srgbClr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актность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714760" y="1143000"/>
            <a:ext cx="142920" cy="419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 rot="16200000">
            <a:off x="2143080" y="18237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1214280" y="3276720"/>
            <a:ext cx="285768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 rot="20005800">
            <a:off x="1268640" y="41763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510880" y="2997360"/>
            <a:ext cx="3598920" cy="642600"/>
          </a:xfrm>
          <a:prstGeom prst="rect">
            <a:avLst/>
          </a:prstGeom>
          <a:solidFill>
            <a:srgbClr val="993300">
              <a:alpha val="23000"/>
            </a:srgbClr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сутствие крупных приро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пят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 rot="5446200">
            <a:off x="7449120" y="4115160"/>
            <a:ext cx="223560" cy="1714680"/>
          </a:xfrm>
          <a:custGeom>
            <a:avLst/>
            <a:gdLst>
              <a:gd name="textAreaLeft" fmla="*/ 0 w 223560"/>
              <a:gd name="textAreaRight" fmla="*/ 80640 w 22356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451480" y="47181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428440" y="5033880"/>
            <a:ext cx="37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ГП благоприятствует торг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вязям со всеми странами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спользованию богатств мор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>
            <a:hlinkClick r:id="" action="ppaction://hlinkshowjump?jump=nextslide"/>
          </p:cNvPr>
          <p:cNvSpPr/>
          <p:nvPr/>
        </p:nvSpPr>
        <p:spPr>
          <a:xfrm>
            <a:off x="8418600" y="6165720"/>
            <a:ext cx="657000" cy="621000"/>
          </a:xfrm>
          <a:custGeom>
            <a:avLst/>
            <a:gdLst>
              <a:gd name="textAreaLeft" fmla="*/ 39960 w 657000"/>
              <a:gd name="textAreaRight" fmla="*/ 617040 w 65700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22851" h="21600">
                <a:moveTo>
                  <a:pt x="0" y="0"/>
                </a:moveTo>
                <a:lnTo>
                  <a:pt x="22851" y="0"/>
                </a:lnTo>
                <a:lnTo>
                  <a:pt x="22851" y="21600"/>
                </a:lnTo>
                <a:lnTo>
                  <a:pt x="0" y="21600"/>
                </a:lnTo>
                <a:close/>
              </a:path>
              <a:path fill="lightenLess" w="22851" h="21600">
                <a:moveTo>
                  <a:pt x="0" y="0"/>
                </a:moveTo>
                <a:lnTo>
                  <a:pt x="22851" y="0"/>
                </a:lnTo>
                <a:lnTo>
                  <a:pt x="21451" y="1400"/>
                </a:lnTo>
                <a:lnTo>
                  <a:pt x="1400" y="1400"/>
                </a:lnTo>
                <a:close/>
              </a:path>
              <a:path fill="darken" w="22851" h="21600">
                <a:moveTo>
                  <a:pt x="22851" y="0"/>
                </a:moveTo>
                <a:lnTo>
                  <a:pt x="22851" y="21600"/>
                </a:lnTo>
                <a:lnTo>
                  <a:pt x="21451" y="20200"/>
                </a:lnTo>
                <a:lnTo>
                  <a:pt x="21451" y="1400"/>
                </a:lnTo>
                <a:close/>
              </a:path>
              <a:path fill="darkenLess" w="22851" h="21600">
                <a:moveTo>
                  <a:pt x="22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1" y="20200"/>
                </a:lnTo>
                <a:close/>
              </a:path>
              <a:path fill="lighten" w="22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1" h="21600">
                <a:moveTo>
                  <a:pt x="4419" y="3794"/>
                </a:moveTo>
                <a:lnTo>
                  <a:pt x="18432" y="10800"/>
                </a:lnTo>
                <a:lnTo>
                  <a:pt x="441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706896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7068960" y="1628640"/>
            <a:ext cx="9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801360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8013600" y="2060640"/>
            <a:ext cx="5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85550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468360" y="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ние 1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оснуйте  особенности  географического положения Зарубежной Европы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F9B1-3725-4408-946A-A3B23C0080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2417040" y="765000"/>
            <a:ext cx="441144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 Европейского рег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1116000" y="404640"/>
            <a:ext cx="1285920" cy="12193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суд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503080" y="3657600"/>
            <a:ext cx="168336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едер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500200" y="3124080"/>
            <a:ext cx="157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нит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46280" y="1687680"/>
            <a:ext cx="132840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3120" y="1676520"/>
            <a:ext cx="1174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928880" y="4191120"/>
            <a:ext cx="2357280" cy="1904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деративных государ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зарубежной Евро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го 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Ф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ЕЛЬ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ШВЕЙЦ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ВС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ербия и Черног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039120" y="1687680"/>
            <a:ext cx="102204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л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786040" y="2286000"/>
            <a:ext cx="1428840" cy="3808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ибрал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072200" y="1143000"/>
            <a:ext cx="157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осударства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кар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6664320" y="4581360"/>
            <a:ext cx="1785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руп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более 500 тыс. км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664320" y="5572080"/>
            <a:ext cx="1714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кра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142920" y="2133720"/>
            <a:ext cx="1714320" cy="353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2 монархий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дор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льгия, Ватик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ликобр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па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хтенштей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юксембург, Монак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дерланды, Норвег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ве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"/>
          <p:cNvPicPr/>
          <p:nvPr/>
        </p:nvPicPr>
        <p:blipFill>
          <a:blip r:embed="rId2"/>
          <a:srcRect l="16413" t="36462" r="27343" b="12498"/>
          <a:stretch/>
        </p:blipFill>
        <p:spPr>
          <a:xfrm>
            <a:off x="142920" y="5537160"/>
            <a:ext cx="1714320" cy="1244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Text Box 17"/>
          <p:cNvSpPr/>
          <p:nvPr/>
        </p:nvSpPr>
        <p:spPr>
          <a:xfrm>
            <a:off x="196200" y="5649840"/>
            <a:ext cx="175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Монархии Европ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50028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9" descr="Европейская валюта"/>
          <p:cNvPicPr/>
          <p:nvPr/>
        </p:nvPicPr>
        <p:blipFill>
          <a:blip r:embed="rId3"/>
          <a:stretch/>
        </p:blipFill>
        <p:spPr>
          <a:xfrm>
            <a:off x="0" y="404640"/>
            <a:ext cx="1071720" cy="1143000"/>
          </a:xfrm>
          <a:prstGeom prst="rect">
            <a:avLst/>
          </a:prstGeom>
          <a:ln w="0">
            <a:noFill/>
          </a:ln>
        </p:spPr>
      </p:pic>
      <p:sp>
        <p:nvSpPr>
          <p:cNvPr id="149" name="Line 20"/>
          <p:cNvSpPr/>
          <p:nvPr/>
        </p:nvSpPr>
        <p:spPr>
          <a:xfrm>
            <a:off x="221472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1"/>
          <p:cNvSpPr/>
          <p:nvPr/>
        </p:nvSpPr>
        <p:spPr>
          <a:xfrm>
            <a:off x="2214720" y="380988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2"/>
          <p:cNvSpPr/>
          <p:nvPr/>
        </p:nvSpPr>
        <p:spPr>
          <a:xfrm>
            <a:off x="2214720" y="327672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"/>
          <p:cNvSpPr/>
          <p:nvPr/>
        </p:nvSpPr>
        <p:spPr>
          <a:xfrm flipH="1">
            <a:off x="1856880" y="3276720"/>
            <a:ext cx="3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H="1">
            <a:off x="1856880" y="3809880"/>
            <a:ext cx="3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5" descr=""/>
          <p:cNvPicPr/>
          <p:nvPr/>
        </p:nvPicPr>
        <p:blipFill>
          <a:blip r:embed="rId4"/>
          <a:stretch/>
        </p:blipFill>
        <p:spPr>
          <a:xfrm>
            <a:off x="4500720" y="1219320"/>
            <a:ext cx="2000160" cy="1030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"/>
          <p:cNvPicPr/>
          <p:nvPr/>
        </p:nvPicPr>
        <p:blipFill>
          <a:blip r:embed="rId5"/>
          <a:stretch/>
        </p:blipFill>
        <p:spPr>
          <a:xfrm>
            <a:off x="4500720" y="2362320"/>
            <a:ext cx="2000160" cy="99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"/>
          <p:cNvPicPr/>
          <p:nvPr/>
        </p:nvPicPr>
        <p:blipFill>
          <a:blip r:embed="rId6"/>
          <a:stretch/>
        </p:blipFill>
        <p:spPr>
          <a:xfrm>
            <a:off x="4500720" y="3429000"/>
            <a:ext cx="2000160" cy="1030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"/>
          <p:cNvPicPr/>
          <p:nvPr/>
        </p:nvPicPr>
        <p:blipFill>
          <a:blip r:embed="rId7"/>
          <a:stretch/>
        </p:blipFill>
        <p:spPr>
          <a:xfrm>
            <a:off x="4500720" y="4572000"/>
            <a:ext cx="2000160" cy="995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"/>
          <p:cNvPicPr/>
          <p:nvPr/>
        </p:nvPicPr>
        <p:blipFill>
          <a:blip r:embed="rId8"/>
          <a:stretch/>
        </p:blipFill>
        <p:spPr>
          <a:xfrm>
            <a:off x="4500720" y="5638680"/>
            <a:ext cx="2000160" cy="1067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1861920" y="6248520"/>
            <a:ext cx="3565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ольшинство стран Евр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нитарные республ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1" descr=""/>
          <p:cNvPicPr/>
          <p:nvPr/>
        </p:nvPicPr>
        <p:blipFill>
          <a:blip r:embed="rId9"/>
          <a:stretch/>
        </p:blipFill>
        <p:spPr>
          <a:xfrm>
            <a:off x="6643800" y="1981080"/>
            <a:ext cx="2428920" cy="25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Line 32"/>
          <p:cNvSpPr/>
          <p:nvPr/>
        </p:nvSpPr>
        <p:spPr>
          <a:xfrm flipV="1">
            <a:off x="4357800" y="17524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 flipH="1">
            <a:off x="4285800" y="502920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4357800" y="59436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5"/>
          <p:cNvSpPr/>
          <p:nvPr/>
        </p:nvSpPr>
        <p:spPr>
          <a:xfrm>
            <a:off x="4357800" y="51055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35780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>
            <a:off x="4357800" y="28195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8"/>
          <p:cNvSpPr/>
          <p:nvPr/>
        </p:nvSpPr>
        <p:spPr>
          <a:xfrm>
            <a:off x="4357800" y="17524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9">
            <a:hlinkClick r:id="" action="ppaction://hlinkshowjump?jump=nextslide"/>
          </p:cNvPr>
          <p:cNvSpPr/>
          <p:nvPr/>
        </p:nvSpPr>
        <p:spPr>
          <a:xfrm>
            <a:off x="8352000" y="6165720"/>
            <a:ext cx="714240" cy="609840"/>
          </a:xfrm>
          <a:custGeom>
            <a:avLst/>
            <a:gdLst>
              <a:gd name="textAreaLeft" fmla="*/ 39240 w 714240"/>
              <a:gd name="textAreaRight" fmla="*/ 675000 w 7142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5296" h="21600">
                <a:moveTo>
                  <a:pt x="0" y="0"/>
                </a:moveTo>
                <a:lnTo>
                  <a:pt x="25296" y="0"/>
                </a:lnTo>
                <a:lnTo>
                  <a:pt x="25296" y="21600"/>
                </a:lnTo>
                <a:lnTo>
                  <a:pt x="0" y="21600"/>
                </a:lnTo>
                <a:close/>
              </a:path>
              <a:path fill="lightenLess" w="25296" h="21600">
                <a:moveTo>
                  <a:pt x="0" y="0"/>
                </a:moveTo>
                <a:lnTo>
                  <a:pt x="25296" y="0"/>
                </a:lnTo>
                <a:lnTo>
                  <a:pt x="23896" y="1400"/>
                </a:lnTo>
                <a:lnTo>
                  <a:pt x="1400" y="1400"/>
                </a:lnTo>
                <a:close/>
              </a:path>
              <a:path fill="darken" w="25296" h="21600">
                <a:moveTo>
                  <a:pt x="25296" y="0"/>
                </a:moveTo>
                <a:lnTo>
                  <a:pt x="25296" y="21600"/>
                </a:lnTo>
                <a:lnTo>
                  <a:pt x="23896" y="20200"/>
                </a:lnTo>
                <a:lnTo>
                  <a:pt x="23896" y="1400"/>
                </a:lnTo>
                <a:close/>
              </a:path>
              <a:path fill="darkenLess" w="25296" h="21600">
                <a:moveTo>
                  <a:pt x="2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96" y="20200"/>
                </a:lnTo>
                <a:close/>
              </a:path>
              <a:path fill="lighten" w="2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96" h="21600">
                <a:moveTo>
                  <a:pt x="5641" y="3794"/>
                </a:moveTo>
                <a:lnTo>
                  <a:pt x="19654" y="10800"/>
                </a:lnTo>
                <a:lnTo>
                  <a:pt x="5641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684360" y="0"/>
            <a:ext cx="80024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ние 2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овите государства Зарубежной Европы с монархической и республиканской формами 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3819-7CDD-49FD-97B4-1CD9A624A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5000760" y="3124080"/>
            <a:ext cx="857160" cy="9144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124680" y="3289320"/>
            <a:ext cx="1712520" cy="520200"/>
          </a:xfrm>
          <a:prstGeom prst="rect">
            <a:avLst/>
          </a:prstGeom>
          <a:solidFill>
            <a:srgbClr val="ff99cc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ПОВЕД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 rot="18600">
            <a:off x="4714560" y="4266720"/>
            <a:ext cx="1428840" cy="3049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ТЕСТАН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286680" y="4267080"/>
            <a:ext cx="1428480" cy="30492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ТОЛ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858080" y="4267080"/>
            <a:ext cx="11430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5929200" y="35812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788000" y="1916280"/>
            <a:ext cx="4356000" cy="106956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ЦИОНАЛЬНЫЙ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ЫЙ 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ЕЛЕНИЯ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Религии Европы"/>
          <p:cNvPicPr/>
          <p:nvPr/>
        </p:nvPicPr>
        <p:blipFill>
          <a:blip r:embed="rId1"/>
          <a:stretch/>
        </p:blipFill>
        <p:spPr>
          <a:xfrm>
            <a:off x="82440" y="1628640"/>
            <a:ext cx="4167360" cy="522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9" name="Line 10"/>
          <p:cNvSpPr/>
          <p:nvPr/>
        </p:nvSpPr>
        <p:spPr>
          <a:xfrm>
            <a:off x="5429160" y="4191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00920" y="4191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8429760" y="4191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Ватикан план">
            <a:hlinkClick r:id="" action="ppaction://hlinkshowjump?jump=nextslide"/>
          </p:cNvPr>
          <p:cNvPicPr/>
          <p:nvPr/>
        </p:nvPicPr>
        <p:blipFill>
          <a:blip r:embed="rId2"/>
          <a:srcRect l="7814" t="17707" r="34378" b="27087"/>
          <a:stretch/>
        </p:blipFill>
        <p:spPr>
          <a:xfrm>
            <a:off x="6572160" y="4800600"/>
            <a:ext cx="2428920" cy="1855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3" name="Text Box 14">
            <a:hlinkClick r:id="" action="ppaction://hlinkshowjump?jump=nextslide"/>
          </p:cNvPr>
          <p:cNvSpPr/>
          <p:nvPr/>
        </p:nvSpPr>
        <p:spPr>
          <a:xfrm>
            <a:off x="6629040" y="48769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АТИ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5" descr="Ватикан флаг"/>
          <p:cNvPicPr/>
          <p:nvPr/>
        </p:nvPicPr>
        <p:blipFill>
          <a:blip r:embed="rId3"/>
          <a:srcRect l="12592" t="29286" r="80760" b="65989"/>
          <a:stretch/>
        </p:blipFill>
        <p:spPr>
          <a:xfrm>
            <a:off x="7929720" y="4800600"/>
            <a:ext cx="1071360" cy="60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5" name="AutoShape 16"/>
          <p:cNvSpPr/>
          <p:nvPr/>
        </p:nvSpPr>
        <p:spPr>
          <a:xfrm>
            <a:off x="5072040" y="5638680"/>
            <a:ext cx="977760" cy="1043280"/>
          </a:xfrm>
          <a:custGeom>
            <a:avLst/>
            <a:gdLst>
              <a:gd name="textAreaLeft" fmla="*/ 63360 w 977760"/>
              <a:gd name="textAreaRight" fmla="*/ 914400 w 977760"/>
              <a:gd name="textAreaTop" fmla="*/ 63360 h 1043280"/>
              <a:gd name="textAreaBottom" fmla="*/ 979920 h 1043280"/>
            </a:gdLst>
            <a:ahLst/>
            <a:rect l="textAreaLeft" t="textAreaTop" r="textAreaRight" b="textAreaBottom"/>
            <a:pathLst>
              <a:path w="21600" h="23047">
                <a:moveTo>
                  <a:pt x="0" y="0"/>
                </a:moveTo>
                <a:lnTo>
                  <a:pt x="21600" y="0"/>
                </a:lnTo>
                <a:lnTo>
                  <a:pt x="21600" y="23047"/>
                </a:lnTo>
                <a:lnTo>
                  <a:pt x="0" y="23047"/>
                </a:lnTo>
                <a:close/>
              </a:path>
              <a:path fill="lightenLess" w="21600" h="230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7">
                <a:moveTo>
                  <a:pt x="21600" y="0"/>
                </a:moveTo>
                <a:lnTo>
                  <a:pt x="21600" y="23047"/>
                </a:lnTo>
                <a:lnTo>
                  <a:pt x="20200" y="21647"/>
                </a:lnTo>
                <a:lnTo>
                  <a:pt x="20200" y="1400"/>
                </a:lnTo>
                <a:close/>
              </a:path>
              <a:path fill="darkenLess" w="21600" h="23047">
                <a:moveTo>
                  <a:pt x="21600" y="23047"/>
                </a:moveTo>
                <a:lnTo>
                  <a:pt x="0" y="23047"/>
                </a:lnTo>
                <a:lnTo>
                  <a:pt x="1400" y="21647"/>
                </a:lnTo>
                <a:lnTo>
                  <a:pt x="20200" y="21647"/>
                </a:lnTo>
                <a:close/>
              </a:path>
              <a:path fill="lighten" w="21600" h="23047">
                <a:moveTo>
                  <a:pt x="0" y="230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7"/>
                </a:lnTo>
                <a:close/>
              </a:path>
              <a:path fill="darken" w="21600" h="23047">
                <a:moveTo>
                  <a:pt x="3794" y="4517"/>
                </a:moveTo>
                <a:lnTo>
                  <a:pt x="17806" y="11523"/>
                </a:lnTo>
                <a:lnTo>
                  <a:pt x="3794" y="1853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87480" y="0"/>
            <a:ext cx="85881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Задание 3 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Какие народы населяют Зарубежную Европу, какие религии они проповедуют?   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 каких частях Европы преобладает католицизм, в  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каких протестантство, православие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3. Приведите примеры стран Европы население которых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исповедует протестантство, католицизм, православие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, например, при обобщении знаний по теме «Зарубежная Европа» провожу контроль знаний в форме тестирования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Объект 7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996000" cy="2901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211280" y="1412640"/>
            <a:ext cx="4932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современных педагогических технологий, позволяет достичь эффективных результатов, соответствующих стандарта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урок – это четко организованный учебный процесс, на котором поставлены цели и задачи, используются различные формы и методы обучения, осуществляется диагностика. Часто использую тесты, при обобщении знаний по разным темам в 6 – 11 класс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D5F45-0FA0-441A-A1BF-12AE730F1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0" y="537372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ы или в печатной форме или в электронной – в форме презен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CBB2-8BFE-4FE7-8441-C37AA91FC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42920" y="76320"/>
            <a:ext cx="8143920" cy="30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ерь себя. Те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5000" y="380880"/>
            <a:ext cx="8151840" cy="642600"/>
          </a:xfrm>
          <a:prstGeom prst="rect">
            <a:avLst/>
          </a:prstGeom>
          <a:solidFill>
            <a:srgbClr val="ffcc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амое крупное по площади государство Европейского Сою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Швеция;  2) Украина;  3) Франция;  4) Гер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2920" y="1066680"/>
            <a:ext cx="8143920" cy="6426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акое из перечисленных государств Европы не входит в НА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Польша;  2) Греция;  3) Исландия;  4) Швейцария;  5) Чех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2920" y="1752480"/>
            <a:ext cx="8143920" cy="642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ое из перечисленных государств не является федерац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Бельгия;  2) Австрия;  3) Франция;  4) Сербия и Черног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42920" y="2438280"/>
            <a:ext cx="8143920" cy="64260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Численность населения Евро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280 млн.;   2) 810 млн.;   3) 510 млн.;   4) 330 мл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28520" y="3124080"/>
            <a:ext cx="815832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Для городских поселений Европы характ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ложная урбанизация;  2) отток населения в пригород;  3) бур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исленности населения;  4) бурный рост численности сельских ж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22400" y="4127400"/>
            <a:ext cx="8250120" cy="13899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6. Для Европы характерна следующая демографическая ситуац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1) высокий уровень рождаемости;  2) преобладание пожилых люде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3) высокий уровень квалификации населения;  4) низкий уровень безработицы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5) рост числа трудовых иммигрантов;  6) высокая продолжительность жиз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7) суженное воспроизводство;  8) депопуля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42920" y="5589720"/>
            <a:ext cx="8143920" cy="11912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Сопоставьте районы Европы и преобладающие в них рели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Северная Европа                                    А) правосла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Восточная Европа                                  Б) протестант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) Средняя и Южная Европа                    В) католиц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>
            <a:hlinkClick r:id="" action="ppaction://hlinkshowjump?jump=nextslide"/>
          </p:cNvPr>
          <p:cNvSpPr/>
          <p:nvPr/>
        </p:nvSpPr>
        <p:spPr>
          <a:xfrm>
            <a:off x="8083440" y="5734080"/>
            <a:ext cx="978120" cy="1042920"/>
          </a:xfrm>
          <a:custGeom>
            <a:avLst/>
            <a:gdLst>
              <a:gd name="textAreaLeft" fmla="*/ 63360 w 978120"/>
              <a:gd name="textAreaRight" fmla="*/ 914760 w 978120"/>
              <a:gd name="textAreaTop" fmla="*/ 63360 h 1042920"/>
              <a:gd name="textAreaBottom" fmla="*/ 979560 h 1042920"/>
            </a:gdLst>
            <a:ahLst/>
            <a:rect l="textAreaLeft" t="textAreaTop" r="textAreaRight" b="textAreaBottom"/>
            <a:pathLst>
              <a:path w="21600" h="23030">
                <a:moveTo>
                  <a:pt x="0" y="0"/>
                </a:moveTo>
                <a:lnTo>
                  <a:pt x="21600" y="0"/>
                </a:lnTo>
                <a:lnTo>
                  <a:pt x="21600" y="23030"/>
                </a:lnTo>
                <a:lnTo>
                  <a:pt x="0" y="23030"/>
                </a:lnTo>
                <a:close/>
              </a:path>
              <a:path fill="lightenLess" w="21600" h="230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0">
                <a:moveTo>
                  <a:pt x="21600" y="0"/>
                </a:moveTo>
                <a:lnTo>
                  <a:pt x="21600" y="23030"/>
                </a:lnTo>
                <a:lnTo>
                  <a:pt x="20200" y="21630"/>
                </a:lnTo>
                <a:lnTo>
                  <a:pt x="20200" y="1400"/>
                </a:lnTo>
                <a:close/>
              </a:path>
              <a:path fill="darkenLess" w="21600" h="23030">
                <a:moveTo>
                  <a:pt x="21600" y="23030"/>
                </a:moveTo>
                <a:lnTo>
                  <a:pt x="0" y="23030"/>
                </a:lnTo>
                <a:lnTo>
                  <a:pt x="1400" y="21630"/>
                </a:lnTo>
                <a:lnTo>
                  <a:pt x="20200" y="21630"/>
                </a:lnTo>
                <a:close/>
              </a:path>
              <a:path fill="lighten" w="21600" h="23030">
                <a:moveTo>
                  <a:pt x="0" y="230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0"/>
                </a:lnTo>
                <a:close/>
              </a:path>
              <a:path fill="darken" w="21600" h="23030">
                <a:moveTo>
                  <a:pt x="3794" y="4509"/>
                </a:moveTo>
                <a:lnTo>
                  <a:pt x="17806" y="11515"/>
                </a:lnTo>
                <a:lnTo>
                  <a:pt x="3794" y="1852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726F-BE8E-4CDF-9A03-E3D1990BDB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42920" y="76320"/>
            <a:ext cx="8143920" cy="30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5000" y="380880"/>
            <a:ext cx="8151840" cy="642600"/>
          </a:xfrm>
          <a:prstGeom prst="rect">
            <a:avLst/>
          </a:prstGeom>
          <a:solidFill>
            <a:srgbClr val="ffcc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амое крупное по площади государство Европейского Сою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Швеция;  2) Украина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3) Франция;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) Гер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42920" y="1066680"/>
            <a:ext cx="8143920" cy="6426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акое из перечисленных государств Европы не входит в НА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Польша;  2) Греция;  3) Исландия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4) Швейцария;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) Чехия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42920" y="1752480"/>
            <a:ext cx="8143920" cy="642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ое из перечисленных государств не является федерац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Бельгия;  2) Австрия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3) Франция;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) Сербия и Черног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42920" y="2438280"/>
            <a:ext cx="8143920" cy="64260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Численность населения Евро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280 млн.;   2) 810 млн.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3) 510 млн.;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) 330 мл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28520" y="3124080"/>
            <a:ext cx="815832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Для городских поселений Европы характ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ложная урбанизация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2) отток населения в пригород;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) бур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исленности населения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) бурный рост численности сельских жителе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22400" y="4127400"/>
            <a:ext cx="8250480" cy="13899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6. Для Европы характерна следующая демографическая ситуац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) высокий уровень рождаемости;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2) преобладание пожилых люде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3) высокий уровень квалификации населения;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4) низкий уровень безработицы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5) рост числа трудовых иммигрантов;  6) высокая продолжительность жиз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7) суженное воспроизводство;  8) депопуля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2920" y="5589720"/>
            <a:ext cx="8143920" cy="11912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Сопоставьте районы Европы и преобладающие в них рели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) Северная Европа                                    Б) протестан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) Восточная Европа                                  А) правосла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3) Средняя и Южная Европа                    В) католиц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-387360"/>
            <a:ext cx="763272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ы те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989F-AEE1-4DE8-A07E-A8F0C792D0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Активизация познавательной деятельности учащихся на уроках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чение должно быть с увлечением , требовательность без принужд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 Амос Каменский рассматривал школу как источник радости, света и знания, считал интерес одним из гла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ей создания светлой и радостной обстановки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Д.Ушинский  в интересе видел успех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ой составляющей в учебном процессе является у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урок –это минуты непрерывного поиска, интеллектуального напряжения,  человеческого общения, , исследования и сотворчества со стороны учителя и уче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 из главных направлений развития  средней школы является повышение качества образования , создание условий для развития личности каждого ученика через совершенствование системы препода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9F55-C6AD-4603-AD31-8F4F52889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отяжении 3 лет, я работаю над темой  «Активизация познавательной деятельности учащихся на уроках географ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даря использованию различных форм и методов обучения сложилась система  работы, направленная на повышение активности  познавательной деятельности учащихся на уроках географи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оинством системы является повышение интереса к предмету, повышение качества знаний учащихся по географии, воспитания любви к Родине. Добиваясь этого, использую разнообразные формы и методы работы, развивающие познавательный интерес на различных этапах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94DA-8E4B-4CEF-B107-C2CB8B05C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8200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Так, например на уроках географии в 7 классе при изучении темы «Рельеф» часто использую схемы, требующие логического мышления.</a:t>
            </a:r>
            <a:br>
              <a:rPr sz="2000"/>
            </a:br>
            <a:br>
              <a:rPr sz="20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При каких условиях происходит формирование гор?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 каких условиях происходит формирование равнин ? 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кие формы рельефа приурочены к сейсмическим поясам земли, 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 какие соответствуют платформам?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ы  ?                         Равни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олкновение плит            Устойчивые учас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йсмические пояса                             Платфор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гматические                              Осадо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езные ископаемы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372360" y="36450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348000" y="386064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3419640" y="5013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6372360" y="508464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уроке в 7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7" descr=""/>
          <p:cNvPicPr/>
          <p:nvPr/>
        </p:nvPicPr>
        <p:blipFill>
          <a:blip r:embed="rId1"/>
          <a:stretch/>
        </p:blipFill>
        <p:spPr>
          <a:xfrm>
            <a:off x="0" y="2997360"/>
            <a:ext cx="4192560" cy="3744720"/>
          </a:xfrm>
          <a:prstGeom prst="rect">
            <a:avLst/>
          </a:prstGeom>
          <a:ln w="0">
            <a:noFill/>
          </a:ln>
        </p:spPr>
      </p:pic>
      <p:pic>
        <p:nvPicPr>
          <p:cNvPr id="66" name="Объект 8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535280" cy="338436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1C87-493A-4CAD-9F72-4A7089D8B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211640" y="4724280"/>
            <a:ext cx="49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содержит разные варианты. По количеству обучающихся в классе. (1,2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24000" y="1125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д-з и для закрепления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9E81-CCBE-4E11-9CC8-CFFEA12FD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-36360" y="6380280"/>
            <a:ext cx="9151920" cy="528480"/>
          </a:xfrm>
          <a:custGeom>
            <a:avLst/>
            <a:gdLst>
              <a:gd name="textAreaLeft" fmla="*/ 0 w 9151920"/>
              <a:gd name="textAreaRight" fmla="*/ 9152280 w 915192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5765" h="333">
                <a:moveTo>
                  <a:pt x="14" y="46"/>
                </a:moveTo>
                <a:cubicBezTo>
                  <a:pt x="316" y="0"/>
                  <a:pt x="830" y="59"/>
                  <a:pt x="1788" y="59"/>
                </a:cubicBezTo>
                <a:cubicBezTo>
                  <a:pt x="2097" y="57"/>
                  <a:pt x="1849" y="36"/>
                  <a:pt x="1870" y="31"/>
                </a:cubicBezTo>
                <a:cubicBezTo>
                  <a:pt x="1891" y="26"/>
                  <a:pt x="1892" y="28"/>
                  <a:pt x="1916" y="31"/>
                </a:cubicBezTo>
                <a:cubicBezTo>
                  <a:pt x="1940" y="34"/>
                  <a:pt x="2005" y="47"/>
                  <a:pt x="2016" y="50"/>
                </a:cubicBezTo>
                <a:cubicBezTo>
                  <a:pt x="2027" y="53"/>
                  <a:pt x="1916" y="47"/>
                  <a:pt x="1980" y="50"/>
                </a:cubicBezTo>
                <a:cubicBezTo>
                  <a:pt x="2044" y="53"/>
                  <a:pt x="1769" y="69"/>
                  <a:pt x="2400" y="68"/>
                </a:cubicBezTo>
                <a:cubicBezTo>
                  <a:pt x="3031" y="67"/>
                  <a:pt x="5205" y="2"/>
                  <a:pt x="5765" y="46"/>
                </a:cubicBezTo>
                <a:lnTo>
                  <a:pt x="5761" y="333"/>
                </a:lnTo>
                <a:lnTo>
                  <a:pt x="0" y="333"/>
                </a:lnTo>
                <a:lnTo>
                  <a:pt x="14" y="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"/>
          <p:cNvSpPr/>
          <p:nvPr/>
        </p:nvSpPr>
        <p:spPr>
          <a:xfrm>
            <a:off x="-36360" y="6021360"/>
            <a:ext cx="9216720" cy="455760"/>
          </a:xfrm>
          <a:custGeom>
            <a:avLst/>
            <a:gdLst>
              <a:gd name="textAreaLeft" fmla="*/ 0 w 9216720"/>
              <a:gd name="textAreaRight" fmla="*/ 9217080 w 92167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5765" h="287">
                <a:moveTo>
                  <a:pt x="14" y="0"/>
                </a:moveTo>
                <a:cubicBezTo>
                  <a:pt x="1930" y="26"/>
                  <a:pt x="3848" y="0"/>
                  <a:pt x="5765" y="0"/>
                </a:cubicBezTo>
                <a:lnTo>
                  <a:pt x="5761" y="287"/>
                </a:lnTo>
                <a:lnTo>
                  <a:pt x="0" y="287"/>
                </a:lnTo>
                <a:lnTo>
                  <a:pt x="14" y="0"/>
                </a:lnTo>
                <a:close/>
              </a:path>
            </a:pathLst>
          </a:custGeom>
          <a:solidFill>
            <a:srgbClr val="3366ff">
              <a:alpha val="74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-36360" y="6237360"/>
            <a:ext cx="2340000" cy="287280"/>
          </a:xfrm>
          <a:custGeom>
            <a:avLst/>
            <a:gdLst>
              <a:gd name="textAreaLeft" fmla="*/ 0 w 2340000"/>
              <a:gd name="textAreaRight" fmla="*/ 2340360 w 234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99" h="158">
                <a:moveTo>
                  <a:pt x="4" y="0"/>
                </a:moveTo>
                <a:lnTo>
                  <a:pt x="2089" y="12"/>
                </a:lnTo>
                <a:lnTo>
                  <a:pt x="2152" y="64"/>
                </a:lnTo>
                <a:lnTo>
                  <a:pt x="2199" y="158"/>
                </a:lnTo>
                <a:lnTo>
                  <a:pt x="0" y="142"/>
                </a:lnTo>
                <a:lnTo>
                  <a:pt x="4" y="0"/>
                </a:lnTo>
                <a:close/>
              </a:path>
            </a:pathLst>
          </a:custGeom>
          <a:solidFill>
            <a:srgbClr val="993300">
              <a:alpha val="71000"/>
            </a:srgbClr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2268360" y="5589720"/>
            <a:ext cx="6894720" cy="928440"/>
          </a:xfrm>
          <a:custGeom>
            <a:avLst/>
            <a:gdLst>
              <a:gd name="textAreaLeft" fmla="*/ 0 w 6894720"/>
              <a:gd name="textAreaRight" fmla="*/ 6895080 w 68947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4343" h="585">
                <a:moveTo>
                  <a:pt x="353" y="182"/>
                </a:moveTo>
                <a:cubicBezTo>
                  <a:pt x="331" y="210"/>
                  <a:pt x="187" y="274"/>
                  <a:pt x="166" y="301"/>
                </a:cubicBezTo>
                <a:cubicBezTo>
                  <a:pt x="151" y="344"/>
                  <a:pt x="84" y="331"/>
                  <a:pt x="67" y="374"/>
                </a:cubicBezTo>
                <a:cubicBezTo>
                  <a:pt x="60" y="392"/>
                  <a:pt x="46" y="429"/>
                  <a:pt x="46" y="429"/>
                </a:cubicBezTo>
                <a:cubicBezTo>
                  <a:pt x="40" y="460"/>
                  <a:pt x="0" y="585"/>
                  <a:pt x="56" y="585"/>
                </a:cubicBezTo>
                <a:lnTo>
                  <a:pt x="4343" y="585"/>
                </a:lnTo>
                <a:lnTo>
                  <a:pt x="4230" y="429"/>
                </a:lnTo>
                <a:lnTo>
                  <a:pt x="4066" y="273"/>
                </a:lnTo>
                <a:lnTo>
                  <a:pt x="3878" y="246"/>
                </a:lnTo>
                <a:lnTo>
                  <a:pt x="3812" y="154"/>
                </a:lnTo>
                <a:lnTo>
                  <a:pt x="3725" y="63"/>
                </a:lnTo>
                <a:lnTo>
                  <a:pt x="3590" y="0"/>
                </a:lnTo>
                <a:lnTo>
                  <a:pt x="3392" y="173"/>
                </a:lnTo>
                <a:lnTo>
                  <a:pt x="2814" y="264"/>
                </a:lnTo>
                <a:lnTo>
                  <a:pt x="1582" y="265"/>
                </a:lnTo>
                <a:lnTo>
                  <a:pt x="353" y="182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-36360" y="6669000"/>
            <a:ext cx="1800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3347640" y="6669000"/>
            <a:ext cx="180036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2916360" y="6021360"/>
            <a:ext cx="0" cy="43200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1"/>
          <p:cNvSpPr/>
          <p:nvPr/>
        </p:nvSpPr>
        <p:spPr>
          <a:xfrm>
            <a:off x="2268360" y="4557600"/>
            <a:ext cx="6894720" cy="1908360"/>
          </a:xfrm>
          <a:custGeom>
            <a:avLst/>
            <a:gdLst>
              <a:gd name="textAreaLeft" fmla="*/ 0 w 6894720"/>
              <a:gd name="textAreaRight" fmla="*/ 6895080 w 6894720"/>
              <a:gd name="textAreaTop" fmla="*/ 0 h 1908360"/>
              <a:gd name="textAreaBottom" fmla="*/ 1908720 h 1908360"/>
            </a:gdLst>
            <a:ahLst/>
            <a:rect l="textAreaLeft" t="textAreaTop" r="textAreaRight" b="textAreaBottom"/>
            <a:pathLst>
              <a:path w="4343" h="1202">
                <a:moveTo>
                  <a:pt x="491" y="370"/>
                </a:moveTo>
                <a:cubicBezTo>
                  <a:pt x="457" y="322"/>
                  <a:pt x="417" y="0"/>
                  <a:pt x="363" y="91"/>
                </a:cubicBezTo>
                <a:cubicBezTo>
                  <a:pt x="309" y="182"/>
                  <a:pt x="215" y="768"/>
                  <a:pt x="166" y="918"/>
                </a:cubicBezTo>
                <a:cubicBezTo>
                  <a:pt x="151" y="961"/>
                  <a:pt x="84" y="948"/>
                  <a:pt x="67" y="991"/>
                </a:cubicBezTo>
                <a:cubicBezTo>
                  <a:pt x="60" y="1009"/>
                  <a:pt x="46" y="1046"/>
                  <a:pt x="46" y="1046"/>
                </a:cubicBezTo>
                <a:cubicBezTo>
                  <a:pt x="40" y="1077"/>
                  <a:pt x="0" y="1202"/>
                  <a:pt x="56" y="1202"/>
                </a:cubicBezTo>
                <a:lnTo>
                  <a:pt x="4343" y="1202"/>
                </a:lnTo>
                <a:lnTo>
                  <a:pt x="4230" y="1051"/>
                </a:lnTo>
                <a:lnTo>
                  <a:pt x="4185" y="1006"/>
                </a:lnTo>
                <a:lnTo>
                  <a:pt x="4066" y="890"/>
                </a:lnTo>
                <a:lnTo>
                  <a:pt x="3878" y="863"/>
                </a:lnTo>
                <a:lnTo>
                  <a:pt x="3801" y="841"/>
                </a:lnTo>
                <a:lnTo>
                  <a:pt x="3709" y="795"/>
                </a:lnTo>
                <a:lnTo>
                  <a:pt x="3590" y="777"/>
                </a:lnTo>
                <a:lnTo>
                  <a:pt x="3392" y="790"/>
                </a:lnTo>
                <a:lnTo>
                  <a:pt x="2814" y="881"/>
                </a:lnTo>
                <a:lnTo>
                  <a:pt x="1582" y="882"/>
                </a:lnTo>
                <a:lnTo>
                  <a:pt x="710" y="863"/>
                </a:lnTo>
                <a:lnTo>
                  <a:pt x="582" y="256"/>
                </a:lnTo>
                <a:lnTo>
                  <a:pt x="518" y="274"/>
                </a:lnTo>
                <a:lnTo>
                  <a:pt x="491" y="37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-36360" y="5805360"/>
            <a:ext cx="9151920" cy="1122480"/>
          </a:xfrm>
          <a:custGeom>
            <a:avLst/>
            <a:gdLst>
              <a:gd name="textAreaLeft" fmla="*/ 0 w 9151920"/>
              <a:gd name="textAreaRight" fmla="*/ 9152280 w 9151920"/>
              <a:gd name="textAreaTop" fmla="*/ 0 h 1122480"/>
              <a:gd name="textAreaBottom" fmla="*/ 1122840 h 1122480"/>
            </a:gdLst>
            <a:ahLst/>
            <a:rect l="textAreaLeft" t="textAreaTop" r="textAreaRight" b="textAreaBottom"/>
            <a:pathLst>
              <a:path w="5765" h="707">
                <a:moveTo>
                  <a:pt x="14" y="420"/>
                </a:moveTo>
                <a:cubicBezTo>
                  <a:pt x="316" y="374"/>
                  <a:pt x="830" y="433"/>
                  <a:pt x="1788" y="433"/>
                </a:cubicBezTo>
                <a:cubicBezTo>
                  <a:pt x="2097" y="431"/>
                  <a:pt x="1858" y="477"/>
                  <a:pt x="1870" y="405"/>
                </a:cubicBezTo>
                <a:cubicBezTo>
                  <a:pt x="1882" y="333"/>
                  <a:pt x="1837" y="0"/>
                  <a:pt x="1861" y="3"/>
                </a:cubicBezTo>
                <a:cubicBezTo>
                  <a:pt x="1885" y="6"/>
                  <a:pt x="1996" y="354"/>
                  <a:pt x="2016" y="424"/>
                </a:cubicBezTo>
                <a:cubicBezTo>
                  <a:pt x="2036" y="494"/>
                  <a:pt x="1916" y="421"/>
                  <a:pt x="1980" y="424"/>
                </a:cubicBezTo>
                <a:cubicBezTo>
                  <a:pt x="2044" y="427"/>
                  <a:pt x="1769" y="443"/>
                  <a:pt x="2400" y="442"/>
                </a:cubicBezTo>
                <a:cubicBezTo>
                  <a:pt x="3031" y="441"/>
                  <a:pt x="5205" y="376"/>
                  <a:pt x="5765" y="420"/>
                </a:cubicBezTo>
                <a:lnTo>
                  <a:pt x="5761" y="707"/>
                </a:lnTo>
                <a:lnTo>
                  <a:pt x="0" y="707"/>
                </a:lnTo>
                <a:lnTo>
                  <a:pt x="14" y="4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"/>
          <p:cNvSpPr/>
          <p:nvPr/>
        </p:nvSpPr>
        <p:spPr>
          <a:xfrm>
            <a:off x="0" y="6302520"/>
            <a:ext cx="2590920" cy="555480"/>
          </a:xfrm>
          <a:custGeom>
            <a:avLst/>
            <a:gdLst/>
            <a:ahLst/>
            <a:rect l="l" t="t" r="r" b="b"/>
            <a:pathLst>
              <a:path w="1632" h="350">
                <a:moveTo>
                  <a:pt x="3" y="0"/>
                </a:moveTo>
                <a:lnTo>
                  <a:pt x="1400" y="14"/>
                </a:lnTo>
                <a:lnTo>
                  <a:pt x="1442" y="73"/>
                </a:lnTo>
                <a:lnTo>
                  <a:pt x="1522" y="194"/>
                </a:lnTo>
                <a:lnTo>
                  <a:pt x="1632" y="204"/>
                </a:lnTo>
                <a:lnTo>
                  <a:pt x="1623" y="332"/>
                </a:lnTo>
                <a:lnTo>
                  <a:pt x="1532" y="350"/>
                </a:lnTo>
                <a:lnTo>
                  <a:pt x="1285" y="185"/>
                </a:lnTo>
                <a:lnTo>
                  <a:pt x="0" y="163"/>
                </a:lnTo>
                <a:lnTo>
                  <a:pt x="3" y="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250920" y="6308640"/>
            <a:ext cx="18698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4067280" y="350028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НЕДРЕНИЕ МАГ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24000" y="0"/>
            <a:ext cx="8569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 изучении темы «Рельеф Северной Америки» рассматриваются тектонические движения земной коры с которыми связано образование гор – Кордильеры,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калистых гор,  а также гор вулканического происхо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Учащимся предлагается сопоставить схему, физическую и тектоническую карты и сделать вывод о рельефе Северной Аме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0" y="378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УЛК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250920" y="285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5"/>
          <p:cNvSpPr/>
          <p:nvPr/>
        </p:nvSpPr>
        <p:spPr>
          <a:xfrm>
            <a:off x="2268360" y="4076640"/>
            <a:ext cx="3768840" cy="2303640"/>
          </a:xfrm>
          <a:custGeom>
            <a:avLst/>
            <a:gdLst>
              <a:gd name="textAreaLeft" fmla="*/ 0 w 3768840"/>
              <a:gd name="textAreaRight" fmla="*/ 3769200 w 376884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2374" h="1451">
                <a:moveTo>
                  <a:pt x="489" y="557"/>
                </a:moveTo>
                <a:cubicBezTo>
                  <a:pt x="456" y="505"/>
                  <a:pt x="430" y="0"/>
                  <a:pt x="375" y="98"/>
                </a:cubicBezTo>
                <a:cubicBezTo>
                  <a:pt x="340" y="116"/>
                  <a:pt x="307" y="592"/>
                  <a:pt x="278" y="665"/>
                </a:cubicBezTo>
                <a:cubicBezTo>
                  <a:pt x="250" y="737"/>
                  <a:pt x="225" y="455"/>
                  <a:pt x="200" y="537"/>
                </a:cubicBezTo>
                <a:cubicBezTo>
                  <a:pt x="175" y="619"/>
                  <a:pt x="152" y="1042"/>
                  <a:pt x="130" y="1157"/>
                </a:cubicBezTo>
                <a:cubicBezTo>
                  <a:pt x="113" y="1204"/>
                  <a:pt x="83" y="1178"/>
                  <a:pt x="66" y="1224"/>
                </a:cubicBezTo>
                <a:cubicBezTo>
                  <a:pt x="59" y="1243"/>
                  <a:pt x="46" y="1283"/>
                  <a:pt x="46" y="1283"/>
                </a:cubicBezTo>
                <a:cubicBezTo>
                  <a:pt x="39" y="1317"/>
                  <a:pt x="0" y="1451"/>
                  <a:pt x="56" y="1451"/>
                </a:cubicBezTo>
                <a:lnTo>
                  <a:pt x="2329" y="1425"/>
                </a:lnTo>
                <a:lnTo>
                  <a:pt x="2365" y="1425"/>
                </a:lnTo>
                <a:lnTo>
                  <a:pt x="2347" y="1434"/>
                </a:lnTo>
                <a:lnTo>
                  <a:pt x="2347" y="1397"/>
                </a:lnTo>
                <a:lnTo>
                  <a:pt x="2329" y="1416"/>
                </a:lnTo>
                <a:lnTo>
                  <a:pt x="2356" y="1406"/>
                </a:lnTo>
                <a:lnTo>
                  <a:pt x="2374" y="1416"/>
                </a:lnTo>
                <a:lnTo>
                  <a:pt x="2329" y="1406"/>
                </a:lnTo>
                <a:lnTo>
                  <a:pt x="2338" y="1416"/>
                </a:lnTo>
                <a:lnTo>
                  <a:pt x="2374" y="1416"/>
                </a:lnTo>
                <a:lnTo>
                  <a:pt x="2356" y="1434"/>
                </a:lnTo>
                <a:lnTo>
                  <a:pt x="2347" y="1253"/>
                </a:lnTo>
                <a:lnTo>
                  <a:pt x="1687" y="1112"/>
                </a:lnTo>
                <a:lnTo>
                  <a:pt x="1567" y="1011"/>
                </a:lnTo>
                <a:lnTo>
                  <a:pt x="1301" y="1002"/>
                </a:lnTo>
                <a:lnTo>
                  <a:pt x="1191" y="865"/>
                </a:lnTo>
                <a:lnTo>
                  <a:pt x="957" y="828"/>
                </a:lnTo>
                <a:lnTo>
                  <a:pt x="887" y="737"/>
                </a:lnTo>
                <a:lnTo>
                  <a:pt x="796" y="737"/>
                </a:lnTo>
                <a:lnTo>
                  <a:pt x="649" y="728"/>
                </a:lnTo>
                <a:lnTo>
                  <a:pt x="546" y="303"/>
                </a:lnTo>
                <a:lnTo>
                  <a:pt x="525" y="354"/>
                </a:lnTo>
                <a:lnTo>
                  <a:pt x="500" y="513"/>
                </a:lnTo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6"/>
          <p:cNvSpPr/>
          <p:nvPr/>
        </p:nvSpPr>
        <p:spPr>
          <a:xfrm>
            <a:off x="-73080" y="4929120"/>
            <a:ext cx="9217080" cy="1928880"/>
          </a:xfrm>
          <a:custGeom>
            <a:avLst/>
            <a:gdLst>
              <a:gd name="textAreaLeft" fmla="*/ 0 w 9217080"/>
              <a:gd name="textAreaRight" fmla="*/ 9217440 w 921708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5806" h="1215">
                <a:moveTo>
                  <a:pt x="14" y="928"/>
                </a:moveTo>
                <a:cubicBezTo>
                  <a:pt x="318" y="882"/>
                  <a:pt x="1130" y="938"/>
                  <a:pt x="1441" y="938"/>
                </a:cubicBezTo>
                <a:cubicBezTo>
                  <a:pt x="1714" y="940"/>
                  <a:pt x="1608" y="1005"/>
                  <a:pt x="1653" y="938"/>
                </a:cubicBezTo>
                <a:cubicBezTo>
                  <a:pt x="1697" y="871"/>
                  <a:pt x="1707" y="691"/>
                  <a:pt x="1708" y="536"/>
                </a:cubicBezTo>
                <a:cubicBezTo>
                  <a:pt x="1709" y="381"/>
                  <a:pt x="1648" y="0"/>
                  <a:pt x="1662" y="5"/>
                </a:cubicBezTo>
                <a:cubicBezTo>
                  <a:pt x="1676" y="10"/>
                  <a:pt x="1745" y="461"/>
                  <a:pt x="1791" y="563"/>
                </a:cubicBezTo>
                <a:cubicBezTo>
                  <a:pt x="1837" y="665"/>
                  <a:pt x="1898" y="569"/>
                  <a:pt x="1939" y="616"/>
                </a:cubicBezTo>
                <a:cubicBezTo>
                  <a:pt x="1980" y="663"/>
                  <a:pt x="2000" y="795"/>
                  <a:pt x="2039" y="845"/>
                </a:cubicBezTo>
                <a:cubicBezTo>
                  <a:pt x="2078" y="895"/>
                  <a:pt x="2148" y="904"/>
                  <a:pt x="2176" y="918"/>
                </a:cubicBezTo>
                <a:cubicBezTo>
                  <a:pt x="2204" y="932"/>
                  <a:pt x="2184" y="918"/>
                  <a:pt x="2204" y="927"/>
                </a:cubicBezTo>
                <a:cubicBezTo>
                  <a:pt x="2224" y="936"/>
                  <a:pt x="2260" y="969"/>
                  <a:pt x="2295" y="973"/>
                </a:cubicBezTo>
                <a:cubicBezTo>
                  <a:pt x="2330" y="977"/>
                  <a:pt x="1832" y="957"/>
                  <a:pt x="2417" y="950"/>
                </a:cubicBezTo>
                <a:cubicBezTo>
                  <a:pt x="3002" y="943"/>
                  <a:pt x="5242" y="884"/>
                  <a:pt x="5806" y="928"/>
                </a:cubicBezTo>
                <a:lnTo>
                  <a:pt x="5802" y="1215"/>
                </a:lnTo>
                <a:lnTo>
                  <a:pt x="0" y="1215"/>
                </a:lnTo>
                <a:lnTo>
                  <a:pt x="14" y="9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H="1">
            <a:off x="3924360" y="6165720"/>
            <a:ext cx="1800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1763640" y="4292640"/>
            <a:ext cx="863640" cy="934920"/>
          </a:xfrm>
          <a:prstGeom prst="line">
            <a:avLst/>
          </a:prstGeom>
          <a:ln w="792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2050920" y="3429000"/>
            <a:ext cx="935280" cy="1008000"/>
          </a:xfrm>
          <a:prstGeom prst="line">
            <a:avLst/>
          </a:prstGeom>
          <a:ln w="792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 flipH="1">
            <a:off x="2916000" y="4508640"/>
            <a:ext cx="1655640" cy="1800000"/>
          </a:xfrm>
          <a:prstGeom prst="line">
            <a:avLst/>
          </a:prstGeom>
          <a:ln w="792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B2CB-7ECA-4E26-8733-FF82D171B9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ущей идеей является развитие активной познавательной деятельности через развитие творческого потенциала, исследовательскую, проектную, практическую и самостоятельные виды деятельности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, например, при изучении темы «Мировой круговорот воды в природе» в 5 классе, учащимся предлагаются творческие зад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268280"/>
            <a:ext cx="44989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мини-сочинение на тему: «Путешествие капель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стихи которые подходят к теме «Мировой круговорот воды  в приро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Составьте маршрут  вашего «кругосветного путешеств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7" descr=""/>
          <p:cNvPicPr/>
          <p:nvPr/>
        </p:nvPicPr>
        <p:blipFill>
          <a:blip r:embed="rId1"/>
          <a:stretch/>
        </p:blipFill>
        <p:spPr>
          <a:xfrm>
            <a:off x="4356000" y="1268280"/>
            <a:ext cx="4500720" cy="396108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7B99-61B6-4837-834C-785E1051E5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248000" y="544500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ыбор, или индивидуально каждому своё задание. Зависит от уровня подготовки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D3A9-C527-44A3-B08F-31CC5E979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424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ю практические приемы обучения,  в 6 классе, при изучении темы «Гидросфера», учащимся предлага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определить географическое положение мор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иземного и Беринг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ного и Балтий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пределить расстояние по карте до морей от своего населенного пун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Надписать на контурной карте моря, заливы, прол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этом учащиеся знакомятся с наиболее яркими страницами в исследовании и открытии морей, океанов, заливов и проли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13:48Z</dcterms:created>
  <dc:creator>Nikola Soft</dc:creator>
  <dc:description/>
  <dc:language>en-US</dc:language>
  <cp:lastModifiedBy>Елена</cp:lastModifiedBy>
  <dcterms:modified xsi:type="dcterms:W3CDTF">2019-01-12T13:25:31Z</dcterms:modified>
  <cp:revision>63</cp:revision>
  <dc:subject/>
  <dc:title>Активизация познавательной деятельности учащихся на уроках географии.</dc:title>
</cp:coreProperties>
</file>