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11.jpeg" ContentType="image/jpeg"/>
  <Override PartName="/ppt/media/image21.jpeg" ContentType="image/jpeg"/>
  <Override PartName="/ppt/media/image16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5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440" y="739440"/>
            <a:ext cx="49323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4560" y="937080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6F95D-50D9-4EE4-ADF4-8F93791974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DB50-D4E3-45E1-8B08-BD7739DDF5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1465-EEF4-4698-ACD9-3B43ECBC1C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5AB0-CB07-4AAD-A579-9A859E5EF8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FF30-D06C-48B9-991A-194E770745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336B-1DDB-48ED-89BE-BD149A197C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32360" cy="37004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A69E-EE53-4ED2-B015-8FE35A71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E44-DCBD-46F5-85CC-A45B21E5E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B02F-AFFE-46D8-A343-D7ECCAA9E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BCBF-4F1E-4487-AFF7-9C312BE0D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629D-9629-40A3-A558-B180DE67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62F8-7583-488A-91B2-48AC71A79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118B-7550-4C18-8EDF-1B73674C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44C-D495-4462-8B5F-529534A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3CAF-85C9-4725-9A47-CFEAAC075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2E4C-F5D0-4D10-ADC6-BE11F98C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FC1-BF7E-41B6-B921-2817DE35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2962-A9AD-4827-90C4-E371983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CF527-FF64-4A99-A357-FB0D8B796BA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тивизация познавательной деятельности учащихся на уроках географ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Объект 7" descr=""/>
          <p:cNvPicPr/>
          <p:nvPr/>
        </p:nvPicPr>
        <p:blipFill>
          <a:blip r:embed="rId1"/>
          <a:stretch/>
        </p:blipFill>
        <p:spPr>
          <a:xfrm rot="21001800">
            <a:off x="395280" y="2133360"/>
            <a:ext cx="3868920" cy="290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628880" y="2504880"/>
            <a:ext cx="3887640" cy="368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опыта работы учителя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КОУ «Михайловская средняя общеобразовательная школа имени Героя Советского Союза В.Ф.Нестерова» Черемисиновского района Курской обл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бровкиной Елены Василье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8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51E9-BFD4-4AA0-AADB-7EDFD33721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438D-C60E-4BCF-8E54-F05025E891E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9280" y="333360"/>
            <a:ext cx="842508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Так, например, при изучении раздела «Африка» в 7 классе, учащимся предлагаются задания исследовательского характера: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Используя физическую и тектоническую карты Африки определить, что произойдет с Африканской платформой, если процессы раздвижения, происходящие в зоне разломов в Восточной Африке будут усиливаться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С чем связано образование алмазов в Африке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На уроках в 8 классе при изучении темы «Природные зоны» предлагаются вопросы исследовательского характе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Возможно ли земледелие в зоне вечной мерзлоты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550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0021"/>
                </a:solidFill>
                <a:latin typeface="Arial"/>
              </a:rPr>
              <a:t>Как человек должен учитывать взаимосвязь между природой и климатом при создании заповедников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 уроках экономической географии учащимся 9 класса предлагаются задания проектного характера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1412640"/>
            <a:ext cx="44989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имер, на выбо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Предложите пути выхода из кризиса на территории Курской обла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Предложите пути выхода из демографического кризи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Составьте проект  переработки мусора на территории Ку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4211640" y="184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0B0-A411-4FFC-BD7F-689A6260E8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94920" y="1052280"/>
            <a:ext cx="828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a50021"/>
                </a:solidFill>
                <a:latin typeface="Arial"/>
              </a:rPr>
              <a:t>В своей работе использую технологию поэтапного формирования умственных действий П.Я.Гальперин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 изучении темы «Климат Африки» в 7 классе   учащимся предлагаются задания в ходе которых, используя климатическую карту, они поэтапно должны определит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ие воздушные массы формируются на материке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в каких поясах атмосферного давления находится Африка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к эти пояса давления влияют на распределение осадков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9012-2089-4C22-97F0-88762AA1A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281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a50021"/>
                </a:solidFill>
                <a:latin typeface="Arial"/>
              </a:rPr>
              <a:t>Использую элементы индивидуальных заданий на уроках географии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в 10 классе, при изучении раздела «Зарубежная Европа»  учащимся предлагаю  задания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18E7-C4AD-41BF-950E-AF8F020241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Физическая карта Европы"/>
          <p:cNvPicPr/>
          <p:nvPr/>
        </p:nvPicPr>
        <p:blipFill>
          <a:blip r:embed="rId1"/>
          <a:stretch/>
        </p:blipFill>
        <p:spPr>
          <a:xfrm>
            <a:off x="71280" y="685800"/>
            <a:ext cx="5143680" cy="5638680"/>
          </a:xfrm>
          <a:prstGeom prst="rect">
            <a:avLst/>
          </a:prstGeom>
          <a:ln w="0">
            <a:noFill/>
          </a:ln>
        </p:spPr>
      </p:pic>
      <p:sp>
        <p:nvSpPr>
          <p:cNvPr id="113" name="Oval 4"/>
          <p:cNvSpPr/>
          <p:nvPr/>
        </p:nvSpPr>
        <p:spPr>
          <a:xfrm>
            <a:off x="5854680" y="549360"/>
            <a:ext cx="2500200" cy="91440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обенности ЭГ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5257440" y="1844640"/>
            <a:ext cx="2625120" cy="368280"/>
          </a:xfrm>
          <a:prstGeom prst="rect">
            <a:avLst/>
          </a:prstGeom>
          <a:solidFill>
            <a:srgbClr val="ff9900">
              <a:alpha val="32000"/>
            </a:srgbClr>
          </a:solidFill>
          <a:ln w="15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иморское по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5390640" y="2421000"/>
            <a:ext cx="3121920" cy="368280"/>
          </a:xfrm>
          <a:prstGeom prst="rect">
            <a:avLst/>
          </a:prstGeom>
          <a:solidFill>
            <a:srgbClr val="66ffff">
              <a:alpha val="47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мпактность терри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2714760" y="1143000"/>
            <a:ext cx="142920" cy="4191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 rot="16200000">
            <a:off x="2143080" y="18237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5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1214280" y="3276720"/>
            <a:ext cx="285768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 rot="20005800">
            <a:off x="1268640" y="417636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3000 к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5510880" y="2997360"/>
            <a:ext cx="3598920" cy="642600"/>
          </a:xfrm>
          <a:prstGeom prst="rect">
            <a:avLst/>
          </a:prstGeom>
          <a:solidFill>
            <a:srgbClr val="993300">
              <a:alpha val="23000"/>
            </a:srgbClr>
          </a:solidFill>
          <a:ln w="158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Отсутствие крупных природ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препятств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2"/>
          <p:cNvSpPr/>
          <p:nvPr/>
        </p:nvSpPr>
        <p:spPr>
          <a:xfrm rot="5446200">
            <a:off x="7449120" y="4115160"/>
            <a:ext cx="223560" cy="1714680"/>
          </a:xfrm>
          <a:custGeom>
            <a:avLst/>
            <a:gdLst>
              <a:gd name="textAreaLeft" fmla="*/ 0 w 223560"/>
              <a:gd name="textAreaRight" fmla="*/ 80640 w 223560"/>
              <a:gd name="textAreaTop" fmla="*/ 44640 h 1714680"/>
              <a:gd name="textAreaBottom" fmla="*/ 167004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5451480" y="4718160"/>
            <a:ext cx="8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ывод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5428440" y="5033880"/>
            <a:ext cx="37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ЭГП благоприятствует торгов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вязям со всеми странами ми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пользованию богатств мор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5">
            <a:hlinkClick r:id="" action="ppaction://hlinkshowjump?jump=nextslide"/>
          </p:cNvPr>
          <p:cNvSpPr/>
          <p:nvPr/>
        </p:nvSpPr>
        <p:spPr>
          <a:xfrm>
            <a:off x="8418600" y="6165720"/>
            <a:ext cx="657000" cy="621000"/>
          </a:xfrm>
          <a:custGeom>
            <a:avLst/>
            <a:gdLst>
              <a:gd name="textAreaLeft" fmla="*/ 39960 w 657000"/>
              <a:gd name="textAreaRight" fmla="*/ 617040 w 657000"/>
              <a:gd name="textAreaTop" fmla="*/ 39960 h 621000"/>
              <a:gd name="textAreaBottom" fmla="*/ 581040 h 621000"/>
            </a:gdLst>
            <a:ahLst/>
            <a:rect l="textAreaLeft" t="textAreaTop" r="textAreaRight" b="textAreaBottom"/>
            <a:pathLst>
              <a:path w="22851" h="21600">
                <a:moveTo>
                  <a:pt x="0" y="0"/>
                </a:moveTo>
                <a:lnTo>
                  <a:pt x="22851" y="0"/>
                </a:lnTo>
                <a:lnTo>
                  <a:pt x="22851" y="21600"/>
                </a:lnTo>
                <a:lnTo>
                  <a:pt x="0" y="21600"/>
                </a:lnTo>
                <a:close/>
              </a:path>
              <a:path fill="lightenLess" w="22851" h="21600">
                <a:moveTo>
                  <a:pt x="0" y="0"/>
                </a:moveTo>
                <a:lnTo>
                  <a:pt x="22851" y="0"/>
                </a:lnTo>
                <a:lnTo>
                  <a:pt x="21451" y="1400"/>
                </a:lnTo>
                <a:lnTo>
                  <a:pt x="1400" y="1400"/>
                </a:lnTo>
                <a:close/>
              </a:path>
              <a:path fill="darken" w="22851" h="21600">
                <a:moveTo>
                  <a:pt x="22851" y="0"/>
                </a:moveTo>
                <a:lnTo>
                  <a:pt x="22851" y="21600"/>
                </a:lnTo>
                <a:lnTo>
                  <a:pt x="21451" y="20200"/>
                </a:lnTo>
                <a:lnTo>
                  <a:pt x="21451" y="1400"/>
                </a:lnTo>
                <a:close/>
              </a:path>
              <a:path fill="darkenLess" w="22851" h="21600">
                <a:moveTo>
                  <a:pt x="228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51" y="20200"/>
                </a:lnTo>
                <a:close/>
              </a:path>
              <a:path fill="lighten" w="228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851" h="21600">
                <a:moveTo>
                  <a:pt x="4419" y="3794"/>
                </a:moveTo>
                <a:lnTo>
                  <a:pt x="18432" y="10800"/>
                </a:lnTo>
                <a:lnTo>
                  <a:pt x="4419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7068960" y="148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7"/>
          <p:cNvSpPr/>
          <p:nvPr/>
        </p:nvSpPr>
        <p:spPr>
          <a:xfrm>
            <a:off x="7068960" y="1628640"/>
            <a:ext cx="94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8013600" y="162864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8013600" y="2060640"/>
            <a:ext cx="54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8555040" y="2060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468360" y="0"/>
            <a:ext cx="828036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1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оснуйте  особенности  географического положения Зарубежной Европы</a:t>
            </a:r>
            <a:br>
              <a:rPr sz="2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CFB6-EDA6-47D9-B1DD-10869473D5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2417040" y="765000"/>
            <a:ext cx="4411440" cy="4597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став Европейского рег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"/>
          <p:cNvSpPr/>
          <p:nvPr/>
        </p:nvSpPr>
        <p:spPr>
          <a:xfrm>
            <a:off x="1116000" y="404640"/>
            <a:ext cx="1285920" cy="1219320"/>
          </a:xfrm>
          <a:prstGeom prst="ellipse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осудар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2503080" y="3657600"/>
            <a:ext cx="168336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едерати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2500200" y="3124080"/>
            <a:ext cx="1571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нит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646280" y="1687680"/>
            <a:ext cx="132840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респу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3120" y="1676520"/>
            <a:ext cx="11743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онарх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928880" y="4191120"/>
            <a:ext cx="2357280" cy="19047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Федеративных государст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 зарубежной Европ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сего 5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Ф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БЕЛЬГ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ШВЕЙЦА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ВСТ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Сербия и Черногор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039120" y="1687680"/>
            <a:ext cx="1022040" cy="3682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л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2786040" y="2286000"/>
            <a:ext cx="1428840" cy="380880"/>
          </a:xfrm>
          <a:prstGeom prst="rect">
            <a:avLst/>
          </a:pr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ибралт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072200" y="1143000"/>
            <a:ext cx="157176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сударства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«карли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6664320" y="4581360"/>
            <a:ext cx="1785960" cy="8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руп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госуда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 более 500 тыс. км</a:t>
            </a:r>
            <a:r>
              <a:rPr b="1" i="1" lang="ru-RU" sz="1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664320" y="5572080"/>
            <a:ext cx="171468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Укра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ра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Исп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142920" y="2133720"/>
            <a:ext cx="1714320" cy="35319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12 монархий: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дор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Бельгия, Ватикан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ликобр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ания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спан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ихтенштейн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Люксембург, Монако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идерланды, Норвеги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вец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6" descr=""/>
          <p:cNvPicPr/>
          <p:nvPr/>
        </p:nvPicPr>
        <p:blipFill>
          <a:blip r:embed="rId2"/>
          <a:srcRect l="16413" t="36462" r="27343" b="12498"/>
          <a:stretch/>
        </p:blipFill>
        <p:spPr>
          <a:xfrm>
            <a:off x="142920" y="5537160"/>
            <a:ext cx="1714320" cy="1244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6" name="Text Box 17"/>
          <p:cNvSpPr/>
          <p:nvPr/>
        </p:nvSpPr>
        <p:spPr>
          <a:xfrm>
            <a:off x="196200" y="5649840"/>
            <a:ext cx="175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Кар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ffff"/>
                </a:solidFill>
                <a:uFillTx/>
                <a:latin typeface="Times New Roman"/>
              </a:rPr>
              <a:t>Монархии Европы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350028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9" descr="Европейская валюта"/>
          <p:cNvPicPr/>
          <p:nvPr/>
        </p:nvPicPr>
        <p:blipFill>
          <a:blip r:embed="rId3"/>
          <a:stretch/>
        </p:blipFill>
        <p:spPr>
          <a:xfrm>
            <a:off x="0" y="404640"/>
            <a:ext cx="1071720" cy="1143000"/>
          </a:xfrm>
          <a:prstGeom prst="rect">
            <a:avLst/>
          </a:prstGeom>
          <a:ln w="0">
            <a:noFill/>
          </a:ln>
        </p:spPr>
      </p:pic>
      <p:sp>
        <p:nvSpPr>
          <p:cNvPr id="149" name="Line 20"/>
          <p:cNvSpPr/>
          <p:nvPr/>
        </p:nvSpPr>
        <p:spPr>
          <a:xfrm>
            <a:off x="2214720" y="20574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1"/>
          <p:cNvSpPr/>
          <p:nvPr/>
        </p:nvSpPr>
        <p:spPr>
          <a:xfrm>
            <a:off x="2214720" y="380988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2"/>
          <p:cNvSpPr/>
          <p:nvPr/>
        </p:nvSpPr>
        <p:spPr>
          <a:xfrm>
            <a:off x="2214720" y="3276720"/>
            <a:ext cx="28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23"/>
          <p:cNvSpPr/>
          <p:nvPr/>
        </p:nvSpPr>
        <p:spPr>
          <a:xfrm flipH="1">
            <a:off x="1856880" y="327672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24"/>
          <p:cNvSpPr/>
          <p:nvPr/>
        </p:nvSpPr>
        <p:spPr>
          <a:xfrm flipH="1">
            <a:off x="1856880" y="3809880"/>
            <a:ext cx="35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5" descr=""/>
          <p:cNvPicPr/>
          <p:nvPr/>
        </p:nvPicPr>
        <p:blipFill>
          <a:blip r:embed="rId4"/>
          <a:stretch/>
        </p:blipFill>
        <p:spPr>
          <a:xfrm>
            <a:off x="4500720" y="1219320"/>
            <a:ext cx="2000160" cy="1030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6" descr=""/>
          <p:cNvPicPr/>
          <p:nvPr/>
        </p:nvPicPr>
        <p:blipFill>
          <a:blip r:embed="rId5"/>
          <a:stretch/>
        </p:blipFill>
        <p:spPr>
          <a:xfrm>
            <a:off x="4500720" y="2362320"/>
            <a:ext cx="2000160" cy="99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7" descr=""/>
          <p:cNvPicPr/>
          <p:nvPr/>
        </p:nvPicPr>
        <p:blipFill>
          <a:blip r:embed="rId6"/>
          <a:stretch/>
        </p:blipFill>
        <p:spPr>
          <a:xfrm>
            <a:off x="4500720" y="3429000"/>
            <a:ext cx="2000160" cy="1030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8" descr=""/>
          <p:cNvPicPr/>
          <p:nvPr/>
        </p:nvPicPr>
        <p:blipFill>
          <a:blip r:embed="rId7"/>
          <a:stretch/>
        </p:blipFill>
        <p:spPr>
          <a:xfrm>
            <a:off x="4500720" y="4572000"/>
            <a:ext cx="2000160" cy="995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9" descr=""/>
          <p:cNvPicPr/>
          <p:nvPr/>
        </p:nvPicPr>
        <p:blipFill>
          <a:blip r:embed="rId8"/>
          <a:stretch/>
        </p:blipFill>
        <p:spPr>
          <a:xfrm>
            <a:off x="4500720" y="5638680"/>
            <a:ext cx="2000160" cy="1067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0"/>
          <p:cNvSpPr/>
          <p:nvPr/>
        </p:nvSpPr>
        <p:spPr>
          <a:xfrm>
            <a:off x="1861920" y="6248520"/>
            <a:ext cx="3565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ВОД: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Большинство стран Европ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унитарные республи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31" descr=""/>
          <p:cNvPicPr/>
          <p:nvPr/>
        </p:nvPicPr>
        <p:blipFill>
          <a:blip r:embed="rId9"/>
          <a:stretch/>
        </p:blipFill>
        <p:spPr>
          <a:xfrm>
            <a:off x="6643800" y="1981080"/>
            <a:ext cx="2428920" cy="2505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1" name="Line 32"/>
          <p:cNvSpPr/>
          <p:nvPr/>
        </p:nvSpPr>
        <p:spPr>
          <a:xfrm flipV="1">
            <a:off x="4357800" y="1752480"/>
            <a:ext cx="0" cy="419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33"/>
          <p:cNvSpPr/>
          <p:nvPr/>
        </p:nvSpPr>
        <p:spPr>
          <a:xfrm flipH="1">
            <a:off x="4285800" y="5029200"/>
            <a:ext cx="7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4"/>
          <p:cNvSpPr/>
          <p:nvPr/>
        </p:nvSpPr>
        <p:spPr>
          <a:xfrm>
            <a:off x="4357800" y="594360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35"/>
          <p:cNvSpPr/>
          <p:nvPr/>
        </p:nvSpPr>
        <p:spPr>
          <a:xfrm>
            <a:off x="4357800" y="5105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36"/>
          <p:cNvSpPr/>
          <p:nvPr/>
        </p:nvSpPr>
        <p:spPr>
          <a:xfrm>
            <a:off x="4357800" y="38098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37"/>
          <p:cNvSpPr/>
          <p:nvPr/>
        </p:nvSpPr>
        <p:spPr>
          <a:xfrm>
            <a:off x="4357800" y="281952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38"/>
          <p:cNvSpPr/>
          <p:nvPr/>
        </p:nvSpPr>
        <p:spPr>
          <a:xfrm>
            <a:off x="4357800" y="1752480"/>
            <a:ext cx="142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39">
            <a:hlinkClick r:id="" action="ppaction://hlinkshowjump?jump=nextslide"/>
          </p:cNvPr>
          <p:cNvSpPr/>
          <p:nvPr/>
        </p:nvSpPr>
        <p:spPr>
          <a:xfrm>
            <a:off x="8352000" y="6165720"/>
            <a:ext cx="714240" cy="609840"/>
          </a:xfrm>
          <a:custGeom>
            <a:avLst/>
            <a:gdLst>
              <a:gd name="textAreaLeft" fmla="*/ 39240 w 714240"/>
              <a:gd name="textAreaRight" fmla="*/ 675000 w 71424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5296" h="21600">
                <a:moveTo>
                  <a:pt x="0" y="0"/>
                </a:moveTo>
                <a:lnTo>
                  <a:pt x="25296" y="0"/>
                </a:lnTo>
                <a:lnTo>
                  <a:pt x="25296" y="21600"/>
                </a:lnTo>
                <a:lnTo>
                  <a:pt x="0" y="21600"/>
                </a:lnTo>
                <a:close/>
              </a:path>
              <a:path fill="lightenLess" w="25296" h="21600">
                <a:moveTo>
                  <a:pt x="0" y="0"/>
                </a:moveTo>
                <a:lnTo>
                  <a:pt x="25296" y="0"/>
                </a:lnTo>
                <a:lnTo>
                  <a:pt x="23896" y="1400"/>
                </a:lnTo>
                <a:lnTo>
                  <a:pt x="1400" y="1400"/>
                </a:lnTo>
                <a:close/>
              </a:path>
              <a:path fill="darken" w="25296" h="21600">
                <a:moveTo>
                  <a:pt x="25296" y="0"/>
                </a:moveTo>
                <a:lnTo>
                  <a:pt x="25296" y="21600"/>
                </a:lnTo>
                <a:lnTo>
                  <a:pt x="23896" y="20200"/>
                </a:lnTo>
                <a:lnTo>
                  <a:pt x="23896" y="1400"/>
                </a:lnTo>
                <a:close/>
              </a:path>
              <a:path fill="darkenLess" w="25296" h="21600">
                <a:moveTo>
                  <a:pt x="25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96" y="20200"/>
                </a:lnTo>
                <a:close/>
              </a:path>
              <a:path fill="lighten" w="25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96" h="21600">
                <a:moveTo>
                  <a:pt x="5641" y="3794"/>
                </a:moveTo>
                <a:lnTo>
                  <a:pt x="19654" y="10800"/>
                </a:lnTo>
                <a:lnTo>
                  <a:pt x="5641" y="17806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684360" y="0"/>
            <a:ext cx="800244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ние 2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зовите государства Зарубежной Европы с монархической и республиканской формами 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BD47-D6C8-4627-8801-6D2BC7331D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5000760" y="3124080"/>
            <a:ext cx="857160" cy="9144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6124680" y="3289320"/>
            <a:ext cx="1712520" cy="520200"/>
          </a:xfrm>
          <a:prstGeom prst="rect">
            <a:avLst/>
          </a:prstGeom>
          <a:solidFill>
            <a:srgbClr val="ff99cc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СПОВЕДУ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ХРИСТИАН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 rot="18600">
            <a:off x="4714560" y="4266720"/>
            <a:ext cx="1428840" cy="304920"/>
          </a:xfrm>
          <a:prstGeom prst="rect">
            <a:avLst/>
          </a:prstGeom>
          <a:solidFill>
            <a:srgbClr val="ffcc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ТЕСТАНТ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286680" y="4267080"/>
            <a:ext cx="1428480" cy="3049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ТОЛИЦИЗ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858080" y="4267080"/>
            <a:ext cx="1143000" cy="304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АВОСЛА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5929200" y="3581280"/>
            <a:ext cx="21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/>
          <p:cNvSpPr/>
          <p:nvPr/>
        </p:nvSpPr>
        <p:spPr>
          <a:xfrm>
            <a:off x="4788000" y="1916280"/>
            <a:ext cx="4356000" cy="1069560"/>
          </a:xfrm>
          <a:prstGeom prst="rect">
            <a:avLst/>
          </a:prstGeom>
          <a:solidFill>
            <a:srgbClr val="bbe0e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II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ЦИОНАЛЬНЫЙ 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Й СОСТА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СЕЛЕНИЯ ЕВРО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9" descr="Религии Европы"/>
          <p:cNvPicPr/>
          <p:nvPr/>
        </p:nvPicPr>
        <p:blipFill>
          <a:blip r:embed="rId1"/>
          <a:stretch/>
        </p:blipFill>
        <p:spPr>
          <a:xfrm>
            <a:off x="82440" y="1628640"/>
            <a:ext cx="4167360" cy="5229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79" name="Line 10"/>
          <p:cNvSpPr/>
          <p:nvPr/>
        </p:nvSpPr>
        <p:spPr>
          <a:xfrm>
            <a:off x="542916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"/>
          <p:cNvSpPr/>
          <p:nvPr/>
        </p:nvSpPr>
        <p:spPr>
          <a:xfrm>
            <a:off x="700092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2"/>
          <p:cNvSpPr/>
          <p:nvPr/>
        </p:nvSpPr>
        <p:spPr>
          <a:xfrm>
            <a:off x="8429760" y="41911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Ватикан план">
            <a:hlinkClick r:id="" action="ppaction://hlinkshowjump?jump=nextslide"/>
          </p:cNvPr>
          <p:cNvPicPr/>
          <p:nvPr/>
        </p:nvPicPr>
        <p:blipFill>
          <a:blip r:embed="rId2"/>
          <a:srcRect l="7814" t="17707" r="34378" b="27087"/>
          <a:stretch/>
        </p:blipFill>
        <p:spPr>
          <a:xfrm>
            <a:off x="6572160" y="4800600"/>
            <a:ext cx="2428920" cy="1855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83" name="Text Box 14">
            <a:hlinkClick r:id="" action="ppaction://hlinkshowjump?jump=nextslide"/>
          </p:cNvPr>
          <p:cNvSpPr/>
          <p:nvPr/>
        </p:nvSpPr>
        <p:spPr>
          <a:xfrm>
            <a:off x="6629040" y="4876920"/>
            <a:ext cx="10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ВАТИ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5" descr="Ватикан флаг"/>
          <p:cNvPicPr/>
          <p:nvPr/>
        </p:nvPicPr>
        <p:blipFill>
          <a:blip r:embed="rId3"/>
          <a:srcRect l="12592" t="29286" r="80760" b="65989"/>
          <a:stretch/>
        </p:blipFill>
        <p:spPr>
          <a:xfrm>
            <a:off x="7929720" y="4800600"/>
            <a:ext cx="1071360" cy="60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5" name="AutoShape 16"/>
          <p:cNvSpPr/>
          <p:nvPr/>
        </p:nvSpPr>
        <p:spPr>
          <a:xfrm>
            <a:off x="5072040" y="5638680"/>
            <a:ext cx="977760" cy="1043280"/>
          </a:xfrm>
          <a:custGeom>
            <a:avLst/>
            <a:gdLst>
              <a:gd name="textAreaLeft" fmla="*/ 63360 w 977760"/>
              <a:gd name="textAreaRight" fmla="*/ 914400 w 977760"/>
              <a:gd name="textAreaTop" fmla="*/ 63360 h 1043280"/>
              <a:gd name="textAreaBottom" fmla="*/ 979920 h 1043280"/>
            </a:gdLst>
            <a:ahLst/>
            <a:rect l="textAreaLeft" t="textAreaTop" r="textAreaRight" b="textAreaBottom"/>
            <a:pathLst>
              <a:path w="21600" h="23047">
                <a:moveTo>
                  <a:pt x="0" y="0"/>
                </a:moveTo>
                <a:lnTo>
                  <a:pt x="21600" y="0"/>
                </a:lnTo>
                <a:lnTo>
                  <a:pt x="21600" y="23047"/>
                </a:lnTo>
                <a:lnTo>
                  <a:pt x="0" y="23047"/>
                </a:lnTo>
                <a:close/>
              </a:path>
              <a:path fill="lightenLess" w="21600" h="2304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47">
                <a:moveTo>
                  <a:pt x="21600" y="0"/>
                </a:moveTo>
                <a:lnTo>
                  <a:pt x="21600" y="23047"/>
                </a:lnTo>
                <a:lnTo>
                  <a:pt x="20200" y="21647"/>
                </a:lnTo>
                <a:lnTo>
                  <a:pt x="20200" y="1400"/>
                </a:lnTo>
                <a:close/>
              </a:path>
              <a:path fill="darkenLess" w="21600" h="23047">
                <a:moveTo>
                  <a:pt x="21600" y="23047"/>
                </a:moveTo>
                <a:lnTo>
                  <a:pt x="0" y="23047"/>
                </a:lnTo>
                <a:lnTo>
                  <a:pt x="1400" y="21647"/>
                </a:lnTo>
                <a:lnTo>
                  <a:pt x="20200" y="21647"/>
                </a:lnTo>
                <a:close/>
              </a:path>
              <a:path fill="lighten" w="21600" h="23047">
                <a:moveTo>
                  <a:pt x="0" y="23047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47"/>
                </a:lnTo>
                <a:close/>
              </a:path>
              <a:path fill="darken" w="21600" h="23047">
                <a:moveTo>
                  <a:pt x="3794" y="4517"/>
                </a:moveTo>
                <a:lnTo>
                  <a:pt x="17806" y="11523"/>
                </a:lnTo>
                <a:lnTo>
                  <a:pt x="3794" y="1853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7"/>
          <p:cNvSpPr/>
          <p:nvPr/>
        </p:nvSpPr>
        <p:spPr>
          <a:xfrm>
            <a:off x="87480" y="0"/>
            <a:ext cx="858816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Задание 3 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Какие народы населяют Зарубежную Европу, какие религии они проповедуют?  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В каких частях Европы преобладает католицизм, в 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каких протестантство, православие?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3. Приведите примеры стран Европы население которых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  исповедует протестантство, католицизм, православие</a:t>
            </a:r>
            <a:br>
              <a:rPr sz="1700"/>
            </a:b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ак, например, при обобщении знаний по теме «Зарубежная Европа» провожу контроль знаний в форме тестирования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Объект 7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3996000" cy="2901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4211280" y="1412640"/>
            <a:ext cx="49323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современных педагогических технологий, позволяет достичь эффективных результатов, соответствующих стандартам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ждый урок – это четко организованный учебный процесс, на котором поставлены цели и задачи, используются различные формы и методы обучения, осуществляется диагностика. Часто использую тесты, при обобщении знаний по разным темам в 6 – 11 класс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CAB5-D96B-4E14-8427-A1E22B6D092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0" y="5373720"/>
            <a:ext cx="34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ы или в печатной форме или в электронной – в форме презент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D8032-D0B3-4879-92CC-9B434E61EC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"/>
          <p:cNvSpPr/>
          <p:nvPr/>
        </p:nvSpPr>
        <p:spPr>
          <a:xfrm>
            <a:off x="142920" y="76320"/>
            <a:ext cx="814392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рь себя. Тес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"/>
          <p:cNvSpPr/>
          <p:nvPr/>
        </p:nvSpPr>
        <p:spPr>
          <a:xfrm>
            <a:off x="135000" y="380880"/>
            <a:ext cx="815184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амое крупное по площади государство Европейского Сою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Швеция;  2) Украина;  3) Франция;  4)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2920" y="1066680"/>
            <a:ext cx="8143920" cy="6426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акое из перечисленных государств Европы не входит в НА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Польша;  2) Греция;  3) Исландия;  4) Швейцария;  5) Чех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2920" y="1752480"/>
            <a:ext cx="8143920" cy="642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ое из перечисленных государств не является федерац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Бельгия;  2) Австрия;  3) Франция;  4) Сербия и Черног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42920" y="2438280"/>
            <a:ext cx="814392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Численность населения Евро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280 млн.;   2) 810 млн.;   3) 510 млн.;   4) 330 мл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128520" y="3124080"/>
            <a:ext cx="815832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Для городских поселений Европы характ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ложная урбанизация;  2) отток населения в пригород;  3) бур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исленности населения;  4) бурный рост численности сельских жител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22400" y="4127400"/>
            <a:ext cx="8250120" cy="13899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6. Для Европы характерна следующая демографическая ситуац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1) высокий уровень рождаемости;  2) преобладание пожилых люде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3) высокий уровень квалификации населения;  4) низкий уровень безработицы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5) рост числа трудовых иммигрантов;  6) высокая продолжительность жиз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7) суженное воспроизводство;  8) депопуля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42920" y="5589720"/>
            <a:ext cx="814392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Сопоставьте районы Европы и преобладающие в них рели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) Северная Европа                                    А) правосла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) Восточная Европа                                  Б) протестантст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) Средняя и Южная Европа                    В) католиц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0">
            <a:hlinkClick r:id="" action="ppaction://hlinkshowjump?jump=nextslide"/>
          </p:cNvPr>
          <p:cNvSpPr/>
          <p:nvPr/>
        </p:nvSpPr>
        <p:spPr>
          <a:xfrm>
            <a:off x="8083440" y="5734080"/>
            <a:ext cx="978120" cy="1042920"/>
          </a:xfrm>
          <a:custGeom>
            <a:avLst/>
            <a:gdLst>
              <a:gd name="textAreaLeft" fmla="*/ 63360 w 978120"/>
              <a:gd name="textAreaRight" fmla="*/ 914760 w 978120"/>
              <a:gd name="textAreaTop" fmla="*/ 63360 h 1042920"/>
              <a:gd name="textAreaBottom" fmla="*/ 979560 h 1042920"/>
            </a:gdLst>
            <a:ahLst/>
            <a:rect l="textAreaLeft" t="textAreaTop" r="textAreaRight" b="textAreaBottom"/>
            <a:pathLst>
              <a:path w="21600" h="23030">
                <a:moveTo>
                  <a:pt x="0" y="0"/>
                </a:moveTo>
                <a:lnTo>
                  <a:pt x="21600" y="0"/>
                </a:lnTo>
                <a:lnTo>
                  <a:pt x="21600" y="23030"/>
                </a:lnTo>
                <a:lnTo>
                  <a:pt x="0" y="23030"/>
                </a:lnTo>
                <a:close/>
              </a:path>
              <a:path fill="lightenLess" w="21600" h="2303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030">
                <a:moveTo>
                  <a:pt x="21600" y="0"/>
                </a:moveTo>
                <a:lnTo>
                  <a:pt x="21600" y="23030"/>
                </a:lnTo>
                <a:lnTo>
                  <a:pt x="20200" y="21630"/>
                </a:lnTo>
                <a:lnTo>
                  <a:pt x="20200" y="1400"/>
                </a:lnTo>
                <a:close/>
              </a:path>
              <a:path fill="darkenLess" w="21600" h="23030">
                <a:moveTo>
                  <a:pt x="21600" y="23030"/>
                </a:moveTo>
                <a:lnTo>
                  <a:pt x="0" y="23030"/>
                </a:lnTo>
                <a:lnTo>
                  <a:pt x="1400" y="21630"/>
                </a:lnTo>
                <a:lnTo>
                  <a:pt x="20200" y="21630"/>
                </a:lnTo>
                <a:close/>
              </a:path>
              <a:path fill="lighten" w="21600" h="23030">
                <a:moveTo>
                  <a:pt x="0" y="2303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630"/>
                </a:lnTo>
                <a:close/>
              </a:path>
              <a:path fill="darken" w="21600" h="23030">
                <a:moveTo>
                  <a:pt x="3794" y="4509"/>
                </a:moveTo>
                <a:lnTo>
                  <a:pt x="17806" y="11515"/>
                </a:lnTo>
                <a:lnTo>
                  <a:pt x="3794" y="1852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951F0-3B7F-44FE-804F-78439C25A5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"/>
          <p:cNvSpPr/>
          <p:nvPr/>
        </p:nvSpPr>
        <p:spPr>
          <a:xfrm>
            <a:off x="142920" y="76320"/>
            <a:ext cx="8143920" cy="307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тв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5000" y="380880"/>
            <a:ext cx="8151840" cy="642600"/>
          </a:xfrm>
          <a:prstGeom prst="rect">
            <a:avLst/>
          </a:prstGeom>
          <a:solidFill>
            <a:srgbClr val="ffcc99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Самое крупное по площади государство Европейского Союз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Швеция;  2) Украина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3) Франция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42920" y="1066680"/>
            <a:ext cx="8143920" cy="642600"/>
          </a:xfrm>
          <a:prstGeom prst="rect">
            <a:avLst/>
          </a:prstGeom>
          <a:solidFill>
            <a:srgbClr val="cc99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Какое из перечисленных государств Европы не входит в НА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Польша;  2) Греция;  3) Исланд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4) Швейцария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5) Чехия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142920" y="1752480"/>
            <a:ext cx="8143920" cy="642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Какое из перечисленных государств не является федерац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Бельгия;  2) Австр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3) Франция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Сербия и Черного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2920" y="2438280"/>
            <a:ext cx="8143920" cy="642600"/>
          </a:xfrm>
          <a:prstGeom prst="rect">
            <a:avLst/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Численность населения Европ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280 млн.;   2) 810 млн.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3) 510 млн.;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330 млн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128520" y="3124080"/>
            <a:ext cx="8158320" cy="91692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Для городских поселений Европы характер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1) ложная урбанизац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2) отток населения в пригород;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3) бур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численности населения;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4) бурный рост численности сельских жителе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22400" y="4127400"/>
            <a:ext cx="8250480" cy="13899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6. Для Европы характерна следующая демографическая ситуация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1) высокий уровень рождаемости;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2) преобладание пожилых люде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3) высокий уровень квалификации населения;  </a:t>
            </a:r>
            <a:r>
              <a:rPr b="1" lang="ru-RU" sz="1700" spc="-1" strike="noStrike">
                <a:solidFill>
                  <a:srgbClr val="ffffff"/>
                </a:solidFill>
                <a:latin typeface="Times New Roman"/>
              </a:rPr>
              <a:t>4) низкий уровень безработицы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5) рост числа трудовых иммигрантов;  6) высокая продолжительность жизн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7) суженное воспроизводство;  8) депопуляц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142920" y="5589720"/>
            <a:ext cx="8143920" cy="1191240"/>
          </a:xfrm>
          <a:prstGeom prst="rect">
            <a:avLst/>
          </a:prstGeom>
          <a:solidFill>
            <a:srgbClr val="ff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. Сопоставьте районы Европы и преобладающие в них религ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1) Северная Европа                                    Б) протестант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</a:rPr>
              <a:t>2) Восточная Европа                                  А) православ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8000"/>
                </a:solidFill>
                <a:latin typeface="Times New Roman"/>
              </a:rPr>
              <a:t>3) Средняя и Южная Европа                    В) католиц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1280" y="-387360"/>
            <a:ext cx="7632720" cy="3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Ответы тес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54A3-D125-4075-8EDF-24D522F5903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Активизация познавательной деятельности учащихся на уроках географ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Учение должно быть с увлечением , требовательность без принуждени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н Амос Каменский рассматривал школу как источник радости, света и знания, считал интерес одним из гла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утей создания светлой и радостной обстановки об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Д.Ушинский  в интересе видел успех обуч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лавной составляющей в учебном процессе является ур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урок –это минуты непрерывного поиска, интеллектуального напряжения,  человеческого общения, , исследования и сотворчества со стороны учителя и учен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дним из главных направлений развития  средней школы является повышение качества образования , создание условий для развития личности каждого ученика через совершенствование системы преподава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5A55-C6B6-46D5-98D3-5EFB1235F5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11280" y="691920"/>
            <a:ext cx="8208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протяжении 3 лет, я работаю над темой  «Активизация познавательной деятельности учащихся на уроках географ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лагодаря использованию различных форм и методов обучения сложилась система  работы, направленная на повышение активности  познавательной деятельности учащихся на уроках географии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стоинством системы является повышение интереса к предмету, повышение качества знаний учащихся по географии, воспитания любви к Родине. Добиваясь этого, использую разнообразные формы и методы работы, развивающие познавательный интерес на различных этапах уро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омер слайда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F59D-0F1A-4BE1-8514-7D5A01988A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82000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99"/>
                </a:solidFill>
                <a:latin typeface="Arial"/>
              </a:rPr>
              <a:t>Так, например на уроках географии в 7 классе при изучении темы «Рельеф» часто использую схемы, требующие логического мышления.</a:t>
            </a:r>
            <a:br>
              <a:rPr sz="2000"/>
            </a:br>
            <a:br>
              <a:rPr sz="2000"/>
            </a:br>
            <a:r>
              <a:rPr b="1" i="1" lang="ru-RU" sz="1800" spc="-1" strike="noStrike">
                <a:solidFill>
                  <a:srgbClr val="a50021"/>
                </a:solidFill>
                <a:latin typeface="Arial"/>
              </a:rPr>
              <a:t>При каких условиях происходит формирование гор?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При каких условиях происходит формирование равнин ?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Какие формы рельефа приурочены к сейсмическим поясам земли, 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а какие соответствуют платформам?</a:t>
            </a:r>
            <a:r>
              <a:rPr b="0" lang="ru-RU" sz="20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000" y="2276640"/>
            <a:ext cx="81356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оры  ?                         Равнины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олкновение плит            Устойчивые участ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ейсмические пояса                             Платфор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агматические                              Осадочны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лезные ископаемы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5"/>
          <p:cNvSpPr/>
          <p:nvPr/>
        </p:nvSpPr>
        <p:spPr>
          <a:xfrm>
            <a:off x="6372360" y="3645000"/>
            <a:ext cx="0" cy="10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6"/>
          <p:cNvSpPr/>
          <p:nvPr/>
        </p:nvSpPr>
        <p:spPr>
          <a:xfrm>
            <a:off x="3348000" y="3860640"/>
            <a:ext cx="0" cy="936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7"/>
          <p:cNvSpPr/>
          <p:nvPr/>
        </p:nvSpPr>
        <p:spPr>
          <a:xfrm>
            <a:off x="3419640" y="501336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6372360" y="5084640"/>
            <a:ext cx="0" cy="1008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На уроке в 7 кла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Объект 7" descr=""/>
          <p:cNvPicPr/>
          <p:nvPr/>
        </p:nvPicPr>
        <p:blipFill>
          <a:blip r:embed="rId1"/>
          <a:stretch/>
        </p:blipFill>
        <p:spPr>
          <a:xfrm>
            <a:off x="0" y="2997360"/>
            <a:ext cx="4192560" cy="3744720"/>
          </a:xfrm>
          <a:prstGeom prst="rect">
            <a:avLst/>
          </a:prstGeom>
          <a:ln w="0">
            <a:noFill/>
          </a:ln>
        </p:spPr>
      </p:pic>
      <p:pic>
        <p:nvPicPr>
          <p:cNvPr id="66" name="Объект 8" descr=""/>
          <p:cNvPicPr/>
          <p:nvPr/>
        </p:nvPicPr>
        <p:blipFill>
          <a:blip r:embed="rId2"/>
          <a:stretch/>
        </p:blipFill>
        <p:spPr>
          <a:xfrm>
            <a:off x="4500720" y="1413000"/>
            <a:ext cx="4535280" cy="338436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CD48A-542A-43DF-8E84-D2D5D40D67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4211640" y="4724280"/>
            <a:ext cx="49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 содержит разные варианты. По количеству обучающихся в классе. (1,2,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324000" y="1125360"/>
            <a:ext cx="381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верка д-з и для закрепления 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CB31-5D1D-4326-81EA-0535EE6F97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-36360" y="6380280"/>
            <a:ext cx="9151920" cy="528480"/>
          </a:xfrm>
          <a:custGeom>
            <a:avLst/>
            <a:gdLst>
              <a:gd name="textAreaLeft" fmla="*/ 0 w 9151920"/>
              <a:gd name="textAreaRight" fmla="*/ 9152280 w 9151920"/>
              <a:gd name="textAreaTop" fmla="*/ 0 h 528480"/>
              <a:gd name="textAreaBottom" fmla="*/ 528840 h 528480"/>
            </a:gdLst>
            <a:ahLst/>
            <a:rect l="textAreaLeft" t="textAreaTop" r="textAreaRight" b="textAreaBottom"/>
            <a:pathLst>
              <a:path w="5765" h="333">
                <a:moveTo>
                  <a:pt x="14" y="46"/>
                </a:moveTo>
                <a:cubicBezTo>
                  <a:pt x="316" y="0"/>
                  <a:pt x="830" y="59"/>
                  <a:pt x="1788" y="59"/>
                </a:cubicBezTo>
                <a:cubicBezTo>
                  <a:pt x="2097" y="57"/>
                  <a:pt x="1849" y="36"/>
                  <a:pt x="1870" y="31"/>
                </a:cubicBezTo>
                <a:cubicBezTo>
                  <a:pt x="1891" y="26"/>
                  <a:pt x="1892" y="28"/>
                  <a:pt x="1916" y="31"/>
                </a:cubicBezTo>
                <a:cubicBezTo>
                  <a:pt x="1940" y="34"/>
                  <a:pt x="2005" y="47"/>
                  <a:pt x="2016" y="50"/>
                </a:cubicBezTo>
                <a:cubicBezTo>
                  <a:pt x="2027" y="53"/>
                  <a:pt x="1916" y="47"/>
                  <a:pt x="1980" y="50"/>
                </a:cubicBezTo>
                <a:cubicBezTo>
                  <a:pt x="2044" y="53"/>
                  <a:pt x="1769" y="69"/>
                  <a:pt x="2400" y="68"/>
                </a:cubicBezTo>
                <a:cubicBezTo>
                  <a:pt x="3031" y="67"/>
                  <a:pt x="5205" y="2"/>
                  <a:pt x="5765" y="46"/>
                </a:cubicBezTo>
                <a:lnTo>
                  <a:pt x="5761" y="333"/>
                </a:lnTo>
                <a:lnTo>
                  <a:pt x="0" y="333"/>
                </a:lnTo>
                <a:lnTo>
                  <a:pt x="14" y="4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-36360" y="6021360"/>
            <a:ext cx="9216720" cy="455760"/>
          </a:xfrm>
          <a:custGeom>
            <a:avLst/>
            <a:gdLst>
              <a:gd name="textAreaLeft" fmla="*/ 0 w 9216720"/>
              <a:gd name="textAreaRight" fmla="*/ 9217080 w 921672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5765" h="287">
                <a:moveTo>
                  <a:pt x="14" y="0"/>
                </a:moveTo>
                <a:cubicBezTo>
                  <a:pt x="1930" y="26"/>
                  <a:pt x="3848" y="0"/>
                  <a:pt x="5765" y="0"/>
                </a:cubicBezTo>
                <a:lnTo>
                  <a:pt x="5761" y="287"/>
                </a:lnTo>
                <a:lnTo>
                  <a:pt x="0" y="287"/>
                </a:lnTo>
                <a:lnTo>
                  <a:pt x="14" y="0"/>
                </a:lnTo>
                <a:close/>
              </a:path>
            </a:pathLst>
          </a:custGeom>
          <a:solidFill>
            <a:srgbClr val="3366ff">
              <a:alpha val="74000"/>
            </a:srgbClr>
          </a:solidFill>
          <a:ln w="9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4"/>
          <p:cNvSpPr/>
          <p:nvPr/>
        </p:nvSpPr>
        <p:spPr>
          <a:xfrm>
            <a:off x="-36360" y="6237360"/>
            <a:ext cx="2340000" cy="287280"/>
          </a:xfrm>
          <a:custGeom>
            <a:avLst/>
            <a:gdLst>
              <a:gd name="textAreaLeft" fmla="*/ 0 w 2340000"/>
              <a:gd name="textAreaRight" fmla="*/ 2340360 w 23400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99" h="158">
                <a:moveTo>
                  <a:pt x="4" y="0"/>
                </a:moveTo>
                <a:lnTo>
                  <a:pt x="2089" y="12"/>
                </a:lnTo>
                <a:lnTo>
                  <a:pt x="2152" y="64"/>
                </a:lnTo>
                <a:lnTo>
                  <a:pt x="2199" y="158"/>
                </a:lnTo>
                <a:lnTo>
                  <a:pt x="0" y="142"/>
                </a:lnTo>
                <a:lnTo>
                  <a:pt x="4" y="0"/>
                </a:lnTo>
                <a:close/>
              </a:path>
            </a:pathLst>
          </a:custGeom>
          <a:solidFill>
            <a:srgbClr val="993300">
              <a:alpha val="71000"/>
            </a:srgbClr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5"/>
          <p:cNvSpPr/>
          <p:nvPr/>
        </p:nvSpPr>
        <p:spPr>
          <a:xfrm>
            <a:off x="2268360" y="5589720"/>
            <a:ext cx="6894720" cy="928440"/>
          </a:xfrm>
          <a:custGeom>
            <a:avLst/>
            <a:gdLst>
              <a:gd name="textAreaLeft" fmla="*/ 0 w 6894720"/>
              <a:gd name="textAreaRight" fmla="*/ 6895080 w 6894720"/>
              <a:gd name="textAreaTop" fmla="*/ 0 h 928440"/>
              <a:gd name="textAreaBottom" fmla="*/ 928800 h 928440"/>
            </a:gdLst>
            <a:ahLst/>
            <a:rect l="textAreaLeft" t="textAreaTop" r="textAreaRight" b="textAreaBottom"/>
            <a:pathLst>
              <a:path w="4343" h="585">
                <a:moveTo>
                  <a:pt x="353" y="182"/>
                </a:moveTo>
                <a:cubicBezTo>
                  <a:pt x="331" y="210"/>
                  <a:pt x="187" y="274"/>
                  <a:pt x="166" y="301"/>
                </a:cubicBezTo>
                <a:cubicBezTo>
                  <a:pt x="151" y="344"/>
                  <a:pt x="84" y="331"/>
                  <a:pt x="67" y="374"/>
                </a:cubicBezTo>
                <a:cubicBezTo>
                  <a:pt x="60" y="392"/>
                  <a:pt x="46" y="429"/>
                  <a:pt x="46" y="429"/>
                </a:cubicBezTo>
                <a:cubicBezTo>
                  <a:pt x="40" y="460"/>
                  <a:pt x="0" y="585"/>
                  <a:pt x="56" y="585"/>
                </a:cubicBezTo>
                <a:lnTo>
                  <a:pt x="4343" y="585"/>
                </a:lnTo>
                <a:lnTo>
                  <a:pt x="4230" y="429"/>
                </a:lnTo>
                <a:lnTo>
                  <a:pt x="4066" y="273"/>
                </a:lnTo>
                <a:lnTo>
                  <a:pt x="3878" y="246"/>
                </a:lnTo>
                <a:lnTo>
                  <a:pt x="3812" y="154"/>
                </a:lnTo>
                <a:lnTo>
                  <a:pt x="3725" y="63"/>
                </a:lnTo>
                <a:lnTo>
                  <a:pt x="3590" y="0"/>
                </a:lnTo>
                <a:lnTo>
                  <a:pt x="3392" y="173"/>
                </a:lnTo>
                <a:lnTo>
                  <a:pt x="2814" y="264"/>
                </a:lnTo>
                <a:lnTo>
                  <a:pt x="1582" y="265"/>
                </a:lnTo>
                <a:lnTo>
                  <a:pt x="353" y="182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6"/>
          <p:cNvSpPr/>
          <p:nvPr/>
        </p:nvSpPr>
        <p:spPr>
          <a:xfrm>
            <a:off x="-36360" y="6669000"/>
            <a:ext cx="1800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7"/>
          <p:cNvSpPr/>
          <p:nvPr/>
        </p:nvSpPr>
        <p:spPr>
          <a:xfrm flipH="1">
            <a:off x="3347640" y="6669000"/>
            <a:ext cx="180036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9"/>
          <p:cNvSpPr/>
          <p:nvPr/>
        </p:nvSpPr>
        <p:spPr>
          <a:xfrm flipV="1">
            <a:off x="2916360" y="6021360"/>
            <a:ext cx="0" cy="43200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11"/>
          <p:cNvSpPr/>
          <p:nvPr/>
        </p:nvSpPr>
        <p:spPr>
          <a:xfrm>
            <a:off x="2268360" y="4557600"/>
            <a:ext cx="6894720" cy="1908360"/>
          </a:xfrm>
          <a:custGeom>
            <a:avLst/>
            <a:gdLst>
              <a:gd name="textAreaLeft" fmla="*/ 0 w 6894720"/>
              <a:gd name="textAreaRight" fmla="*/ 6895080 w 6894720"/>
              <a:gd name="textAreaTop" fmla="*/ 0 h 1908360"/>
              <a:gd name="textAreaBottom" fmla="*/ 1908720 h 1908360"/>
            </a:gdLst>
            <a:ahLst/>
            <a:rect l="textAreaLeft" t="textAreaTop" r="textAreaRight" b="textAreaBottom"/>
            <a:pathLst>
              <a:path w="4343" h="1202">
                <a:moveTo>
                  <a:pt x="491" y="370"/>
                </a:moveTo>
                <a:cubicBezTo>
                  <a:pt x="457" y="322"/>
                  <a:pt x="417" y="0"/>
                  <a:pt x="363" y="91"/>
                </a:cubicBezTo>
                <a:cubicBezTo>
                  <a:pt x="309" y="182"/>
                  <a:pt x="215" y="768"/>
                  <a:pt x="166" y="918"/>
                </a:cubicBezTo>
                <a:cubicBezTo>
                  <a:pt x="151" y="961"/>
                  <a:pt x="84" y="948"/>
                  <a:pt x="67" y="991"/>
                </a:cubicBezTo>
                <a:cubicBezTo>
                  <a:pt x="60" y="1009"/>
                  <a:pt x="46" y="1046"/>
                  <a:pt x="46" y="1046"/>
                </a:cubicBezTo>
                <a:cubicBezTo>
                  <a:pt x="40" y="1077"/>
                  <a:pt x="0" y="1202"/>
                  <a:pt x="56" y="1202"/>
                </a:cubicBezTo>
                <a:lnTo>
                  <a:pt x="4343" y="1202"/>
                </a:lnTo>
                <a:lnTo>
                  <a:pt x="4230" y="1051"/>
                </a:lnTo>
                <a:lnTo>
                  <a:pt x="4185" y="1006"/>
                </a:lnTo>
                <a:lnTo>
                  <a:pt x="4066" y="890"/>
                </a:lnTo>
                <a:lnTo>
                  <a:pt x="3878" y="863"/>
                </a:lnTo>
                <a:lnTo>
                  <a:pt x="3801" y="841"/>
                </a:lnTo>
                <a:lnTo>
                  <a:pt x="3709" y="795"/>
                </a:lnTo>
                <a:lnTo>
                  <a:pt x="3590" y="777"/>
                </a:lnTo>
                <a:lnTo>
                  <a:pt x="3392" y="790"/>
                </a:lnTo>
                <a:lnTo>
                  <a:pt x="2814" y="881"/>
                </a:lnTo>
                <a:lnTo>
                  <a:pt x="1582" y="882"/>
                </a:lnTo>
                <a:lnTo>
                  <a:pt x="710" y="863"/>
                </a:lnTo>
                <a:lnTo>
                  <a:pt x="582" y="256"/>
                </a:lnTo>
                <a:lnTo>
                  <a:pt x="518" y="274"/>
                </a:lnTo>
                <a:lnTo>
                  <a:pt x="491" y="37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12"/>
          <p:cNvSpPr/>
          <p:nvPr/>
        </p:nvSpPr>
        <p:spPr>
          <a:xfrm>
            <a:off x="-36360" y="5805360"/>
            <a:ext cx="9151920" cy="1122480"/>
          </a:xfrm>
          <a:custGeom>
            <a:avLst/>
            <a:gdLst>
              <a:gd name="textAreaLeft" fmla="*/ 0 w 9151920"/>
              <a:gd name="textAreaRight" fmla="*/ 9152280 w 9151920"/>
              <a:gd name="textAreaTop" fmla="*/ 0 h 1122480"/>
              <a:gd name="textAreaBottom" fmla="*/ 1122840 h 1122480"/>
            </a:gdLst>
            <a:ahLst/>
            <a:rect l="textAreaLeft" t="textAreaTop" r="textAreaRight" b="textAreaBottom"/>
            <a:pathLst>
              <a:path w="5765" h="707">
                <a:moveTo>
                  <a:pt x="14" y="420"/>
                </a:moveTo>
                <a:cubicBezTo>
                  <a:pt x="316" y="374"/>
                  <a:pt x="830" y="433"/>
                  <a:pt x="1788" y="433"/>
                </a:cubicBezTo>
                <a:cubicBezTo>
                  <a:pt x="2097" y="431"/>
                  <a:pt x="1858" y="477"/>
                  <a:pt x="1870" y="405"/>
                </a:cubicBezTo>
                <a:cubicBezTo>
                  <a:pt x="1882" y="333"/>
                  <a:pt x="1837" y="0"/>
                  <a:pt x="1861" y="3"/>
                </a:cubicBezTo>
                <a:cubicBezTo>
                  <a:pt x="1885" y="6"/>
                  <a:pt x="1996" y="354"/>
                  <a:pt x="2016" y="424"/>
                </a:cubicBezTo>
                <a:cubicBezTo>
                  <a:pt x="2036" y="494"/>
                  <a:pt x="1916" y="421"/>
                  <a:pt x="1980" y="424"/>
                </a:cubicBezTo>
                <a:cubicBezTo>
                  <a:pt x="2044" y="427"/>
                  <a:pt x="1769" y="443"/>
                  <a:pt x="2400" y="442"/>
                </a:cubicBezTo>
                <a:cubicBezTo>
                  <a:pt x="3031" y="441"/>
                  <a:pt x="5205" y="376"/>
                  <a:pt x="5765" y="420"/>
                </a:cubicBezTo>
                <a:lnTo>
                  <a:pt x="5761" y="707"/>
                </a:lnTo>
                <a:lnTo>
                  <a:pt x="0" y="707"/>
                </a:lnTo>
                <a:lnTo>
                  <a:pt x="14" y="42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8"/>
          <p:cNvSpPr/>
          <p:nvPr/>
        </p:nvSpPr>
        <p:spPr>
          <a:xfrm>
            <a:off x="0" y="6302520"/>
            <a:ext cx="2590920" cy="555480"/>
          </a:xfrm>
          <a:custGeom>
            <a:avLst/>
            <a:gdLst/>
            <a:ahLst/>
            <a:rect l="l" t="t" r="r" b="b"/>
            <a:pathLst>
              <a:path w="1632" h="350">
                <a:moveTo>
                  <a:pt x="3" y="0"/>
                </a:moveTo>
                <a:lnTo>
                  <a:pt x="1400" y="14"/>
                </a:lnTo>
                <a:lnTo>
                  <a:pt x="1442" y="73"/>
                </a:lnTo>
                <a:lnTo>
                  <a:pt x="1522" y="194"/>
                </a:lnTo>
                <a:lnTo>
                  <a:pt x="1632" y="204"/>
                </a:lnTo>
                <a:lnTo>
                  <a:pt x="1623" y="332"/>
                </a:lnTo>
                <a:lnTo>
                  <a:pt x="1532" y="350"/>
                </a:lnTo>
                <a:lnTo>
                  <a:pt x="1285" y="185"/>
                </a:lnTo>
                <a:lnTo>
                  <a:pt x="0" y="163"/>
                </a:lnTo>
                <a:lnTo>
                  <a:pt x="3" y="0"/>
                </a:lnTo>
                <a:close/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3"/>
          <p:cNvSpPr/>
          <p:nvPr/>
        </p:nvSpPr>
        <p:spPr>
          <a:xfrm>
            <a:off x="250920" y="6308640"/>
            <a:ext cx="186984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2"/>
          <p:cNvSpPr/>
          <p:nvPr/>
        </p:nvSpPr>
        <p:spPr>
          <a:xfrm>
            <a:off x="4067280" y="350028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НЕДРЕНИЕ МАГ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3"/>
          <p:cNvSpPr/>
          <p:nvPr/>
        </p:nvSpPr>
        <p:spPr>
          <a:xfrm>
            <a:off x="324000" y="0"/>
            <a:ext cx="856908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При изучении темы «Рельеф Северной Америки» рассматриваются тектонические движения земной коры с которыми связано образование гор – Кордильеры,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Скалистых гор,  а также гор вулканического происхожде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a50021"/>
                </a:solidFill>
                <a:uFillTx/>
                <a:latin typeface="Arial"/>
              </a:rPr>
              <a:t>Учащимся предлагается сопоставить схему, физическую и тектоническую карты и сделать вывод о рельефе Северной Амер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0" y="378936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ВУЛК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5"/>
          <p:cNvSpPr/>
          <p:nvPr/>
        </p:nvSpPr>
        <p:spPr>
          <a:xfrm>
            <a:off x="250920" y="285264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ГО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5"/>
          <p:cNvSpPr/>
          <p:nvPr/>
        </p:nvSpPr>
        <p:spPr>
          <a:xfrm>
            <a:off x="2268360" y="4076640"/>
            <a:ext cx="3768840" cy="2303640"/>
          </a:xfrm>
          <a:custGeom>
            <a:avLst/>
            <a:gdLst>
              <a:gd name="textAreaLeft" fmla="*/ 0 w 3768840"/>
              <a:gd name="textAreaRight" fmla="*/ 3769200 w 3768840"/>
              <a:gd name="textAreaTop" fmla="*/ 0 h 2303640"/>
              <a:gd name="textAreaBottom" fmla="*/ 2304000 h 2303640"/>
            </a:gdLst>
            <a:ahLst/>
            <a:rect l="textAreaLeft" t="textAreaTop" r="textAreaRight" b="textAreaBottom"/>
            <a:pathLst>
              <a:path w="2374" h="1451">
                <a:moveTo>
                  <a:pt x="489" y="557"/>
                </a:moveTo>
                <a:cubicBezTo>
                  <a:pt x="456" y="505"/>
                  <a:pt x="430" y="0"/>
                  <a:pt x="375" y="98"/>
                </a:cubicBezTo>
                <a:cubicBezTo>
                  <a:pt x="340" y="116"/>
                  <a:pt x="307" y="592"/>
                  <a:pt x="278" y="665"/>
                </a:cubicBezTo>
                <a:cubicBezTo>
                  <a:pt x="250" y="737"/>
                  <a:pt x="225" y="455"/>
                  <a:pt x="200" y="537"/>
                </a:cubicBezTo>
                <a:cubicBezTo>
                  <a:pt x="175" y="619"/>
                  <a:pt x="152" y="1042"/>
                  <a:pt x="130" y="1157"/>
                </a:cubicBezTo>
                <a:cubicBezTo>
                  <a:pt x="113" y="1204"/>
                  <a:pt x="83" y="1178"/>
                  <a:pt x="66" y="1224"/>
                </a:cubicBezTo>
                <a:cubicBezTo>
                  <a:pt x="59" y="1243"/>
                  <a:pt x="46" y="1283"/>
                  <a:pt x="46" y="1283"/>
                </a:cubicBezTo>
                <a:cubicBezTo>
                  <a:pt x="39" y="1317"/>
                  <a:pt x="0" y="1451"/>
                  <a:pt x="56" y="1451"/>
                </a:cubicBezTo>
                <a:lnTo>
                  <a:pt x="2329" y="1425"/>
                </a:lnTo>
                <a:lnTo>
                  <a:pt x="2365" y="1425"/>
                </a:lnTo>
                <a:lnTo>
                  <a:pt x="2347" y="1434"/>
                </a:lnTo>
                <a:lnTo>
                  <a:pt x="2347" y="1397"/>
                </a:lnTo>
                <a:lnTo>
                  <a:pt x="2329" y="1416"/>
                </a:lnTo>
                <a:lnTo>
                  <a:pt x="2356" y="1406"/>
                </a:lnTo>
                <a:lnTo>
                  <a:pt x="2374" y="1416"/>
                </a:lnTo>
                <a:lnTo>
                  <a:pt x="2329" y="1406"/>
                </a:lnTo>
                <a:lnTo>
                  <a:pt x="2338" y="1416"/>
                </a:lnTo>
                <a:lnTo>
                  <a:pt x="2374" y="1416"/>
                </a:lnTo>
                <a:lnTo>
                  <a:pt x="2356" y="1434"/>
                </a:lnTo>
                <a:lnTo>
                  <a:pt x="2347" y="1253"/>
                </a:lnTo>
                <a:lnTo>
                  <a:pt x="1687" y="1112"/>
                </a:lnTo>
                <a:lnTo>
                  <a:pt x="1567" y="1011"/>
                </a:lnTo>
                <a:lnTo>
                  <a:pt x="1301" y="1002"/>
                </a:lnTo>
                <a:lnTo>
                  <a:pt x="1191" y="865"/>
                </a:lnTo>
                <a:lnTo>
                  <a:pt x="957" y="828"/>
                </a:lnTo>
                <a:lnTo>
                  <a:pt x="887" y="737"/>
                </a:lnTo>
                <a:lnTo>
                  <a:pt x="796" y="737"/>
                </a:lnTo>
                <a:lnTo>
                  <a:pt x="649" y="728"/>
                </a:lnTo>
                <a:lnTo>
                  <a:pt x="546" y="303"/>
                </a:lnTo>
                <a:lnTo>
                  <a:pt x="525" y="354"/>
                </a:lnTo>
                <a:lnTo>
                  <a:pt x="500" y="513"/>
                </a:lnTo>
              </a:path>
            </a:pathLst>
          </a:custGeom>
          <a:solidFill>
            <a:srgbClr val="993300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6"/>
          <p:cNvSpPr/>
          <p:nvPr/>
        </p:nvSpPr>
        <p:spPr>
          <a:xfrm>
            <a:off x="-73080" y="4929120"/>
            <a:ext cx="9217080" cy="1928880"/>
          </a:xfrm>
          <a:custGeom>
            <a:avLst/>
            <a:gdLst>
              <a:gd name="textAreaLeft" fmla="*/ 0 w 9217080"/>
              <a:gd name="textAreaRight" fmla="*/ 9217440 w 9217080"/>
              <a:gd name="textAreaTop" fmla="*/ 0 h 1928880"/>
              <a:gd name="textAreaBottom" fmla="*/ 1929240 h 1928880"/>
            </a:gdLst>
            <a:ahLst/>
            <a:rect l="textAreaLeft" t="textAreaTop" r="textAreaRight" b="textAreaBottom"/>
            <a:pathLst>
              <a:path w="5806" h="1215">
                <a:moveTo>
                  <a:pt x="14" y="928"/>
                </a:moveTo>
                <a:cubicBezTo>
                  <a:pt x="318" y="882"/>
                  <a:pt x="1130" y="938"/>
                  <a:pt x="1441" y="938"/>
                </a:cubicBezTo>
                <a:cubicBezTo>
                  <a:pt x="1714" y="940"/>
                  <a:pt x="1608" y="1005"/>
                  <a:pt x="1653" y="938"/>
                </a:cubicBezTo>
                <a:cubicBezTo>
                  <a:pt x="1697" y="871"/>
                  <a:pt x="1707" y="691"/>
                  <a:pt x="1708" y="536"/>
                </a:cubicBezTo>
                <a:cubicBezTo>
                  <a:pt x="1709" y="381"/>
                  <a:pt x="1648" y="0"/>
                  <a:pt x="1662" y="5"/>
                </a:cubicBezTo>
                <a:cubicBezTo>
                  <a:pt x="1676" y="10"/>
                  <a:pt x="1745" y="461"/>
                  <a:pt x="1791" y="563"/>
                </a:cubicBezTo>
                <a:cubicBezTo>
                  <a:pt x="1837" y="665"/>
                  <a:pt x="1898" y="569"/>
                  <a:pt x="1939" y="616"/>
                </a:cubicBezTo>
                <a:cubicBezTo>
                  <a:pt x="1980" y="663"/>
                  <a:pt x="2000" y="795"/>
                  <a:pt x="2039" y="845"/>
                </a:cubicBezTo>
                <a:cubicBezTo>
                  <a:pt x="2078" y="895"/>
                  <a:pt x="2148" y="904"/>
                  <a:pt x="2176" y="918"/>
                </a:cubicBezTo>
                <a:cubicBezTo>
                  <a:pt x="2204" y="932"/>
                  <a:pt x="2184" y="918"/>
                  <a:pt x="2204" y="927"/>
                </a:cubicBezTo>
                <a:cubicBezTo>
                  <a:pt x="2224" y="936"/>
                  <a:pt x="2260" y="969"/>
                  <a:pt x="2295" y="973"/>
                </a:cubicBezTo>
                <a:cubicBezTo>
                  <a:pt x="2330" y="977"/>
                  <a:pt x="1832" y="957"/>
                  <a:pt x="2417" y="950"/>
                </a:cubicBezTo>
                <a:cubicBezTo>
                  <a:pt x="3002" y="943"/>
                  <a:pt x="5242" y="884"/>
                  <a:pt x="5806" y="928"/>
                </a:cubicBezTo>
                <a:lnTo>
                  <a:pt x="5802" y="1215"/>
                </a:lnTo>
                <a:lnTo>
                  <a:pt x="0" y="1215"/>
                </a:lnTo>
                <a:lnTo>
                  <a:pt x="14" y="928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 flipH="1">
            <a:off x="3924360" y="6165720"/>
            <a:ext cx="1800000" cy="0"/>
          </a:xfrm>
          <a:prstGeom prst="line">
            <a:avLst/>
          </a:prstGeom>
          <a:ln w="792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9"/>
          <p:cNvSpPr/>
          <p:nvPr/>
        </p:nvSpPr>
        <p:spPr>
          <a:xfrm>
            <a:off x="1763640" y="4292640"/>
            <a:ext cx="863640" cy="934920"/>
          </a:xfrm>
          <a:prstGeom prst="line">
            <a:avLst/>
          </a:prstGeom>
          <a:ln w="792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7"/>
          <p:cNvSpPr/>
          <p:nvPr/>
        </p:nvSpPr>
        <p:spPr>
          <a:xfrm>
            <a:off x="2050920" y="3429000"/>
            <a:ext cx="935280" cy="1008000"/>
          </a:xfrm>
          <a:prstGeom prst="line">
            <a:avLst/>
          </a:prstGeom>
          <a:ln w="7920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 flipH="1">
            <a:off x="2916000" y="4508640"/>
            <a:ext cx="1655640" cy="1800000"/>
          </a:xfrm>
          <a:prstGeom prst="line">
            <a:avLst/>
          </a:prstGeom>
          <a:ln w="7920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3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5748-D3BF-4899-8B30-2663A2A07C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424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дущей идеей является развитие активной познавательной деятельности через развитие творческого потенциала, исследовательскую, проектную, практическую и самостоятельные виды деятельности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5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ак, например, при изучении темы «Мировой круговорот воды в природе» в 5 классе, учащимся предлагаются творческие задан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1268280"/>
            <a:ext cx="449892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пишите мини-сочинение на тему: «Путешествие капель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ерите стихи которые подходят к теме «Мировой круговорот воды  в природ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Составьте маршрут  вашего «кругосветного путешествия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Объект 7" descr=""/>
          <p:cNvPicPr/>
          <p:nvPr/>
        </p:nvPicPr>
        <p:blipFill>
          <a:blip r:embed="rId1"/>
          <a:stretch/>
        </p:blipFill>
        <p:spPr>
          <a:xfrm>
            <a:off x="4356000" y="1268280"/>
            <a:ext cx="4500720" cy="3961080"/>
          </a:xfrm>
          <a:prstGeom prst="rect">
            <a:avLst/>
          </a:prstGeom>
          <a:ln w="0">
            <a:noFill/>
          </a:ln>
        </p:spPr>
      </p:pic>
      <p:sp>
        <p:nvSpPr>
          <p:cNvPr id="98" name="Номер слайда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8E5EE-3748-41E8-A2CB-9E197AF2F9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4248000" y="544500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ыбор, или индивидуально каждому своё задание. Зависит от уровня подготовки клас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FF92-2163-4BFC-AE43-77434FA2F6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920" y="2276280"/>
            <a:ext cx="8424720" cy="41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пользую практические приемы обучения,  в 6 классе, при изучении темы «Гидросфера», учащимся предлагае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определить географическое положение мор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редиземного и Беринг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Черного и Балтий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Определить расстояние по карте до морей от своего населенного пун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Надписать на контурной карте моря, заливы, проли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 этом учащиеся знакомятся с наиболее яркими страницами в исследовании и открытии морей, океанов, заливов и пролив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13:48Z</dcterms:created>
  <dc:creator>Nikola Soft</dc:creator>
  <dc:description/>
  <dc:language>en-US</dc:language>
  <cp:lastModifiedBy>Елена</cp:lastModifiedBy>
  <dcterms:modified xsi:type="dcterms:W3CDTF">2019-01-12T13:25:31Z</dcterms:modified>
  <cp:revision>63</cp:revision>
  <dc:subject/>
  <dc:title>Активизация познавательной деятельности учащихся на уроках географии.</dc:title>
</cp:coreProperties>
</file>