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D64B-8101-45CF-AA72-814A8DF3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3CA-B6CE-4CC5-8908-26FB2458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BEEB-6BF0-4FB7-975D-45B9A74FB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1DE-2104-41A5-9F32-33F01408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DBAA-6F57-4F09-ABFC-5D4462B9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3F0-0DE2-4B2C-8371-C1EFCA6E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2C67-3BCB-4F19-A94B-ABB0EDD6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E397-D566-4BF9-9516-89B2D0F6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B99F-9326-4F87-9164-7B776B5A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3308-EC63-45D0-8212-8A19BB898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F01A-582E-4124-8D53-0088390B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D386-E212-40C0-94BC-16231885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C2658-EC0C-4155-A489-E5505033E2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118B-F7AE-4EF0-97DA-BD0CAA79D0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68360" y="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Отправимся в путешествие по природным зонам Аф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1484280"/>
            <a:ext cx="44956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Экваториальные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Саванны и редколес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Пустыни и полупусты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211640" y="1125360"/>
            <a:ext cx="4114800" cy="4268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250920" y="558972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 получают возможность совершить индивидуальное путешествие в выбранную природную зону. Смотрю на наполняемость классов и уровень гото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71D7-87AC-43F9-88A6-DA0A354998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Arial"/>
              </a:rPr>
              <a:t>Спасибо за внимание!</a:t>
            </a:r>
            <a:r>
              <a:rPr b="0" lang="ru-RU" sz="45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FD96-AFAE-40D1-BB3A-225AA0845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533520" y="83808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экваториальных лесах живут пигмеи. Они малорослы (150 см.). Цвет кожи темный, губы тонкие, широкий нос, коренастые. Лес для них – дом и источник всего необходимого для существ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pe_54"/>
          <p:cNvPicPr/>
          <p:nvPr/>
        </p:nvPicPr>
        <p:blipFill>
          <a:blip r:embed="rId1"/>
          <a:stretch/>
        </p:blipFill>
        <p:spPr>
          <a:xfrm>
            <a:off x="228600" y="3429000"/>
            <a:ext cx="2743200" cy="246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4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3352680" y="2590920"/>
            <a:ext cx="2627280" cy="385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0"/>
          <p:cNvPicPr/>
          <p:nvPr/>
        </p:nvPicPr>
        <p:blipFill>
          <a:blip r:embed="rId3">
            <a:lum bright="-42000"/>
          </a:blip>
          <a:stretch/>
        </p:blipFill>
        <p:spPr>
          <a:xfrm>
            <a:off x="6095880" y="3733920"/>
            <a:ext cx="28195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4"/>
          <a:stretch/>
        </p:blipFill>
        <p:spPr>
          <a:xfrm>
            <a:off x="19080" y="36360"/>
            <a:ext cx="93330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E9AF-17A9-4F82-9CCD-6973FFD11F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609480" y="11430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836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игде в мире нет такого скопления крупных животных, как в африканской саванне</a:t>
            </a: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57200" y="16765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Антилопы и полосатые зеб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9480" y="2362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жира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590920" y="2362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л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09480" y="4572000"/>
            <a:ext cx="19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Есть и хищники: львы, гепар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ken2"/>
          <p:cNvPicPr/>
          <p:nvPr/>
        </p:nvPicPr>
        <p:blipFill>
          <a:blip r:embed="rId1"/>
          <a:stretch/>
        </p:blipFill>
        <p:spPr>
          <a:xfrm>
            <a:off x="380880" y="2895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savanna2"/>
          <p:cNvPicPr/>
          <p:nvPr/>
        </p:nvPicPr>
        <p:blipFill>
          <a:blip r:embed="rId2"/>
          <a:stretch/>
        </p:blipFill>
        <p:spPr>
          <a:xfrm>
            <a:off x="3124080" y="289548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носорог"/>
          <p:cNvPicPr/>
          <p:nvPr/>
        </p:nvPicPr>
        <p:blipFill>
          <a:blip r:embed="rId3"/>
          <a:stretch/>
        </p:blipFill>
        <p:spPr>
          <a:xfrm>
            <a:off x="6705720" y="4572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зебра"/>
          <p:cNvPicPr/>
          <p:nvPr/>
        </p:nvPicPr>
        <p:blipFill>
          <a:blip r:embed="rId4"/>
          <a:stretch/>
        </p:blipFill>
        <p:spPr>
          <a:xfrm>
            <a:off x="7226280" y="1773360"/>
            <a:ext cx="1917720" cy="2133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диндик"/>
          <p:cNvPicPr/>
          <p:nvPr/>
        </p:nvPicPr>
        <p:blipFill>
          <a:blip r:embed="rId5"/>
          <a:stretch/>
        </p:blipFill>
        <p:spPr>
          <a:xfrm>
            <a:off x="5791320" y="2057400"/>
            <a:ext cx="130176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лев1"/>
          <p:cNvPicPr/>
          <p:nvPr/>
        </p:nvPicPr>
        <p:blipFill>
          <a:blip r:embed="rId6"/>
          <a:stretch/>
        </p:blipFill>
        <p:spPr>
          <a:xfrm>
            <a:off x="4038480" y="4886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лев2"/>
          <p:cNvPicPr/>
          <p:nvPr/>
        </p:nvPicPr>
        <p:blipFill>
          <a:blip r:embed="rId7"/>
          <a:stretch/>
        </p:blipFill>
        <p:spPr>
          <a:xfrm>
            <a:off x="2590920" y="44956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5"/>
          <p:cNvSpPr/>
          <p:nvPr/>
        </p:nvSpPr>
        <p:spPr>
          <a:xfrm>
            <a:off x="6477120" y="3886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нос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6" descr=""/>
          <p:cNvPicPr/>
          <p:nvPr/>
        </p:nvPicPr>
        <p:blipFill>
          <a:blip r:embed="rId8"/>
          <a:stretch/>
        </p:blipFill>
        <p:spPr>
          <a:xfrm>
            <a:off x="3078000" y="-219240"/>
            <a:ext cx="61693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7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with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with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withEffect" fill="hold">
                            <p:stCondLst>
                              <p:cond delay="4825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with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withEffect" fill="hold">
                            <p:stCondLst>
                              <p:cond delay="6425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withEffect" fill="hold">
                            <p:stCondLst>
                              <p:cond delay="6925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with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withEffect" fill="hold">
                            <p:stCondLst>
                              <p:cond delay="8425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2509C-612D-4B85-AA7E-CC43E54901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7 - 11 классах использую элементы – модульного обучения Шамовой Т.И. Определяется тема, мною составляются технологические карты, в которых указываются учебные элементы, используемые на уроке, время, отведенное на каждый элемент, цели, источники информации  и поиск учебного материала, как овладеть учебным материалом, конт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  усвоения  материала может проводиться в форме тестирования, самостоятельных работ, уроков – зачетов, защиты творческих работ Провожу ролевые игры «Урок – суд», уроки  - викторины «Что, где, когда?», конкурсы знатоков географии, гео КВНы,  брейн – ринги. Эти и другие формы работы, применение проблемного обучения способствуют активизации познавательной деятельности учащихся, обогащают, систематизируют, и закрепляют знания, способствуют их осознанному применению, Учащиеся становятся активными, заинтересованными участниками обучения, стремятся к зн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8209F-FBC5-48BB-8305-9DBD418B0A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пример, при изучении темы «Климат» в 7 класс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sp>
        <p:nvSpPr>
          <p:cNvPr id="73" name="Rectangle 5"/>
          <p:cNvSpPr/>
          <p:nvPr/>
        </p:nvSpPr>
        <p:spPr>
          <a:xfrm>
            <a:off x="556920" y="-726480"/>
            <a:ext cx="73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ологическая карта по теме «Климаты Земли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 клас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981000"/>
          <a:ext cx="8964720" cy="6583320"/>
        </p:xfrm>
        <a:graphic>
          <a:graphicData uri="http://schemas.openxmlformats.org/drawingml/2006/table">
            <a:tbl>
              <a:tblPr/>
              <a:tblGrid>
                <a:gridCol w="380880"/>
                <a:gridCol w="1311480"/>
                <a:gridCol w="703080"/>
                <a:gridCol w="1239840"/>
                <a:gridCol w="865440"/>
                <a:gridCol w="3301920"/>
                <a:gridCol w="116208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чебного эле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учебного материа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владеть 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ной У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ить на вопросы  учителя. Ответы записать в тетрад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,Что такое клима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Какова роль атмосферы в формировании жизни Земл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т чего зависит распределение температур на Зем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ак распределяются пояса атмосферного давления на Земле? На что это влияе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чего зависит смена поясов атмосферного давления по сезона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Назовите постоянные вет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ый У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ся с основными климатическими поясами земли и  элементами климата . показать их влияние на  природу  Зем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ть текст. Ответить на вопросы учител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записать в тетрад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зовите основные климатические пояса зем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зовите переходные климатические поя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Какие воздушные массы господствуют в основных и в переходных поясах Земли .Почему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учител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й У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ь знакомство с климатическими поясами Зем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р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ть смену слайдов на эк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ить на вопрос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.Сколько климатических поясов расположено на территории Земл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Чем они отличаю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еречислите климатические пояса, в которых расположен материк Евразия и территория Росс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учител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829B-BDB6-4691-82F8-C49DE91C4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DSC002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" descr=""/>
          <p:cNvPicPr/>
          <p:nvPr/>
        </p:nvPicPr>
        <p:blipFill>
          <a:blip r:embed="rId2"/>
          <a:stretch/>
        </p:blipFill>
        <p:spPr>
          <a:xfrm>
            <a:off x="-85680" y="-171360"/>
            <a:ext cx="9510840" cy="1098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7" descr=""/>
          <p:cNvPicPr/>
          <p:nvPr/>
        </p:nvPicPr>
        <p:blipFill>
          <a:blip r:embed="rId3"/>
          <a:stretch/>
        </p:blipFill>
        <p:spPr>
          <a:xfrm>
            <a:off x="981000" y="5735520"/>
            <a:ext cx="829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07F4-C33A-4E85-BB1F-83EC69E94B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" descr="DSC00253.JPG"/>
          <p:cNvPicPr/>
          <p:nvPr/>
        </p:nvPicPr>
        <p:blipFill>
          <a:blip r:embed="rId1"/>
          <a:stretch/>
        </p:blipFill>
        <p:spPr>
          <a:xfrm>
            <a:off x="3516480" y="2637000"/>
            <a:ext cx="5627520" cy="4221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DSC00254.JPG"/>
          <p:cNvPicPr/>
          <p:nvPr/>
        </p:nvPicPr>
        <p:blipFill>
          <a:blip r:embed="rId2"/>
          <a:stretch/>
        </p:blipFill>
        <p:spPr>
          <a:xfrm>
            <a:off x="0" y="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8285-7904-4692-82B3-68A6D66573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" descr="IMG_20171215_121408.jpg"/>
          <p:cNvPicPr/>
          <p:nvPr/>
        </p:nvPicPr>
        <p:blipFill>
          <a:blip r:embed="rId1"/>
          <a:stretch/>
        </p:blipFill>
        <p:spPr>
          <a:xfrm>
            <a:off x="1979640" y="1268280"/>
            <a:ext cx="7103880" cy="5329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539640" y="189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спользованием цифровых образовательных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: «Население мира. Традиции и обычаи».      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0" y="2276640"/>
            <a:ext cx="19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и проводятся в кабинете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9973-69D4-4C0A-A132-99810D2678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IMG_20171215_1222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684360" y="-2700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пантоми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азить языком мимики и жестов. (время для подготовки 3 мину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другой команды отгадать, что хотела сообщить другая кома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етствие народов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13:48Z</dcterms:created>
  <dc:creator>Nikola Soft</dc:creator>
  <dc:description/>
  <dc:language>en-US</dc:language>
  <cp:lastModifiedBy>Елена</cp:lastModifiedBy>
  <dcterms:modified xsi:type="dcterms:W3CDTF">2019-01-12T13:37:45Z</dcterms:modified>
  <cp:revision>61</cp:revision>
  <dc:subject/>
  <dc:title>Активизация познавательной деятельности учащихся на уроках географии.</dc:title>
</cp:coreProperties>
</file>