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000B-409B-47A7-A803-4B60D4582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C816-E52E-4F25-B7B2-F892D63B6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C04-7CDF-44D3-AFAC-28169D3B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5E29-91EA-4E28-ADA8-5C156BCE4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F25-DFEE-4351-8849-A29C67E3E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7F62-63F0-4C8B-B920-E3E7E6C8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56DF-701E-4963-99A9-063336CC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2CC-2C32-454C-B40A-AC02B3F9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6278-AF62-40BD-B800-805517CF7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E6E4-097C-4D32-8266-8429108E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6067-8A2B-4B63-9D04-34AE7FFE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FAED-0F94-450D-947C-9FAE4468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0A12-0E29-47B0-8BA8-FCC9477695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291E-4315-4D27-930B-559E4F5C73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2"/>
          <p:cNvSpPr/>
          <p:nvPr/>
        </p:nvSpPr>
        <p:spPr>
          <a:xfrm>
            <a:off x="468360" y="0"/>
            <a:ext cx="7467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a50021"/>
                </a:solidFill>
                <a:latin typeface="Times New Roman"/>
              </a:rPr>
              <a:t>Отправимся в путешествие по природным зонам Афр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0" y="1484280"/>
            <a:ext cx="449568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Экваториальные л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Саванны и редколесь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Пустыни и полупусты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9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211640" y="1125360"/>
            <a:ext cx="4114800" cy="4268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6"/>
          <p:cNvSpPr/>
          <p:nvPr/>
        </p:nvSpPr>
        <p:spPr>
          <a:xfrm>
            <a:off x="250920" y="5589720"/>
            <a:ext cx="864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еся получают возможность совершить индивидуальное путешествие в выбранную природную зону. Смотрю на наполняемость классов и уровень готов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24D2-C072-404A-B4D0-35BBA5BC0ED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a50021"/>
                </a:solidFill>
                <a:latin typeface="Arial"/>
              </a:rPr>
              <a:t>Спасибо за внимание!</a:t>
            </a:r>
            <a:r>
              <a:rPr b="0" lang="ru-RU" sz="45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EA65-6237-4AA4-818C-7AE21C008A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2"/>
          <p:cNvSpPr/>
          <p:nvPr/>
        </p:nvSpPr>
        <p:spPr>
          <a:xfrm>
            <a:off x="533520" y="838080"/>
            <a:ext cx="8076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экваториальных лесах живут пигмеи. Они малорослы (150 см.). Цвет кожи темный, губы тонкие, широкий нос, коренастые. Лес для них – дом и источник всего необходимого для существ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pe_54"/>
          <p:cNvPicPr/>
          <p:nvPr/>
        </p:nvPicPr>
        <p:blipFill>
          <a:blip r:embed="rId1"/>
          <a:stretch/>
        </p:blipFill>
        <p:spPr>
          <a:xfrm>
            <a:off x="228600" y="3429000"/>
            <a:ext cx="2743200" cy="246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4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3352680" y="2590920"/>
            <a:ext cx="2627280" cy="3859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0"/>
          <p:cNvPicPr/>
          <p:nvPr/>
        </p:nvPicPr>
        <p:blipFill>
          <a:blip r:embed="rId3">
            <a:lum bright="-42000"/>
          </a:blip>
          <a:stretch/>
        </p:blipFill>
        <p:spPr>
          <a:xfrm>
            <a:off x="6095880" y="3733920"/>
            <a:ext cx="2819520" cy="22050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4"/>
          <a:stretch/>
        </p:blipFill>
        <p:spPr>
          <a:xfrm>
            <a:off x="19080" y="36360"/>
            <a:ext cx="933300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0337E-4D11-4B5F-AEB8-A0484F466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/>
          <p:cNvSpPr/>
          <p:nvPr/>
        </p:nvSpPr>
        <p:spPr>
          <a:xfrm>
            <a:off x="609480" y="1143000"/>
            <a:ext cx="7696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95280" y="836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Times New Roman"/>
              </a:rPr>
              <a:t>Нигде в мире нет такого скопления крупных животных, как в африканской саванне</a:t>
            </a:r>
            <a:r>
              <a:rPr b="0" lang="ru-RU" sz="2800" spc="-1" strike="noStrike">
                <a:solidFill>
                  <a:srgbClr val="a50021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457200" y="167652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Антилопы и полосатые зеб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09480" y="2362320"/>
            <a:ext cx="31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жираф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2590920" y="2362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ло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609480" y="4572000"/>
            <a:ext cx="19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Есть и хищники: львы, гепар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8" descr="ken2"/>
          <p:cNvPicPr/>
          <p:nvPr/>
        </p:nvPicPr>
        <p:blipFill>
          <a:blip r:embed="rId1"/>
          <a:stretch/>
        </p:blipFill>
        <p:spPr>
          <a:xfrm>
            <a:off x="380880" y="28954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9" descr="savanna2"/>
          <p:cNvPicPr/>
          <p:nvPr/>
        </p:nvPicPr>
        <p:blipFill>
          <a:blip r:embed="rId2"/>
          <a:stretch/>
        </p:blipFill>
        <p:spPr>
          <a:xfrm>
            <a:off x="3124080" y="2895480"/>
            <a:ext cx="1981440" cy="1486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носорог"/>
          <p:cNvPicPr/>
          <p:nvPr/>
        </p:nvPicPr>
        <p:blipFill>
          <a:blip r:embed="rId3"/>
          <a:stretch/>
        </p:blipFill>
        <p:spPr>
          <a:xfrm>
            <a:off x="6705720" y="457200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зебра"/>
          <p:cNvPicPr/>
          <p:nvPr/>
        </p:nvPicPr>
        <p:blipFill>
          <a:blip r:embed="rId4"/>
          <a:stretch/>
        </p:blipFill>
        <p:spPr>
          <a:xfrm>
            <a:off x="7226280" y="1773360"/>
            <a:ext cx="1917720" cy="2133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диндик"/>
          <p:cNvPicPr/>
          <p:nvPr/>
        </p:nvPicPr>
        <p:blipFill>
          <a:blip r:embed="rId5"/>
          <a:stretch/>
        </p:blipFill>
        <p:spPr>
          <a:xfrm>
            <a:off x="5791320" y="2057400"/>
            <a:ext cx="1301760" cy="1447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лев1"/>
          <p:cNvPicPr/>
          <p:nvPr/>
        </p:nvPicPr>
        <p:blipFill>
          <a:blip r:embed="rId6"/>
          <a:stretch/>
        </p:blipFill>
        <p:spPr>
          <a:xfrm>
            <a:off x="4038480" y="4886280"/>
            <a:ext cx="1771920" cy="1971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лев2"/>
          <p:cNvPicPr/>
          <p:nvPr/>
        </p:nvPicPr>
        <p:blipFill>
          <a:blip r:embed="rId7"/>
          <a:stretch/>
        </p:blipFill>
        <p:spPr>
          <a:xfrm>
            <a:off x="2590920" y="44956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5"/>
          <p:cNvSpPr/>
          <p:nvPr/>
        </p:nvSpPr>
        <p:spPr>
          <a:xfrm>
            <a:off x="6477120" y="3886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носор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Прямоугольник 16" descr=""/>
          <p:cNvPicPr/>
          <p:nvPr/>
        </p:nvPicPr>
        <p:blipFill>
          <a:blip r:embed="rId8"/>
          <a:stretch/>
        </p:blipFill>
        <p:spPr>
          <a:xfrm>
            <a:off x="3078000" y="-219240"/>
            <a:ext cx="61693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with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with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75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with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with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75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withEffect" fill="hold">
                            <p:stCondLst>
                              <p:cond delay="4825"/>
                            </p:stCondLst>
                            <p:childTnLst>
                              <p:par>
                                <p:cTn id="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withEffect" fill="hold">
                            <p:stCondLst>
                              <p:cond delay="5825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75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withEffect" fill="hold">
                            <p:stCondLst>
                              <p:cond delay="6425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withEffect" fill="hold">
                            <p:stCondLst>
                              <p:cond delay="6925"/>
                            </p:stCondLst>
                            <p:childTnLst>
                              <p:par>
                                <p:cTn id="94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withEffect" fill="hold">
                            <p:stCondLst>
                              <p:cond delay="7425"/>
                            </p:stCondLst>
                            <p:childTnLst>
                              <p:par>
                                <p:cTn id="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withEffect" fill="hold">
                            <p:stCondLst>
                              <p:cond delay="8425"/>
                            </p:stCondLst>
                            <p:childTnLst>
                              <p:par>
                                <p:cTn id="1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664AC-8878-43F3-9B7B-57A10DDAAA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7 - 11 классах использую элементы – модульного обучения Шамовой Т.И. Определяется тема, мною составляются технологические карты, в которых указываются учебные элементы, используемые на уроке, время, отведенное на каждый элемент, цели, источники информации  и поиск учебного материала, как овладеть учебным материалом, контр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оль  усвоения  материала может проводиться в форме тестирования, самостоятельных работ, уроков – зачетов, защиты творческих работ Провожу ролевые игры «Урок – суд», уроки  - викторины «Что, где, когда?», конкурсы знатоков географии, гео КВНы,  брейн – ринги. Эти и другие формы работы, применение проблемного обучения способствуют активизации познавательной деятельности учащихся, обогащают, систематизируют, и закрепляют знания, способствуют их осознанному применению, Учащиеся становятся активными, заинтересованными участниками обучения, стремятся к знан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F9CC-D203-4C36-BE0D-B203102A7A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3116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пример, при изучении темы «Климат» в 7 классе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/>
        </a:graphic>
      </p:graphicFrame>
      <p:sp>
        <p:nvSpPr>
          <p:cNvPr id="73" name="Rectangle 5"/>
          <p:cNvSpPr/>
          <p:nvPr/>
        </p:nvSpPr>
        <p:spPr>
          <a:xfrm>
            <a:off x="556920" y="-726480"/>
            <a:ext cx="731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ехнологическая карта по теме «Климаты Земли»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7 клас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0" y="981000"/>
          <a:ext cx="8964720" cy="6583320"/>
        </p:xfrm>
        <a:graphic>
          <a:graphicData uri="http://schemas.openxmlformats.org/drawingml/2006/table">
            <a:tbl>
              <a:tblPr/>
              <a:tblGrid>
                <a:gridCol w="380880"/>
                <a:gridCol w="1311480"/>
                <a:gridCol w="703080"/>
                <a:gridCol w="1239840"/>
                <a:gridCol w="865440"/>
                <a:gridCol w="3301920"/>
                <a:gridCol w="1162080"/>
              </a:tblGrid>
              <a:tr h="8222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учебного элемен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иск учебного материал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к овладеть 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ходной У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уализация зн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ить на вопросы  учителя. Ответы записать в тетрад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,Что такое клима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Какова роль атмосферы в формировании жизни Земл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От чего зависит распределение температур на Земле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Как распределяются пояса атмосферного давления на Земле? На что это влияет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 чего зависит смена поясов атмосферного давления по сезонам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Назовите постоянные ветры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овый У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комиться с основными климатическими поясами земли и  элементами климата . показать их влияние на  природу  Зем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к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читать текст. Ответить на вопросы учител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ы записать в тетрадь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Назовите основные климатические пояса зем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Назовите переходные климатические поя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Какие воздушные массы господствуют в основных и в переходных поясах Земли .Почему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учител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ьютерный УЭ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ь знакомство с климатическими поясами Зем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р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ать смену слайдов на экра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тветить на вопрос 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.Сколько климатических поясов расположено на территории Земли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Чем они отличаются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Перечислите климатические пояса, в которых расположен материк Евразия и территория Росси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ь учителя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8B70-A6E7-4908-ADF3-96C5B5CC630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Рисунок 4" descr="DSC0025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5" descr=""/>
          <p:cNvPicPr/>
          <p:nvPr/>
        </p:nvPicPr>
        <p:blipFill>
          <a:blip r:embed="rId2"/>
          <a:stretch/>
        </p:blipFill>
        <p:spPr>
          <a:xfrm>
            <a:off x="-85680" y="-171360"/>
            <a:ext cx="9510840" cy="109836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7" descr=""/>
          <p:cNvPicPr/>
          <p:nvPr/>
        </p:nvPicPr>
        <p:blipFill>
          <a:blip r:embed="rId3"/>
          <a:stretch/>
        </p:blipFill>
        <p:spPr>
          <a:xfrm>
            <a:off x="981000" y="5735520"/>
            <a:ext cx="829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1F3B-71CB-404A-924B-E3CBC6381C5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Рисунок 2" descr="DSC00253.JPG"/>
          <p:cNvPicPr/>
          <p:nvPr/>
        </p:nvPicPr>
        <p:blipFill>
          <a:blip r:embed="rId1"/>
          <a:stretch/>
        </p:blipFill>
        <p:spPr>
          <a:xfrm>
            <a:off x="3516480" y="2637000"/>
            <a:ext cx="5627520" cy="4221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3" descr="DSC00254.JPG"/>
          <p:cNvPicPr/>
          <p:nvPr/>
        </p:nvPicPr>
        <p:blipFill>
          <a:blip r:embed="rId2"/>
          <a:stretch/>
        </p:blipFill>
        <p:spPr>
          <a:xfrm>
            <a:off x="0" y="0"/>
            <a:ext cx="471636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C4FD-E5D6-4515-9DF1-BF9F2C8A0C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2" descr="IMG_20171215_121408.jpg"/>
          <p:cNvPicPr/>
          <p:nvPr/>
        </p:nvPicPr>
        <p:blipFill>
          <a:blip r:embed="rId1"/>
          <a:stretch/>
        </p:blipFill>
        <p:spPr>
          <a:xfrm>
            <a:off x="1979640" y="1268280"/>
            <a:ext cx="7103880" cy="5329440"/>
          </a:xfrm>
          <a:prstGeom prst="rect">
            <a:avLst/>
          </a:prstGeom>
          <a:ln w="0">
            <a:noFill/>
          </a:ln>
        </p:spPr>
      </p:pic>
      <p:sp>
        <p:nvSpPr>
          <p:cNvPr id="84" name="TextBox 3"/>
          <p:cNvSpPr/>
          <p:nvPr/>
        </p:nvSpPr>
        <p:spPr>
          <a:xfrm>
            <a:off x="539640" y="18900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использованием цифровых образовательных ресурс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ма: «Население мира. Традиции и обычаи».      7 кла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4"/>
          <p:cNvSpPr/>
          <p:nvPr/>
        </p:nvSpPr>
        <p:spPr>
          <a:xfrm>
            <a:off x="0" y="2276640"/>
            <a:ext cx="19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ки проводятся в кабинете инфор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90B4-74FC-4181-8A40-072B1271F0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2" descr="IMG_20171215_12225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3"/>
          <p:cNvSpPr/>
          <p:nvPr/>
        </p:nvSpPr>
        <p:spPr>
          <a:xfrm>
            <a:off x="684360" y="-27000"/>
            <a:ext cx="82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курс пантомим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зобразить языком мимики и жестов. (время для подготовки 3 мину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дача другой команды отгадать, что хотела сообщить другая коман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ветствие народов ми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9:13:48Z</dcterms:created>
  <dc:creator>Nikola Soft</dc:creator>
  <dc:description/>
  <dc:language>en-US</dc:language>
  <cp:lastModifiedBy>Елена</cp:lastModifiedBy>
  <dcterms:modified xsi:type="dcterms:W3CDTF">2019-01-12T13:37:45Z</dcterms:modified>
  <cp:revision>61</cp:revision>
  <dc:subject/>
  <dc:title>Активизация познавательной деятельности учащихся на уроках географии.</dc:title>
</cp:coreProperties>
</file>