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4AA-B739-41B9-A09A-4914BB9F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515-1B6E-4C8A-8B05-8BEF3499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8F9-730B-4D0D-9534-73A9E0C4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0A4-2452-47E3-96FF-00D54A73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014-9648-4AF9-8EF5-6AA52656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CA7-D5CF-47EA-952A-E15B38C5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BB6-C8D8-44F1-B016-4C6D5A78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335-8A8D-4811-896E-5759FF99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C87-AB44-4429-84A6-DAFFCE10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FE8-5E9F-4EFB-856B-AE147C00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6FB-FE07-4E62-9C2A-42A232AE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E05-C915-4C0F-9FF3-B52AA3CA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66AF-92FE-42AF-8348-3B0207196E5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Title 1" descr=""/>
          <p:cNvPicPr/>
          <p:nvPr/>
        </p:nvPicPr>
        <p:blipFill>
          <a:blip r:embed="rId2"/>
          <a:stretch/>
        </p:blipFill>
        <p:spPr>
          <a:xfrm>
            <a:off x="4071960" y="249120"/>
            <a:ext cx="4962600" cy="215280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3"/>
          <a:stretch/>
        </p:blipFill>
        <p:spPr>
          <a:xfrm>
            <a:off x="4498920" y="1981080"/>
            <a:ext cx="403560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8916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152280" y="2048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Calibri"/>
              </a:rPr>
              <a:t>Упражнение «Пути решения проблем при трудных жизненных ситуациях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1538280" y="1419120"/>
            <a:ext cx="682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ритча Соломо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86680" cy="4190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1295280" y="53341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се пройдет…  И это пройде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muzyka-na-fon-pod-slova-veduschih-2.mp3" descr=""/>
          <p:cNvPicPr/>
          <p:nvPr/>
        </p:nvPicPr>
        <p:blipFill>
          <a:blip r:embed="rId2"/>
          <a:stretch/>
        </p:blipFill>
        <p:spPr>
          <a:xfrm>
            <a:off x="4267080" y="6041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такан - Жизнь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19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030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73200" y="15228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Способы снять нервное напряжени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990720" y="838080"/>
            <a:ext cx="7619040" cy="685800"/>
            <a:chOff x="990720" y="838080"/>
            <a:chExt cx="7619040" cy="685800"/>
          </a:xfrm>
        </p:grpSpPr>
        <p:sp>
          <p:nvSpPr>
            <p:cNvPr id="60" name="AutoShape 5"/>
            <p:cNvSpPr/>
            <p:nvPr/>
          </p:nvSpPr>
          <p:spPr>
            <a:xfrm>
              <a:off x="1604880" y="956880"/>
              <a:ext cx="70048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eff9"/>
                </a:gs>
                <a:gs pos="100000">
                  <a:srgbClr val="21b3e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AutoShape 4"/>
            <p:cNvSpPr/>
            <p:nvPr/>
          </p:nvSpPr>
          <p:spPr>
            <a:xfrm>
              <a:off x="990720" y="838080"/>
              <a:ext cx="1105920" cy="685800"/>
            </a:xfrm>
            <a:prstGeom prst="diamond">
              <a:avLst/>
            </a:prstGeom>
            <a:gradFill rotWithShape="0">
              <a:gsLst>
                <a:gs pos="0">
                  <a:srgbClr val="0f5368"/>
                </a:gs>
                <a:gs pos="100000">
                  <a:srgbClr val="21b3e1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6"/>
            <p:cNvSpPr/>
            <p:nvPr/>
          </p:nvSpPr>
          <p:spPr>
            <a:xfrm>
              <a:off x="1973520" y="1012680"/>
              <a:ext cx="55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ртивные занят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7"/>
            <p:cNvSpPr/>
            <p:nvPr/>
          </p:nvSpPr>
          <p:spPr>
            <a:xfrm>
              <a:off x="1356840" y="9363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31"/>
          <p:cNvGrpSpPr/>
          <p:nvPr/>
        </p:nvGrpSpPr>
        <p:grpSpPr>
          <a:xfrm>
            <a:off x="990720" y="1523880"/>
            <a:ext cx="7619040" cy="685800"/>
            <a:chOff x="990720" y="1523880"/>
            <a:chExt cx="7619040" cy="685800"/>
          </a:xfrm>
        </p:grpSpPr>
        <p:sp>
          <p:nvSpPr>
            <p:cNvPr id="65" name="AutoShape 10"/>
            <p:cNvSpPr/>
            <p:nvPr/>
          </p:nvSpPr>
          <p:spPr>
            <a:xfrm>
              <a:off x="1604880" y="1643040"/>
              <a:ext cx="70048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f4c9"/>
                </a:gs>
                <a:gs pos="100000">
                  <a:srgbClr val="99cc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11"/>
            <p:cNvSpPr/>
            <p:nvPr/>
          </p:nvSpPr>
          <p:spPr>
            <a:xfrm>
              <a:off x="990720" y="1523880"/>
              <a:ext cx="1105920" cy="685800"/>
            </a:xfrm>
            <a:prstGeom prst="diamond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 Box 12"/>
            <p:cNvSpPr/>
            <p:nvPr/>
          </p:nvSpPr>
          <p:spPr>
            <a:xfrm>
              <a:off x="1973520" y="1698480"/>
              <a:ext cx="55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Контрастный душ (баня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 Box 13"/>
            <p:cNvSpPr/>
            <p:nvPr/>
          </p:nvSpPr>
          <p:spPr>
            <a:xfrm>
              <a:off x="1356840" y="16225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32"/>
          <p:cNvGrpSpPr/>
          <p:nvPr/>
        </p:nvGrpSpPr>
        <p:grpSpPr>
          <a:xfrm>
            <a:off x="990720" y="2209680"/>
            <a:ext cx="7619040" cy="685800"/>
            <a:chOff x="990720" y="2209680"/>
            <a:chExt cx="7619040" cy="685800"/>
          </a:xfrm>
        </p:grpSpPr>
        <p:sp>
          <p:nvSpPr>
            <p:cNvPr id="70" name="AutoShape 15"/>
            <p:cNvSpPr/>
            <p:nvPr/>
          </p:nvSpPr>
          <p:spPr>
            <a:xfrm>
              <a:off x="1604880" y="2328840"/>
              <a:ext cx="70048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9d4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AutoShape 16"/>
            <p:cNvSpPr/>
            <p:nvPr/>
          </p:nvSpPr>
          <p:spPr>
            <a:xfrm>
              <a:off x="990720" y="2209680"/>
              <a:ext cx="1105920" cy="685800"/>
            </a:xfrm>
            <a:prstGeom prst="diamond">
              <a:avLst/>
            </a:prstGeom>
            <a:gradFill rotWithShape="0">
              <a:gsLst>
                <a:gs pos="0">
                  <a:srgbClr val="764718"/>
                </a:gs>
                <a:gs pos="100000">
                  <a:srgbClr val="ff9933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17"/>
            <p:cNvSpPr/>
            <p:nvPr/>
          </p:nvSpPr>
          <p:spPr>
            <a:xfrm>
              <a:off x="1973520" y="2384280"/>
              <a:ext cx="55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комкать газету и выбросит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 Box 18"/>
            <p:cNvSpPr/>
            <p:nvPr/>
          </p:nvSpPr>
          <p:spPr>
            <a:xfrm>
              <a:off x="1356840" y="23079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33"/>
          <p:cNvGrpSpPr/>
          <p:nvPr/>
        </p:nvGrpSpPr>
        <p:grpSpPr>
          <a:xfrm>
            <a:off x="1004760" y="2933640"/>
            <a:ext cx="7619400" cy="685800"/>
            <a:chOff x="1004760" y="2933640"/>
            <a:chExt cx="7619400" cy="685800"/>
          </a:xfrm>
        </p:grpSpPr>
        <p:sp>
          <p:nvSpPr>
            <p:cNvPr id="75" name="AutoShape 20"/>
            <p:cNvSpPr/>
            <p:nvPr/>
          </p:nvSpPr>
          <p:spPr>
            <a:xfrm>
              <a:off x="1618920" y="3052800"/>
              <a:ext cx="70052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21"/>
            <p:cNvSpPr/>
            <p:nvPr/>
          </p:nvSpPr>
          <p:spPr>
            <a:xfrm>
              <a:off x="1004760" y="2933640"/>
              <a:ext cx="1105920" cy="6858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22"/>
            <p:cNvSpPr/>
            <p:nvPr/>
          </p:nvSpPr>
          <p:spPr>
            <a:xfrm>
              <a:off x="2118240" y="3092400"/>
              <a:ext cx="553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огулять на свежем воздух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23"/>
            <p:cNvSpPr/>
            <p:nvPr/>
          </p:nvSpPr>
          <p:spPr>
            <a:xfrm>
              <a:off x="1253160" y="3048120"/>
              <a:ext cx="8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34"/>
          <p:cNvGrpSpPr/>
          <p:nvPr/>
        </p:nvGrpSpPr>
        <p:grpSpPr>
          <a:xfrm>
            <a:off x="1004760" y="3559320"/>
            <a:ext cx="7619400" cy="685800"/>
            <a:chOff x="1004760" y="3559320"/>
            <a:chExt cx="7619400" cy="685800"/>
          </a:xfrm>
        </p:grpSpPr>
        <p:sp>
          <p:nvSpPr>
            <p:cNvPr id="80" name="AutoShape 26"/>
            <p:cNvSpPr/>
            <p:nvPr/>
          </p:nvSpPr>
          <p:spPr>
            <a:xfrm>
              <a:off x="1618920" y="3678120"/>
              <a:ext cx="70052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dfff"/>
                </a:gs>
                <a:gs pos="100000">
                  <a:srgbClr val="3366ff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AutoShape 27"/>
            <p:cNvSpPr/>
            <p:nvPr/>
          </p:nvSpPr>
          <p:spPr>
            <a:xfrm>
              <a:off x="1004760" y="3559320"/>
              <a:ext cx="1105920" cy="685800"/>
            </a:xfrm>
            <a:prstGeom prst="diamond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28"/>
            <p:cNvSpPr/>
            <p:nvPr/>
          </p:nvSpPr>
          <p:spPr>
            <a:xfrm>
              <a:off x="1987560" y="3733920"/>
              <a:ext cx="553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осмотреть комедийный филь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29"/>
            <p:cNvSpPr/>
            <p:nvPr/>
          </p:nvSpPr>
          <p:spPr>
            <a:xfrm>
              <a:off x="1370880" y="36576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3"/>
          <p:cNvGrpSpPr/>
          <p:nvPr/>
        </p:nvGrpSpPr>
        <p:grpSpPr>
          <a:xfrm>
            <a:off x="1039680" y="4303800"/>
            <a:ext cx="7619400" cy="685800"/>
            <a:chOff x="1039680" y="4303800"/>
            <a:chExt cx="7619400" cy="685800"/>
          </a:xfrm>
        </p:grpSpPr>
        <p:sp>
          <p:nvSpPr>
            <p:cNvPr id="85" name="AutoShape 5"/>
            <p:cNvSpPr/>
            <p:nvPr/>
          </p:nvSpPr>
          <p:spPr>
            <a:xfrm>
              <a:off x="1653840" y="4422600"/>
              <a:ext cx="70052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eff9"/>
                </a:gs>
                <a:gs pos="100000">
                  <a:srgbClr val="21b3e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4"/>
            <p:cNvSpPr/>
            <p:nvPr/>
          </p:nvSpPr>
          <p:spPr>
            <a:xfrm>
              <a:off x="1039680" y="4303800"/>
              <a:ext cx="1105920" cy="685800"/>
            </a:xfrm>
            <a:prstGeom prst="diamond">
              <a:avLst/>
            </a:prstGeom>
            <a:gradFill rotWithShape="0">
              <a:gsLst>
                <a:gs pos="0">
                  <a:srgbClr val="0f5368"/>
                </a:gs>
                <a:gs pos="100000">
                  <a:srgbClr val="21b3e1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 Box 6"/>
            <p:cNvSpPr/>
            <p:nvPr/>
          </p:nvSpPr>
          <p:spPr>
            <a:xfrm>
              <a:off x="2022480" y="4478400"/>
              <a:ext cx="553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рочесть интересную книг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1290600" y="44020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Объект 3" descr="Проективная методика «Человек под дождем»"/>
          <p:cNvPicPr/>
          <p:nvPr/>
        </p:nvPicPr>
        <p:blipFill>
          <a:blip r:embed="rId1"/>
          <a:stretch/>
        </p:blipFill>
        <p:spPr>
          <a:xfrm>
            <a:off x="800280" y="160020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0" y="-1440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2974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Любите жизнь! Цените каждую минуту! Радуйтесь жизни!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пасибо всем за внимание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15:59:37Z</dcterms:created>
  <dc:creator>IS</dc:creator>
  <dc:description/>
  <dc:language>en-US</dc:language>
  <cp:lastModifiedBy>user</cp:lastModifiedBy>
  <dcterms:modified xsi:type="dcterms:W3CDTF">2019-01-12T19:38:18Z</dcterms:modified>
  <cp:revision>25</cp:revision>
  <dc:subject/>
  <dc:title>Name of presentation</dc:title>
</cp:coreProperties>
</file>